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88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37.gif" ContentType="image/gif"/>
  <Override PartName="/ppt/media/image25.jpeg" ContentType="image/jpeg"/>
  <Override PartName="/ppt/media/image84.jpeg" ContentType="image/jpeg"/>
  <Override PartName="/ppt/media/image104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1.gif" ContentType="image/gif"/>
  <Override PartName="/ppt/media/image5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68.jpeg" ContentType="image/jpeg"/>
  <Override PartName="/ppt/media/image96.png" ContentType="image/png"/>
  <Override PartName="/ppt/media/image93.jpeg" ContentType="image/jpeg"/>
  <Override PartName="/ppt/media/image76.jpeg" ContentType="image/jpeg"/>
  <Override PartName="/ppt/media/image94.jpeg" ContentType="image/jpeg"/>
  <Override PartName="/ppt/media/image7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81.jpeg" ContentType="image/jpeg"/>
  <Override PartName="/ppt/media/image101.jpeg" ContentType="image/jpeg"/>
  <Override PartName="/ppt/media/image22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5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B114-086D-4644-8984-DCA7003C7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CEE-2A64-4005-8558-D0E427FDE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1B07-DBF6-4FB9-99E0-55C56719B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886-9D45-4ED0-B586-2865274F8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7A3-0B2D-4F2A-92F3-18EB17F2B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6A0E-1C72-46E3-9102-68F75A8CA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89BC-7321-401F-8EB9-62838DCF0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1F3E-9F90-4D47-A9E6-5E778DA61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6C9B-D1A1-4557-A7D7-F70879A38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9ED7-768A-412D-ABAF-A4FD452C2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462-FE30-41FE-9E89-DB048CD1B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10DD-7514-4513-92F2-18EA5DEF9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B767-9338-4079-9387-8182D8055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FED9-7AC4-41C5-8034-AEDCAD04E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4515-68B4-4E51-A92F-32AB104A3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87B-E3C4-4963-A2B3-8B782CF26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3E8D-5B6A-4D08-8CCD-5FB5D8323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ED2A-E5BB-436F-89C9-33199EF96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9573-C954-4A51-B4CD-C7F4062C9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3E00-2446-4D6E-A4F9-5F3A9220D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221A-5CC2-4FB7-9747-198F000CC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DAC-3B44-4942-B9BE-AC4D747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F17-217F-426E-98B5-8616B4E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710-29B6-403A-BBD1-4C399480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582-2BD0-4029-A18D-EE339BC6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78F-41BD-4985-A392-B403D158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20C-DB5D-47BE-9F53-F4E1B546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D51-34D7-4667-8BA4-CA211495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0CE-86D3-438A-A4BF-E388EE7D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592-AF29-4D5A-9EDE-20B4C77D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25E-2915-4EE2-BB05-7F0337B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5FE-EDF9-4FBF-8F54-B6DA4DA1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8A9-6419-41A5-BCFA-606123C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D455-103C-4A04-AF3E-DAE003723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5.nnm.ru/9/a/a/9/f/11dc4411b3f6d21e624428e376e.jpg" TargetMode="External"/><Relationship Id="rId2" Type="http://schemas.openxmlformats.org/officeDocument/2006/relationships/hyperlink" Target="http://img15.nnm.ru/9/a/a/9/f/11dc4411b3f6d21e624428e376e.jpg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g15.nnm.ru/1/e/1/1/b/00d3523e14a2c0ab71890ffb720.jpg" TargetMode="External"/><Relationship Id="rId5" Type="http://schemas.openxmlformats.org/officeDocument/2006/relationships/image" Target="../media/image52.jpeg"/><Relationship Id="rId6" Type="http://schemas.openxmlformats.org/officeDocument/2006/relationships/hyperlink" Target="http://img11.nnm.ru/1/4/d/c/5/09e58a16d9136e961b553ee4cf1.jpg" TargetMode="External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image" Target="../media/image100.jpeg"/><Relationship Id="rId14" Type="http://schemas.openxmlformats.org/officeDocument/2006/relationships/image" Target="../media/image10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20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ersona.rin.ru/photo/f/11491/19/korolev-sergej-pavlovich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persona.rin.ru/photo/f/11491/14/korolev-sergej-pavlovich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cv.wikipedia.org/wiki/&#1266;&#1082;&#1077;&#1088;&#1095;&#277;&#1082;:S.P.Korolev_monument_in_Baykonur_city_03.2006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hyperlink" Target="http://search.rg.ru/gall/9b7285fe?6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search.rg.ru/gall/9b7285fe?13" TargetMode="External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56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апреля - 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lack2"/>
          <p:cNvPicPr/>
          <p:nvPr/>
        </p:nvPicPr>
        <p:blipFill>
          <a:blip r:embed="rId1"/>
          <a:stretch/>
        </p:blipFill>
        <p:spPr>
          <a:xfrm>
            <a:off x="-541440" y="1531800"/>
            <a:ext cx="10657080" cy="580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18799"/>
          <p:cNvPicPr/>
          <p:nvPr/>
        </p:nvPicPr>
        <p:blipFill>
          <a:blip r:embed="rId2"/>
          <a:stretch/>
        </p:blipFill>
        <p:spPr>
          <a:xfrm>
            <a:off x="1116000" y="1268280"/>
            <a:ext cx="6840720" cy="514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1332000" y="6319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1292400" y="641340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Open Sans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Open Sans"/>
              </a:rPr>
              <a:t>" Презентацию подготовила педагог-психолог Веряскина С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9280" y="919440"/>
            <a:ext cx="518472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-19 марта 1965 года Алексей Архипович Леонов совместно с П.И. Беляевым совершил полет на КК "Восход-2" в качестве 2-го пилота. 18.03.1965 г. Леонов впервые вышел в космическое пространство, удалился от КК на расстояние 5 м и провел в открытом космосе вне шлюзовой камеры 12 мин. 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артин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артин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413000"/>
            <a:ext cx="5619600" cy="231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картинка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1125360"/>
            <a:ext cx="3780000" cy="2730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картинка"/>
          <p:cNvPicPr/>
          <p:nvPr/>
        </p:nvPicPr>
        <p:blipFill>
          <a:blip r:embed="rId8"/>
          <a:stretch/>
        </p:blipFill>
        <p:spPr>
          <a:xfrm>
            <a:off x="5435640" y="4076640"/>
            <a:ext cx="3295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6732720" y="4149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tereshkova1"/>
          <p:cNvPicPr/>
          <p:nvPr/>
        </p:nvPicPr>
        <p:blipFill>
          <a:blip r:embed="rId2"/>
          <a:stretch/>
        </p:blipFill>
        <p:spPr>
          <a:xfrm>
            <a:off x="468360" y="3860640"/>
            <a:ext cx="1714320" cy="252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tereshkova"/>
          <p:cNvPicPr/>
          <p:nvPr/>
        </p:nvPicPr>
        <p:blipFill>
          <a:blip r:embed="rId3"/>
          <a:stretch/>
        </p:blipFill>
        <p:spPr>
          <a:xfrm>
            <a:off x="6732720" y="1484280"/>
            <a:ext cx="190476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539640" y="1557360"/>
            <a:ext cx="1571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43280" y="2852640"/>
            <a:ext cx="3348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0"/>
          <p:cNvSpPr/>
          <p:nvPr/>
        </p:nvSpPr>
        <p:spPr>
          <a:xfrm>
            <a:off x="0" y="52945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ждународная космическая станция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4" descr="00018972"/>
          <p:cNvPicPr/>
          <p:nvPr/>
        </p:nvPicPr>
        <p:blipFill>
          <a:blip r:embed="rId2"/>
          <a:stretch/>
        </p:blipFill>
        <p:spPr>
          <a:xfrm>
            <a:off x="-252360" y="69228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реги нашу планету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i?id=22470118&amp;tov=5"/>
          <p:cNvPicPr/>
          <p:nvPr/>
        </p:nvPicPr>
        <p:blipFill>
          <a:blip r:embed="rId1"/>
          <a:stretch/>
        </p:blipFill>
        <p:spPr>
          <a:xfrm>
            <a:off x="8317080" y="189000"/>
            <a:ext cx="65700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00038051"/>
          <p:cNvPicPr/>
          <p:nvPr/>
        </p:nvPicPr>
        <p:blipFill>
          <a:blip r:embed="rId2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00038052"/>
          <p:cNvPicPr/>
          <p:nvPr/>
        </p:nvPicPr>
        <p:blipFill>
          <a:blip r:embed="rId3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d0b7d0b5d0bcd0bbd18f1"/>
          <p:cNvPicPr/>
          <p:nvPr/>
        </p:nvPicPr>
        <p:blipFill>
          <a:blip r:embed="rId4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08360" y="5229360"/>
            <a:ext cx="237636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1" descr="Нажмите для просмотра фото в полный размер"/>
          <p:cNvPicPr/>
          <p:nvPr/>
        </p:nvPicPr>
        <p:blipFill>
          <a:blip r:embed="rId15"/>
          <a:stretch/>
        </p:blipFill>
        <p:spPr>
          <a:xfrm>
            <a:off x="3924360" y="522936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2987640" y="2565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 flipV="1" rot="10774800">
            <a:off x="-1440" y="773640"/>
            <a:ext cx="92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ергей Павлович Королёв - ученый, работавший в области ракетной и ракетно-космической техники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выдающийся констру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143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по праву является отцом отечественной ракетно-космической техники, обеспечившей стратегический паритет и сделавшей наше государство передовой ракетно-космической держав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Юрий Гагарин и Сергей Корол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573360"/>
            <a:ext cx="1655640" cy="2206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Юрий Гагарин и Сергей Короле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924280"/>
            <a:ext cx="230508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250px-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4991040"/>
            <a:ext cx="2381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osmos-001"/>
          <p:cNvPicPr/>
          <p:nvPr/>
        </p:nvPicPr>
        <p:blipFill>
          <a:blip r:embed="rId1"/>
          <a:stretch/>
        </p:blipFill>
        <p:spPr>
          <a:xfrm>
            <a:off x="395280" y="18900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kosmonavt03-m"/>
          <p:cNvPicPr/>
          <p:nvPr/>
        </p:nvPicPr>
        <p:blipFill>
          <a:blip r:embed="rId2"/>
          <a:stretch/>
        </p:blipFill>
        <p:spPr>
          <a:xfrm>
            <a:off x="4140360" y="260280"/>
            <a:ext cx="1428480" cy="1866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0" y="2260800"/>
            <a:ext cx="864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 За короткий срок с момента первого полета в космос человек посетил Луну, исследовал почти все планеты Солнечной системы, но тот первый полет был самым трудным и опасным. Уверенность и оптимизм, стремление к покорению космоса преодолели все преграды. Обращаясь ко всем жителям Земли, перед стартом 12 апреля 1961 года Юрий Алексеевич сказал: 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ие друзья, близкие и незнакомые, соотечественники, люди всех стран и континентов! Через несколько минут могучий космический корабль унесет меня в далекие просторы Всел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виток вокруг Земли космического корабля с человеком на борту был заслугой многих и многих людей и в первую очередь генерального конструктора космических кора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гея Павловича Корол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star-time-13"/>
          <p:cNvPicPr/>
          <p:nvPr/>
        </p:nvPicPr>
        <p:blipFill>
          <a:blip r:embed="rId3"/>
          <a:stretch/>
        </p:blipFill>
        <p:spPr>
          <a:xfrm>
            <a:off x="6588000" y="0"/>
            <a:ext cx="17337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photo_03-27-18s"/>
          <p:cNvPicPr/>
          <p:nvPr/>
        </p:nvPicPr>
        <p:blipFill>
          <a:blip r:embed="rId1"/>
          <a:stretch/>
        </p:blipFill>
        <p:spPr>
          <a:xfrm>
            <a:off x="5940360" y="836640"/>
            <a:ext cx="21463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hoto_03-27-15s"/>
          <p:cNvPicPr/>
          <p:nvPr/>
        </p:nvPicPr>
        <p:blipFill>
          <a:blip r:embed="rId2"/>
          <a:stretch/>
        </p:blipFill>
        <p:spPr>
          <a:xfrm>
            <a:off x="684360" y="3213000"/>
            <a:ext cx="20872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hoto_03-27-07s"/>
          <p:cNvPicPr/>
          <p:nvPr/>
        </p:nvPicPr>
        <p:blipFill>
          <a:blip r:embed="rId3"/>
          <a:stretch/>
        </p:blipFill>
        <p:spPr>
          <a:xfrm>
            <a:off x="5940360" y="2781360"/>
            <a:ext cx="23050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hoto_03-27-11s"/>
          <p:cNvPicPr/>
          <p:nvPr/>
        </p:nvPicPr>
        <p:blipFill>
          <a:blip r:embed="rId4"/>
          <a:stretch/>
        </p:blipFill>
        <p:spPr>
          <a:xfrm>
            <a:off x="611280" y="126828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hoto_02-21-06s"/>
          <p:cNvPicPr/>
          <p:nvPr/>
        </p:nvPicPr>
        <p:blipFill>
          <a:blip r:embed="rId5"/>
          <a:stretch/>
        </p:blipFill>
        <p:spPr>
          <a:xfrm>
            <a:off x="3419640" y="765000"/>
            <a:ext cx="1930320" cy="136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space3"/>
          <p:cNvPicPr/>
          <p:nvPr/>
        </p:nvPicPr>
        <p:blipFill>
          <a:blip r:embed="rId6"/>
          <a:stretch/>
        </p:blipFill>
        <p:spPr>
          <a:xfrm>
            <a:off x="395280" y="4981680"/>
            <a:ext cx="2521080" cy="168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1(2)"/>
          <p:cNvPicPr/>
          <p:nvPr/>
        </p:nvPicPr>
        <p:blipFill>
          <a:blip r:embed="rId7"/>
          <a:stretch/>
        </p:blipFill>
        <p:spPr>
          <a:xfrm>
            <a:off x="3132000" y="2421000"/>
            <a:ext cx="2533680" cy="1695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gall_im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4476600"/>
            <a:ext cx="18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gall_im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4869000"/>
            <a:ext cx="2448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home</cp:lastModifiedBy>
  <dcterms:modified xsi:type="dcterms:W3CDTF">2019-04-12T06:16:36Z</dcterms:modified>
  <cp:revision>13</cp:revision>
  <dc:subject/>
  <dc:title>12 апреля - День Космонавтики</dc:title>
</cp:coreProperties>
</file>