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2F8-CD95-4B82-B8DB-70A6A3FA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996-F27A-4EE0-AA1E-10F09D1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E94-FC60-42B8-AF61-50F5F4D8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CF0-D8B9-4DAA-ABED-F1DD6A96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226-3192-41C1-A32A-195F9BC5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264-2BAA-4021-B7D4-33148E88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ACD-D976-43B9-8261-3C7AC6A0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DE9-0C34-47E7-8F80-7E917F0F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B58-AB76-449F-8F25-1B20BF05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E86-499E-49F9-98C6-FE2AA29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246-6B62-45CB-969B-A272FD68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F98-894E-40F0-9C9D-4CD1B82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C00-B0D6-4EE9-A0C0-36169085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3284280"/>
            <a:ext cx="90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Когда человек не знает,</a:t>
            </a: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 какой пристани он держит путь,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ля него ни один ветер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е будет попутным»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ен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4000" y="18900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редняя школа № 2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Яросл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6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4753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кройте скоб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дите подобные слагае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5х + (8 – х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(7х – 9) – (1 – 2х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) Укажите, под какой буквой записан мног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5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7а; б) 1,5а ∙ 0,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в) (2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) Представьте многочлен в стандарт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13а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- 4ава – 2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5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∙ 0,2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а) Сложите многочлены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5х</a:t>
            </a:r>
            <a:r>
              <a:rPr b="0" lang="en-US" sz="4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 + 7х – 9 и – 3х</a:t>
            </a:r>
            <a:r>
              <a:rPr b="0" lang="en-US" sz="4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 – 6х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755360"/>
            <a:ext cx="84978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7х – 9) + (– 3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6х + 8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5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7х – 9 – 3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6х + 8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х –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операцию  нужно выпол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жения, которые нужно сло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равило применили при раскрытии скоб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еобразовали полученное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олучили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уйте правило для исходного вы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3588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б) Выполните вычитание многочленов </a:t>
            </a:r>
            <a:br>
              <a:rPr sz="4200"/>
            </a:b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5х</a:t>
            </a:r>
            <a:r>
              <a:rPr b="0" lang="en-US" sz="4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 - х +8 и 2х</a:t>
            </a:r>
            <a:r>
              <a:rPr b="0" lang="en-US" sz="4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 – 7х -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х + 8) – (2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7х – 1) = 5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х + 8 – 2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7х+ +1= 3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6х +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операцию  нужно выпол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ют  выражения, которые нужно выч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равило применили при раскрытии скоб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авьте баллы за работу по карточ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еобразовали полученное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олучили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уйте правило для исходного вы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2T16:56:31Z</dcterms:created>
  <dc:creator>Admin</dc:creator>
  <dc:description/>
  <dc:language>en-US</dc:language>
  <cp:lastModifiedBy>Admin</cp:lastModifiedBy>
  <dcterms:modified xsi:type="dcterms:W3CDTF">2018-02-15T17:59:22Z</dcterms:modified>
  <cp:revision>6</cp:revision>
  <dc:subject/>
  <dc:title>«Когда человек не знает, к какой пристани он держит путь, для него ни один ветер не будет попутным». Сенека</dc:title>
</cp:coreProperties>
</file>