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08F-E9BA-41F9-9EFF-70DFEE07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BC7F-14CB-40AF-AA3D-777CC009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99B-2327-4812-BFFE-E5DD1DD2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D36-4833-4E72-B456-5A6D67F3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19DC-AA23-4BA3-909A-0E15427E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A75-4620-4F6C-B1D1-7B3ED8A9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3F3-4D8C-45FB-A151-498E1A0D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C5A-7ADB-4943-BED7-BF7D92C2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B19-B756-40AD-885E-FE793CDC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39BE-D826-42CB-A6AB-F43D2023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A04-EC49-429D-8F83-E70B4338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3C5-9F69-402B-8F6B-10EA2DD6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FF63-ADE2-49DD-8389-EF840636A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000" y="3284280"/>
            <a:ext cx="903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«Когда человек не знает,</a:t>
            </a:r>
            <a:br>
              <a:rPr sz="44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 какой пристани он держит путь,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для него ни один ветер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не будет попутным»</a:t>
            </a: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ен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4000" y="18900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Средняя школа № 2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. Ярослав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16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47530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Повто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77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скройте скоб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ведите подобные слагаем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5х + (8 – х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(7х – 9) – (1 – 2х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) Укажите, под какой буквой записан многочлен стандартного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5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7а; б) 1,5а ∙ 0,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в) (2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) Представьте многочлен в стандартном ви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13а –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- 4ава – 2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5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∙ 0,2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2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а) Сложите многочлены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5х</a:t>
            </a:r>
            <a:r>
              <a:rPr b="0" lang="en-US" sz="4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 + 7х – 9 и – 3х</a:t>
            </a:r>
            <a:r>
              <a:rPr b="0" lang="en-US" sz="4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 – 6х +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755360"/>
            <a:ext cx="84978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+ 7х – 9) + (– 3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– 6х + 8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5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+ 7х – 9 – 3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– 6х + 8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2х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+ х –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ую операцию  нужно выполн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жения, которые нужно слож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правило применили при раскрытии скоб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преобразовали полученное вы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получили вы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улируйте правило для исходного выра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3588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б) Выполните вычитание многочленов </a:t>
            </a:r>
            <a:br>
              <a:rPr sz="4200"/>
            </a:b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5х</a:t>
            </a:r>
            <a:r>
              <a:rPr b="0" lang="en-US" sz="4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 - х +8 и 2х</a:t>
            </a:r>
            <a:r>
              <a:rPr b="0" lang="en-US" sz="4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333399"/>
                </a:solidFill>
                <a:latin typeface="Arial"/>
              </a:rPr>
              <a:t> – 7х -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х + 8) – (2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– 7х – 1) = 5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х + 8 – 2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+7х+ +1= 3х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+ 6х + 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ую операцию  нужно выполн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ют  выражения, которые нужно выче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правило применили при раскрытии скоб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тавьте баллы за работу по карточ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преобразовали полученное вы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получили вы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улируйте правило для исходного выра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2T16:56:31Z</dcterms:created>
  <dc:creator>Admin</dc:creator>
  <dc:description/>
  <dc:language>en-US</dc:language>
  <cp:lastModifiedBy>Admin</cp:lastModifiedBy>
  <dcterms:modified xsi:type="dcterms:W3CDTF">2018-02-15T17:59:22Z</dcterms:modified>
  <cp:revision>6</cp:revision>
  <dc:subject/>
  <dc:title>«Когда человек не знает, к какой пристани он держит путь, для него ни один ветер не будет попутным». Сенека</dc:title>
</cp:coreProperties>
</file>