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D762-B08B-4F37-9CE7-014588F153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2B57-E32C-41B6-9CA3-1A5A1E4413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B988-551B-4022-9C19-D38EC41BCE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777E-717F-4FF2-A85E-DAD5077ED7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56A7-6E96-4FFC-83FC-FC9D4D1A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1CFB-496C-49B2-B687-A883EFEA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FF83-A468-4B36-9066-EAF8F923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027B-276F-438F-BE9D-85134E58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B44B-285A-4BE1-9B9A-09B876CF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B2F6-16B5-4548-95A2-89347B27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E7F2-A61B-4C8D-B8F0-499E706D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502A-E3F2-4FFC-8014-9F40CA0F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51D2-2447-41B9-B91D-E1A840F9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13E8-A53B-4F10-8E1F-7C801542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A728-FC1A-41BC-ACB2-C6242069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403B-F479-479E-A102-D87D52A6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20E1-A0CA-4FC3-975A-98A60399CB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chool.edu.ru/click.asp?url=http%3A%2F%2Fwww%2Ekco%2Dkras%2Eru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дагогические технолог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Arial"/>
              </a:rPr>
              <a:t>Коллективный способ обучения</a:t>
            </a:r>
            <a:br>
              <a:rPr sz="4800"/>
            </a:br>
            <a:r>
              <a:rPr b="0" lang="ru-RU" sz="4800" spc="-1" strike="noStrike">
                <a:solidFill>
                  <a:srgbClr val="7030a0"/>
                </a:solidFill>
                <a:latin typeface="Arial"/>
              </a:rPr>
              <a:t>(КСО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9525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Технологическая схема КСО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ь-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еник - 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 rot="3418800">
            <a:off x="1164600" y="3234960"/>
            <a:ext cx="1627200" cy="1582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4747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3059280" y="4005360"/>
            <a:ext cx="1132560" cy="201240"/>
            <a:chOff x="3059280" y="4005360"/>
            <a:chExt cx="1132560" cy="201240"/>
          </a:xfrm>
        </p:grpSpPr>
        <p:sp>
          <p:nvSpPr>
            <p:cNvPr id="94" name="Oval 5"/>
            <p:cNvSpPr/>
            <p:nvPr/>
          </p:nvSpPr>
          <p:spPr>
            <a:xfrm>
              <a:off x="3059280" y="4005360"/>
              <a:ext cx="190800" cy="19980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6"/>
            <p:cNvSpPr/>
            <p:nvPr/>
          </p:nvSpPr>
          <p:spPr>
            <a:xfrm>
              <a:off x="3168000" y="4006800"/>
              <a:ext cx="939600" cy="19980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7"/>
            <p:cNvSpPr/>
            <p:nvPr/>
          </p:nvSpPr>
          <p:spPr>
            <a:xfrm>
              <a:off x="4020120" y="4008600"/>
              <a:ext cx="171720" cy="1933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8"/>
            <p:cNvSpPr/>
            <p:nvPr/>
          </p:nvSpPr>
          <p:spPr>
            <a:xfrm>
              <a:off x="4112640" y="4071960"/>
              <a:ext cx="48240" cy="56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9"/>
          <p:cNvSpPr/>
          <p:nvPr/>
        </p:nvSpPr>
        <p:spPr>
          <a:xfrm rot="3418800">
            <a:off x="3906720" y="3375000"/>
            <a:ext cx="1477800" cy="14428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0"/>
          <p:cNvGrpSpPr/>
          <p:nvPr/>
        </p:nvGrpSpPr>
        <p:grpSpPr>
          <a:xfrm>
            <a:off x="5292720" y="3933720"/>
            <a:ext cx="1132920" cy="201240"/>
            <a:chOff x="5292720" y="3933720"/>
            <a:chExt cx="1132920" cy="201240"/>
          </a:xfrm>
        </p:grpSpPr>
        <p:sp>
          <p:nvSpPr>
            <p:cNvPr id="100" name="Oval 11"/>
            <p:cNvSpPr/>
            <p:nvPr/>
          </p:nvSpPr>
          <p:spPr>
            <a:xfrm>
              <a:off x="5292720" y="3933720"/>
              <a:ext cx="191160" cy="19980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5401440" y="3935160"/>
              <a:ext cx="939960" cy="19980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3"/>
            <p:cNvSpPr/>
            <p:nvPr/>
          </p:nvSpPr>
          <p:spPr>
            <a:xfrm>
              <a:off x="6253920" y="3936960"/>
              <a:ext cx="171720" cy="1933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4"/>
            <p:cNvSpPr/>
            <p:nvPr/>
          </p:nvSpPr>
          <p:spPr>
            <a:xfrm>
              <a:off x="6346440" y="4000320"/>
              <a:ext cx="48240" cy="56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Rectangle 15"/>
          <p:cNvSpPr/>
          <p:nvPr/>
        </p:nvSpPr>
        <p:spPr>
          <a:xfrm rot="3418800">
            <a:off x="6262200" y="3178080"/>
            <a:ext cx="1513080" cy="1582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4747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6"/>
          <p:cNvSpPr/>
          <p:nvPr/>
        </p:nvSpPr>
        <p:spPr>
          <a:xfrm>
            <a:off x="2484360" y="227664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7"/>
          <p:cNvSpPr/>
          <p:nvPr/>
        </p:nvSpPr>
        <p:spPr>
          <a:xfrm>
            <a:off x="609480" y="4114800"/>
            <a:ext cx="1009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8244000" y="227664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2484360" y="270828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бота в динамических па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0"/>
          <p:cNvSpPr/>
          <p:nvPr/>
        </p:nvSpPr>
        <p:spPr>
          <a:xfrm>
            <a:off x="1546200" y="386244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1"/>
          <p:cNvSpPr/>
          <p:nvPr/>
        </p:nvSpPr>
        <p:spPr>
          <a:xfrm flipV="1">
            <a:off x="2482920" y="3862440"/>
            <a:ext cx="0" cy="50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2"/>
          <p:cNvSpPr/>
          <p:nvPr/>
        </p:nvSpPr>
        <p:spPr>
          <a:xfrm flipV="1">
            <a:off x="4500720" y="3860640"/>
            <a:ext cx="64764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3"/>
          <p:cNvSpPr/>
          <p:nvPr/>
        </p:nvSpPr>
        <p:spPr>
          <a:xfrm>
            <a:off x="4427640" y="4005360"/>
            <a:ext cx="72072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4"/>
          <p:cNvSpPr/>
          <p:nvPr/>
        </p:nvSpPr>
        <p:spPr>
          <a:xfrm>
            <a:off x="6732720" y="393372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5"/>
          <p:cNvSpPr/>
          <p:nvPr/>
        </p:nvSpPr>
        <p:spPr>
          <a:xfrm flipH="1">
            <a:off x="6804000" y="465300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6"/>
          <p:cNvGrpSpPr/>
          <p:nvPr/>
        </p:nvGrpSpPr>
        <p:grpSpPr>
          <a:xfrm>
            <a:off x="685800" y="990720"/>
            <a:ext cx="2303280" cy="1713960"/>
            <a:chOff x="685800" y="990720"/>
            <a:chExt cx="2303280" cy="1713960"/>
          </a:xfrm>
        </p:grpSpPr>
        <p:sp>
          <p:nvSpPr>
            <p:cNvPr id="116" name="AutoShape 27"/>
            <p:cNvSpPr/>
            <p:nvPr/>
          </p:nvSpPr>
          <p:spPr>
            <a:xfrm>
              <a:off x="685800" y="990720"/>
              <a:ext cx="2190600" cy="1713960"/>
            </a:xfrm>
            <a:prstGeom prst="roundRect">
              <a:avLst>
                <a:gd name="adj" fmla="val 13745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8"/>
            <p:cNvSpPr/>
            <p:nvPr/>
          </p:nvSpPr>
          <p:spPr>
            <a:xfrm>
              <a:off x="830160" y="1352160"/>
              <a:ext cx="2158920" cy="1008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пределение целей деятель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30"/>
          <p:cNvGrpSpPr/>
          <p:nvPr/>
        </p:nvGrpSpPr>
        <p:grpSpPr>
          <a:xfrm>
            <a:off x="3203640" y="1197000"/>
            <a:ext cx="2160360" cy="1533600"/>
            <a:chOff x="3203640" y="1197000"/>
            <a:chExt cx="2160360" cy="1533600"/>
          </a:xfrm>
        </p:grpSpPr>
        <p:sp>
          <p:nvSpPr>
            <p:cNvPr id="119" name="AutoShape 31"/>
            <p:cNvSpPr/>
            <p:nvPr/>
          </p:nvSpPr>
          <p:spPr>
            <a:xfrm>
              <a:off x="3203640" y="1197000"/>
              <a:ext cx="2160360" cy="1533600"/>
            </a:xfrm>
            <a:prstGeom prst="roundRect">
              <a:avLst>
                <a:gd name="adj" fmla="val 13745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32"/>
            <p:cNvSpPr/>
            <p:nvPr/>
          </p:nvSpPr>
          <p:spPr>
            <a:xfrm>
              <a:off x="3276720" y="1413000"/>
              <a:ext cx="201600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Инструктаж  (установление правил деятельности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4"/>
          <p:cNvGrpSpPr/>
          <p:nvPr/>
        </p:nvGrpSpPr>
        <p:grpSpPr>
          <a:xfrm>
            <a:off x="5364000" y="1125360"/>
            <a:ext cx="2953080" cy="1539360"/>
            <a:chOff x="5364000" y="1125360"/>
            <a:chExt cx="2953080" cy="1539360"/>
          </a:xfrm>
        </p:grpSpPr>
        <p:sp>
          <p:nvSpPr>
            <p:cNvPr id="122" name="AutoShape 35"/>
            <p:cNvSpPr/>
            <p:nvPr/>
          </p:nvSpPr>
          <p:spPr>
            <a:xfrm>
              <a:off x="6084720" y="1125360"/>
              <a:ext cx="2160720" cy="1533600"/>
            </a:xfrm>
            <a:prstGeom prst="roundRect">
              <a:avLst>
                <a:gd name="adj" fmla="val 13745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6"/>
            <p:cNvSpPr/>
            <p:nvPr/>
          </p:nvSpPr>
          <p:spPr>
            <a:xfrm>
              <a:off x="5364000" y="2276640"/>
              <a:ext cx="72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37"/>
            <p:cNvSpPr/>
            <p:nvPr/>
          </p:nvSpPr>
          <p:spPr>
            <a:xfrm>
              <a:off x="6156360" y="1413000"/>
              <a:ext cx="216072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Распределение функций, формирование групп, пар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39"/>
          <p:cNvGrpSpPr/>
          <p:nvPr/>
        </p:nvGrpSpPr>
        <p:grpSpPr>
          <a:xfrm>
            <a:off x="1619280" y="4868640"/>
            <a:ext cx="1655640" cy="1434960"/>
            <a:chOff x="1619280" y="4868640"/>
            <a:chExt cx="1655640" cy="1434960"/>
          </a:xfrm>
        </p:grpSpPr>
        <p:sp>
          <p:nvSpPr>
            <p:cNvPr id="126" name="Text Box 40"/>
            <p:cNvSpPr/>
            <p:nvPr/>
          </p:nvSpPr>
          <p:spPr>
            <a:xfrm>
              <a:off x="1619280" y="566100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текущий контро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41"/>
            <p:cNvSpPr/>
            <p:nvPr/>
          </p:nvSpPr>
          <p:spPr>
            <a:xfrm flipV="1">
              <a:off x="2268360" y="4868640"/>
              <a:ext cx="0" cy="863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43"/>
          <p:cNvGrpSpPr/>
          <p:nvPr/>
        </p:nvGrpSpPr>
        <p:grpSpPr>
          <a:xfrm>
            <a:off x="3924360" y="4868640"/>
            <a:ext cx="2305080" cy="1434960"/>
            <a:chOff x="3924360" y="4868640"/>
            <a:chExt cx="2305080" cy="1434960"/>
          </a:xfrm>
        </p:grpSpPr>
        <p:sp>
          <p:nvSpPr>
            <p:cNvPr id="129" name="Text Box 44"/>
            <p:cNvSpPr/>
            <p:nvPr/>
          </p:nvSpPr>
          <p:spPr>
            <a:xfrm>
              <a:off x="3924360" y="5661000"/>
              <a:ext cx="23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индивидуальная помощ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46"/>
            <p:cNvSpPr/>
            <p:nvPr/>
          </p:nvSpPr>
          <p:spPr>
            <a:xfrm flipV="1">
              <a:off x="4788000" y="4868640"/>
              <a:ext cx="0" cy="863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47"/>
          <p:cNvGrpSpPr/>
          <p:nvPr/>
        </p:nvGrpSpPr>
        <p:grpSpPr>
          <a:xfrm>
            <a:off x="8028000" y="3860640"/>
            <a:ext cx="882000" cy="201240"/>
            <a:chOff x="8028000" y="3860640"/>
            <a:chExt cx="882000" cy="201240"/>
          </a:xfrm>
        </p:grpSpPr>
        <p:sp>
          <p:nvSpPr>
            <p:cNvPr id="132" name="Oval 48"/>
            <p:cNvSpPr/>
            <p:nvPr/>
          </p:nvSpPr>
          <p:spPr>
            <a:xfrm>
              <a:off x="8028000" y="3860640"/>
              <a:ext cx="148680" cy="19980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9"/>
            <p:cNvSpPr/>
            <p:nvPr/>
          </p:nvSpPr>
          <p:spPr>
            <a:xfrm>
              <a:off x="8112600" y="3862080"/>
              <a:ext cx="731880" cy="19980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50"/>
            <p:cNvSpPr/>
            <p:nvPr/>
          </p:nvSpPr>
          <p:spPr>
            <a:xfrm>
              <a:off x="8776440" y="3863880"/>
              <a:ext cx="133560" cy="1933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1"/>
            <p:cNvSpPr/>
            <p:nvPr/>
          </p:nvSpPr>
          <p:spPr>
            <a:xfrm>
              <a:off x="8848440" y="3927240"/>
              <a:ext cx="37440" cy="56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Line 52"/>
          <p:cNvSpPr/>
          <p:nvPr/>
        </p:nvSpPr>
        <p:spPr>
          <a:xfrm>
            <a:off x="8893080" y="3860640"/>
            <a:ext cx="0" cy="1368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53"/>
          <p:cNvGrpSpPr/>
          <p:nvPr/>
        </p:nvGrpSpPr>
        <p:grpSpPr>
          <a:xfrm>
            <a:off x="6804000" y="5157720"/>
            <a:ext cx="2160720" cy="1317600"/>
            <a:chOff x="6804000" y="5157720"/>
            <a:chExt cx="2160720" cy="1317600"/>
          </a:xfrm>
        </p:grpSpPr>
        <p:sp>
          <p:nvSpPr>
            <p:cNvPr id="138" name="AutoShape 54"/>
            <p:cNvSpPr/>
            <p:nvPr/>
          </p:nvSpPr>
          <p:spPr>
            <a:xfrm>
              <a:off x="6804000" y="5157720"/>
              <a:ext cx="2160720" cy="1317600"/>
            </a:xfrm>
            <a:prstGeom prst="roundRect">
              <a:avLst>
                <a:gd name="adj" fmla="val 13745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55"/>
            <p:cNvSpPr/>
            <p:nvPr/>
          </p:nvSpPr>
          <p:spPr>
            <a:xfrm>
              <a:off x="7020000" y="5157720"/>
              <a:ext cx="194292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дведение итогов (тематические зачёты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Picture 57" descr="j0229913"/>
          <p:cNvPicPr/>
          <p:nvPr/>
        </p:nvPicPr>
        <p:blipFill>
          <a:blip r:embed="rId1"/>
          <a:stretch/>
        </p:blipFill>
        <p:spPr>
          <a:xfrm>
            <a:off x="2266920" y="3141720"/>
            <a:ext cx="596880" cy="745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8" descr="j0229913"/>
          <p:cNvPicPr/>
          <p:nvPr/>
        </p:nvPicPr>
        <p:blipFill>
          <a:blip r:embed="rId2"/>
          <a:stretch/>
        </p:blipFill>
        <p:spPr>
          <a:xfrm>
            <a:off x="1330200" y="4365720"/>
            <a:ext cx="596880" cy="745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9" descr="j0229913"/>
          <p:cNvPicPr/>
          <p:nvPr/>
        </p:nvPicPr>
        <p:blipFill>
          <a:blip r:embed="rId3"/>
          <a:stretch/>
        </p:blipFill>
        <p:spPr>
          <a:xfrm>
            <a:off x="2266920" y="4365720"/>
            <a:ext cx="596880" cy="74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0" descr="j0229913"/>
          <p:cNvPicPr/>
          <p:nvPr/>
        </p:nvPicPr>
        <p:blipFill>
          <a:blip r:embed="rId4"/>
          <a:stretch/>
        </p:blipFill>
        <p:spPr>
          <a:xfrm>
            <a:off x="3924360" y="3429000"/>
            <a:ext cx="596880" cy="746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1" descr="j0229913"/>
          <p:cNvPicPr/>
          <p:nvPr/>
        </p:nvPicPr>
        <p:blipFill>
          <a:blip r:embed="rId5"/>
          <a:stretch/>
        </p:blipFill>
        <p:spPr>
          <a:xfrm>
            <a:off x="5003640" y="3213000"/>
            <a:ext cx="597240" cy="746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2" descr="j0229913"/>
          <p:cNvPicPr/>
          <p:nvPr/>
        </p:nvPicPr>
        <p:blipFill>
          <a:blip r:embed="rId6"/>
          <a:stretch/>
        </p:blipFill>
        <p:spPr>
          <a:xfrm>
            <a:off x="4067280" y="4292640"/>
            <a:ext cx="596880" cy="745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3" descr="j0229913"/>
          <p:cNvPicPr/>
          <p:nvPr/>
        </p:nvPicPr>
        <p:blipFill>
          <a:blip r:embed="rId7"/>
          <a:stretch/>
        </p:blipFill>
        <p:spPr>
          <a:xfrm>
            <a:off x="5148360" y="4221000"/>
            <a:ext cx="596880" cy="746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4" descr="j0229913"/>
          <p:cNvPicPr/>
          <p:nvPr/>
        </p:nvPicPr>
        <p:blipFill>
          <a:blip r:embed="rId8"/>
          <a:stretch/>
        </p:blipFill>
        <p:spPr>
          <a:xfrm>
            <a:off x="6227640" y="3284640"/>
            <a:ext cx="596880" cy="745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5" descr="j0229913"/>
          <p:cNvPicPr/>
          <p:nvPr/>
        </p:nvPicPr>
        <p:blipFill>
          <a:blip r:embed="rId9"/>
          <a:stretch/>
        </p:blipFill>
        <p:spPr>
          <a:xfrm>
            <a:off x="7524720" y="3284640"/>
            <a:ext cx="596880" cy="745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6" descr="j0229913"/>
          <p:cNvPicPr/>
          <p:nvPr/>
        </p:nvPicPr>
        <p:blipFill>
          <a:blip r:embed="rId10"/>
          <a:stretch/>
        </p:blipFill>
        <p:spPr>
          <a:xfrm>
            <a:off x="6300720" y="4149720"/>
            <a:ext cx="596880" cy="74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7" descr="j0229913"/>
          <p:cNvPicPr/>
          <p:nvPr/>
        </p:nvPicPr>
        <p:blipFill>
          <a:blip r:embed="rId11"/>
          <a:stretch/>
        </p:blipFill>
        <p:spPr>
          <a:xfrm>
            <a:off x="7524720" y="4221000"/>
            <a:ext cx="596880" cy="746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8" descr="j0229913"/>
          <p:cNvPicPr/>
          <p:nvPr/>
        </p:nvPicPr>
        <p:blipFill>
          <a:blip r:embed="rId12"/>
          <a:stretch/>
        </p:blipFill>
        <p:spPr>
          <a:xfrm>
            <a:off x="1332000" y="3068640"/>
            <a:ext cx="596880" cy="746280"/>
          </a:xfrm>
          <a:prstGeom prst="rect">
            <a:avLst/>
          </a:prstGeom>
          <a:ln w="0">
            <a:noFill/>
          </a:ln>
        </p:spPr>
      </p:pic>
      <p:sp>
        <p:nvSpPr>
          <p:cNvPr id="152" name="Равнобедренный треугольник 68"/>
          <p:cNvSpPr/>
          <p:nvPr/>
        </p:nvSpPr>
        <p:spPr>
          <a:xfrm>
            <a:off x="1371600" y="9907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69"/>
          <p:cNvSpPr/>
          <p:nvPr/>
        </p:nvSpPr>
        <p:spPr>
          <a:xfrm>
            <a:off x="1981080" y="990720"/>
            <a:ext cx="228600" cy="30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Равнобедренный треугольник 70"/>
          <p:cNvSpPr/>
          <p:nvPr/>
        </p:nvSpPr>
        <p:spPr>
          <a:xfrm>
            <a:off x="3733920" y="1066680"/>
            <a:ext cx="304560" cy="304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71"/>
          <p:cNvSpPr/>
          <p:nvPr/>
        </p:nvSpPr>
        <p:spPr>
          <a:xfrm>
            <a:off x="4343400" y="1066680"/>
            <a:ext cx="228600" cy="304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Равнобедренный треугольник 72"/>
          <p:cNvSpPr/>
          <p:nvPr/>
        </p:nvSpPr>
        <p:spPr>
          <a:xfrm>
            <a:off x="6705720" y="990720"/>
            <a:ext cx="304560" cy="3045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73"/>
          <p:cNvSpPr/>
          <p:nvPr/>
        </p:nvSpPr>
        <p:spPr>
          <a:xfrm>
            <a:off x="7238880" y="990720"/>
            <a:ext cx="228600" cy="30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Равнобедренный треугольник 74"/>
          <p:cNvSpPr/>
          <p:nvPr/>
        </p:nvSpPr>
        <p:spPr>
          <a:xfrm>
            <a:off x="1219320" y="5715000"/>
            <a:ext cx="38088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Равнобедренный треугольник 76"/>
          <p:cNvSpPr/>
          <p:nvPr/>
        </p:nvSpPr>
        <p:spPr>
          <a:xfrm>
            <a:off x="3581280" y="5715000"/>
            <a:ext cx="38124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Равнобедренный треугольник 77"/>
          <p:cNvSpPr/>
          <p:nvPr/>
        </p:nvSpPr>
        <p:spPr>
          <a:xfrm>
            <a:off x="6095880" y="5486400"/>
            <a:ext cx="38124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78"/>
          <p:cNvSpPr/>
          <p:nvPr/>
        </p:nvSpPr>
        <p:spPr>
          <a:xfrm>
            <a:off x="6553080" y="5562720"/>
            <a:ext cx="304920" cy="380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Равнобедренный треугольник 79"/>
          <p:cNvSpPr/>
          <p:nvPr/>
        </p:nvSpPr>
        <p:spPr>
          <a:xfrm>
            <a:off x="5410080" y="3049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80"/>
          <p:cNvSpPr/>
          <p:nvPr/>
        </p:nvSpPr>
        <p:spPr>
          <a:xfrm>
            <a:off x="5410080" y="762120"/>
            <a:ext cx="304920" cy="304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Group 2" descr=""/>
          <p:cNvPicPr/>
          <p:nvPr/>
        </p:nvPicPr>
        <p:blipFill>
          <a:blip r:embed="rId1"/>
          <a:stretch/>
        </p:blipFill>
        <p:spPr>
          <a:xfrm>
            <a:off x="176040" y="189000"/>
            <a:ext cx="2238480" cy="22302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8"/>
          <p:cNvSpPr/>
          <p:nvPr/>
        </p:nvSpPr>
        <p:spPr>
          <a:xfrm>
            <a:off x="469440" y="90792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2438280" y="457200"/>
            <a:ext cx="6193080" cy="647640"/>
          </a:xfrm>
          <a:prstGeom prst="roundRect">
            <a:avLst>
              <a:gd name="adj" fmla="val 50000"/>
            </a:avLst>
          </a:prstGeom>
          <a:solidFill>
            <a:srgbClr val="000000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етодика А.Г. Рив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684360" y="321300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щиеся находят и прорабатывают различные литературные источники по теме или сами составляют тек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j0343351"/>
          <p:cNvPicPr/>
          <p:nvPr/>
        </p:nvPicPr>
        <p:blipFill>
          <a:blip r:embed="rId2"/>
          <a:stretch/>
        </p:blipFill>
        <p:spPr>
          <a:xfrm>
            <a:off x="5724360" y="4292640"/>
            <a:ext cx="2160720" cy="2016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j0250670"/>
          <p:cNvPicPr/>
          <p:nvPr/>
        </p:nvPicPr>
        <p:blipFill>
          <a:blip r:embed="rId3"/>
          <a:stretch/>
        </p:blipFill>
        <p:spPr>
          <a:xfrm>
            <a:off x="3851280" y="1125360"/>
            <a:ext cx="1708200" cy="1981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Group 2" descr=""/>
          <p:cNvPicPr/>
          <p:nvPr/>
        </p:nvPicPr>
        <p:blipFill>
          <a:blip r:embed="rId1"/>
          <a:stretch/>
        </p:blipFill>
        <p:spPr>
          <a:xfrm>
            <a:off x="0" y="0"/>
            <a:ext cx="2378160" cy="24019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8"/>
          <p:cNvSpPr/>
          <p:nvPr/>
        </p:nvSpPr>
        <p:spPr>
          <a:xfrm>
            <a:off x="252720" y="76500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2411280" y="189000"/>
            <a:ext cx="6193080" cy="647640"/>
          </a:xfrm>
          <a:prstGeom prst="roundRect">
            <a:avLst>
              <a:gd name="adj" fmla="val 50000"/>
            </a:avLst>
          </a:prstGeom>
          <a:solidFill>
            <a:srgbClr val="000000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етодика М.А. Мкртчя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411280" y="981000"/>
            <a:ext cx="482472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Работа начинается с ввода так называемого « запуска» раздела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762120" y="2276640"/>
            <a:ext cx="8130960" cy="52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ahoma"/>
              </a:rPr>
              <a:t>Учитель работает индивидуально с каждым по очереди, объясняет, как решается задача «А» того задания, которое должен выполнить ученик. Даёт теоретическую консультацию, записывает решение задачи прямо в тетрадь ученика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ahoma"/>
              </a:rPr>
              <a:t>Задачу «Б» своего задания ученики решают самостоятельно, а правильность решения проверяют у учителя. После проверки ученику ставится в таблице учёта «+»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ahoma"/>
              </a:rPr>
              <a:t>Раздел считается введённым в работу ( запущенным в технологический процесс), если каждое его задание выполнено хотя бы одним ученик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j0292122"/>
          <p:cNvPicPr/>
          <p:nvPr/>
        </p:nvPicPr>
        <p:blipFill>
          <a:blip r:embed="rId2"/>
          <a:stretch/>
        </p:blipFill>
        <p:spPr>
          <a:xfrm>
            <a:off x="6948360" y="765000"/>
            <a:ext cx="1816200" cy="1592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838080" y="304920"/>
            <a:ext cx="805176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рточках или в тетради даются по два однотипных задания (упражнения, задачи или вопросы). Каждое задание имеет свой №. Удобно нумеровать буквами и цифрами: ВА4, МК7.Буквы для обозначения разделов, цифры для номеров задания в данном разде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организуются несколько групп по 5 – 7 ребят в каждой. В классе может действовать одновременно пять – шесть групп и все по разным тем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«запуск» урока можно пригласить своих «свободных» коллег или учеников старших классов (это норма при КС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j0088926"/>
          <p:cNvPicPr/>
          <p:nvPr/>
        </p:nvPicPr>
        <p:blipFill>
          <a:blip r:embed="rId1"/>
          <a:stretch/>
        </p:blipFill>
        <p:spPr>
          <a:xfrm>
            <a:off x="7315200" y="5181480"/>
            <a:ext cx="1494000" cy="1489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914400" y="29520"/>
            <a:ext cx="8001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тодика взаимотрена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Эта методика предназначена для организации процессов повторения, закрепления, тренировки. Помимо этого предназначения, она, как и другие методики, имеет вполне определённую образовательную (для учащихся) и оргуправленческую значим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обенность методики заключается в том, что она не требует особого процесса запуска и постоянного присутствия уч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1"/>
          <p:cNvSpPr/>
          <p:nvPr/>
        </p:nvSpPr>
        <p:spPr>
          <a:xfrm>
            <a:off x="990720" y="0"/>
            <a:ext cx="81532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ложение 2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горитм изучения текста по методике Ривин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ариант для начальной школы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говариваемся, над чьим текстом будем работа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. Работа над собственным тексто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Читайте новую часть текст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Что узнали из этой части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Объясните непонятные слов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Какие слова считаете главными? Объясните и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Задайте вопросы друг друг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риведите пример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О ком или о чём говорится в этой части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Что об этом говорится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Озаглавьте эту часть. Заголовок запиши в тетрад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Запиши на полях инициалы напарни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Перескажи изученную час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. Помоги напарнику изучить его часть текст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йте по пунктам 1-11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II. Найди нового напарни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кажи напарнику изученные ча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йте с напарником над новой частью по пунктам 1-11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V. Помоги напарник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лушай изученные напарником части текста. Дальше работайте по пунктам 1-11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58560" y="1125000"/>
            <a:ext cx="7489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ьская газ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№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5 от 30.08.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№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7 от 13. 09.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.К. Селевко. Педагогические технологии на основе активизации, интенсификации и эффективного управления УВП. М., 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kco-kras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рганизационная структура учебного процесса и стадии её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692280"/>
          <a:ext cx="8207280" cy="5962680"/>
        </p:xfrm>
        <a:graphic>
          <a:graphicData uri="http://schemas.openxmlformats.org/drawingml/2006/table">
            <a:tbl>
              <a:tblPr/>
              <a:tblGrid>
                <a:gridCol w="2313000"/>
                <a:gridCol w="2946240"/>
                <a:gridCol w="2948040"/>
              </a:tblGrid>
              <a:tr h="541080"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общ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ая форма обуч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 обуч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1211400"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Опосредованное общение через письменную речь (один человек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дивидуально-обособленная самостоятельная работа с источнико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дивидуально - самостоятельны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481040"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Общение в паре (два человек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дивидуально -парная (один учит другого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дивидуальный способ обучения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(ИСО)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– до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VI-XVII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. включает две формы: парную и индивидуальну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501920"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Групповое общение (три и более человек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рупповая ( один одновременно учит многих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рупповой способ обучения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ГСО)-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VII-XX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. включает три формы: групповую, парную и индивидуальну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227240"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Общение в парах сменного соста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лективная (каждый учит каждого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лективный способ обучения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КСО)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включает все четыре формы: коллективную, групповую, парную и индивидуальну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3"/>
          <p:cNvSpPr/>
          <p:nvPr/>
        </p:nvSpPr>
        <p:spPr>
          <a:xfrm>
            <a:off x="1828800" y="609480"/>
            <a:ext cx="579132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лективным способом обучения (КСО) является такая его организация, при которой обучение осуществляется путём общения в динамических парах, когда каждый учит кажд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обенности методики КСО в сравнении с ГСО (ПО В.К. Дьяченк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ИНЦИПЫ КС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вершённость, или ориентация на  высшие конечные результа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Непрерывная и безотлагательная передача полученных знаний друг друг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Сотрудничество и взаимопомощь между учен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Разнообразие тем и задани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Разноуровневость (разновозрастность) участников педагогического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Обучение по способностям индиви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92000" y="228600"/>
          <a:ext cx="8047080" cy="6192720"/>
        </p:xfrm>
        <a:graphic>
          <a:graphicData uri="http://schemas.openxmlformats.org/drawingml/2006/table">
            <a:tbl>
              <a:tblPr/>
              <a:tblGrid>
                <a:gridCol w="3954600"/>
                <a:gridCol w="4092480"/>
              </a:tblGrid>
              <a:tr h="498960">
                <a:tc>
                  <a:txBody>
                    <a:bodyPr lIns="90000" rIns="90000" tIns="43560" bIns="4356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рупповой СО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560" bIns="4356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оллективный СО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 gridSpan="2">
                  <a:txBody>
                    <a:bodyPr lIns="90000" rIns="90000" tIns="43560" bIns="4356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рганизационны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ёткость, упорядоченность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уе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ворит один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ворят вс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ние учащихся отсутствуе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общаютс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чани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чий шум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ое рабочее место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н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 gridSpan="2">
                  <a:txBody>
                    <a:bodyPr lIns="90000" rIns="90000" tIns="43560" bIns="4356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идактически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640"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чает педагог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чают ученик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ь материал сразу и для всех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ые темпы и материал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 самостоятельност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ая самостоятельность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рудничество отсутствуе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рудничество - основа обучен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воение и применение разнесен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560" bIns="4356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ально приближены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792000" y="0"/>
          <a:ext cx="8123400" cy="6248520"/>
        </p:xfrm>
        <a:graphic>
          <a:graphicData uri="http://schemas.openxmlformats.org/drawingml/2006/table">
            <a:tbl>
              <a:tblPr/>
              <a:tblGrid>
                <a:gridCol w="3990960"/>
                <a:gridCol w="413244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С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С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развивающ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ник – объе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ник – субъект+объе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вниловка, усреднение способностей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оответствии с индивидуальными особенност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тический характер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нтанный характ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учатся выступ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тся выступать, рассуждают, доказываю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умеют объясн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педагогических способнос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воспита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ждый работает на себ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ебя и на друг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шения неколлективист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шения ответственной зависимости: коллективист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Group 2" descr=""/>
          <p:cNvPicPr/>
          <p:nvPr/>
        </p:nvPicPr>
        <p:blipFill>
          <a:blip r:embed="rId1"/>
          <a:stretch/>
        </p:blipFill>
        <p:spPr>
          <a:xfrm>
            <a:off x="0" y="3213000"/>
            <a:ext cx="2378160" cy="230364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9"/>
          <p:cNvGrpSpPr/>
          <p:nvPr/>
        </p:nvGrpSpPr>
        <p:grpSpPr>
          <a:xfrm>
            <a:off x="4500720" y="3141720"/>
            <a:ext cx="2376000" cy="2401560"/>
            <a:chOff x="4500720" y="3141720"/>
            <a:chExt cx="2376000" cy="2401560"/>
          </a:xfrm>
        </p:grpSpPr>
        <p:sp>
          <p:nvSpPr>
            <p:cNvPr id="59" name="Oval 10"/>
            <p:cNvSpPr/>
            <p:nvPr/>
          </p:nvSpPr>
          <p:spPr>
            <a:xfrm>
              <a:off x="4500720" y="3141720"/>
              <a:ext cx="2376000" cy="2401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be0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1"/>
            <p:cNvSpPr/>
            <p:nvPr/>
          </p:nvSpPr>
          <p:spPr>
            <a:xfrm>
              <a:off x="4500720" y="3141720"/>
              <a:ext cx="2376000" cy="2401560"/>
            </a:xfrm>
            <a:prstGeom prst="ellipse">
              <a:avLst/>
            </a:prstGeom>
            <a:gradFill rotWithShape="0">
              <a:gsLst>
                <a:gs pos="0">
                  <a:srgbClr val="d8edef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2"/>
            <p:cNvSpPr/>
            <p:nvPr/>
          </p:nvSpPr>
          <p:spPr>
            <a:xfrm>
              <a:off x="4656600" y="3298680"/>
              <a:ext cx="2064600" cy="2087280"/>
            </a:xfrm>
            <a:prstGeom prst="ellipse">
              <a:avLst/>
            </a:prstGeom>
            <a:gradFill rotWithShape="0">
              <a:gsLst>
                <a:gs pos="0">
                  <a:srgbClr val="65797b"/>
                </a:gs>
                <a:gs pos="50000">
                  <a:srgbClr val="bbe0e3"/>
                </a:gs>
                <a:gs pos="100000">
                  <a:srgbClr val="6579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3"/>
            <p:cNvSpPr/>
            <p:nvPr/>
          </p:nvSpPr>
          <p:spPr>
            <a:xfrm>
              <a:off x="4656600" y="3298680"/>
              <a:ext cx="2064600" cy="20872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b6d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4"/>
            <p:cNvSpPr/>
            <p:nvPr/>
          </p:nvSpPr>
          <p:spPr>
            <a:xfrm>
              <a:off x="4759560" y="3403440"/>
              <a:ext cx="1858680" cy="18781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5"/>
          <p:cNvGrpSpPr/>
          <p:nvPr/>
        </p:nvGrpSpPr>
        <p:grpSpPr>
          <a:xfrm>
            <a:off x="6622920" y="3141720"/>
            <a:ext cx="2520720" cy="2374920"/>
            <a:chOff x="6622920" y="3141720"/>
            <a:chExt cx="2520720" cy="2374920"/>
          </a:xfrm>
        </p:grpSpPr>
        <p:sp>
          <p:nvSpPr>
            <p:cNvPr id="65" name="Oval 16"/>
            <p:cNvSpPr/>
            <p:nvPr/>
          </p:nvSpPr>
          <p:spPr>
            <a:xfrm>
              <a:off x="6622920" y="3141720"/>
              <a:ext cx="2520720" cy="237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cc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17"/>
            <p:cNvSpPr/>
            <p:nvPr/>
          </p:nvSpPr>
          <p:spPr>
            <a:xfrm>
              <a:off x="6622920" y="3141720"/>
              <a:ext cx="2520720" cy="2374920"/>
            </a:xfrm>
            <a:prstGeom prst="ellipse">
              <a:avLst/>
            </a:prstGeom>
            <a:gradFill rotWithShape="0">
              <a:gsLst>
                <a:gs pos="0">
                  <a:srgbClr val="bbdd55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8"/>
            <p:cNvSpPr/>
            <p:nvPr/>
          </p:nvSpPr>
          <p:spPr>
            <a:xfrm>
              <a:off x="6788160" y="3297240"/>
              <a:ext cx="2190240" cy="2063880"/>
            </a:xfrm>
            <a:prstGeom prst="ellipse">
              <a:avLst/>
            </a:prstGeom>
            <a:gradFill rotWithShape="0">
              <a:gsLst>
                <a:gs pos="0">
                  <a:srgbClr val="536e00"/>
                </a:gs>
                <a:gs pos="50000">
                  <a:srgbClr val="99cc00"/>
                </a:gs>
                <a:gs pos="100000">
                  <a:srgbClr val="536e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9"/>
            <p:cNvSpPr/>
            <p:nvPr/>
          </p:nvSpPr>
          <p:spPr>
            <a:xfrm>
              <a:off x="6788160" y="3297240"/>
              <a:ext cx="2190240" cy="206388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a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0"/>
            <p:cNvSpPr/>
            <p:nvPr/>
          </p:nvSpPr>
          <p:spPr>
            <a:xfrm>
              <a:off x="6897600" y="3400560"/>
              <a:ext cx="1971720" cy="185724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1"/>
          <p:cNvGrpSpPr/>
          <p:nvPr/>
        </p:nvGrpSpPr>
        <p:grpSpPr>
          <a:xfrm>
            <a:off x="2411280" y="3213000"/>
            <a:ext cx="2232000" cy="2232000"/>
            <a:chOff x="2411280" y="3213000"/>
            <a:chExt cx="2232000" cy="2232000"/>
          </a:xfrm>
        </p:grpSpPr>
        <p:sp>
          <p:nvSpPr>
            <p:cNvPr id="71" name="Oval 22"/>
            <p:cNvSpPr/>
            <p:nvPr/>
          </p:nvSpPr>
          <p:spPr>
            <a:xfrm>
              <a:off x="2411280" y="3213000"/>
              <a:ext cx="2232000" cy="223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3"/>
            <p:cNvSpPr/>
            <p:nvPr/>
          </p:nvSpPr>
          <p:spPr>
            <a:xfrm>
              <a:off x="2411280" y="3213000"/>
              <a:ext cx="2232000" cy="2232000"/>
            </a:xfrm>
            <a:prstGeom prst="ellipse">
              <a:avLst/>
            </a:prstGeom>
            <a:gradFill rotWithShape="0">
              <a:gsLst>
                <a:gs pos="0">
                  <a:srgbClr val="4db8b8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4"/>
            <p:cNvSpPr/>
            <p:nvPr/>
          </p:nvSpPr>
          <p:spPr>
            <a:xfrm>
              <a:off x="2557440" y="3359160"/>
              <a:ext cx="1939320" cy="193968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25"/>
            <p:cNvSpPr/>
            <p:nvPr/>
          </p:nvSpPr>
          <p:spPr>
            <a:xfrm>
              <a:off x="2557440" y="3359160"/>
              <a:ext cx="1939320" cy="1939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a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26"/>
            <p:cNvSpPr/>
            <p:nvPr/>
          </p:nvSpPr>
          <p:spPr>
            <a:xfrm>
              <a:off x="2654280" y="3456000"/>
              <a:ext cx="1745640" cy="1745280"/>
            </a:xfrm>
            <a:prstGeom prst="ellipse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AutoShape 27"/>
          <p:cNvSpPr/>
          <p:nvPr/>
        </p:nvSpPr>
        <p:spPr>
          <a:xfrm>
            <a:off x="685800" y="1143000"/>
            <a:ext cx="8064360" cy="647640"/>
          </a:xfrm>
          <a:prstGeom prst="roundRect">
            <a:avLst>
              <a:gd name="adj" fmla="val 50000"/>
            </a:avLst>
          </a:prstGeom>
          <a:solidFill>
            <a:srgbClr val="ffffff">
              <a:alpha val="8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личные методики К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8"/>
          <p:cNvSpPr/>
          <p:nvPr/>
        </p:nvSpPr>
        <p:spPr>
          <a:xfrm>
            <a:off x="252720" y="3860640"/>
            <a:ext cx="198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абзац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рабо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9"/>
          <p:cNvSpPr/>
          <p:nvPr/>
        </p:nvSpPr>
        <p:spPr>
          <a:xfrm>
            <a:off x="4718160" y="393372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0"/>
          <p:cNvSpPr/>
          <p:nvPr/>
        </p:nvSpPr>
        <p:spPr>
          <a:xfrm>
            <a:off x="2701440" y="400536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1"/>
          <p:cNvSpPr/>
          <p:nvPr/>
        </p:nvSpPr>
        <p:spPr>
          <a:xfrm>
            <a:off x="6879240" y="3933720"/>
            <a:ext cx="20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рман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2"/>
          <p:cNvSpPr/>
          <p:nvPr/>
        </p:nvSpPr>
        <p:spPr>
          <a:xfrm>
            <a:off x="2556000" y="5734080"/>
            <a:ext cx="4319640" cy="358920"/>
          </a:xfrm>
          <a:prstGeom prst="roundRect">
            <a:avLst>
              <a:gd name="adj" fmla="val 50000"/>
            </a:avLst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друг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Group 2" descr=""/>
          <p:cNvPicPr/>
          <p:nvPr/>
        </p:nvPicPr>
        <p:blipFill>
          <a:blip r:embed="rId1"/>
          <a:stretch/>
        </p:blipFill>
        <p:spPr>
          <a:xfrm>
            <a:off x="0" y="0"/>
            <a:ext cx="2378160" cy="2305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252720" y="549360"/>
            <a:ext cx="198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абзац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рабо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2411280" y="189000"/>
            <a:ext cx="6193080" cy="647640"/>
          </a:xfrm>
          <a:prstGeom prst="roundRect">
            <a:avLst>
              <a:gd name="adj" fmla="val 50000"/>
            </a:avLst>
          </a:prstGeom>
          <a:solidFill>
            <a:srgbClr val="000000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Arial"/>
              </a:rPr>
              <a:t>Методика А.Г. Рив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2411280" y="1052640"/>
            <a:ext cx="5894640" cy="1081080"/>
          </a:xfrm>
          <a:prstGeom prst="roundRect">
            <a:avLst>
              <a:gd name="adj" fmla="val 50000"/>
            </a:avLst>
          </a:prstGeom>
          <a:solidFill>
            <a:srgbClr val="92d050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аботана для изучения дел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тей или научных текстов в пар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енного сост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838080" y="2421000"/>
            <a:ext cx="8055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временно в классе изучается много разных тем. Практически каждый школьник имеет свою отдельную тему, которую он прорабатывает по очереди с разными товарищами, выступая поочерёдно то в роли слушателя ( ученика), то в роли рассказчика ( учителя).     Оптимальное количество тем в группе – девять – одиннадцать. Поэтому если в классе 30 – 40 учеников, то одновременно 3 – 4 группы « специализируются» по одной и той же теме. По каждой теме подбираются 15 – 20 рассказов, которые распределяются между дет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j0292084"/>
          <p:cNvPicPr/>
          <p:nvPr/>
        </p:nvPicPr>
        <p:blipFill>
          <a:blip r:embed="rId2"/>
          <a:stretch/>
        </p:blipFill>
        <p:spPr>
          <a:xfrm>
            <a:off x="8101080" y="1341360"/>
            <a:ext cx="1042920" cy="11289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13"/>
          <p:cNvSpPr/>
          <p:nvPr/>
        </p:nvSpPr>
        <p:spPr>
          <a:xfrm>
            <a:off x="2411280" y="189000"/>
            <a:ext cx="6193080" cy="647640"/>
          </a:xfrm>
          <a:prstGeom prst="roundRect">
            <a:avLst>
              <a:gd name="adj" fmla="val 50000"/>
            </a:avLst>
          </a:prstGeom>
          <a:solidFill>
            <a:srgbClr val="d1d1f0">
              <a:alpha val="8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Arial"/>
              </a:rPr>
              <a:t>Методика А.Г. Рив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848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ём статей для изучения не должен быть слишком маленьким ( не меньше одной страницы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самого начала перед учеником ставится цель: овладеть материалом данной статьи так, чтобы уметь её рассказать, ответить на все вопрос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организуется так, чтобы весь учебный материал был последовательно проработан сначала в позиции ученика, затем в позиции учителя ( схема представлена на следующем слайд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CG13D"/>
          <p:cNvPicPr/>
          <p:nvPr/>
        </p:nvPicPr>
        <p:blipFill>
          <a:blip r:embed="rId1"/>
          <a:stretch/>
        </p:blipFill>
        <p:spPr>
          <a:xfrm>
            <a:off x="4343400" y="2895480"/>
            <a:ext cx="1295280" cy="882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Эрдэни</cp:lastModifiedBy>
  <dcterms:modified xsi:type="dcterms:W3CDTF">2019-04-20T16:47:26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