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AE4C-7EDB-44B1-A1F3-9A966BD70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124-7F9A-4CAA-B09A-373B35982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B9F-B724-4F4A-8C73-9667AB238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47BB-F061-4A22-A3AB-39F64C596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4D2-2904-457B-B710-C7E84DF4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DE-ED2C-4878-A53E-0360BB68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BE6-4F00-46BF-8EE8-9386926A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3FF-E83E-4AFE-B670-16D49AF5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370-3BFD-4F17-9310-96728401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BC5-AA65-4EE3-8175-948583BA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224-733A-4A86-9B0C-FB61ACA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F5F-0D8E-40E2-9B34-7178298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337-7E0B-40D6-9046-1572CFE4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1F4-36D2-4316-860E-D96E03B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7B6-5CC9-443A-9F9A-2825022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269-BCC4-47D1-9D07-17FF5BA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C5A-83B2-4EAA-9E96-C5B6B08DF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chool.edu.ru/click.asp?url=http%3A%2F%2Fwww%2Ekco%2Dkras%2E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Коллективный способ обучения</a:t>
            </a:r>
            <a:br>
              <a:rPr sz="4800"/>
            </a:b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(КС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9525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хнологическая схема КС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-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еник -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 rot="3418800">
            <a:off x="1164600" y="3234960"/>
            <a:ext cx="1627200" cy="1582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3059280" y="4005360"/>
            <a:ext cx="1132560" cy="201240"/>
            <a:chOff x="3059280" y="4005360"/>
            <a:chExt cx="1132560" cy="201240"/>
          </a:xfrm>
        </p:grpSpPr>
        <p:sp>
          <p:nvSpPr>
            <p:cNvPr id="94" name="Oval 5"/>
            <p:cNvSpPr/>
            <p:nvPr/>
          </p:nvSpPr>
          <p:spPr>
            <a:xfrm>
              <a:off x="3059280" y="4005360"/>
              <a:ext cx="19080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3168000" y="4006800"/>
              <a:ext cx="93960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4020120" y="4008600"/>
              <a:ext cx="17172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"/>
            <p:cNvSpPr/>
            <p:nvPr/>
          </p:nvSpPr>
          <p:spPr>
            <a:xfrm>
              <a:off x="4112640" y="4071960"/>
              <a:ext cx="482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 rot="3418800">
            <a:off x="3906720" y="3375000"/>
            <a:ext cx="1477800" cy="1442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5292720" y="3933720"/>
            <a:ext cx="1132920" cy="201240"/>
            <a:chOff x="5292720" y="3933720"/>
            <a:chExt cx="1132920" cy="201240"/>
          </a:xfrm>
        </p:grpSpPr>
        <p:sp>
          <p:nvSpPr>
            <p:cNvPr id="100" name="Oval 11"/>
            <p:cNvSpPr/>
            <p:nvPr/>
          </p:nvSpPr>
          <p:spPr>
            <a:xfrm>
              <a:off x="5292720" y="3933720"/>
              <a:ext cx="19116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5401440" y="3935160"/>
              <a:ext cx="93996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6253920" y="3936960"/>
              <a:ext cx="17172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6346440" y="4000320"/>
              <a:ext cx="482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 rot="3418800">
            <a:off x="6262200" y="3178080"/>
            <a:ext cx="1513080" cy="1582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484360" y="227664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609480" y="4114800"/>
            <a:ext cx="1009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8244000" y="227664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484360" y="2708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бота в динамических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1546200" y="38624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2482920" y="38624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4500720" y="3860640"/>
            <a:ext cx="64764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427640" y="4005360"/>
            <a:ext cx="72072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6732720" y="393372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6804000" y="4653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685800" y="990720"/>
            <a:ext cx="2303280" cy="1713960"/>
            <a:chOff x="685800" y="990720"/>
            <a:chExt cx="2303280" cy="1713960"/>
          </a:xfrm>
        </p:grpSpPr>
        <p:sp>
          <p:nvSpPr>
            <p:cNvPr id="116" name="AutoShape 27"/>
            <p:cNvSpPr/>
            <p:nvPr/>
          </p:nvSpPr>
          <p:spPr>
            <a:xfrm>
              <a:off x="685800" y="990720"/>
              <a:ext cx="2190600" cy="171396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830160" y="1352160"/>
              <a:ext cx="2158920" cy="100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ределение цел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"/>
          <p:cNvGrpSpPr/>
          <p:nvPr/>
        </p:nvGrpSpPr>
        <p:grpSpPr>
          <a:xfrm>
            <a:off x="3203640" y="1197000"/>
            <a:ext cx="2160360" cy="1533600"/>
            <a:chOff x="3203640" y="1197000"/>
            <a:chExt cx="2160360" cy="1533600"/>
          </a:xfrm>
        </p:grpSpPr>
        <p:sp>
          <p:nvSpPr>
            <p:cNvPr id="119" name="AutoShape 31"/>
            <p:cNvSpPr/>
            <p:nvPr/>
          </p:nvSpPr>
          <p:spPr>
            <a:xfrm>
              <a:off x="3203640" y="1197000"/>
              <a:ext cx="2160360" cy="1533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3276720" y="1413000"/>
              <a:ext cx="20160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Инструктаж  (установление правил деятельности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5364000" y="1125360"/>
            <a:ext cx="2953080" cy="1539360"/>
            <a:chOff x="5364000" y="1125360"/>
            <a:chExt cx="2953080" cy="1539360"/>
          </a:xfrm>
        </p:grpSpPr>
        <p:sp>
          <p:nvSpPr>
            <p:cNvPr id="122" name="AutoShape 35"/>
            <p:cNvSpPr/>
            <p:nvPr/>
          </p:nvSpPr>
          <p:spPr>
            <a:xfrm>
              <a:off x="6084720" y="1125360"/>
              <a:ext cx="2160720" cy="1533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5364000" y="2276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6156360" y="1413000"/>
              <a:ext cx="21607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Распределение функций, формирование групп, па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9"/>
          <p:cNvGrpSpPr/>
          <p:nvPr/>
        </p:nvGrpSpPr>
        <p:grpSpPr>
          <a:xfrm>
            <a:off x="1619280" y="4868640"/>
            <a:ext cx="1655640" cy="1434960"/>
            <a:chOff x="1619280" y="4868640"/>
            <a:chExt cx="1655640" cy="1434960"/>
          </a:xfrm>
        </p:grpSpPr>
        <p:sp>
          <p:nvSpPr>
            <p:cNvPr id="126" name="Text Box 40"/>
            <p:cNvSpPr/>
            <p:nvPr/>
          </p:nvSpPr>
          <p:spPr>
            <a:xfrm>
              <a:off x="1619280" y="566100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екущий 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V="1">
              <a:off x="2268360" y="486864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3"/>
          <p:cNvGrpSpPr/>
          <p:nvPr/>
        </p:nvGrpSpPr>
        <p:grpSpPr>
          <a:xfrm>
            <a:off x="3924360" y="4868640"/>
            <a:ext cx="2305080" cy="1434960"/>
            <a:chOff x="3924360" y="4868640"/>
            <a:chExt cx="2305080" cy="1434960"/>
          </a:xfrm>
        </p:grpSpPr>
        <p:sp>
          <p:nvSpPr>
            <p:cNvPr id="129" name="Text Box 44"/>
            <p:cNvSpPr/>
            <p:nvPr/>
          </p:nvSpPr>
          <p:spPr>
            <a:xfrm>
              <a:off x="3924360" y="566100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индивидуальная помощ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6"/>
            <p:cNvSpPr/>
            <p:nvPr/>
          </p:nvSpPr>
          <p:spPr>
            <a:xfrm flipV="1">
              <a:off x="4788000" y="486864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47"/>
          <p:cNvGrpSpPr/>
          <p:nvPr/>
        </p:nvGrpSpPr>
        <p:grpSpPr>
          <a:xfrm>
            <a:off x="8028000" y="3860640"/>
            <a:ext cx="882000" cy="201240"/>
            <a:chOff x="8028000" y="3860640"/>
            <a:chExt cx="882000" cy="201240"/>
          </a:xfrm>
        </p:grpSpPr>
        <p:sp>
          <p:nvSpPr>
            <p:cNvPr id="132" name="Oval 48"/>
            <p:cNvSpPr/>
            <p:nvPr/>
          </p:nvSpPr>
          <p:spPr>
            <a:xfrm>
              <a:off x="8028000" y="3860640"/>
              <a:ext cx="14868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9"/>
            <p:cNvSpPr/>
            <p:nvPr/>
          </p:nvSpPr>
          <p:spPr>
            <a:xfrm>
              <a:off x="8112600" y="3862080"/>
              <a:ext cx="73188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0"/>
            <p:cNvSpPr/>
            <p:nvPr/>
          </p:nvSpPr>
          <p:spPr>
            <a:xfrm>
              <a:off x="8776440" y="3863880"/>
              <a:ext cx="13356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1"/>
            <p:cNvSpPr/>
            <p:nvPr/>
          </p:nvSpPr>
          <p:spPr>
            <a:xfrm>
              <a:off x="8848440" y="3927240"/>
              <a:ext cx="374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52"/>
          <p:cNvSpPr/>
          <p:nvPr/>
        </p:nvSpPr>
        <p:spPr>
          <a:xfrm>
            <a:off x="8893080" y="3860640"/>
            <a:ext cx="0" cy="136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3"/>
          <p:cNvGrpSpPr/>
          <p:nvPr/>
        </p:nvGrpSpPr>
        <p:grpSpPr>
          <a:xfrm>
            <a:off x="6804000" y="5157720"/>
            <a:ext cx="2160720" cy="1317600"/>
            <a:chOff x="6804000" y="5157720"/>
            <a:chExt cx="2160720" cy="1317600"/>
          </a:xfrm>
        </p:grpSpPr>
        <p:sp>
          <p:nvSpPr>
            <p:cNvPr id="138" name="AutoShape 54"/>
            <p:cNvSpPr/>
            <p:nvPr/>
          </p:nvSpPr>
          <p:spPr>
            <a:xfrm>
              <a:off x="6804000" y="5157720"/>
              <a:ext cx="2160720" cy="1317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5"/>
            <p:cNvSpPr/>
            <p:nvPr/>
          </p:nvSpPr>
          <p:spPr>
            <a:xfrm>
              <a:off x="7020000" y="5157720"/>
              <a:ext cx="19429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дведение итогов (тематические зачёты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57" descr="j0229913"/>
          <p:cNvPicPr/>
          <p:nvPr/>
        </p:nvPicPr>
        <p:blipFill>
          <a:blip r:embed="rId1"/>
          <a:stretch/>
        </p:blipFill>
        <p:spPr>
          <a:xfrm>
            <a:off x="2266920" y="3141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8" descr="j0229913"/>
          <p:cNvPicPr/>
          <p:nvPr/>
        </p:nvPicPr>
        <p:blipFill>
          <a:blip r:embed="rId2"/>
          <a:stretch/>
        </p:blipFill>
        <p:spPr>
          <a:xfrm>
            <a:off x="1330200" y="4365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9" descr="j0229913"/>
          <p:cNvPicPr/>
          <p:nvPr/>
        </p:nvPicPr>
        <p:blipFill>
          <a:blip r:embed="rId3"/>
          <a:stretch/>
        </p:blipFill>
        <p:spPr>
          <a:xfrm>
            <a:off x="2266920" y="4365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0" descr="j0229913"/>
          <p:cNvPicPr/>
          <p:nvPr/>
        </p:nvPicPr>
        <p:blipFill>
          <a:blip r:embed="rId4"/>
          <a:stretch/>
        </p:blipFill>
        <p:spPr>
          <a:xfrm>
            <a:off x="3924360" y="3429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1" descr="j0229913"/>
          <p:cNvPicPr/>
          <p:nvPr/>
        </p:nvPicPr>
        <p:blipFill>
          <a:blip r:embed="rId5"/>
          <a:stretch/>
        </p:blipFill>
        <p:spPr>
          <a:xfrm>
            <a:off x="5003640" y="3213000"/>
            <a:ext cx="597240" cy="74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2" descr="j0229913"/>
          <p:cNvPicPr/>
          <p:nvPr/>
        </p:nvPicPr>
        <p:blipFill>
          <a:blip r:embed="rId6"/>
          <a:stretch/>
        </p:blipFill>
        <p:spPr>
          <a:xfrm>
            <a:off x="4067280" y="4292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3" descr="j0229913"/>
          <p:cNvPicPr/>
          <p:nvPr/>
        </p:nvPicPr>
        <p:blipFill>
          <a:blip r:embed="rId7"/>
          <a:stretch/>
        </p:blipFill>
        <p:spPr>
          <a:xfrm>
            <a:off x="5148360" y="4221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4" descr="j0229913"/>
          <p:cNvPicPr/>
          <p:nvPr/>
        </p:nvPicPr>
        <p:blipFill>
          <a:blip r:embed="rId8"/>
          <a:stretch/>
        </p:blipFill>
        <p:spPr>
          <a:xfrm>
            <a:off x="6227640" y="3284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5" descr="j0229913"/>
          <p:cNvPicPr/>
          <p:nvPr/>
        </p:nvPicPr>
        <p:blipFill>
          <a:blip r:embed="rId9"/>
          <a:stretch/>
        </p:blipFill>
        <p:spPr>
          <a:xfrm>
            <a:off x="7524720" y="3284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6" descr="j0229913"/>
          <p:cNvPicPr/>
          <p:nvPr/>
        </p:nvPicPr>
        <p:blipFill>
          <a:blip r:embed="rId10"/>
          <a:stretch/>
        </p:blipFill>
        <p:spPr>
          <a:xfrm>
            <a:off x="6300720" y="414972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7" descr="j0229913"/>
          <p:cNvPicPr/>
          <p:nvPr/>
        </p:nvPicPr>
        <p:blipFill>
          <a:blip r:embed="rId11"/>
          <a:stretch/>
        </p:blipFill>
        <p:spPr>
          <a:xfrm>
            <a:off x="7524720" y="4221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8" descr="j0229913"/>
          <p:cNvPicPr/>
          <p:nvPr/>
        </p:nvPicPr>
        <p:blipFill>
          <a:blip r:embed="rId12"/>
          <a:stretch/>
        </p:blipFill>
        <p:spPr>
          <a:xfrm>
            <a:off x="1332000" y="3068640"/>
            <a:ext cx="596880" cy="746280"/>
          </a:xfrm>
          <a:prstGeom prst="rect">
            <a:avLst/>
          </a:prstGeom>
          <a:ln w="0">
            <a:noFill/>
          </a:ln>
        </p:spPr>
      </p:pic>
      <p:sp>
        <p:nvSpPr>
          <p:cNvPr id="152" name="Равнобедренный треугольник 68"/>
          <p:cNvSpPr/>
          <p:nvPr/>
        </p:nvSpPr>
        <p:spPr>
          <a:xfrm>
            <a:off x="137160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69"/>
          <p:cNvSpPr/>
          <p:nvPr/>
        </p:nvSpPr>
        <p:spPr>
          <a:xfrm>
            <a:off x="1981080" y="990720"/>
            <a:ext cx="22860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авнобедренный треугольник 70"/>
          <p:cNvSpPr/>
          <p:nvPr/>
        </p:nvSpPr>
        <p:spPr>
          <a:xfrm>
            <a:off x="3733920" y="106668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1"/>
          <p:cNvSpPr/>
          <p:nvPr/>
        </p:nvSpPr>
        <p:spPr>
          <a:xfrm>
            <a:off x="4343400" y="1066680"/>
            <a:ext cx="22860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Равнобедренный треугольник 72"/>
          <p:cNvSpPr/>
          <p:nvPr/>
        </p:nvSpPr>
        <p:spPr>
          <a:xfrm>
            <a:off x="6705720" y="9907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73"/>
          <p:cNvSpPr/>
          <p:nvPr/>
        </p:nvSpPr>
        <p:spPr>
          <a:xfrm>
            <a:off x="7238880" y="990720"/>
            <a:ext cx="22860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Равнобедренный треугольник 74"/>
          <p:cNvSpPr/>
          <p:nvPr/>
        </p:nvSpPr>
        <p:spPr>
          <a:xfrm>
            <a:off x="1219320" y="57150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Равнобедренный треугольник 76"/>
          <p:cNvSpPr/>
          <p:nvPr/>
        </p:nvSpPr>
        <p:spPr>
          <a:xfrm>
            <a:off x="3581280" y="5715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77"/>
          <p:cNvSpPr/>
          <p:nvPr/>
        </p:nvSpPr>
        <p:spPr>
          <a:xfrm>
            <a:off x="6095880" y="54864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78"/>
          <p:cNvSpPr/>
          <p:nvPr/>
        </p:nvSpPr>
        <p:spPr>
          <a:xfrm>
            <a:off x="6553080" y="5562720"/>
            <a:ext cx="30492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Равнобедренный треугольник 79"/>
          <p:cNvSpPr/>
          <p:nvPr/>
        </p:nvSpPr>
        <p:spPr>
          <a:xfrm>
            <a:off x="5410080" y="304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80"/>
          <p:cNvSpPr/>
          <p:nvPr/>
        </p:nvSpPr>
        <p:spPr>
          <a:xfrm>
            <a:off x="5410080" y="7621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Group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2238480" cy="2230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469440" y="9079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2438280" y="4572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84360" y="3213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находят и прорабатывают различные литературные источники по теме или сами составляют тек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j0343351"/>
          <p:cNvPicPr/>
          <p:nvPr/>
        </p:nvPicPr>
        <p:blipFill>
          <a:blip r:embed="rId2"/>
          <a:stretch/>
        </p:blipFill>
        <p:spPr>
          <a:xfrm>
            <a:off x="5724360" y="429264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j0250670"/>
          <p:cNvPicPr/>
          <p:nvPr/>
        </p:nvPicPr>
        <p:blipFill>
          <a:blip r:embed="rId3"/>
          <a:stretch/>
        </p:blipFill>
        <p:spPr>
          <a:xfrm>
            <a:off x="3851280" y="1125360"/>
            <a:ext cx="17082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roup 2" descr=""/>
          <p:cNvPicPr/>
          <p:nvPr/>
        </p:nvPicPr>
        <p:blipFill>
          <a:blip r:embed="rId1"/>
          <a:stretch/>
        </p:blipFill>
        <p:spPr>
          <a:xfrm>
            <a:off x="0" y="0"/>
            <a:ext cx="2378160" cy="2401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252720" y="765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ика М.А. Мкртч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11280" y="981000"/>
            <a:ext cx="4824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Работа начинается с ввода так называемого « запуска» раздела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62120" y="2276640"/>
            <a:ext cx="813096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Учитель работает индивидуально с каждым по очереди, объясняет, как решается задача «А» того задания, которое должен выполнить ученик. Даёт теоретическую консультацию, записывает решение задачи прямо в тетрадь ученика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Задачу «Б» своего задания ученики решают самостоятельно, а правильность решения проверяют у учителя. После проверки ученику ставится в таблице учёта «+»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Раздел считается введённым в работу ( запущенным в технологический процесс), если каждое его задание выполнено хотя бы одним учени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j0292122"/>
          <p:cNvPicPr/>
          <p:nvPr/>
        </p:nvPicPr>
        <p:blipFill>
          <a:blip r:embed="rId2"/>
          <a:stretch/>
        </p:blipFill>
        <p:spPr>
          <a:xfrm>
            <a:off x="6948360" y="765000"/>
            <a:ext cx="18162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38080" y="304920"/>
            <a:ext cx="80517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рточках или в тетради даются по два однотипных задания (упражнения, задачи или вопросы). Каждое задание имеет свой №. Удобно нумеровать буквами и цифрами: ВА4, МК7.Буквы для обозначения разделов, цифры для номеров задания в данном разде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организуются несколько групп по 5 – 7 ребят в каждой. В классе может действовать одновременно пять – шесть групп и все по разным тем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запуск» урока можно пригласить своих «свободных» коллег или учеников старших классов (это норма при КС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j0088926"/>
          <p:cNvPicPr/>
          <p:nvPr/>
        </p:nvPicPr>
        <p:blipFill>
          <a:blip r:embed="rId1"/>
          <a:stretch/>
        </p:blipFill>
        <p:spPr>
          <a:xfrm>
            <a:off x="7315200" y="5181480"/>
            <a:ext cx="1494000" cy="148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914400" y="2952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ика взаимотрен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 методика предназначена для организации процессов повторения, закрепления, тренировки. Помимо этого предназначения, она, как и другие методики, имеет вполне определённую образовательную (для учащихся) и оргуправленческую знач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методики заключается в том, что она не требует особого процесса запуска и постоянного присутств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990720" y="0"/>
            <a:ext cx="8153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изучения текста по методике Риви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ариант для начальной школ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говариваемся, над чьим текстом будем работ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. Работа над собственным текст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Читайте новую часть текс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то узнали из этой част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ъясните непонятные сл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кие слова считаете главными? Объясните и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Задайте вопросы друг дру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риведите приме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О ком или о чём говорится в этой част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Что об этом говоритс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Озаглавьте эту часть. Заголовок запиши в тетрад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Запиши на полях инициалы напар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Перескажи изученную ча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. Помоги напарнику изучить его часть текс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йте по пунктам 1-11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. Найди нового напар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жи напарнику изученные ч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йте с напарником над новой частью по пунктам 1-11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V. Помоги напарни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лушай изученные напарником части текста. Дальше работайте по пунктам 1-11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489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ская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№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5 от 30.08.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№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7 от 13. 09.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К. Селевко. Педагогические технологии на основе активизации, интенсификации и эффективного управления УВП. М.,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co-kra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ганизационная структура учебного процесса и стадии её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692280"/>
          <a:ext cx="8207280" cy="5962680"/>
        </p:xfrm>
        <a:graphic>
          <a:graphicData uri="http://schemas.openxmlformats.org/drawingml/2006/table">
            <a:tbl>
              <a:tblPr/>
              <a:tblGrid>
                <a:gridCol w="2313000"/>
                <a:gridCol w="2946240"/>
                <a:gridCol w="2948040"/>
              </a:tblGrid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щ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ая форма обу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обу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114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посредованное общение через письменную речь (один человек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-обособленная самостоятельная работа с источник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 - самостоятель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4810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Общение в паре (два челове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 -парная (один учит другог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ы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(ИСО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д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I-XVII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. включает две формы: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50192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Групповое общение (три и более челове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овая ( один одновременно учит многи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ово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ГСО)-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II-X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. включает три формы: групповую,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2272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Общение в парах сменного сост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ективная (каждый учит каждог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ективны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КСО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ключает все четыре формы: коллективную, групповую,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1828800" y="609480"/>
            <a:ext cx="579132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ктивным способом обучения (КСО) является такая его организация, при которой обучение осуществляется путём общения в динамических парах, когда каждый учит кажд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обенности методики КСО в сравнении с ГСО (ПО В.К. Дьячен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НЦИПЫ КС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ённость, или ориентация на  высшие конечные результа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Непрерывная и безотлагательная передача полученных знаний друг д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трудничество и взаимопомощь между уче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знообразие тем и задан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Разноуровневость (разновозрастность) участников педагогическ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Обучение по способностям инди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228600"/>
          <a:ext cx="8047080" cy="6192720"/>
        </p:xfrm>
        <a:graphic>
          <a:graphicData uri="http://schemas.openxmlformats.org/drawingml/2006/table">
            <a:tbl>
              <a:tblPr/>
              <a:tblGrid>
                <a:gridCol w="3954600"/>
                <a:gridCol w="4092480"/>
              </a:tblGrid>
              <a:tr h="498960">
                <a:tc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упповой С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лективный С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 gridSpan="2"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он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кость, упорядочен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 оди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ят вс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ие учащихся 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бщают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ч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й шу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рабочее мест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н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gridSpan="2"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идактическ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ет педаго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т учени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материал сразу и для все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темпы и материал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самостоятельнос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самостояте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 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 - основа обуч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и применение разнесе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 приближе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92000" y="0"/>
          <a:ext cx="8123400" cy="6248520"/>
        </p:xfrm>
        <a:graphic>
          <a:graphicData uri="http://schemas.openxmlformats.org/drawingml/2006/table">
            <a:tbl>
              <a:tblPr/>
              <a:tblGrid>
                <a:gridCol w="3990960"/>
                <a:gridCol w="41324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азвив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–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– субъект+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иловка, усреднение способностей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 индивидуальными особенност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ческий характер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ый 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чатся выступ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тся выступать, рассуждают, доказыв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меют 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едагогических способ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оспит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работает на себ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ебя и на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я неколлективист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я ответственной зависимости: коллективист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roup 2" descr=""/>
          <p:cNvPicPr/>
          <p:nvPr/>
        </p:nvPicPr>
        <p:blipFill>
          <a:blip r:embed="rId1"/>
          <a:stretch/>
        </p:blipFill>
        <p:spPr>
          <a:xfrm>
            <a:off x="0" y="3213000"/>
            <a:ext cx="2378160" cy="2303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9"/>
          <p:cNvGrpSpPr/>
          <p:nvPr/>
        </p:nvGrpSpPr>
        <p:grpSpPr>
          <a:xfrm>
            <a:off x="4500720" y="3141720"/>
            <a:ext cx="2376000" cy="2401560"/>
            <a:chOff x="4500720" y="3141720"/>
            <a:chExt cx="2376000" cy="2401560"/>
          </a:xfrm>
        </p:grpSpPr>
        <p:sp>
          <p:nvSpPr>
            <p:cNvPr id="59" name="Oval 10"/>
            <p:cNvSpPr/>
            <p:nvPr/>
          </p:nvSpPr>
          <p:spPr>
            <a:xfrm>
              <a:off x="4500720" y="3141720"/>
              <a:ext cx="2376000" cy="240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4500720" y="3141720"/>
              <a:ext cx="2376000" cy="2401560"/>
            </a:xfrm>
            <a:prstGeom prst="ellipse">
              <a:avLst/>
            </a:prstGeom>
            <a:gradFill rotWithShape="0">
              <a:gsLst>
                <a:gs pos="0">
                  <a:srgbClr val="d8edef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4656600" y="3298680"/>
              <a:ext cx="2064600" cy="2087280"/>
            </a:xfrm>
            <a:prstGeom prst="ellipse">
              <a:avLst/>
            </a:prstGeom>
            <a:gradFill rotWithShape="0">
              <a:gsLst>
                <a:gs pos="0">
                  <a:srgbClr val="65797b"/>
                </a:gs>
                <a:gs pos="50000">
                  <a:srgbClr val="bbe0e3"/>
                </a:gs>
                <a:gs pos="100000">
                  <a:srgbClr val="657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4656600" y="3298680"/>
              <a:ext cx="2064600" cy="2087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b6d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4759560" y="3403440"/>
              <a:ext cx="1858680" cy="18781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622920" y="3141720"/>
            <a:ext cx="2520720" cy="2374920"/>
            <a:chOff x="6622920" y="3141720"/>
            <a:chExt cx="2520720" cy="2374920"/>
          </a:xfrm>
        </p:grpSpPr>
        <p:sp>
          <p:nvSpPr>
            <p:cNvPr id="65" name="Oval 16"/>
            <p:cNvSpPr/>
            <p:nvPr/>
          </p:nvSpPr>
          <p:spPr>
            <a:xfrm>
              <a:off x="6622920" y="3141720"/>
              <a:ext cx="252072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6622920" y="3141720"/>
              <a:ext cx="2520720" cy="2374920"/>
            </a:xfrm>
            <a:prstGeom prst="ellipse">
              <a:avLst/>
            </a:prstGeom>
            <a:gradFill rotWithShape="0">
              <a:gsLst>
                <a:gs pos="0">
                  <a:srgbClr val="bbdd55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6788160" y="3297240"/>
              <a:ext cx="2190240" cy="20638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6788160" y="3297240"/>
              <a:ext cx="2190240" cy="20638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6897600" y="3400560"/>
              <a:ext cx="1971720" cy="18572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2411280" y="3213000"/>
            <a:ext cx="2232000" cy="2232000"/>
            <a:chOff x="2411280" y="3213000"/>
            <a:chExt cx="2232000" cy="2232000"/>
          </a:xfrm>
        </p:grpSpPr>
        <p:sp>
          <p:nvSpPr>
            <p:cNvPr id="71" name="Oval 22"/>
            <p:cNvSpPr/>
            <p:nvPr/>
          </p:nvSpPr>
          <p:spPr>
            <a:xfrm>
              <a:off x="2411280" y="3213000"/>
              <a:ext cx="2232000" cy="22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2411280" y="3213000"/>
              <a:ext cx="2232000" cy="2232000"/>
            </a:xfrm>
            <a:prstGeom prst="ellipse">
              <a:avLst/>
            </a:prstGeom>
            <a:gradFill rotWithShape="0">
              <a:gsLst>
                <a:gs pos="0">
                  <a:srgbClr val="4db8b8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2557440" y="3359160"/>
              <a:ext cx="1939320" cy="19396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2557440" y="3359160"/>
              <a:ext cx="1939320" cy="1939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2654280" y="3456000"/>
              <a:ext cx="1745640" cy="174528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27"/>
          <p:cNvSpPr/>
          <p:nvPr/>
        </p:nvSpPr>
        <p:spPr>
          <a:xfrm>
            <a:off x="685800" y="1143000"/>
            <a:ext cx="8064360" cy="647640"/>
          </a:xfrm>
          <a:prstGeom prst="roundRect">
            <a:avLst>
              <a:gd name="adj" fmla="val 50000"/>
            </a:avLst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ые методики К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252720" y="3860640"/>
            <a:ext cx="19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абзац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718160" y="3933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2701440" y="40053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6879240" y="393372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м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2556000" y="5734080"/>
            <a:ext cx="4319640" cy="358920"/>
          </a:xfrm>
          <a:prstGeom prst="roundRect">
            <a:avLst>
              <a:gd name="adj" fmla="val 50000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2" descr=""/>
          <p:cNvPicPr/>
          <p:nvPr/>
        </p:nvPicPr>
        <p:blipFill>
          <a:blip r:embed="rId1"/>
          <a:stretch/>
        </p:blipFill>
        <p:spPr>
          <a:xfrm>
            <a:off x="0" y="0"/>
            <a:ext cx="237816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252720" y="549360"/>
            <a:ext cx="19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абзац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11280" y="1052640"/>
            <a:ext cx="5894640" cy="1081080"/>
          </a:xfrm>
          <a:prstGeom prst="roundRect">
            <a:avLst>
              <a:gd name="adj" fmla="val 50000"/>
            </a:avLst>
          </a:prstGeom>
          <a:solidFill>
            <a:srgbClr val="92d05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а для изучения дел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ей или научных текстов в па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нного со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838080" y="2421000"/>
            <a:ext cx="805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в классе изучается много разных тем. Практически каждый школьник имеет свою отдельную тему, которую он прорабатывает по очереди с разными товарищами, выступая поочерёдно то в роли слушателя ( ученика), то в роли рассказчика ( учителя).     Оптимальное количество тем в группе – девять – одиннадцать. Поэтому если в классе 30 – 40 учеников, то одновременно 3 – 4 группы « специализируются» по одной и той же теме. По каждой теме подбираются 15 – 20 рассказов, которые распределяются между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j0292084"/>
          <p:cNvPicPr/>
          <p:nvPr/>
        </p:nvPicPr>
        <p:blipFill>
          <a:blip r:embed="rId2"/>
          <a:stretch/>
        </p:blipFill>
        <p:spPr>
          <a:xfrm>
            <a:off x="8101080" y="1341360"/>
            <a:ext cx="104292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3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d1d1f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статей для изучения не должен быть слишком маленьким ( не меньше одной страницы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амого начала перед учеником ставится цель: овладеть материалом данной статьи так, чтобы уметь её рассказать, ответить на все вопро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организуется так, чтобы весь учебный материал был последовательно проработан сначала в позиции ученика, затем в позиции учителя ( схема представлена на следующем слайд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G13D"/>
          <p:cNvPicPr/>
          <p:nvPr/>
        </p:nvPicPr>
        <p:blipFill>
          <a:blip r:embed="rId1"/>
          <a:stretch/>
        </p:blipFill>
        <p:spPr>
          <a:xfrm>
            <a:off x="4343400" y="2895480"/>
            <a:ext cx="1295280" cy="882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рдэни</cp:lastModifiedBy>
  <dcterms:modified xsi:type="dcterms:W3CDTF">2019-04-20T16:47:2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