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E25-E9A6-4E57-B7EC-81CC7A0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004-DD25-4A94-9101-330C1CFB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16A-9D2C-415D-ABA7-6A1F0477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BE2-8E21-4839-A87E-CAF74B71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9635-1EA7-4434-A57B-C980216B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2797-89A6-4141-B0FA-25FAA89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28E-55FB-42B5-91D9-A8B60343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BC54-80A2-486A-A77E-10902CA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4CA-0769-4F68-87BD-BFBCFC47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4C63-9BCD-4BA6-A655-B6BA22E2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72A6-155E-444D-BB60-F678597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6D1-5FB7-4536-B197-A82F5B0F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1F3B-6189-4A0E-9114-49868FB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E07A-4A4A-47FD-AC0E-DD88A0F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36C5-3D9F-415E-996A-115E339A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BA8D-1E5A-47B0-9060-FB53AD2A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7094-EDDB-4182-B553-4504E620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7F4-F224-41EE-84A0-7E4999FB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297-E76C-4DE9-81C3-2F5461DE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64C-17B7-44A5-9E16-08A188C1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6B6-D414-4C42-9391-E4FD1B8F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EC6-789A-42F8-9B60-86F9100E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CCB-55BB-4C8B-94F3-C92D832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CDB-563E-4776-88EF-E559919D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2B54-3417-43D9-B456-8BBAAE5518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A62E-15ED-4B07-A5CA-CCD74BEA7A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189080" y="1628640"/>
            <a:ext cx="712800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584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003366"/>
                </a:solidFill>
                <a:latin typeface="바탕"/>
              </a:rPr>
              <a:t>Грибы </a:t>
            </a:r>
            <a:endParaRPr b="0" lang="en-US" sz="1800" spc="1" strike="noStrike">
              <a:ln cap="rnd" w="1584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003366"/>
              </a:solidFill>
              <a:latin typeface="바탕"/>
              <a:ea typeface="바탕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35600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а  Беляева Надежд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2411280" y="692280"/>
            <a:ext cx="39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ъедо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6" name="Picture 5" descr="00038087"/>
          <p:cNvPicPr/>
          <p:nvPr/>
        </p:nvPicPr>
        <p:blipFill>
          <a:blip r:embed="rId1"/>
          <a:stretch/>
        </p:blipFill>
        <p:spPr>
          <a:xfrm>
            <a:off x="179280" y="1341360"/>
            <a:ext cx="3095640" cy="239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0038113"/>
          <p:cNvPicPr/>
          <p:nvPr/>
        </p:nvPicPr>
        <p:blipFill>
          <a:blip r:embed="rId2"/>
          <a:stretch/>
        </p:blipFill>
        <p:spPr>
          <a:xfrm>
            <a:off x="3348000" y="2205000"/>
            <a:ext cx="2046240" cy="3282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00038100"/>
          <p:cNvPicPr/>
          <p:nvPr/>
        </p:nvPicPr>
        <p:blipFill>
          <a:blip r:embed="rId3"/>
          <a:stretch/>
        </p:blipFill>
        <p:spPr>
          <a:xfrm>
            <a:off x="5508720" y="4292640"/>
            <a:ext cx="3456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00038095"/>
          <p:cNvPicPr/>
          <p:nvPr/>
        </p:nvPicPr>
        <p:blipFill>
          <a:blip r:embed="rId1"/>
          <a:stretch/>
        </p:blipFill>
        <p:spPr>
          <a:xfrm>
            <a:off x="250920" y="1268280"/>
            <a:ext cx="3289320" cy="4029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00038114"/>
          <p:cNvPicPr/>
          <p:nvPr/>
        </p:nvPicPr>
        <p:blipFill>
          <a:blip r:embed="rId2"/>
          <a:stretch/>
        </p:blipFill>
        <p:spPr>
          <a:xfrm>
            <a:off x="5435640" y="2492280"/>
            <a:ext cx="3490920" cy="4103640"/>
          </a:xfrm>
          <a:prstGeom prst="rect">
            <a:avLst/>
          </a:prstGeom>
          <a:ln w="0">
            <a:noFill/>
          </a:ln>
        </p:spPr>
      </p:pic>
      <p:sp>
        <p:nvSpPr>
          <p:cNvPr id="191" name="WordArt 7"/>
          <p:cNvSpPr txBox="1"/>
          <p:nvPr/>
        </p:nvSpPr>
        <p:spPr>
          <a:xfrm>
            <a:off x="2411280" y="549360"/>
            <a:ext cx="410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съедо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2" name="Picture 8" descr="00038092"/>
          <p:cNvPicPr/>
          <p:nvPr/>
        </p:nvPicPr>
        <p:blipFill>
          <a:blip r:embed="rId3"/>
          <a:stretch/>
        </p:blipFill>
        <p:spPr>
          <a:xfrm>
            <a:off x="3203640" y="206064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00038109"/>
          <p:cNvPicPr/>
          <p:nvPr/>
        </p:nvPicPr>
        <p:blipFill>
          <a:blip r:embed="rId1"/>
          <a:stretch/>
        </p:blipFill>
        <p:spPr>
          <a:xfrm>
            <a:off x="2124000" y="1125360"/>
            <a:ext cx="5189760" cy="3441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00038091"/>
          <p:cNvPicPr/>
          <p:nvPr/>
        </p:nvPicPr>
        <p:blipFill>
          <a:blip r:embed="rId2"/>
          <a:stretch/>
        </p:blipFill>
        <p:spPr>
          <a:xfrm>
            <a:off x="250920" y="3946680"/>
            <a:ext cx="4349520" cy="291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00038097"/>
          <p:cNvPicPr/>
          <p:nvPr/>
        </p:nvPicPr>
        <p:blipFill>
          <a:blip r:embed="rId3"/>
          <a:stretch/>
        </p:blipFill>
        <p:spPr>
          <a:xfrm>
            <a:off x="4716360" y="3933720"/>
            <a:ext cx="4167360" cy="28130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10"/>
          <p:cNvSpPr txBox="1"/>
          <p:nvPr/>
        </p:nvSpPr>
        <p:spPr>
          <a:xfrm>
            <a:off x="3276720" y="47628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довит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10"/>
          <p:cNvSpPr txBox="1"/>
          <p:nvPr/>
        </p:nvSpPr>
        <p:spPr>
          <a:xfrm>
            <a:off x="2411280" y="476280"/>
            <a:ext cx="47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вило сбора гриб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611280" y="23292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только хорошо знакомые гриб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грибы в солнечную по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грибы в перчат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сомневаешься – гриб в корзину не клад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бери старые грибы – в них 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грибы только там, где нет тра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ибы срезай ножом или выкручива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грибы ут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обирай грибы возле дорог – в них много вредных веществ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Прямоугольник 8" descr=""/>
          <p:cNvPicPr/>
          <p:nvPr/>
        </p:nvPicPr>
        <p:blipFill>
          <a:blip r:embed="rId1"/>
          <a:stretch/>
        </p:blipFill>
        <p:spPr>
          <a:xfrm>
            <a:off x="2266920" y="974880"/>
            <a:ext cx="48229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10"/>
          <p:cNvSpPr txBox="1"/>
          <p:nvPr/>
        </p:nvSpPr>
        <p:spPr>
          <a:xfrm>
            <a:off x="1403280" y="476280"/>
            <a:ext cx="5761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вило сбора гриб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68360" y="2133000"/>
            <a:ext cx="9286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только хорошо знакомые гриб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сомневаешься – гриб в корзину не клад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бери старые грибы – в них 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ибы срезай ножом или выкручива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обирай грибы возле дорог – в них много вредных вещест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грибы в солнечную по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грибы ут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грибы в перчат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грибы только там, где нет тра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3708360" y="404640"/>
            <a:ext cx="2376360" cy="6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2050920" y="242100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5580000" y="242100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2843280" y="1054080"/>
            <a:ext cx="180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4859280" y="1054080"/>
            <a:ext cx="187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466560" y="371808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3274920" y="3718080"/>
            <a:ext cx="20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1547640" y="307008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2916360" y="307008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3059280" y="4508640"/>
            <a:ext cx="158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2843280" y="3141720"/>
            <a:ext cx="720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WordArt 15"/>
          <p:cNvSpPr txBox="1"/>
          <p:nvPr/>
        </p:nvSpPr>
        <p:spPr>
          <a:xfrm>
            <a:off x="2627280" y="4724280"/>
            <a:ext cx="2476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4" name="WordArt 16"/>
          <p:cNvSpPr txBox="1"/>
          <p:nvPr/>
        </p:nvSpPr>
        <p:spPr>
          <a:xfrm>
            <a:off x="6516720" y="4724280"/>
            <a:ext cx="23526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5" name="WordArt 19"/>
          <p:cNvSpPr txBox="1"/>
          <p:nvPr/>
        </p:nvSpPr>
        <p:spPr>
          <a:xfrm>
            <a:off x="179280" y="5734080"/>
            <a:ext cx="24098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ъедо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2987640" y="5734080"/>
            <a:ext cx="2924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съедо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6443640" y="5805360"/>
            <a:ext cx="2076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довит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1402920" y="5084640"/>
            <a:ext cx="2521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067280" y="508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284720" y="5084640"/>
            <a:ext cx="3024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З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НИМАН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00039645"/>
          <p:cNvPicPr/>
          <p:nvPr/>
        </p:nvPicPr>
        <p:blipFill>
          <a:blip r:embed="rId1"/>
          <a:stretch/>
        </p:blipFill>
        <p:spPr>
          <a:xfrm>
            <a:off x="-111240" y="836640"/>
            <a:ext cx="8894880" cy="58989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3"/>
          <p:cNvSpPr txBox="1"/>
          <p:nvPr/>
        </p:nvSpPr>
        <p:spPr>
          <a:xfrm>
            <a:off x="2340000" y="404640"/>
            <a:ext cx="439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a9a5f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a9a5f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042920" y="189000"/>
            <a:ext cx="6913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правляемся в ле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прир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050920" y="5589720"/>
            <a:ext cx="511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что такое природа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6" name="Picture 6" descr="KIDS2"/>
          <p:cNvPicPr/>
          <p:nvPr/>
        </p:nvPicPr>
        <p:blipFill>
          <a:blip r:embed="rId1"/>
          <a:stretch/>
        </p:blipFill>
        <p:spPr>
          <a:xfrm>
            <a:off x="2050920" y="1989000"/>
            <a:ext cx="446580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684360" y="83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рода-эт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971640" y="1628640"/>
            <a:ext cx="78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, что нас окружает, но не создано руками челове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14"/>
          <p:cNvSpPr txBox="1"/>
          <p:nvPr/>
        </p:nvSpPr>
        <p:spPr>
          <a:xfrm>
            <a:off x="3492360" y="2492280"/>
            <a:ext cx="2376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15"/>
          <p:cNvSpPr txBox="1"/>
          <p:nvPr/>
        </p:nvSpPr>
        <p:spPr>
          <a:xfrm>
            <a:off x="1835280" y="4508640"/>
            <a:ext cx="165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5364000" y="450864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Line 17"/>
          <p:cNvSpPr/>
          <p:nvPr/>
        </p:nvSpPr>
        <p:spPr>
          <a:xfrm flipH="1">
            <a:off x="2626920" y="3141720"/>
            <a:ext cx="180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4643280" y="3141720"/>
            <a:ext cx="187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9"/>
          <p:cNvSpPr txBox="1"/>
          <p:nvPr/>
        </p:nvSpPr>
        <p:spPr>
          <a:xfrm>
            <a:off x="250920" y="580536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20"/>
          <p:cNvSpPr txBox="1"/>
          <p:nvPr/>
        </p:nvSpPr>
        <p:spPr>
          <a:xfrm>
            <a:off x="3059280" y="5805360"/>
            <a:ext cx="20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1332000" y="515772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2700360" y="515772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684360" y="83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971640" y="1628640"/>
            <a:ext cx="78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WordArt 14"/>
          <p:cNvSpPr txBox="1"/>
          <p:nvPr/>
        </p:nvSpPr>
        <p:spPr>
          <a:xfrm>
            <a:off x="3492360" y="2492280"/>
            <a:ext cx="2376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WordArt 15"/>
          <p:cNvSpPr txBox="1"/>
          <p:nvPr/>
        </p:nvSpPr>
        <p:spPr>
          <a:xfrm>
            <a:off x="2195640" y="404640"/>
            <a:ext cx="468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WordArt 16"/>
          <p:cNvSpPr txBox="1"/>
          <p:nvPr/>
        </p:nvSpPr>
        <p:spPr>
          <a:xfrm>
            <a:off x="5364000" y="450864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WordArt 19"/>
          <p:cNvSpPr txBox="1"/>
          <p:nvPr/>
        </p:nvSpPr>
        <p:spPr>
          <a:xfrm>
            <a:off x="971640" y="2997360"/>
            <a:ext cx="230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20"/>
          <p:cNvSpPr txBox="1"/>
          <p:nvPr/>
        </p:nvSpPr>
        <p:spPr>
          <a:xfrm>
            <a:off x="5867280" y="2997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Line 21"/>
          <p:cNvSpPr/>
          <p:nvPr/>
        </p:nvSpPr>
        <p:spPr>
          <a:xfrm flipH="1">
            <a:off x="2987640" y="227664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5003640" y="227664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4643280" y="220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Прямоугольник 14" descr=""/>
          <p:cNvPicPr/>
          <p:nvPr/>
        </p:nvPicPr>
        <p:blipFill>
          <a:blip r:embed="rId1"/>
          <a:stretch/>
        </p:blipFill>
        <p:spPr>
          <a:xfrm>
            <a:off x="3713040" y="3597120"/>
            <a:ext cx="308952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684360" y="83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971640" y="1628640"/>
            <a:ext cx="78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3492360" y="2492280"/>
            <a:ext cx="2376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2195640" y="404640"/>
            <a:ext cx="468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WordArt 16"/>
          <p:cNvSpPr txBox="1"/>
          <p:nvPr/>
        </p:nvSpPr>
        <p:spPr>
          <a:xfrm>
            <a:off x="5364000" y="450864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19"/>
          <p:cNvSpPr txBox="1"/>
          <p:nvPr/>
        </p:nvSpPr>
        <p:spPr>
          <a:xfrm>
            <a:off x="971640" y="2997360"/>
            <a:ext cx="230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20"/>
          <p:cNvSpPr txBox="1"/>
          <p:nvPr/>
        </p:nvSpPr>
        <p:spPr>
          <a:xfrm>
            <a:off x="5867280" y="2997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Line 21"/>
          <p:cNvSpPr/>
          <p:nvPr/>
        </p:nvSpPr>
        <p:spPr>
          <a:xfrm flipH="1">
            <a:off x="2987640" y="227664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5003640" y="227664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4643280" y="220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Прямоугольник 14" descr=""/>
          <p:cNvPicPr/>
          <p:nvPr/>
        </p:nvPicPr>
        <p:blipFill>
          <a:blip r:embed="rId1"/>
          <a:stretch/>
        </p:blipFill>
        <p:spPr>
          <a:xfrm>
            <a:off x="3713040" y="3597120"/>
            <a:ext cx="3089520" cy="2565720"/>
          </a:xfrm>
          <a:prstGeom prst="rect">
            <a:avLst/>
          </a:prstGeom>
          <a:ln w="0">
            <a:noFill/>
          </a:ln>
        </p:spPr>
      </p:pic>
      <p:pic>
        <p:nvPicPr>
          <p:cNvPr id="160" name="Таблица 13" descr=""/>
          <p:cNvPicPr/>
          <p:nvPr/>
        </p:nvPicPr>
        <p:blipFill>
          <a:blip r:embed="rId2"/>
          <a:stretch/>
        </p:blipFill>
        <p:spPr>
          <a:xfrm>
            <a:off x="176040" y="3932280"/>
            <a:ext cx="3919680" cy="2395440"/>
          </a:xfrm>
          <a:prstGeom prst="rect">
            <a:avLst/>
          </a:prstGeom>
          <a:ln w="0">
            <a:noFill/>
          </a:ln>
        </p:spPr>
      </p:pic>
      <p:pic>
        <p:nvPicPr>
          <p:cNvPr id="161" name="Таблица 15" descr=""/>
          <p:cNvPicPr/>
          <p:nvPr/>
        </p:nvPicPr>
        <p:blipFill>
          <a:blip r:embed="rId3"/>
          <a:stretch/>
        </p:blipFill>
        <p:spPr>
          <a:xfrm>
            <a:off x="5145120" y="3786120"/>
            <a:ext cx="38228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763640" y="1484280"/>
            <a:ext cx="648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кология-наука о гриб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1619280" y="2924280"/>
            <a:ext cx="268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икос"-гри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5076720" y="2924280"/>
            <a:ext cx="28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логос"-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340000" y="692280"/>
            <a:ext cx="37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такое гриб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684360" y="2276640"/>
            <a:ext cx="2219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ы-э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3203640" y="2276640"/>
            <a:ext cx="54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обое царство природ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971640" y="3429000"/>
            <a:ext cx="722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относится ни к миру растений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и к миру животны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835280" y="83664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емлю пробуравил, корешок остав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1835280" y="1700280"/>
            <a:ext cx="518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 на свет явился, шапочкой прикрыл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1" name="Picture 6" descr="00038083"/>
          <p:cNvPicPr/>
          <p:nvPr/>
        </p:nvPicPr>
        <p:blipFill>
          <a:blip r:embed="rId1"/>
          <a:stretch/>
        </p:blipFill>
        <p:spPr>
          <a:xfrm>
            <a:off x="2700360" y="3500280"/>
            <a:ext cx="4248000" cy="2799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7"/>
          <p:cNvSpPr txBox="1"/>
          <p:nvPr/>
        </p:nvSpPr>
        <p:spPr>
          <a:xfrm>
            <a:off x="395280" y="4149720"/>
            <a:ext cx="15908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ля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95280" y="5084640"/>
            <a:ext cx="172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ж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2195640" y="5157720"/>
            <a:ext cx="216036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3059280" y="3860640"/>
            <a:ext cx="34956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одовое тел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WordArt 12"/>
          <p:cNvSpPr txBox="1"/>
          <p:nvPr/>
        </p:nvSpPr>
        <p:spPr>
          <a:xfrm>
            <a:off x="4067280" y="2492280"/>
            <a:ext cx="95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13"/>
          <p:cNvSpPr txBox="1"/>
          <p:nvPr/>
        </p:nvSpPr>
        <p:spPr>
          <a:xfrm>
            <a:off x="395280" y="3141720"/>
            <a:ext cx="20988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дзем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6659640" y="3068640"/>
            <a:ext cx="223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зем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Line 15"/>
          <p:cNvSpPr/>
          <p:nvPr/>
        </p:nvSpPr>
        <p:spPr>
          <a:xfrm flipH="1">
            <a:off x="1618920" y="2781360"/>
            <a:ext cx="2376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076720" y="2781360"/>
            <a:ext cx="2664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2050920" y="4292640"/>
            <a:ext cx="22338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1476360" y="3500280"/>
            <a:ext cx="3024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WordArt 22"/>
          <p:cNvSpPr txBox="1"/>
          <p:nvPr/>
        </p:nvSpPr>
        <p:spPr>
          <a:xfrm>
            <a:off x="7020000" y="5734080"/>
            <a:ext cx="1990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7885080" y="350028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6:24:56Z</dcterms:created>
  <dc:creator>ЛОПАРЕВА</dc:creator>
  <dc:description/>
  <dc:language>en-US</dc:language>
  <cp:lastModifiedBy>1</cp:lastModifiedBy>
  <dcterms:modified xsi:type="dcterms:W3CDTF">2019-04-21T19:11:46Z</dcterms:modified>
  <cp:revision>7</cp:revision>
  <dc:subject/>
  <dc:title>Слайд 1</dc:title>
</cp:coreProperties>
</file>