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B93-504A-419B-AB53-63E46ABF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86D-85EC-42C3-A0DD-1706B511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419-F4FD-42E2-A3F9-0E1C968E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B58-91D5-486E-8A99-6C0F4292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9DE-2358-47B2-890B-05AC928D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DA76-E2C4-4054-A3EF-92177CED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40B8-0947-43E0-9868-2B61C7D1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7FFF-D4AE-4E9D-85E9-BEBDAE5C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51D4-4340-4E28-AB25-01A0F503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4DC9-00E3-421B-A8E0-F883B1F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79E-CB81-4361-85FA-3AB0725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75F-28BE-4566-81AA-9EB368BE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B345-31FA-43BA-846E-24D05A6C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C48C-B667-4899-97A4-0BFC44C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8FF0-68D6-4137-ACDB-7E846E00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0400-F507-46CF-AFDD-3AE3BA9E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08F2-7CFC-4894-99B3-C22869B2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59A-1DBE-40D4-B787-8A8DD9E9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3B7-0497-422A-8639-1A961E7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E42-9926-4E67-B703-06C3892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B3A-77F8-4FA1-B50B-56FC390B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CEC-8B55-4FCD-BD01-7CF9813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F4A-E309-40B2-AE03-637F9FB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F9F-8421-4867-B053-4FFBAB6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D78-B38A-445C-B1F5-25FA44B5799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193-952B-4F77-8CB8-D9184AB24A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72709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опроцесс - процесс при котором один из макроскопических параметров состояния данной массы газа остается постоянны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цесс изменения состояния определенной массы газа при постоянной температуре называется ИЗОТЕРМИЧЕСКИ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афиком данного процесса является парабола и называется ИЗОТЕРМОЙ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ческое выраж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законом Бойля – Мариотт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0"/>
              <p:cNvSpPr txBox="1"/>
              <p:nvPr/>
            </p:nvSpPr>
            <p:spPr>
              <a:xfrm>
                <a:off x="6084720" y="4724280"/>
                <a:ext cx="1802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eea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3 до закона Гей – Люссака. Построить изотермы в осях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V,T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Найти материал и подготовить сообщение по вопросу: «Почему изотермический процесс назвали законом Бойля – Мариотта?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200"/>
            </a:gs>
            <a:gs pos="100000">
              <a:srgbClr val="bba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Изопроцессы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460872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да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10920" y="1915920"/>
            <a:ext cx="8064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яснит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азывается изопроцесс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ие изопроцессы возмож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Дать определение и вывести математические выражения для каждого изопроцес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Правильность полученного закона проверить эксперименталь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Научиться применять газовые законы при решении задач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796000" cy="931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69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ктуализация теоретического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яснить, что называется изопроцесс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яснить какие изопроцессы быва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ить экспериментально правильность полученного зако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200"/>
            </a:gs>
            <a:gs pos="100000">
              <a:srgbClr val="bba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351640" cy="3784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процесс - процесс, при котором один из макроскопических параметров состояния данной массы газа остается постоянны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748720" cy="28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отермический процесс – процесс изменения состояния определенной массы газа при постоянной температур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43280" y="76500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 - con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400360" cy="1655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Закон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Бойля – Мариотта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pV - con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23640" y="2492280"/>
            <a:ext cx="8569080" cy="25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ля газа данной массы при постоянной температуре  произведение давления газа на его объем постоянн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419640" y="4149720"/>
                <a:ext cx="2689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40000" cy="3284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2843280" y="76320"/>
                <a:ext cx="25207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Text Box 11"/>
          <p:cNvSpPr/>
          <p:nvPr/>
        </p:nvSpPr>
        <p:spPr>
          <a:xfrm>
            <a:off x="3924360" y="1844640"/>
            <a:ext cx="4608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Изотерм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график изменения макроскопических параметров газа при изотермическом процесс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23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Цель: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экспериментальная проверка закона Бойля – Мариотта путем сравнения параметров газа в двух термодинамических состоя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струк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Используя кнопку выбор установить температуру эксперимен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Записать значения давления и объем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и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 в начале процес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Запустить компьютерную модель с данными параметр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 Через 2 секунды нажать кнопку стоп и записать значения давления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  и объем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 в конце процес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. Вычислить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и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 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. Найти их разность. Если разность равна 0 - это доказывает справедливость зако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ойля - Мариот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10:40Z</dcterms:created>
  <dc:creator>Владелец</dc:creator>
  <dc:description/>
  <dc:language>en-US</dc:language>
  <cp:lastModifiedBy>Минина</cp:lastModifiedBy>
  <dcterms:modified xsi:type="dcterms:W3CDTF">2019-04-21T12:50:58Z</dcterms:modified>
  <cp:revision>12</cp:revision>
  <dc:subject/>
  <dc:title>Изопроцессы</dc:title>
</cp:coreProperties>
</file>