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2DE-C54A-4F70-8439-E903BAE4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C7C-3AC7-40FF-ABC4-81C44CD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623-8B66-4F4B-8538-69C163D3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23B-3E34-4A7D-AA85-27FD3E7D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EFDB-FEB6-48E0-A816-92B135E2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6765-26C6-4F29-8854-672FE45C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32E-05AD-4D9A-BCB9-07BFB10F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7B33-D1A1-4AF1-84EE-2E6C32B0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8BC2-8C22-4F92-BE2B-50FC129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1E4-9888-4BBC-986A-74EB7FE7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4B15-4D12-4533-95D8-1C776BE3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C92E-6EB1-4294-87D0-7156B54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9982-7EEC-44E9-8C21-8946CCA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00B-F2A9-453A-B266-C7D88A0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EC77-CB92-45A1-B934-07A83B43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7B2E-A95B-4364-8740-1B29AE29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CEB3-6342-41F3-9BB2-B2BD6129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AF2-BC63-4747-BEE0-6E1DE355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2DB-9455-49AB-8258-A67D9C31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B3F-9562-47C7-942F-363D72D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2F2-A453-4D88-9537-2484DE02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746-FF94-46EC-B94C-53C91ECE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F67-F328-458A-AAD8-F95E38F8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2B2-CAE7-412F-B670-6DC6F6C5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66B2-89D1-4020-9EA8-EF1F15CC852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56B-18CF-4F7E-BFE4-954ADE4358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691920"/>
            <a:ext cx="72709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опроцесс - процесс при котором один из макроскопических параметров состояния данной массы газа остается постоянны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сс изменения состояния определенной массы газа при постоянной температуре называется ИЗОТЕРМИЧЕСКИ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афиком данного процесса является парабола и называется ИЗОТЕРМОЙ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ческое выражени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законом Бойля – Мариотт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0"/>
              <p:cNvSpPr txBox="1"/>
              <p:nvPr/>
            </p:nvSpPr>
            <p:spPr>
              <a:xfrm>
                <a:off x="6084720" y="4724280"/>
                <a:ext cx="18021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eea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3 до закона Гей – Люссака. Построить изотермы в осях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V,T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Найти материал и подготовить сообщение по вопросу: «Почему изотермический процесс назвали законом Бойля – Мариотта?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100000">
              <a:srgbClr val="bba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 Black"/>
              </a:rPr>
              <a:t>Изопроцесс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4608720" cy="1363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да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10920" y="1915920"/>
            <a:ext cx="8064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яснить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азывается изопроцесс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ие изопроцессы возможн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 Дать определение и вывести математические выражения для каждого изопроцес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 Правильность полученного закона проверить эксперименталь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4. Научиться применять газовые законы при решении задач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5796000" cy="931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23640" y="2276280"/>
            <a:ext cx="85690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ктуализация теоретического материа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яснить, что называется изопроцесс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яснить какие изопроцессы бываю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верить экспериментально правильность полученного зако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ведение итог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200"/>
            </a:gs>
            <a:gs pos="100000">
              <a:srgbClr val="bba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351640" cy="3784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опроцесс - процесс, при котором один из макроскопических параметров состояния данной массы газа остается постоянны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748720" cy="28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зотермический процесс – процесс изменения состояния определенной массы газа при постоянной температур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643280" y="765000"/>
            <a:ext cx="24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 - con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a3ff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400360" cy="1655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акон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Бойля – Мариотта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pV - cons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23640" y="2492280"/>
            <a:ext cx="8569080" cy="25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ля газа данной массы при постоянной температуре  произведение давления газа на его объем постоян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419640" y="4149720"/>
                <a:ext cx="2689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240000" cy="3284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2843280" y="76320"/>
                <a:ext cx="25207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Text Box 11"/>
          <p:cNvSpPr/>
          <p:nvPr/>
        </p:nvSpPr>
        <p:spPr>
          <a:xfrm>
            <a:off x="3924360" y="1844640"/>
            <a:ext cx="4608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Изотерма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график изменения макроскопических параметров газа при изотермическом процесс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23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Цель: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экспериментальная проверка закона Бойля – Мариотта путем сравнения параметров газа в двух термодинамических состояния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0482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нструкц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Используя кнопку выбор установить температуру эксперимен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Записать значения давления и объем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 в начале процес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. Запустить компьютерную модель с данными параметр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. Через 2 секунды нажать кнопку стоп и записать значения давления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 и объем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в конце процесс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5. Вычислить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и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 *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6. Найти их разность. Если разность равна 0 - это доказывает справедливость закон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ойля - Мариот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3:10:40Z</dcterms:created>
  <dc:creator>Владелец</dc:creator>
  <dc:description/>
  <dc:language>en-US</dc:language>
  <cp:lastModifiedBy>Минина</cp:lastModifiedBy>
  <dcterms:modified xsi:type="dcterms:W3CDTF">2019-04-21T12:50:58Z</dcterms:modified>
  <cp:revision>12</cp:revision>
  <dc:subject/>
  <dc:title>Изопроцессы</dc:title>
</cp:coreProperties>
</file>