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E87F-3B30-41A1-AA3E-012E064F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AFA-EC40-4100-9282-826B3487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563-1033-4AD3-9BE8-43558C38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886-C0EA-4186-A732-8319E68F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05E3-7BB9-4CA9-8910-FE364B5B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12B5-31C4-4C1E-8107-BF6BA864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87AA-848B-417D-94FD-E1A67045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294C-4C37-4A6A-8598-2343CC35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DB6B-14AD-4249-B83A-9B2C199E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D4A0-DD7B-4753-82DF-18C0D9A1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C0A2-CF48-488A-BC71-31D9FAB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B078-D4E0-4B91-83CF-4532ADB9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8E10-85FB-4ECB-A597-8F4DE95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96C4-1A37-4933-A8E7-2FB8A02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0C94-1EF0-49BE-BBBF-33EBCE65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E150-AA68-450F-82B7-9FF9B294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0595-3E11-4AB6-88AF-77486E72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3A5E-72B6-4263-B09A-64EAD9A5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4B242-B584-438F-97D2-228C0787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4D36-EBE5-4CBF-A28C-1FAC50AE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073E-3AF9-4499-8808-3777A436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B9E6-CE09-42F1-9C37-26FF10B2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7C9-84FB-429B-A239-3F0D0A55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63B4-1838-4402-A100-62C71D96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ABA3-7771-4BFD-9197-A3DBF31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8F34-901B-4F35-96CE-2409D8A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9F98A-C074-4452-AB26-F26C7CA3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4B88-20C3-4FAE-B903-0E0A6A60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889D-110E-4F5A-B849-093FA466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CFF3F-2098-46D8-A310-EF22845F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8EE-324E-42AF-80D9-C3CF25B5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F16-87B1-4F79-AF32-9A7E1D52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293-81B1-4FCC-BD46-DE2C89CE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986-F873-440F-A2FA-4E642EA1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D77-08AF-417F-B6E1-EAEA3387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646-E6C8-454F-8D4C-3FAE432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0C1B-16D2-4D8C-A3C6-61CCF6039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B612-A3B0-40BA-B3EF-A1D76B697C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0890-9C31-4320-AE62-607EF0FCBD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71400" y="1628640"/>
            <a:ext cx="78012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Объяснение электрическ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явле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Основная задача 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 основе  знаний  об  электроне и строении  атома  дать  объяснение электризации  тел  при соприкосновении. Объяснить существование проводников  и  диэлектриков,  а так же притяжение  незаряженных проводников   к  заряженным  тел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419640" y="189000"/>
            <a:ext cx="2016000" cy="360360"/>
          </a:xfrm>
          <a:prstGeom prst="wedgeRectCallout">
            <a:avLst>
              <a:gd name="adj1" fmla="val -12754"/>
              <a:gd name="adj2" fmla="val 44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а состо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836640"/>
            <a:ext cx="2232000" cy="360360"/>
          </a:xfrm>
          <a:prstGeom prst="wedgeRectCallout">
            <a:avLst>
              <a:gd name="adj1" fmla="val -33500"/>
              <a:gd name="adj2" fmla="val 35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о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80840" y="1197000"/>
            <a:ext cx="2256840" cy="2022480"/>
            <a:chOff x="3480840" y="1197000"/>
            <a:chExt cx="2256840" cy="2022480"/>
          </a:xfrm>
        </p:grpSpPr>
        <p:grpSp>
          <p:nvGrpSpPr>
            <p:cNvPr id="144" name=""/>
            <p:cNvGrpSpPr/>
            <p:nvPr/>
          </p:nvGrpSpPr>
          <p:grpSpPr>
            <a:xfrm>
              <a:off x="5071680" y="2844720"/>
              <a:ext cx="188640" cy="296280"/>
              <a:chOff x="5071680" y="2844720"/>
              <a:chExt cx="188640" cy="296280"/>
            </a:xfrm>
          </p:grpSpPr>
          <p:sp>
            <p:nvSpPr>
              <p:cNvPr id="145" name=""/>
              <p:cNvSpPr/>
              <p:nvPr/>
            </p:nvSpPr>
            <p:spPr>
              <a:xfrm>
                <a:off x="5071680" y="2844720"/>
                <a:ext cx="188640" cy="29628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09120" y="302220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480840" y="1197000"/>
              <a:ext cx="2256840" cy="2022480"/>
              <a:chOff x="3480840" y="1197000"/>
              <a:chExt cx="2256840" cy="2022480"/>
            </a:xfrm>
          </p:grpSpPr>
          <p:sp>
            <p:nvSpPr>
              <p:cNvPr id="148" name=""/>
              <p:cNvSpPr/>
              <p:nvPr/>
            </p:nvSpPr>
            <p:spPr>
              <a:xfrm rot="2516400">
                <a:off x="3658320" y="1802880"/>
                <a:ext cx="1895760" cy="89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3480840" y="1197000"/>
                <a:ext cx="2256840" cy="1837800"/>
                <a:chOff x="3480840" y="1197000"/>
                <a:chExt cx="2256840" cy="183780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3480840" y="1500840"/>
                  <a:ext cx="2256840" cy="1533960"/>
                  <a:chOff x="3480840" y="1500840"/>
                  <a:chExt cx="2256840" cy="1533960"/>
                </a:xfrm>
              </p:grpSpPr>
              <p:pic>
                <p:nvPicPr>
                  <p:cNvPr id="151" name="" descr=""/>
                  <p:cNvPicPr/>
                  <p:nvPr/>
                </p:nvPicPr>
                <p:blipFill>
                  <a:blip r:embed="rId1"/>
                  <a:srcRect l="30038" t="32117" r="37384" b="32891"/>
                  <a:stretch/>
                </p:blipFill>
                <p:spPr>
                  <a:xfrm>
                    <a:off x="4323600" y="1976400"/>
                    <a:ext cx="5054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2" name=""/>
                  <p:cNvSpPr/>
                  <p:nvPr/>
                </p:nvSpPr>
                <p:spPr>
                  <a:xfrm rot="20500800">
                    <a:off x="3574440" y="1802520"/>
                    <a:ext cx="2069280" cy="930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3823560" y="2670120"/>
                    <a:ext cx="252360" cy="223560"/>
                    <a:chOff x="3823560" y="2670120"/>
                    <a:chExt cx="252360" cy="22356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823560" y="2670120"/>
                      <a:ext cx="252360" cy="223560"/>
                    </a:xfrm>
                    <a:prstGeom prst="ellips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3864960" y="2781720"/>
                      <a:ext cx="1688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6" name=""/>
                <p:cNvSpPr/>
                <p:nvPr/>
              </p:nvSpPr>
              <p:spPr>
                <a:xfrm>
                  <a:off x="3492360" y="1197000"/>
                  <a:ext cx="415440" cy="155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4737240" y="1197000"/>
                  <a:ext cx="664920" cy="9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8" name=""/>
          <p:cNvSpPr/>
          <p:nvPr/>
        </p:nvSpPr>
        <p:spPr>
          <a:xfrm>
            <a:off x="514836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т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14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р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084720" y="1557360"/>
            <a:ext cx="3059280" cy="1079640"/>
            <a:chOff x="6084720" y="1557360"/>
            <a:chExt cx="3059280" cy="1079640"/>
          </a:xfrm>
        </p:grpSpPr>
        <p:sp>
          <p:nvSpPr>
            <p:cNvPr id="161" name=""/>
            <p:cNvSpPr/>
            <p:nvPr/>
          </p:nvSpPr>
          <p:spPr>
            <a:xfrm>
              <a:off x="6335640" y="1989000"/>
              <a:ext cx="2808360" cy="648000"/>
            </a:xfrm>
            <a:prstGeom prst="wedgeRectCallout">
              <a:avLst>
                <a:gd name="adj1" fmla="val -34171"/>
                <a:gd name="adj2" fmla="val 475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ряд«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» по модулю равен заряду электр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4720" y="1557360"/>
              <a:ext cx="136692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0" y="1628640"/>
            <a:ext cx="2736720" cy="1079640"/>
            <a:chOff x="0" y="1628640"/>
            <a:chExt cx="2736720" cy="1079640"/>
          </a:xfrm>
        </p:grpSpPr>
        <p:sp>
          <p:nvSpPr>
            <p:cNvPr id="164" name=""/>
            <p:cNvSpPr/>
            <p:nvPr/>
          </p:nvSpPr>
          <p:spPr>
            <a:xfrm>
              <a:off x="0" y="2060640"/>
              <a:ext cx="2736720" cy="647640"/>
            </a:xfrm>
            <a:prstGeom prst="wedgeRectCallout">
              <a:avLst>
                <a:gd name="adj1" fmla="val -43736"/>
                <a:gd name="adj2" fmla="val 4362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ряд «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» по модулю равен заряду прото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403280" y="1628640"/>
              <a:ext cx="100800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067280" y="2781360"/>
            <a:ext cx="215640" cy="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19640" y="2636640"/>
            <a:ext cx="289080" cy="360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4508640"/>
            <a:ext cx="2305080" cy="502920"/>
          </a:xfrm>
          <a:prstGeom prst="wedgeRectCallout">
            <a:avLst>
              <a:gd name="adj1" fmla="val -32851"/>
              <a:gd name="adj2" fmla="val -45268"/>
            </a:avLst>
          </a:prstGeom>
          <a:solidFill>
            <a:srgbClr val="ff57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 е л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0" y="4221000"/>
            <a:ext cx="3492360" cy="1225800"/>
            <a:chOff x="0" y="4221000"/>
            <a:chExt cx="3492360" cy="1225800"/>
          </a:xfrm>
        </p:grpSpPr>
        <p:sp>
          <p:nvSpPr>
            <p:cNvPr id="170" name=""/>
            <p:cNvSpPr/>
            <p:nvPr/>
          </p:nvSpPr>
          <p:spPr>
            <a:xfrm>
              <a:off x="0" y="4221000"/>
              <a:ext cx="2952720" cy="1225800"/>
            </a:xfrm>
            <a:prstGeom prst="wedgeRectCallout">
              <a:avLst>
                <a:gd name="adj1" fmla="val -21342"/>
                <a:gd name="adj2" fmla="val 2772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ряжено </a:t>
              </a:r>
              <a:r>
                <a:rPr b="1" lang="ru-RU" sz="1800" spc="-1" strike="noStrike">
                  <a:solidFill>
                    <a:srgbClr val="000099"/>
                  </a:solidFill>
                  <a:latin typeface="Arial"/>
                </a:rPr>
                <a:t>отрицательн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если число электронов больш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исла прото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987640" y="4797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796000" y="4149720"/>
            <a:ext cx="3348000" cy="1152360"/>
            <a:chOff x="5796000" y="4149720"/>
            <a:chExt cx="3348000" cy="1152360"/>
          </a:xfrm>
        </p:grpSpPr>
        <p:sp>
          <p:nvSpPr>
            <p:cNvPr id="173" name=""/>
            <p:cNvSpPr/>
            <p:nvPr/>
          </p:nvSpPr>
          <p:spPr>
            <a:xfrm>
              <a:off x="6227640" y="4149720"/>
              <a:ext cx="2916360" cy="1152360"/>
            </a:xfrm>
            <a:prstGeom prst="wedgeRectCallout">
              <a:avLst>
                <a:gd name="adj1" fmla="val -21421"/>
                <a:gd name="adj2" fmla="val 4614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аряжен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положительно</a:t>
              </a:r>
              <a:r>
                <a:rPr b="1" lang="en-US" sz="18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если число электронов меньше числа протон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600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68360" y="5300640"/>
            <a:ext cx="8136000" cy="1370160"/>
            <a:chOff x="468360" y="5300640"/>
            <a:chExt cx="8136000" cy="1370160"/>
          </a:xfrm>
        </p:grpSpPr>
        <p:sp>
          <p:nvSpPr>
            <p:cNvPr id="176" name=""/>
            <p:cNvSpPr/>
            <p:nvPr/>
          </p:nvSpPr>
          <p:spPr>
            <a:xfrm>
              <a:off x="468360" y="5950080"/>
              <a:ext cx="8136000" cy="720720"/>
            </a:xfrm>
            <a:prstGeom prst="wedgeRectCallout">
              <a:avLst>
                <a:gd name="adj1" fmla="val -43754"/>
                <a:gd name="adj2" fmla="val 21805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ело электризуется, т. е. получает электрический заряд, когда оно приобретает или теряет электрон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35280" y="5445000"/>
              <a:ext cx="72072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227640" y="5300640"/>
              <a:ext cx="936720" cy="6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68360" y="2637000"/>
            <a:ext cx="8280360" cy="1871640"/>
            <a:chOff x="468360" y="2637000"/>
            <a:chExt cx="8280360" cy="1871640"/>
          </a:xfrm>
        </p:grpSpPr>
        <p:sp>
          <p:nvSpPr>
            <p:cNvPr id="180" name=""/>
            <p:cNvSpPr/>
            <p:nvPr/>
          </p:nvSpPr>
          <p:spPr>
            <a:xfrm>
              <a:off x="4643280" y="371808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8360" y="3357720"/>
              <a:ext cx="8280360" cy="360360"/>
            </a:xfrm>
            <a:prstGeom prst="wedgeRectCallout">
              <a:avLst>
                <a:gd name="adj1" fmla="val -43518"/>
                <a:gd name="adj2" fmla="val 21805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ейтрально, если число электронов равно числу протоно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76360" y="2708280"/>
              <a:ext cx="129528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6732720" y="263700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99ff66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556000" y="333360"/>
            <a:ext cx="6264000" cy="934920"/>
            <a:chOff x="2556000" y="333360"/>
            <a:chExt cx="6264000" cy="934920"/>
          </a:xfrm>
        </p:grpSpPr>
        <p:grpSp>
          <p:nvGrpSpPr>
            <p:cNvPr id="185" name=""/>
            <p:cNvGrpSpPr/>
            <p:nvPr/>
          </p:nvGrpSpPr>
          <p:grpSpPr>
            <a:xfrm>
              <a:off x="2556000" y="333360"/>
              <a:ext cx="4608360" cy="934920"/>
              <a:chOff x="2556000" y="333360"/>
              <a:chExt cx="4608360" cy="934920"/>
            </a:xfrm>
          </p:grpSpPr>
          <p:sp>
            <p:nvSpPr>
              <p:cNvPr id="186" name=""/>
              <p:cNvSpPr/>
              <p:nvPr/>
            </p:nvSpPr>
            <p:spPr>
              <a:xfrm>
                <a:off x="2987640" y="333360"/>
                <a:ext cx="4176720" cy="358920"/>
              </a:xfrm>
              <a:prstGeom prst="wedgeRectCallout">
                <a:avLst>
                  <a:gd name="adj1" fmla="val -35708"/>
                  <a:gd name="adj2" fmla="val 35842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аряжается положительн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2556000" y="475920"/>
                <a:ext cx="64764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87640" y="907920"/>
                <a:ext cx="4176720" cy="360360"/>
              </a:xfrm>
              <a:prstGeom prst="wedgeRectCallout">
                <a:avLst>
                  <a:gd name="adj1" fmla="val -43768"/>
                  <a:gd name="adj2" fmla="val 45592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Заряжается отрицательн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56000" y="10526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7380360" y="5493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чему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203640" y="1628640"/>
            <a:ext cx="3960720" cy="432000"/>
          </a:xfrm>
          <a:prstGeom prst="wedgeRectCallout">
            <a:avLst>
              <a:gd name="adj1" fmla="val -34129"/>
              <a:gd name="adj2" fmla="val 345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12000" y="1844640"/>
            <a:ext cx="215640" cy="216000"/>
            <a:chOff x="6012000" y="1844640"/>
            <a:chExt cx="215640" cy="216000"/>
          </a:xfrm>
        </p:grpSpPr>
        <p:sp>
          <p:nvSpPr>
            <p:cNvPr id="193" name=""/>
            <p:cNvSpPr/>
            <p:nvPr/>
          </p:nvSpPr>
          <p:spPr>
            <a:xfrm>
              <a:off x="6012000" y="1844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3280" y="1987560"/>
              <a:ext cx="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773360"/>
            <a:ext cx="215640" cy="215640"/>
            <a:chOff x="3276720" y="1773360"/>
            <a:chExt cx="215640" cy="215640"/>
          </a:xfrm>
        </p:grpSpPr>
        <p:sp>
          <p:nvSpPr>
            <p:cNvPr id="196" name=""/>
            <p:cNvSpPr/>
            <p:nvPr/>
          </p:nvSpPr>
          <p:spPr>
            <a:xfrm>
              <a:off x="3276720" y="1773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48000" y="1915920"/>
              <a:ext cx="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19640" y="1628640"/>
            <a:ext cx="216000" cy="216000"/>
            <a:chOff x="5219640" y="1628640"/>
            <a:chExt cx="216000" cy="216000"/>
          </a:xfrm>
        </p:grpSpPr>
        <p:sp>
          <p:nvSpPr>
            <p:cNvPr id="199" name=""/>
            <p:cNvSpPr/>
            <p:nvPr/>
          </p:nvSpPr>
          <p:spPr>
            <a:xfrm>
              <a:off x="5219640" y="1628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91280" y="1771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780000" y="1844640"/>
            <a:ext cx="215640" cy="216000"/>
            <a:chOff x="3780000" y="1844640"/>
            <a:chExt cx="215640" cy="216000"/>
          </a:xfrm>
        </p:grpSpPr>
        <p:sp>
          <p:nvSpPr>
            <p:cNvPr id="202" name=""/>
            <p:cNvSpPr/>
            <p:nvPr/>
          </p:nvSpPr>
          <p:spPr>
            <a:xfrm>
              <a:off x="3780000" y="184464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51280" y="1987560"/>
              <a:ext cx="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659640" y="1700280"/>
            <a:ext cx="216000" cy="216000"/>
            <a:chOff x="6659640" y="1700280"/>
            <a:chExt cx="216000" cy="216000"/>
          </a:xfrm>
        </p:grpSpPr>
        <p:sp>
          <p:nvSpPr>
            <p:cNvPr id="205" name=""/>
            <p:cNvSpPr/>
            <p:nvPr/>
          </p:nvSpPr>
          <p:spPr>
            <a:xfrm>
              <a:off x="6659640" y="1700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1280" y="184320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572000" y="1628640"/>
            <a:ext cx="216000" cy="216000"/>
            <a:chOff x="4572000" y="1628640"/>
            <a:chExt cx="216000" cy="216000"/>
          </a:xfrm>
        </p:grpSpPr>
        <p:sp>
          <p:nvSpPr>
            <p:cNvPr id="208" name=""/>
            <p:cNvSpPr/>
            <p:nvPr/>
          </p:nvSpPr>
          <p:spPr>
            <a:xfrm>
              <a:off x="4572000" y="162864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43640" y="1771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140360" y="1628640"/>
            <a:ext cx="288360" cy="368280"/>
            <a:chOff x="4140360" y="1628640"/>
            <a:chExt cx="288360" cy="368280"/>
          </a:xfrm>
        </p:grpSpPr>
        <p:sp>
          <p:nvSpPr>
            <p:cNvPr id="211" name=""/>
            <p:cNvSpPr/>
            <p:nvPr/>
          </p:nvSpPr>
          <p:spPr>
            <a:xfrm>
              <a:off x="4211640" y="170136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40360" y="1628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492360" y="1557360"/>
            <a:ext cx="289080" cy="368280"/>
            <a:chOff x="3492360" y="1557360"/>
            <a:chExt cx="289080" cy="368280"/>
          </a:xfrm>
        </p:grpSpPr>
        <p:sp>
          <p:nvSpPr>
            <p:cNvPr id="214" name=""/>
            <p:cNvSpPr/>
            <p:nvPr/>
          </p:nvSpPr>
          <p:spPr>
            <a:xfrm>
              <a:off x="3564000" y="1630080"/>
              <a:ext cx="2174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92360" y="1557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788000" y="1773360"/>
            <a:ext cx="288360" cy="368280"/>
            <a:chOff x="4788000" y="1773360"/>
            <a:chExt cx="288360" cy="368280"/>
          </a:xfrm>
        </p:grpSpPr>
        <p:sp>
          <p:nvSpPr>
            <p:cNvPr id="217" name=""/>
            <p:cNvSpPr/>
            <p:nvPr/>
          </p:nvSpPr>
          <p:spPr>
            <a:xfrm>
              <a:off x="4859280" y="1846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8000" y="1773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227640" y="1557360"/>
            <a:ext cx="289080" cy="368280"/>
            <a:chOff x="6227640" y="1557360"/>
            <a:chExt cx="289080" cy="368280"/>
          </a:xfrm>
        </p:grpSpPr>
        <p:sp>
          <p:nvSpPr>
            <p:cNvPr id="220" name=""/>
            <p:cNvSpPr/>
            <p:nvPr/>
          </p:nvSpPr>
          <p:spPr>
            <a:xfrm>
              <a:off x="6299280" y="1630080"/>
              <a:ext cx="2174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7640" y="1557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580000" y="1628640"/>
            <a:ext cx="289080" cy="368280"/>
            <a:chOff x="5580000" y="1628640"/>
            <a:chExt cx="289080" cy="368280"/>
          </a:xfrm>
        </p:grpSpPr>
        <p:sp>
          <p:nvSpPr>
            <p:cNvPr id="223" name=""/>
            <p:cNvSpPr/>
            <p:nvPr/>
          </p:nvSpPr>
          <p:spPr>
            <a:xfrm>
              <a:off x="5651640" y="1701360"/>
              <a:ext cx="2174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80000" y="1628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77080" y="1773360"/>
            <a:ext cx="288360" cy="368280"/>
            <a:chOff x="6877080" y="1773360"/>
            <a:chExt cx="288360" cy="368280"/>
          </a:xfrm>
        </p:grpSpPr>
        <p:sp>
          <p:nvSpPr>
            <p:cNvPr id="226" name=""/>
            <p:cNvSpPr/>
            <p:nvPr/>
          </p:nvSpPr>
          <p:spPr>
            <a:xfrm>
              <a:off x="6948360" y="1846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77080" y="1773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132000" y="2349360"/>
            <a:ext cx="4176720" cy="503280"/>
          </a:xfrm>
          <a:prstGeom prst="wedgeRectCallout">
            <a:avLst>
              <a:gd name="adj1" fmla="val -33541"/>
              <a:gd name="adj2" fmla="val 3958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03640" y="2276640"/>
            <a:ext cx="288360" cy="368280"/>
            <a:chOff x="3203640" y="2276640"/>
            <a:chExt cx="288360" cy="368280"/>
          </a:xfrm>
        </p:grpSpPr>
        <p:sp>
          <p:nvSpPr>
            <p:cNvPr id="230" name=""/>
            <p:cNvSpPr/>
            <p:nvPr/>
          </p:nvSpPr>
          <p:spPr>
            <a:xfrm>
              <a:off x="3274920" y="234936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3640" y="2276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435640" y="2565360"/>
            <a:ext cx="288360" cy="368280"/>
            <a:chOff x="5435640" y="2565360"/>
            <a:chExt cx="288360" cy="368280"/>
          </a:xfrm>
        </p:grpSpPr>
        <p:sp>
          <p:nvSpPr>
            <p:cNvPr id="233" name=""/>
            <p:cNvSpPr/>
            <p:nvPr/>
          </p:nvSpPr>
          <p:spPr>
            <a:xfrm>
              <a:off x="5506920" y="2638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35640" y="2565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643280" y="2349360"/>
            <a:ext cx="289080" cy="368280"/>
            <a:chOff x="4643280" y="2349360"/>
            <a:chExt cx="289080" cy="368280"/>
          </a:xfrm>
        </p:grpSpPr>
        <p:sp>
          <p:nvSpPr>
            <p:cNvPr id="236" name=""/>
            <p:cNvSpPr/>
            <p:nvPr/>
          </p:nvSpPr>
          <p:spPr>
            <a:xfrm>
              <a:off x="4714920" y="2422080"/>
              <a:ext cx="2174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43280" y="23493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564000" y="2565360"/>
            <a:ext cx="288360" cy="368280"/>
            <a:chOff x="3564000" y="2565360"/>
            <a:chExt cx="288360" cy="368280"/>
          </a:xfrm>
        </p:grpSpPr>
        <p:sp>
          <p:nvSpPr>
            <p:cNvPr id="239" name=""/>
            <p:cNvSpPr/>
            <p:nvPr/>
          </p:nvSpPr>
          <p:spPr>
            <a:xfrm>
              <a:off x="3635280" y="2638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64000" y="2565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156360" y="2349360"/>
            <a:ext cx="288360" cy="368280"/>
            <a:chOff x="6156360" y="2349360"/>
            <a:chExt cx="288360" cy="368280"/>
          </a:xfrm>
        </p:grpSpPr>
        <p:sp>
          <p:nvSpPr>
            <p:cNvPr id="242" name=""/>
            <p:cNvSpPr/>
            <p:nvPr/>
          </p:nvSpPr>
          <p:spPr>
            <a:xfrm>
              <a:off x="6227640" y="242208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56360" y="234936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877080" y="2492280"/>
            <a:ext cx="288360" cy="368280"/>
            <a:chOff x="6877080" y="2492280"/>
            <a:chExt cx="288360" cy="368280"/>
          </a:xfrm>
        </p:grpSpPr>
        <p:sp>
          <p:nvSpPr>
            <p:cNvPr id="245" name=""/>
            <p:cNvSpPr/>
            <p:nvPr/>
          </p:nvSpPr>
          <p:spPr>
            <a:xfrm>
              <a:off x="6948360" y="2565000"/>
              <a:ext cx="2170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77080" y="2492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211640" y="2637000"/>
            <a:ext cx="216000" cy="215640"/>
            <a:chOff x="4211640" y="2637000"/>
            <a:chExt cx="216000" cy="215640"/>
          </a:xfrm>
        </p:grpSpPr>
        <p:sp>
          <p:nvSpPr>
            <p:cNvPr id="248" name=""/>
            <p:cNvSpPr/>
            <p:nvPr/>
          </p:nvSpPr>
          <p:spPr>
            <a:xfrm>
              <a:off x="4211640" y="263700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83280" y="2779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148360" y="2421000"/>
            <a:ext cx="215640" cy="216000"/>
            <a:chOff x="5148360" y="2421000"/>
            <a:chExt cx="215640" cy="216000"/>
          </a:xfrm>
        </p:grpSpPr>
        <p:sp>
          <p:nvSpPr>
            <p:cNvPr id="251" name=""/>
            <p:cNvSpPr/>
            <p:nvPr/>
          </p:nvSpPr>
          <p:spPr>
            <a:xfrm>
              <a:off x="5148360" y="242100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19640" y="2563920"/>
              <a:ext cx="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84720" y="2637000"/>
            <a:ext cx="216000" cy="215640"/>
            <a:chOff x="6084720" y="2637000"/>
            <a:chExt cx="216000" cy="215640"/>
          </a:xfrm>
        </p:grpSpPr>
        <p:sp>
          <p:nvSpPr>
            <p:cNvPr id="254" name=""/>
            <p:cNvSpPr/>
            <p:nvPr/>
          </p:nvSpPr>
          <p:spPr>
            <a:xfrm>
              <a:off x="6084720" y="263700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56360" y="2779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2492280"/>
            <a:ext cx="216000" cy="216000"/>
            <a:chOff x="6588000" y="2492280"/>
            <a:chExt cx="216000" cy="216000"/>
          </a:xfrm>
        </p:grpSpPr>
        <p:sp>
          <p:nvSpPr>
            <p:cNvPr id="257" name=""/>
            <p:cNvSpPr/>
            <p:nvPr/>
          </p:nvSpPr>
          <p:spPr>
            <a:xfrm>
              <a:off x="6588000" y="249228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59640" y="263520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132000" y="2637000"/>
            <a:ext cx="216000" cy="215640"/>
            <a:chOff x="3132000" y="2637000"/>
            <a:chExt cx="216000" cy="215640"/>
          </a:xfrm>
        </p:grpSpPr>
        <p:sp>
          <p:nvSpPr>
            <p:cNvPr id="260" name=""/>
            <p:cNvSpPr/>
            <p:nvPr/>
          </p:nvSpPr>
          <p:spPr>
            <a:xfrm>
              <a:off x="3132000" y="2637000"/>
              <a:ext cx="21600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3640" y="277956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51280" y="2349360"/>
            <a:ext cx="216000" cy="216000"/>
            <a:chOff x="3851280" y="2349360"/>
            <a:chExt cx="216000" cy="216000"/>
          </a:xfrm>
        </p:grpSpPr>
        <p:sp>
          <p:nvSpPr>
            <p:cNvPr id="263" name=""/>
            <p:cNvSpPr/>
            <p:nvPr/>
          </p:nvSpPr>
          <p:spPr>
            <a:xfrm>
              <a:off x="3851280" y="2349360"/>
              <a:ext cx="21600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22920" y="2492280"/>
              <a:ext cx="7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8360" y="1773360"/>
            <a:ext cx="8424720" cy="1942920"/>
            <a:chOff x="468360" y="1773360"/>
            <a:chExt cx="8424720" cy="1942920"/>
          </a:xfrm>
        </p:grpSpPr>
        <p:sp>
          <p:nvSpPr>
            <p:cNvPr id="266" name=""/>
            <p:cNvSpPr/>
            <p:nvPr/>
          </p:nvSpPr>
          <p:spPr>
            <a:xfrm>
              <a:off x="468360" y="3068640"/>
              <a:ext cx="8424720" cy="647640"/>
            </a:xfrm>
            <a:prstGeom prst="wedgeRectCallout">
              <a:avLst>
                <a:gd name="adj1" fmla="val -43745"/>
                <a:gd name="adj2" fmla="val -23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и электризации заряды не создаются они только разделяются. Часть электронов переходит с одного тела на друго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692360" y="1844640"/>
              <a:ext cx="151128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411280" y="2565360"/>
              <a:ext cx="720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64360" y="1773360"/>
              <a:ext cx="1511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08720" y="2492280"/>
              <a:ext cx="719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7236000" y="162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Эбон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80360" y="24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Шер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24720" y="4581360"/>
            <a:ext cx="2519280" cy="354240"/>
          </a:xfrm>
          <a:prstGeom prst="wedgeRectCallout">
            <a:avLst>
              <a:gd name="adj1" fmla="val -36643"/>
              <a:gd name="adj2" fmla="val 338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электр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260280"/>
            <a:ext cx="2637000" cy="2364480"/>
            <a:chOff x="0" y="260280"/>
            <a:chExt cx="2637000" cy="236448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rcRect l="48616" t="0" r="0" b="0"/>
            <a:stretch/>
          </p:blipFill>
          <p:spPr>
            <a:xfrm>
              <a:off x="468360" y="260280"/>
              <a:ext cx="2168640" cy="22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0" y="1557360"/>
              <a:ext cx="212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Что происходит при трении эбонитовой палочки о шерсть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39640" y="3933720"/>
            <a:ext cx="8137800" cy="368280"/>
          </a:xfrm>
          <a:prstGeom prst="rect">
            <a:avLst/>
          </a:prstGeom>
          <a:solidFill>
            <a:srgbClr val="ff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чему электроны переходят с шерсти на эбонит, а не наоборот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4221000"/>
            <a:ext cx="5329080" cy="2343600"/>
            <a:chOff x="0" y="4221000"/>
            <a:chExt cx="5329080" cy="2343600"/>
          </a:xfrm>
        </p:grpSpPr>
        <p:sp>
          <p:nvSpPr>
            <p:cNvPr id="279" name=""/>
            <p:cNvSpPr/>
            <p:nvPr/>
          </p:nvSpPr>
          <p:spPr>
            <a:xfrm>
              <a:off x="0" y="5099040"/>
              <a:ext cx="5329080" cy="1465560"/>
            </a:xfrm>
            <a:prstGeom prst="rect">
              <a:avLst/>
            </a:prstGeom>
            <a:solidFill>
              <a:srgbClr val="ff575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Электроны наиболее удаленные от ядра слабо к нему притягиваются, поэтому они покидают свои места и свободно движутся м.д. атомами. Особенно слабо удерживаются электроны ядрами метал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780000" y="4221000"/>
              <a:ext cx="72072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40360" y="4221000"/>
            <a:ext cx="2952720" cy="2291760"/>
            <a:chOff x="5940360" y="4221000"/>
            <a:chExt cx="2952720" cy="2291760"/>
          </a:xfrm>
        </p:grpSpPr>
        <p:sp>
          <p:nvSpPr>
            <p:cNvPr id="282" name=""/>
            <p:cNvSpPr/>
            <p:nvPr/>
          </p:nvSpPr>
          <p:spPr>
            <a:xfrm>
              <a:off x="5940360" y="5595840"/>
              <a:ext cx="2952720" cy="916920"/>
            </a:xfrm>
            <a:prstGeom prst="rect">
              <a:avLst/>
            </a:prstGeom>
            <a:solidFill>
              <a:srgbClr val="ff575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Электроны прочно удерживаются своими атом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0360" y="4221000"/>
              <a:ext cx="433440" cy="13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>
            <a:off x="8028000" y="4941720"/>
            <a:ext cx="43164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4508640"/>
            <a:ext cx="2916000" cy="575640"/>
            <a:chOff x="0" y="4508640"/>
            <a:chExt cx="2916000" cy="575640"/>
          </a:xfrm>
        </p:grpSpPr>
        <p:sp>
          <p:nvSpPr>
            <p:cNvPr id="286" name=""/>
            <p:cNvSpPr/>
            <p:nvPr/>
          </p:nvSpPr>
          <p:spPr>
            <a:xfrm>
              <a:off x="0" y="4508640"/>
              <a:ext cx="2448000" cy="360360"/>
            </a:xfrm>
            <a:prstGeom prst="wedgeRectCallout">
              <a:avLst>
                <a:gd name="adj1" fmla="val -12254"/>
                <a:gd name="adj2" fmla="val 37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водни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410920" y="4652640"/>
              <a:ext cx="50508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741E-007 L -3.05556E-006 -0.07361 E">
                                      <p:cBhvr>
                                        <p:cTn id="235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L 0.0158 -0.08403 E">
                                      <p:cBhvr>
                                        <p:cTn id="237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7.40741E-007 L 0.03142 -0.10509 E">
                                      <p:cBhvr>
                                        <p:cTn id="239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250920" y="260280"/>
            <a:ext cx="3600360" cy="1513080"/>
            <a:chOff x="250920" y="260280"/>
            <a:chExt cx="3600360" cy="1513080"/>
          </a:xfrm>
        </p:grpSpPr>
        <p:sp>
          <p:nvSpPr>
            <p:cNvPr id="289" name=""/>
            <p:cNvSpPr/>
            <p:nvPr/>
          </p:nvSpPr>
          <p:spPr>
            <a:xfrm>
              <a:off x="1619280" y="1557360"/>
              <a:ext cx="2232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- - - - - 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250920" y="260280"/>
              <a:ext cx="1873080" cy="1512720"/>
              <a:chOff x="250920" y="260280"/>
              <a:chExt cx="1873080" cy="1512720"/>
            </a:xfrm>
          </p:grpSpPr>
          <p:sp>
            <p:nvSpPr>
              <p:cNvPr id="291" name=""/>
              <p:cNvSpPr/>
              <p:nvPr/>
            </p:nvSpPr>
            <p:spPr>
              <a:xfrm>
                <a:off x="539640" y="260280"/>
                <a:ext cx="1584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466560" y="260280"/>
                <a:ext cx="865440" cy="129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0920" y="1483920"/>
                <a:ext cx="360360" cy="28908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3132000" y="26028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мотрите на рисунок и ответьте, заряжен ли шарик? Если заряжен, какой знак имеет шарик?  Ответ обоснуй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87280" y="2421000"/>
            <a:ext cx="7056720" cy="3682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рическое поле действует только на заряженное 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88000" y="530064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- - - - -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9640" y="2924280"/>
            <a:ext cx="244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763640" y="2852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5280" y="4149720"/>
            <a:ext cx="2808360" cy="24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770200" y="4797360"/>
            <a:ext cx="792000" cy="398880"/>
            <a:chOff x="2770200" y="4797360"/>
            <a:chExt cx="792000" cy="398880"/>
          </a:xfrm>
        </p:grpSpPr>
        <p:sp>
          <p:nvSpPr>
            <p:cNvPr id="301" name=""/>
            <p:cNvSpPr/>
            <p:nvPr/>
          </p:nvSpPr>
          <p:spPr>
            <a:xfrm>
              <a:off x="2770200" y="486864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70200" y="4797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411280" y="4437000"/>
            <a:ext cx="576360" cy="459720"/>
            <a:chOff x="2411280" y="4437000"/>
            <a:chExt cx="576360" cy="459720"/>
          </a:xfrm>
        </p:grpSpPr>
        <p:sp>
          <p:nvSpPr>
            <p:cNvPr id="304" name=""/>
            <p:cNvSpPr/>
            <p:nvPr/>
          </p:nvSpPr>
          <p:spPr>
            <a:xfrm>
              <a:off x="2411280" y="450828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11280" y="44370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338560" y="5950080"/>
            <a:ext cx="576000" cy="459720"/>
            <a:chOff x="2338560" y="5950080"/>
            <a:chExt cx="576000" cy="459720"/>
          </a:xfrm>
        </p:grpSpPr>
        <p:sp>
          <p:nvSpPr>
            <p:cNvPr id="307" name=""/>
            <p:cNvSpPr/>
            <p:nvPr/>
          </p:nvSpPr>
          <p:spPr>
            <a:xfrm>
              <a:off x="2338560" y="6021360"/>
              <a:ext cx="28872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8560" y="59500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843280" y="5229360"/>
            <a:ext cx="576360" cy="459720"/>
            <a:chOff x="2843280" y="5229360"/>
            <a:chExt cx="576360" cy="459720"/>
          </a:xfrm>
        </p:grpSpPr>
        <p:sp>
          <p:nvSpPr>
            <p:cNvPr id="310" name=""/>
            <p:cNvSpPr/>
            <p:nvPr/>
          </p:nvSpPr>
          <p:spPr>
            <a:xfrm>
              <a:off x="2843280" y="530064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43280" y="5229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95280" y="5086440"/>
            <a:ext cx="576360" cy="459720"/>
            <a:chOff x="395280" y="5086440"/>
            <a:chExt cx="576360" cy="459720"/>
          </a:xfrm>
        </p:grpSpPr>
        <p:sp>
          <p:nvSpPr>
            <p:cNvPr id="313" name=""/>
            <p:cNvSpPr/>
            <p:nvPr/>
          </p:nvSpPr>
          <p:spPr>
            <a:xfrm>
              <a:off x="395280" y="51577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5280" y="5086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69840" y="4294080"/>
            <a:ext cx="576360" cy="459720"/>
            <a:chOff x="969840" y="4294080"/>
            <a:chExt cx="576360" cy="459720"/>
          </a:xfrm>
        </p:grpSpPr>
        <p:sp>
          <p:nvSpPr>
            <p:cNvPr id="316" name=""/>
            <p:cNvSpPr/>
            <p:nvPr/>
          </p:nvSpPr>
          <p:spPr>
            <a:xfrm>
              <a:off x="969840" y="436536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69840" y="42940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26920" y="5878440"/>
            <a:ext cx="576360" cy="459720"/>
            <a:chOff x="826920" y="5878440"/>
            <a:chExt cx="576360" cy="459720"/>
          </a:xfrm>
        </p:grpSpPr>
        <p:sp>
          <p:nvSpPr>
            <p:cNvPr id="319" name=""/>
            <p:cNvSpPr/>
            <p:nvPr/>
          </p:nvSpPr>
          <p:spPr>
            <a:xfrm>
              <a:off x="826920" y="59497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6920" y="5878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698920" y="5662440"/>
            <a:ext cx="792000" cy="398880"/>
            <a:chOff x="2698920" y="5662440"/>
            <a:chExt cx="792000" cy="398880"/>
          </a:xfrm>
        </p:grpSpPr>
        <p:sp>
          <p:nvSpPr>
            <p:cNvPr id="322" name=""/>
            <p:cNvSpPr/>
            <p:nvPr/>
          </p:nvSpPr>
          <p:spPr>
            <a:xfrm>
              <a:off x="2698920" y="573372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98920" y="5662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979640" y="4294080"/>
            <a:ext cx="792000" cy="398880"/>
            <a:chOff x="1979640" y="4294080"/>
            <a:chExt cx="792000" cy="398880"/>
          </a:xfrm>
        </p:grpSpPr>
        <p:sp>
          <p:nvSpPr>
            <p:cNvPr id="325" name=""/>
            <p:cNvSpPr/>
            <p:nvPr/>
          </p:nvSpPr>
          <p:spPr>
            <a:xfrm>
              <a:off x="1979640" y="436536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79640" y="42940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38200" y="4726080"/>
            <a:ext cx="792000" cy="398880"/>
            <a:chOff x="538200" y="4726080"/>
            <a:chExt cx="792000" cy="398880"/>
          </a:xfrm>
        </p:grpSpPr>
        <p:sp>
          <p:nvSpPr>
            <p:cNvPr id="328" name=""/>
            <p:cNvSpPr/>
            <p:nvPr/>
          </p:nvSpPr>
          <p:spPr>
            <a:xfrm>
              <a:off x="538200" y="479736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8200" y="47260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66560" y="5518080"/>
            <a:ext cx="792000" cy="398880"/>
            <a:chOff x="466560" y="5518080"/>
            <a:chExt cx="792000" cy="398880"/>
          </a:xfrm>
        </p:grpSpPr>
        <p:sp>
          <p:nvSpPr>
            <p:cNvPr id="331" name=""/>
            <p:cNvSpPr/>
            <p:nvPr/>
          </p:nvSpPr>
          <p:spPr>
            <a:xfrm>
              <a:off x="466560" y="558936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6560" y="551808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474920" y="6165720"/>
            <a:ext cx="792000" cy="398880"/>
            <a:chOff x="1474920" y="6165720"/>
            <a:chExt cx="792000" cy="398880"/>
          </a:xfrm>
        </p:grpSpPr>
        <p:sp>
          <p:nvSpPr>
            <p:cNvPr id="334" name=""/>
            <p:cNvSpPr/>
            <p:nvPr/>
          </p:nvSpPr>
          <p:spPr>
            <a:xfrm>
              <a:off x="1474920" y="6237000"/>
              <a:ext cx="288720" cy="287640"/>
            </a:xfrm>
            <a:prstGeom prst="ellipse">
              <a:avLst/>
            </a:prstGeom>
            <a:solidFill>
              <a:srgbClr val="e713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74920" y="6165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979640" y="4149720"/>
            <a:ext cx="3239640" cy="2447640"/>
            <a:chOff x="1979640" y="4149720"/>
            <a:chExt cx="3239640" cy="2447640"/>
          </a:xfrm>
        </p:grpSpPr>
        <p:sp>
          <p:nvSpPr>
            <p:cNvPr id="337" name=""/>
            <p:cNvSpPr/>
            <p:nvPr/>
          </p:nvSpPr>
          <p:spPr>
            <a:xfrm>
              <a:off x="1979640" y="4149720"/>
              <a:ext cx="2808000" cy="24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66920" y="5878440"/>
              <a:ext cx="792000" cy="398880"/>
              <a:chOff x="4066920" y="5878440"/>
              <a:chExt cx="792000" cy="39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6920" y="5949720"/>
                <a:ext cx="28872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66920" y="587844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4427280" y="5373720"/>
              <a:ext cx="792000" cy="398880"/>
              <a:chOff x="4427280" y="5373720"/>
              <a:chExt cx="792000" cy="39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4427280" y="5445000"/>
                <a:ext cx="28872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27280" y="537372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124000" y="4654440"/>
              <a:ext cx="791640" cy="398880"/>
              <a:chOff x="2124000" y="4654440"/>
              <a:chExt cx="791640" cy="398880"/>
            </a:xfrm>
          </p:grpSpPr>
          <p:sp>
            <p:nvSpPr>
              <p:cNvPr id="345" name=""/>
              <p:cNvSpPr/>
              <p:nvPr/>
            </p:nvSpPr>
            <p:spPr>
              <a:xfrm>
                <a:off x="2124000" y="4725720"/>
                <a:ext cx="28836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24000" y="4654440"/>
                <a:ext cx="79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924000" y="4294080"/>
              <a:ext cx="792000" cy="398880"/>
              <a:chOff x="3924000" y="4294080"/>
              <a:chExt cx="792000" cy="398880"/>
            </a:xfrm>
          </p:grpSpPr>
          <p:sp>
            <p:nvSpPr>
              <p:cNvPr id="348" name=""/>
              <p:cNvSpPr/>
              <p:nvPr/>
            </p:nvSpPr>
            <p:spPr>
              <a:xfrm>
                <a:off x="3924000" y="4365360"/>
                <a:ext cx="28872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24000" y="42940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4211640" y="4581360"/>
              <a:ext cx="791640" cy="398880"/>
              <a:chOff x="4211640" y="4581360"/>
              <a:chExt cx="791640" cy="398880"/>
            </a:xfrm>
          </p:grpSpPr>
          <p:sp>
            <p:nvSpPr>
              <p:cNvPr id="351" name=""/>
              <p:cNvSpPr/>
              <p:nvPr/>
            </p:nvSpPr>
            <p:spPr>
              <a:xfrm>
                <a:off x="4211640" y="4652640"/>
                <a:ext cx="28836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11640" y="4581360"/>
                <a:ext cx="79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4427280" y="4941720"/>
              <a:ext cx="792000" cy="398880"/>
              <a:chOff x="4427280" y="4941720"/>
              <a:chExt cx="792000" cy="398880"/>
            </a:xfrm>
          </p:grpSpPr>
          <p:sp>
            <p:nvSpPr>
              <p:cNvPr id="354" name=""/>
              <p:cNvSpPr/>
              <p:nvPr/>
            </p:nvSpPr>
            <p:spPr>
              <a:xfrm>
                <a:off x="4427280" y="5013000"/>
                <a:ext cx="288720" cy="287640"/>
              </a:xfrm>
              <a:prstGeom prst="ellipse">
                <a:avLst/>
              </a:prstGeom>
              <a:solidFill>
                <a:srgbClr val="e713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27280" y="494172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339640" y="4365360"/>
              <a:ext cx="576000" cy="459720"/>
              <a:chOff x="2339640" y="4365360"/>
              <a:chExt cx="576000" cy="459720"/>
            </a:xfrm>
          </p:grpSpPr>
          <p:sp>
            <p:nvSpPr>
              <p:cNvPr id="357" name=""/>
              <p:cNvSpPr/>
              <p:nvPr/>
            </p:nvSpPr>
            <p:spPr>
              <a:xfrm>
                <a:off x="2339640" y="4436640"/>
                <a:ext cx="28872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39640" y="436536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266920" y="5878440"/>
              <a:ext cx="575640" cy="459720"/>
              <a:chOff x="2266920" y="5878440"/>
              <a:chExt cx="575640" cy="459720"/>
            </a:xfrm>
          </p:grpSpPr>
          <p:sp>
            <p:nvSpPr>
              <p:cNvPr id="360" name=""/>
              <p:cNvSpPr/>
              <p:nvPr/>
            </p:nvSpPr>
            <p:spPr>
              <a:xfrm>
                <a:off x="2266920" y="5949720"/>
                <a:ext cx="28836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66920" y="5878440"/>
                <a:ext cx="5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2050920" y="5518080"/>
              <a:ext cx="576000" cy="459720"/>
              <a:chOff x="2050920" y="5518080"/>
              <a:chExt cx="576000" cy="459720"/>
            </a:xfrm>
          </p:grpSpPr>
          <p:sp>
            <p:nvSpPr>
              <p:cNvPr id="363" name=""/>
              <p:cNvSpPr/>
              <p:nvPr/>
            </p:nvSpPr>
            <p:spPr>
              <a:xfrm>
                <a:off x="2050920" y="5589360"/>
                <a:ext cx="28872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50920" y="551808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979640" y="5086080"/>
              <a:ext cx="576000" cy="459720"/>
              <a:chOff x="1979640" y="5086080"/>
              <a:chExt cx="576000" cy="459720"/>
            </a:xfrm>
          </p:grpSpPr>
          <p:sp>
            <p:nvSpPr>
              <p:cNvPr id="366" name=""/>
              <p:cNvSpPr/>
              <p:nvPr/>
            </p:nvSpPr>
            <p:spPr>
              <a:xfrm>
                <a:off x="1979640" y="5157360"/>
                <a:ext cx="28872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9640" y="508608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627280" y="4149720"/>
              <a:ext cx="575640" cy="459720"/>
              <a:chOff x="2627280" y="4149720"/>
              <a:chExt cx="575640" cy="459720"/>
            </a:xfrm>
          </p:grpSpPr>
          <p:sp>
            <p:nvSpPr>
              <p:cNvPr id="369" name=""/>
              <p:cNvSpPr/>
              <p:nvPr/>
            </p:nvSpPr>
            <p:spPr>
              <a:xfrm>
                <a:off x="2627280" y="4221000"/>
                <a:ext cx="28836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27280" y="4149720"/>
                <a:ext cx="5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282920" y="5662440"/>
              <a:ext cx="576000" cy="459720"/>
              <a:chOff x="4282920" y="5662440"/>
              <a:chExt cx="576000" cy="459720"/>
            </a:xfrm>
          </p:grpSpPr>
          <p:sp>
            <p:nvSpPr>
              <p:cNvPr id="372" name=""/>
              <p:cNvSpPr/>
              <p:nvPr/>
            </p:nvSpPr>
            <p:spPr>
              <a:xfrm>
                <a:off x="4282920" y="5733720"/>
                <a:ext cx="288720" cy="287280"/>
              </a:xfrm>
              <a:prstGeom prst="ellipse">
                <a:avLst/>
              </a:prstGeom>
              <a:solidFill>
                <a:srgbClr val="2303a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82920" y="566244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71303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"/>
          <p:cNvSpPr/>
          <p:nvPr/>
        </p:nvSpPr>
        <p:spPr>
          <a:xfrm>
            <a:off x="1763640" y="2924280"/>
            <a:ext cx="136836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003640" y="5300640"/>
            <a:ext cx="576360" cy="459720"/>
            <a:chOff x="5003640" y="5300640"/>
            <a:chExt cx="576360" cy="459720"/>
          </a:xfrm>
        </p:grpSpPr>
        <p:sp>
          <p:nvSpPr>
            <p:cNvPr id="376" name=""/>
            <p:cNvSpPr/>
            <p:nvPr/>
          </p:nvSpPr>
          <p:spPr>
            <a:xfrm>
              <a:off x="5003640" y="53719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0364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156360" y="5300640"/>
            <a:ext cx="576360" cy="459720"/>
            <a:chOff x="6156360" y="5300640"/>
            <a:chExt cx="576360" cy="459720"/>
          </a:xfrm>
        </p:grpSpPr>
        <p:sp>
          <p:nvSpPr>
            <p:cNvPr id="379" name=""/>
            <p:cNvSpPr/>
            <p:nvPr/>
          </p:nvSpPr>
          <p:spPr>
            <a:xfrm>
              <a:off x="6156360" y="53719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5636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867280" y="5300640"/>
            <a:ext cx="576360" cy="459720"/>
            <a:chOff x="5867280" y="5300640"/>
            <a:chExt cx="576360" cy="459720"/>
          </a:xfrm>
        </p:grpSpPr>
        <p:sp>
          <p:nvSpPr>
            <p:cNvPr id="382" name=""/>
            <p:cNvSpPr/>
            <p:nvPr/>
          </p:nvSpPr>
          <p:spPr>
            <a:xfrm>
              <a:off x="5867280" y="53719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6728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580000" y="5300640"/>
            <a:ext cx="576360" cy="459720"/>
            <a:chOff x="5580000" y="5300640"/>
            <a:chExt cx="576360" cy="459720"/>
          </a:xfrm>
        </p:grpSpPr>
        <p:sp>
          <p:nvSpPr>
            <p:cNvPr id="385" name=""/>
            <p:cNvSpPr/>
            <p:nvPr/>
          </p:nvSpPr>
          <p:spPr>
            <a:xfrm>
              <a:off x="5580000" y="5371920"/>
              <a:ext cx="28908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80000" y="5300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291280" y="5300640"/>
            <a:ext cx="576000" cy="459720"/>
            <a:chOff x="5291280" y="5300640"/>
            <a:chExt cx="576000" cy="459720"/>
          </a:xfrm>
        </p:grpSpPr>
        <p:sp>
          <p:nvSpPr>
            <p:cNvPr id="388" name=""/>
            <p:cNvSpPr/>
            <p:nvPr/>
          </p:nvSpPr>
          <p:spPr>
            <a:xfrm>
              <a:off x="5291280" y="5371920"/>
              <a:ext cx="288720" cy="287280"/>
            </a:xfrm>
            <a:prstGeom prst="ellipse">
              <a:avLst/>
            </a:prstGeom>
            <a:solidFill>
              <a:srgbClr val="2303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91280" y="53006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1303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252360" y="2924280"/>
            <a:ext cx="3240000" cy="3600000"/>
            <a:chOff x="-252360" y="2924280"/>
            <a:chExt cx="3240000" cy="3600000"/>
          </a:xfrm>
        </p:grpSpPr>
        <p:grpSp>
          <p:nvGrpSpPr>
            <p:cNvPr id="391" name=""/>
            <p:cNvGrpSpPr/>
            <p:nvPr/>
          </p:nvGrpSpPr>
          <p:grpSpPr>
            <a:xfrm>
              <a:off x="-252360" y="4076640"/>
              <a:ext cx="3240000" cy="2447640"/>
              <a:chOff x="-252360" y="4076640"/>
              <a:chExt cx="3240000" cy="24476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-252360" y="4076640"/>
                <a:ext cx="3240000" cy="2447640"/>
                <a:chOff x="-252360" y="4076640"/>
                <a:chExt cx="3240000" cy="24476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-252360" y="4076640"/>
                  <a:ext cx="2808360" cy="24476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1835280" y="5805360"/>
                  <a:ext cx="792000" cy="398880"/>
                  <a:chOff x="1835280" y="5805360"/>
                  <a:chExt cx="792000" cy="3988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1835280" y="587628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835280" y="580536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2195640" y="5300280"/>
                  <a:ext cx="792000" cy="398880"/>
                  <a:chOff x="2195640" y="5300280"/>
                  <a:chExt cx="792000" cy="398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2195640" y="5371560"/>
                    <a:ext cx="288720" cy="28764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95640" y="530028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-108000" y="4581360"/>
                  <a:ext cx="792000" cy="398880"/>
                  <a:chOff x="-108000" y="4581360"/>
                  <a:chExt cx="792000" cy="39888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>
                    <a:off x="-108000" y="465228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-108000" y="458136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1692360" y="4221000"/>
                  <a:ext cx="792000" cy="398880"/>
                  <a:chOff x="1692360" y="4221000"/>
                  <a:chExt cx="792000" cy="39888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1692360" y="429192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692360" y="422100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1979640" y="4508280"/>
                  <a:ext cx="792000" cy="398880"/>
                  <a:chOff x="1979640" y="4508280"/>
                  <a:chExt cx="792000" cy="39888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1979640" y="457920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979640" y="450828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2195640" y="4868640"/>
                  <a:ext cx="792000" cy="398880"/>
                  <a:chOff x="2195640" y="4868640"/>
                  <a:chExt cx="792000" cy="3988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2195640" y="4939560"/>
                    <a:ext cx="288720" cy="287280"/>
                  </a:xfrm>
                  <a:prstGeom prst="ellipse">
                    <a:avLst/>
                  </a:prstGeom>
                  <a:solidFill>
                    <a:srgbClr val="e7130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95640" y="4868640"/>
                    <a:ext cx="7920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108000" y="4292280"/>
                  <a:ext cx="576360" cy="459720"/>
                  <a:chOff x="108000" y="4292280"/>
                  <a:chExt cx="576360" cy="45972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>
                    <a:off x="108000" y="436320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08000" y="429228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34920" y="5805360"/>
                  <a:ext cx="576360" cy="459720"/>
                  <a:chOff x="34920" y="5805360"/>
                  <a:chExt cx="576360" cy="4597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4920" y="587628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4920" y="580536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-181080" y="5445000"/>
                  <a:ext cx="576360" cy="459720"/>
                  <a:chOff x="-181080" y="5445000"/>
                  <a:chExt cx="576360" cy="45972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-181080" y="551592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-181080" y="544500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-252360" y="5013000"/>
                  <a:ext cx="576360" cy="459720"/>
                  <a:chOff x="-252360" y="5013000"/>
                  <a:chExt cx="576360" cy="4597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-252360" y="508392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-252360" y="501300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395280" y="4076640"/>
                  <a:ext cx="576360" cy="459720"/>
                  <a:chOff x="395280" y="4076640"/>
                  <a:chExt cx="576360" cy="45972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395280" y="414756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95280" y="407664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050920" y="5589360"/>
                  <a:ext cx="576360" cy="459720"/>
                  <a:chOff x="2050920" y="5589360"/>
                  <a:chExt cx="576360" cy="45972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050920" y="5660280"/>
                    <a:ext cx="289080" cy="286920"/>
                  </a:xfrm>
                  <a:prstGeom prst="ellipse">
                    <a:avLst/>
                  </a:prstGeom>
                  <a:solidFill>
                    <a:srgbClr val="2303a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050920" y="5589360"/>
                    <a:ext cx="576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e71303"/>
                        </a:solidFill>
                        <a:latin typeface="Arial"/>
                      </a:rPr>
                      <a:t>-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0" name=""/>
              <p:cNvGrpSpPr/>
              <p:nvPr/>
            </p:nvGrpSpPr>
            <p:grpSpPr>
              <a:xfrm>
                <a:off x="1332000" y="5516280"/>
                <a:ext cx="576360" cy="459720"/>
                <a:chOff x="1332000" y="5516280"/>
                <a:chExt cx="576360" cy="45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332000" y="5587560"/>
                  <a:ext cx="28908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332000" y="551628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258920" y="4724280"/>
                <a:ext cx="576360" cy="459720"/>
                <a:chOff x="1258920" y="4724280"/>
                <a:chExt cx="576360" cy="45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258920" y="4795560"/>
                  <a:ext cx="28908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258920" y="472428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1548000" y="5011560"/>
                <a:ext cx="576000" cy="459720"/>
                <a:chOff x="1548000" y="5011560"/>
                <a:chExt cx="576000" cy="45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1548000" y="5082840"/>
                  <a:ext cx="28872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548000" y="5011560"/>
                  <a:ext cx="57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116000" y="4219560"/>
                <a:ext cx="504720" cy="459720"/>
                <a:chOff x="1116000" y="4219560"/>
                <a:chExt cx="504720" cy="45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116000" y="4290840"/>
                  <a:ext cx="25308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116000" y="42195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1116000" y="5948280"/>
                <a:ext cx="576360" cy="459720"/>
                <a:chOff x="1116000" y="5948280"/>
                <a:chExt cx="576360" cy="45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1116000" y="6019560"/>
                  <a:ext cx="289080" cy="287280"/>
                </a:xfrm>
                <a:prstGeom prst="ellipse">
                  <a:avLst/>
                </a:prstGeom>
                <a:solidFill>
                  <a:srgbClr val="2303a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116000" y="5948280"/>
                  <a:ext cx="576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e71303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 flipH="1">
              <a:off x="971640" y="2924280"/>
              <a:ext cx="79200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59259E-006 L -0.19288 -0.0051 E">
                                      <p:cBhvr>
                                        <p:cTn id="373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7327 0.03148 E">
                                      <p:cBhvr>
                                        <p:cTn id="377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7037E-007 L 0.1889 -0.05255 E">
                                      <p:cBhvr>
                                        <p:cTn id="379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23611 0.03148 E">
                                      <p:cBhvr>
                                        <p:cTn id="381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0.2441 -0.02106 E">
                                      <p:cBhvr>
                                        <p:cTn id="383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028 L -0.12587 -0.02269 E">
                                      <p:cBhvr>
                                        <p:cTn id="477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1.11111E-006 L -0.15764 0.01042 E">
                                      <p:cBhvr>
                                        <p:cTn id="479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18108 -0.12616 E">
                                      <p:cBhvr>
                                        <p:cTn id="481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5 -0.00185 L -0.23212 -0.10694 E">
                                      <p:cBhvr>
                                        <p:cTn id="48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05 -0.00185 L -0.30313 -0.0963 E">
                                      <p:cBhvr>
                                        <p:cTn id="485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4:08:03Z</dcterms:created>
  <dc:creator>Владелец</dc:creator>
  <dc:description/>
  <dc:language>en-US</dc:language>
  <cp:lastModifiedBy>Минина Людмила Анатольевна</cp:lastModifiedBy>
  <dcterms:modified xsi:type="dcterms:W3CDTF">2007-12-17T14:10:47Z</dcterms:modified>
  <cp:revision>7</cp:revision>
  <dc:subject/>
  <dc:title>Слайд 1</dc:title>
</cp:coreProperties>
</file>