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8D65-73A5-4F2E-A541-92B91906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7662-0AA8-41AA-A889-F4D27E5B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BED-25CF-4391-89F0-8AD2FB98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B7FB-0C8E-4572-ABB6-F40795E2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7779-2F25-45F0-895E-3767F8FE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7FDC-E893-45AE-BC1C-D84CC1F0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0397-B000-44E3-8EC1-2897A442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4EEF-83CA-43FC-8005-8A9A5EB3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039A-B3AD-478A-82CD-9547DB41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35FC-31B8-4514-B099-D9EE6E53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7F31-5C57-4265-B09A-CE9EC72D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098-F40E-44E0-9F3B-904149E0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C0DD-EC19-4BB8-BECB-04A26611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EF6D-B0B4-4350-BC84-412A4F5B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D4CA-CFEE-424A-9ED5-53158655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D8AC-8435-417B-9A34-B5E80DF8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E74C-60F1-4406-8E62-FA7E01B9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9CA-6789-4915-AE1A-03CE9484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9C1-A6D4-4F12-B839-D9968A41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E058-2E52-4085-926B-AEE6850A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8CF6-2CEF-40D5-BD38-C056761D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AE4-B495-4C2F-A7FA-EA3DA041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6360-2407-4ACB-86FC-9B122604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81D-D48B-4F91-9169-D530352F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76A9-DA8A-4FEC-9F12-76242B91856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62B0-AFD3-455B-8266-0FCC7EC597E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«Организация игровой деятельности как важнейшего метода развития речи детей младшего дошкольного возраст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514600" y="56386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ь Гайворонская Н.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ДОАУ црр – д/с «Аленький цветочек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Obobshhenie-pedagogicheskogo-opyta-po-teme-«Razvitie-rechi-v-doshkolnom-vozraste»"/>
          <p:cNvPicPr/>
          <p:nvPr/>
        </p:nvPicPr>
        <p:blipFill>
          <a:blip r:embed="rId1"/>
          <a:stretch/>
        </p:blipFill>
        <p:spPr>
          <a:xfrm>
            <a:off x="6172200" y="3505320"/>
            <a:ext cx="2514600" cy="18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Пальчиковые игры как способ развития речи детей младшего дошкольного возраст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Ум ребенка находится на кончиках его пальце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.А. Сухомлин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есная речь ребенка начинаетс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когда движения его пальчиков достигают достаточной точности. Руки ребенка как бы подготавливают почву для последующего развития речи. Игры с пальчиками развивают мозг ребенк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ворческие способно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фантазию малыша. Это не только стимул для развития речи и мелкой моторик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о и один из вариантов радостного общ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5029200" y="4572000"/>
            <a:ext cx="2819520" cy="210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1447920" y="4724280"/>
            <a:ext cx="25905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90360" y="304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Сюжетно-ролевая игр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казывает положительное влияние на развитие речи. В ходе игры ребенок вслух разговаривает с игрушкой, говорит и за себя, и за неё, подражает гудению самолета, голосам зверей и т. д.. Развивается диалогическая речь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2233800" cy="29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895480" y="3886200"/>
            <a:ext cx="3048120" cy="2268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:\Users\Admin\Desktop\2 младшая\фото\DSCN2260.JPG"/>
          <p:cNvPicPr/>
          <p:nvPr/>
        </p:nvPicPr>
        <p:blipFill>
          <a:blip r:embed="rId3"/>
          <a:stretch/>
        </p:blipFill>
        <p:spPr>
          <a:xfrm>
            <a:off x="5181480" y="38862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Подвижные игры в речевом развити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 время игры педагог стремится к побуждению у детей подражательной  речевой деятельност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асширению объема понимания речи и словарного запаса. Это достигается путем проговаривания вместе с педагогом  потешек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тихотворени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ловесного сопровождения подвижных иг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762120" y="3962520"/>
            <a:ext cx="3429000" cy="2547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4952880" y="3962520"/>
            <a:ext cx="342900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   </a:t>
            </a: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Основные задачи            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      речевого развития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дущая линия развития речи детей 3-4 лет – это воспитание звуковой культуры реч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бучение правильному звукопроизношению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формирование грамматического строя реч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Игровой мето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бучения способствует созданию заинтересованно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епринуждённой обстановки; повышает речевую мотивацию; побуждает детей к общению друг с другом; процесс мышления протекает быстре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овые навыки усваиваются прочне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C:\Users\Admin\Desktop\2 младшая\фото\DSCN2290.JPG"/>
          <p:cNvPicPr/>
          <p:nvPr/>
        </p:nvPicPr>
        <p:blipFill>
          <a:blip r:embed="rId1"/>
          <a:stretch/>
        </p:blipFill>
        <p:spPr>
          <a:xfrm>
            <a:off x="914400" y="377208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Admin\Desktop\2 младшая\фото\DSCN2312.JPG"/>
          <p:cNvPicPr/>
          <p:nvPr/>
        </p:nvPicPr>
        <p:blipFill>
          <a:blip r:embed="rId2"/>
          <a:stretch/>
        </p:blipFill>
        <p:spPr>
          <a:xfrm>
            <a:off x="5029200" y="377208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Tahoma"/>
              </a:rPr>
              <a:t>ИГРЫ И УПРАЖНЕНИЯ ДЛЯ РАЗВИТИЯ РЕЧИ МЛАДШИХ ДОШКОЛЬНИКО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Tahoma"/>
              </a:rPr>
              <a:t>Дидактическая игр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прекрасное средство обучения и развития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используемое при усвоении любого программного материала. Специально подобранные игры и упражнения дают возможность благоприятно воздействовать на все компоненты речи. В игре ребенок получает возможность обогащать и закреплять словарь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формировать грамматические категории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развивать связную речь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расширять знания об окружающем мире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развивать словесное творчество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развивать коммуникативные навык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Основные виды дидактических игр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стольно-печатные иг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гры с предметами (игрушк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иродный материал и 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овесные иг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7" descr="C:\Users\Admin\Desktop\2 младшая\фото\DSCN2231.JPG"/>
          <p:cNvPicPr/>
          <p:nvPr/>
        </p:nvPicPr>
        <p:blipFill>
          <a:blip r:embed="rId1"/>
          <a:stretch/>
        </p:blipFill>
        <p:spPr>
          <a:xfrm>
            <a:off x="914400" y="36003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C:\Users\Admin\Desktop\2 младшая\фото\DSCN2262.JPG"/>
          <p:cNvPicPr/>
          <p:nvPr/>
        </p:nvPicPr>
        <p:blipFill>
          <a:blip r:embed="rId2"/>
          <a:stretch/>
        </p:blipFill>
        <p:spPr>
          <a:xfrm>
            <a:off x="5079960" y="358128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80880" y="304920"/>
          <a:ext cx="8305920" cy="636732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Игры и упражнения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,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направленные на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 иг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вукоподраж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Чей это голос?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Кто как говорит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хождение предмет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ориентируясь на его признаки и дейс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Угадай игрушку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Про кого я говорю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деление и обозначение признаков предме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Скажи какой»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Исправь ошибку»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Кто больше увидит и назовёт»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Что напутал Буратино»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Какая кукл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отношение предметов с разными характеристик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Сравни кукол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Сравни медвежат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Сравни разных зверят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Кто лучше похвалит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знакомление с противоположностя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Куклы рисуют и гуляют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Куклы: веселая и грустна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крепление представления об обобщающих слов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Назови одним слов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разование форм род. падежа мн. чис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ществительн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Чего не стало?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Прятк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бор глаго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Кто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 умеет делать?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Где что можно делать? 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Закончи предложение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Оркестр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Добавь слово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Кто назовёт больше действий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думывание окончания рассказ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нового окончания знакомой сказ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Расскажи про Олю и зайчика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Козлята и зайчик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гры – инсценировки с игрушк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 сказкам: «Заюшкина избушка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Теремок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Коза с козлятами» 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Использование мнемотехники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  для развития связной речи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            дошкольников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Мнемотех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это система методов и приёмо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беспечивающих эффективное запоминани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охранение и воспроизведение информ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ование мнемотехники сокращает время обучения и одновременно решает следующие речевые задачи: обогащение словарного запас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оставление рассказо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ересказ худ. литератур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тгадывание и загадывание загадок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заучивание стих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Последовательность работ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1905120" cy="1749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4" descr="дорожка"/>
          <p:cNvPicPr/>
          <p:nvPr/>
        </p:nvPicPr>
        <p:blipFill>
          <a:blip r:embed="rId2"/>
          <a:stretch/>
        </p:blipFill>
        <p:spPr>
          <a:xfrm>
            <a:off x="609480" y="5029200"/>
            <a:ext cx="4114800" cy="1393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6"/>
          <p:cNvSpPr/>
          <p:nvPr/>
        </p:nvSpPr>
        <p:spPr>
          <a:xfrm>
            <a:off x="1371600" y="1523880"/>
            <a:ext cx="32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Мнемоквадр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1295280" y="4267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Мнемодорож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5791680" y="152388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Мнемотабли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Содержимое 11" descr="мнемот.jpg"/>
          <p:cNvPicPr/>
          <p:nvPr/>
        </p:nvPicPr>
        <p:blipFill>
          <a:blip r:embed="rId3"/>
          <a:stretch/>
        </p:blipFill>
        <p:spPr>
          <a:xfrm>
            <a:off x="5119560" y="2590920"/>
            <a:ext cx="3218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Театрализованная деятельность как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      средство развития речи детей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             дошкольного возраст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атрализованные игры способствуют усвоению элементов речевого общения (мимик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жес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оз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нтонац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одуляция голоса). Театрализованная деятельность – это не просто игр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а ещё и прекрасное средство для интенсивного развития речи дете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богащение словар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а так же развития мышлен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оображен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нимания и памя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что является психологической основой правильной реч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20" descr=""/>
          <p:cNvPicPr/>
          <p:nvPr/>
        </p:nvPicPr>
        <p:blipFill>
          <a:blip r:embed="rId1"/>
          <a:stretch/>
        </p:blipFill>
        <p:spPr>
          <a:xfrm>
            <a:off x="1295280" y="4684680"/>
            <a:ext cx="2590920" cy="1569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3" descr=""/>
          <p:cNvPicPr/>
          <p:nvPr/>
        </p:nvPicPr>
        <p:blipFill>
          <a:blip r:embed="rId2"/>
          <a:stretch/>
        </p:blipFill>
        <p:spPr>
          <a:xfrm>
            <a:off x="5867280" y="4114800"/>
            <a:ext cx="243864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8:49:20Z</dcterms:created>
  <dc:creator>Влад</dc:creator>
  <dc:description/>
  <dc:language>en-US</dc:language>
  <cp:lastModifiedBy>home</cp:lastModifiedBy>
  <dcterms:modified xsi:type="dcterms:W3CDTF">2019-04-21T17:17:34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