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02B-B3CF-4E8D-8D77-A3FD8E72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1CE-4D72-40DE-A464-22791473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48D-C3C5-4C81-98B6-A17ACE4B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077-E9C0-4CBB-982D-CD793736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C3B4-95EB-4F71-BDF6-0771C597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5592-401F-4B45-B5FC-1EC72315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F9F4-222E-4643-A066-8D210E75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AB5F-9D99-409C-857F-8F3703A5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5A3F-0B1E-4B5E-A0B9-B78FC5DF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90E-96A3-4AE3-8DFB-5A5DAA3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ACDC-B4E0-4FEC-9DFD-A20D152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032-F3E4-49F7-B291-983B3179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AB70-A31C-47DD-9F03-07407C3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32C4-7337-48BE-8600-1B05C25C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B730-C2A4-4B98-A63D-E73D3648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80B-5951-4C1C-924F-F7337EDC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530B-1361-4725-A019-6CCC48952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B26-EBB6-425F-8984-76C18DA1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DAB-D049-4AA6-8E30-C1126B5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31B-532E-4A76-B438-9AF070D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097-D0E9-40F1-BA2F-46FD6A4B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60F-E551-4AE4-AF73-39AC496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6CE-B92F-41D0-A8E8-50097EA2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F42-1194-4D4C-BA0F-F6DDDF3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E01F-CC25-4775-AC82-73F6B77111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B990-126A-4C34-94A6-39F3838A13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«Организация игровой деятельности как важнейшего метода развития речи детей младшего дошкольного возрас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14600" y="56386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ь Гайворонская Н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ДОАУ црр – д/с «Аленький цветочек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Obobshhenie-pedagogicheskogo-opyta-po-teme-«Razvitie-rechi-v-doshkolnom-vozraste»"/>
          <p:cNvPicPr/>
          <p:nvPr/>
        </p:nvPicPr>
        <p:blipFill>
          <a:blip r:embed="rId1"/>
          <a:stretch/>
        </p:blipFill>
        <p:spPr>
          <a:xfrm>
            <a:off x="6172200" y="3505320"/>
            <a:ext cx="251460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Пальчиковые игры как способ развития речи детей младшего дошкольного возрас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Ум ребенка находится на кончиках его пальце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А. Сухомли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есная речь ребенка начинаетс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когда движения его пальчиков достигают достаточной точности. Руки ребенка как бы подготавливают почву для последующего развития речи. Игры с пальчиками развивают мозг ребен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ворческие способ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фантазию малыша. Это не только стимул для развития речи и мелкой моторик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о и один из вариантов радостного общ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2819520" cy="21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1447920" y="4724280"/>
            <a:ext cx="25905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Сюжетно-ролевая иг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казывает положительное влияние на развитие речи. В ходе игры ребенок вслух разговаривает с игрушкой, говорит и за себя, и за неё, подражает гудению самолета, голосам зверей и т. д.. Развивается диалогическая реч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2233800" cy="297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3048120" cy="226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:\Users\Admin\Desktop\2 младшая\фото\DSCN2260.JPG"/>
          <p:cNvPicPr/>
          <p:nvPr/>
        </p:nvPicPr>
        <p:blipFill>
          <a:blip r:embed="rId3"/>
          <a:stretch/>
        </p:blipFill>
        <p:spPr>
          <a:xfrm>
            <a:off x="518148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Подвижные игры в речевом развити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ремя игры педагог стремится к побуждению у детей подражательной  речевой деятельност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сширению объема понимания речи и словарного запаса. Это достигается путем проговаривания вместе с педагогом  потешек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ихотворен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ловесного сопровождения подвижных иг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3429000" cy="2547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952880" y="3962520"/>
            <a:ext cx="3429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Основные задачи            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      речевого развития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дущая линия развития речи детей 3-4 лет – это воспитание звуковой культуры реч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бучение правильному звукопроизношени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формирование грамматического строя ре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гровой мет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учения способствует созданию заинтересованно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принуждённой обстановки; повышает речевую мотивацию; побуждает детей к общению друг с другом; процесс мышления протекает быстре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овые навыки усваиваются проч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C:\Users\Admin\Desktop\2 младшая\фото\DSCN2290.JPG"/>
          <p:cNvPicPr/>
          <p:nvPr/>
        </p:nvPicPr>
        <p:blipFill>
          <a:blip r:embed="rId1"/>
          <a:stretch/>
        </p:blipFill>
        <p:spPr>
          <a:xfrm>
            <a:off x="914400" y="377208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Admin\Desktop\2 младшая\фото\DSCN2312.JPG"/>
          <p:cNvPicPr/>
          <p:nvPr/>
        </p:nvPicPr>
        <p:blipFill>
          <a:blip r:embed="rId2"/>
          <a:stretch/>
        </p:blipFill>
        <p:spPr>
          <a:xfrm>
            <a:off x="5029200" y="37720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ahoma"/>
              </a:rPr>
              <a:t>ИГРЫ И УПРАЖНЕНИЯ ДЛЯ РАЗВИТИЯ РЕЧИ МЛАДШИХ ДОШКОЛЬНИК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Tahoma"/>
              </a:rPr>
              <a:t>Дидактическая иг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прекрасное средство обучения и развития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используемое при усвоении любого программного материала. Специально подобранные игры и упражнения дают возможность благоприятно воздействовать на все компоненты речи. В игре ребенок получает возможность обогащать и закреплять словарь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формировать грамматические категории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звивать связную речь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сширять знания об окружающем мире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звивать словесное творчество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развивать коммуникативные навыки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Основные виды дидактических игр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тольно-печатные иг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ы с предметами (игрушк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риродный материал и  т.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есные иг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7" descr="C:\Users\Admin\Desktop\2 младшая\фото\DSCN2231.JPG"/>
          <p:cNvPicPr/>
          <p:nvPr/>
        </p:nvPicPr>
        <p:blipFill>
          <a:blip r:embed="rId1"/>
          <a:stretch/>
        </p:blipFill>
        <p:spPr>
          <a:xfrm>
            <a:off x="914400" y="36003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Users\Admin\Desktop\2 младшая\фото\DSCN2262.JPG"/>
          <p:cNvPicPr/>
          <p:nvPr/>
        </p:nvPicPr>
        <p:blipFill>
          <a:blip r:embed="rId2"/>
          <a:stretch/>
        </p:blipFill>
        <p:spPr>
          <a:xfrm>
            <a:off x="5079960" y="358128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80880" y="304920"/>
          <a:ext cx="8305920" cy="63673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Игры и упражнения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направленные на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иг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вукоподра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Чей это голос?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как говори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хождение предмет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ориентируясь на его признаки и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Угадай игрушку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Про кого я говорю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деление и обозначение признаков предм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кажи какой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Исправь ошибку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больше увидит и назовёт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Что напутал Буратино»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акая кукл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отношение предметов с разными характеристик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Сравни кукол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Сравни медвежа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Сравни разных зверя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лучше похвали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знакомление с противоположност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уклы рисуют и гуляют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уклы: веселая и грустна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крепление представления об обобщающих слов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Назови одним слов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зование форм род. падежа мн. числ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уществитель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Чего не стало?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Прятк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бор глаго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Кт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то умеет делать?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Где что можно делать? 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Закончи предложение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Оркестр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Добавь слово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то назовёт больше действи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думывание окончания рассказа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нового окончания знакомой сказ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Расскажи про Олю и зайчика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озлята и зайчи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 – инсценировки с игрушк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 сказкам: «Заюшкина избушка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Теремок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«Коза с козлятами» 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Использование мнемотехники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  для развития связной речи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            дошкольников</a:t>
            </a:r>
            <a:r>
              <a:rPr b="1" lang="ru-RU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немотех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система методов и приём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еспечивающих эффективное запомина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хранение и воспроизведение информ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мнемотехники сокращает время обучения и одновременно решает следующие речевые задачи: обогащение словарного запас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ставление рассказо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ересказ худ. литератур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гадывание и загадывание загадо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заучивание стих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Последовательность работ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1905120" cy="1749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4" descr="дорожка"/>
          <p:cNvPicPr/>
          <p:nvPr/>
        </p:nvPicPr>
        <p:blipFill>
          <a:blip r:embed="rId2"/>
          <a:stretch/>
        </p:blipFill>
        <p:spPr>
          <a:xfrm>
            <a:off x="609480" y="5029200"/>
            <a:ext cx="4114800" cy="1393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6"/>
          <p:cNvSpPr/>
          <p:nvPr/>
        </p:nvSpPr>
        <p:spPr>
          <a:xfrm>
            <a:off x="1371600" y="1523880"/>
            <a:ext cx="32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Мнемоквад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295280" y="4267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Мнемодорож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791680" y="15238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немотабл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Содержимое 11" descr="мнемот.jpg"/>
          <p:cNvPicPr/>
          <p:nvPr/>
        </p:nvPicPr>
        <p:blipFill>
          <a:blip r:embed="rId3"/>
          <a:stretch/>
        </p:blipFill>
        <p:spPr>
          <a:xfrm>
            <a:off x="5119560" y="2590920"/>
            <a:ext cx="3218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Театрализованная деятельность как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  средство развития речи детей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         дошкольного возраст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атрализованные игры способствуют усвоению элементов речевого общения (мим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жес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нтонац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одуляция голоса). Театрализованная деятельность – это не просто игр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ещё и прекрасное средство для интенсивного развития речи дете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обогащение словар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а так же развития мышл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оображени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имания и памя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то является психологической основой правильной ре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0" descr=""/>
          <p:cNvPicPr/>
          <p:nvPr/>
        </p:nvPicPr>
        <p:blipFill>
          <a:blip r:embed="rId1"/>
          <a:stretch/>
        </p:blipFill>
        <p:spPr>
          <a:xfrm>
            <a:off x="1295280" y="4684680"/>
            <a:ext cx="2590920" cy="1569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3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4386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8:49:20Z</dcterms:created>
  <dc:creator>Влад</dc:creator>
  <dc:description/>
  <dc:language>en-US</dc:language>
  <cp:lastModifiedBy>home</cp:lastModifiedBy>
  <dcterms:modified xsi:type="dcterms:W3CDTF">2019-04-21T17:17:34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