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111C4-1B9D-4F0B-BD38-4917E0B3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705BA-8B08-4F26-A7C3-EA627AC8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6EF4-B0CE-4E60-B13F-70CF532A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9EC9-B67D-42E6-B268-1C70C171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D070-8162-4006-B84F-745EFA65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8257-C07E-4F97-9FAF-C0ED8BA0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B301-9A0E-47C5-8302-F5D40D9A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B89D-C48A-45A5-995E-3939D76B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9476-AF86-4583-8A16-DC7D5E20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A38C-9108-40F6-A66E-A6E3E7E6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77AE-7E3B-4D51-B840-19C271F7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1F3F-243F-4A5A-9E4F-C53CF6C1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A2EE-F5A8-4631-B6E1-A68CCA42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52F1-C4AA-403C-B7F6-2B8E1B6B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52C1-0C11-4E45-9B3C-B305DFB0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33B3-9310-4714-A399-E2581498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D1A6-8252-4D04-9194-26F09970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0E6F1-BEBB-4A8F-97B1-7E5580F8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C9A95-1735-4A5C-9CD9-02165B71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92E6-AD14-4E38-BE8F-EE30B09A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0636-7207-496A-8719-EC499B68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1788-4A8E-40AF-91B2-10CAE40D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6EB9F-9A13-459B-9C58-939C6C3A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7EF0-F758-429D-8F2C-67F6DFCE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691F-9A45-48AC-B983-57FC779F8D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31C0-9411-4E59-90E1-16939204D3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КОРРЕКЦИЯ СЛОГОВОЙ СТРУКТУРЫ СЛОВА У ДЕТЕЙ С НАРУШЕНИЕМ ИНТЕЛЛЕКТА, КАК ПРЕДПОСЫЛКА ФОРМИРОВАНИЯ КОММУНИКАТИВНЫХ УЧЕБНЫХ ДЕЙСТВ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35200" y="5105520"/>
            <a:ext cx="3351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итель – логопед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огушева Н.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527840" y="457200"/>
            <a:ext cx="611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ызранский филиал ГБОУ школы-интерната №2 г.о. Жигулевс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Нарушение слоговой структу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 трудности в произношении слов сложного  слогового  состава: нарушение порядка в слове, пропуски, добавление новых слогов или зву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Ошибки слоговой структуры сл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 «гуница» – гусеница, «пувица» – пуговица, «моток»- моло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рава» - трава, «борови»- б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воре» – дерево, «бугама»- бумага, «памана»- панама , «гебемот» - бегем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пута» - капуста, «комата» - комната,  «танкис» - танки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ипитан» - капитан, «вевесипед» - велосип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умамага» - бумага, «ягненонок» - ягненок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лодильница» - холодильник и хлеб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228600" y="3451320"/>
            <a:ext cx="4041720" cy="3200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48320" y="685800"/>
            <a:ext cx="4419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Виды работ по коррекции      слоговой структуры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Картинки по запросу слоговая структура слова дидактический материал"/>
          <p:cNvPicPr/>
          <p:nvPr/>
        </p:nvPicPr>
        <p:blipFill>
          <a:blip r:embed="rId2"/>
          <a:stretch/>
        </p:blipFill>
        <p:spPr>
          <a:xfrm>
            <a:off x="176040" y="609480"/>
            <a:ext cx="4359600" cy="3124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3"/>
          <a:stretch/>
        </p:blipFill>
        <p:spPr>
          <a:xfrm>
            <a:off x="4572000" y="251460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40388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6303630"/>
          <p:cNvPicPr/>
          <p:nvPr/>
        </p:nvPicPr>
        <p:blipFill>
          <a:blip r:embed="rId1"/>
          <a:stretch/>
        </p:blipFill>
        <p:spPr>
          <a:xfrm>
            <a:off x="4648320" y="698400"/>
            <a:ext cx="4038480" cy="538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3514680" cy="2981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3"/>
          <a:stretch/>
        </p:blipFill>
        <p:spPr>
          <a:xfrm>
            <a:off x="471600" y="533520"/>
            <a:ext cx="2733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28600" y="1181160"/>
            <a:ext cx="4152960" cy="343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396252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1066680" y="5335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ff"/>
                </a:solidFill>
                <a:latin typeface="Helvetica Neue"/>
              </a:rPr>
              <a:t>Подбор слов с заданной слоговой схе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2286000" y="4800600"/>
            <a:ext cx="38163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962520" cy="265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536400" y="3192480"/>
            <a:ext cx="3803760" cy="3322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193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5029200" y="2666880"/>
            <a:ext cx="3657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S6303624"/>
          <p:cNvPicPr/>
          <p:nvPr/>
        </p:nvPicPr>
        <p:blipFill>
          <a:blip r:embed="rId1"/>
          <a:stretch/>
        </p:blipFill>
        <p:spPr>
          <a:xfrm>
            <a:off x="4876920" y="914400"/>
            <a:ext cx="3733560" cy="2666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3276360" cy="236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Похожее изображение"/>
          <p:cNvPicPr/>
          <p:nvPr/>
        </p:nvPicPr>
        <p:blipFill>
          <a:blip r:embed="rId3"/>
          <a:stretch/>
        </p:blipFill>
        <p:spPr>
          <a:xfrm>
            <a:off x="1295280" y="38098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733920" y="990360"/>
            <a:ext cx="49528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818ff"/>
                </a:solidFill>
                <a:latin typeface="Arial"/>
              </a:rPr>
              <a:t>Коррекция слоговой структуры слова с использованием тактильно-кинестетической стимуля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350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наталья</cp:lastModifiedBy>
  <dcterms:modified xsi:type="dcterms:W3CDTF">2019-04-21T17:34:1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