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9C117-2301-48B2-88F1-D0659877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57546-5640-4ADA-9971-4349CB41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FFFA-6A47-4F4B-8332-1DE8B634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B65BB-67C8-4E88-87AA-47EF6B3F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00E6-53B9-4CC5-8ED6-E3E26AF8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D95D-9769-4E2A-B431-C4EB29D8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A30C-C2B3-454B-BB5E-F5578052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283A-B90C-4608-BE75-C51C3E75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A6B0-EF9F-4E92-8C2C-168AECF4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C378-E202-4A4C-8154-6F69A608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5C8B-5C03-414E-B2BF-6B08B943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5C183-CC9B-4BDA-8080-B7F01463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4A55-D90A-40D1-BE91-FE8A3492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DFA7-4A0C-4BA6-9780-AC964686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AE11-A41C-42FF-8ADA-E8C1A988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584A-3428-4154-8AC0-3FED6DE3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A2BA-56CA-4F1F-AE64-E5E07850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46437-4A10-43A8-9479-CA5C6B5B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62795-AC05-4328-B1F9-6F2AA83A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823E9-6AE3-4E49-9020-D72C48D7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86EE8-36C9-4AF9-8C6F-F9995FB4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AD5A2-A143-4160-90F5-D782B8F3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9A8F-CC1B-418F-A53A-9D9BADD0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0A428-8F2B-4018-8D82-3013D389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93A0-4D7B-47C2-A4B1-EFCCE9849A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20C8-B96F-49B4-ADDF-54B5626911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КОРРЕКЦИЯ СЛОГОВОЙ СТРУКТУРЫ СЛОВА У ДЕТЕЙ С НАРУШЕНИЕМ ИНТЕЛЛЕКТА, КАК ПРЕДПОСЫЛКА ФОРМИРОВАНИЯ КОММУНИКАТИВНЫХ УЧЕБНЫХ ДЕЙСТВ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35200" y="5105520"/>
            <a:ext cx="3351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итель – логопед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огушева Н.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527840" y="457200"/>
            <a:ext cx="611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ызранский филиал ГБОУ школы-интерната №2 г.о. Жигулевс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Нарушение слоговой структу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 трудности в произношении слов сложного  слогового  состава: нарушение порядка в слове, пропуски, добавление новых слогов или зву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Ошибки слоговой структуры сл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 «гуница» – гусеница, «пувица» – пуговица, «моток»- моло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рава» - трава, «борови»- б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воре» – дерево, «бугама»- бумага, «памана»- панама , «гебемот» - бегем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пута» - капуста, «комата» - комната,  «танкис» - танки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ипитан» - капитан, «вевесипед» - велосип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умамага» - бумага, «ягненонок» - ягненок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лодильница» - холодильник и хлеб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9" descr=""/>
          <p:cNvPicPr/>
          <p:nvPr/>
        </p:nvPicPr>
        <p:blipFill>
          <a:blip r:embed="rId1"/>
          <a:stretch/>
        </p:blipFill>
        <p:spPr>
          <a:xfrm>
            <a:off x="228600" y="3451320"/>
            <a:ext cx="4041720" cy="32004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48320" y="685800"/>
            <a:ext cx="4419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Виды работ по коррекции      слоговой структуры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Картинки по запросу слоговая структура слова дидактический материал"/>
          <p:cNvPicPr/>
          <p:nvPr/>
        </p:nvPicPr>
        <p:blipFill>
          <a:blip r:embed="rId2"/>
          <a:stretch/>
        </p:blipFill>
        <p:spPr>
          <a:xfrm>
            <a:off x="176040" y="609480"/>
            <a:ext cx="4359600" cy="3124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/>
          <p:cNvPicPr/>
          <p:nvPr/>
        </p:nvPicPr>
        <p:blipFill>
          <a:blip r:embed="rId3"/>
          <a:stretch/>
        </p:blipFill>
        <p:spPr>
          <a:xfrm>
            <a:off x="4572000" y="251460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40388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S6303630"/>
          <p:cNvPicPr/>
          <p:nvPr/>
        </p:nvPicPr>
        <p:blipFill>
          <a:blip r:embed="rId1"/>
          <a:stretch/>
        </p:blipFill>
        <p:spPr>
          <a:xfrm>
            <a:off x="4648320" y="698400"/>
            <a:ext cx="4038480" cy="5384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3514680" cy="2981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3"/>
          <a:stretch/>
        </p:blipFill>
        <p:spPr>
          <a:xfrm>
            <a:off x="471600" y="533520"/>
            <a:ext cx="27334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28600" y="1181160"/>
            <a:ext cx="4152960" cy="343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396252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1066680" y="5335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18ff"/>
                </a:solidFill>
                <a:latin typeface="Helvetica Neue"/>
              </a:rPr>
              <a:t>Подбор слов с заданной слоговой схе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2286000" y="4800600"/>
            <a:ext cx="38163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962520" cy="265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536400" y="3192480"/>
            <a:ext cx="3803760" cy="3322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1931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5029200" y="2666880"/>
            <a:ext cx="36576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8" descr="S6303624"/>
          <p:cNvPicPr/>
          <p:nvPr/>
        </p:nvPicPr>
        <p:blipFill>
          <a:blip r:embed="rId1"/>
          <a:stretch/>
        </p:blipFill>
        <p:spPr>
          <a:xfrm>
            <a:off x="4876920" y="914400"/>
            <a:ext cx="3733560" cy="2666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3276360" cy="2361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Похожее изображение"/>
          <p:cNvPicPr/>
          <p:nvPr/>
        </p:nvPicPr>
        <p:blipFill>
          <a:blip r:embed="rId3"/>
          <a:stretch/>
        </p:blipFill>
        <p:spPr>
          <a:xfrm>
            <a:off x="1295280" y="38098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733920" y="990360"/>
            <a:ext cx="49528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818ff"/>
                </a:solidFill>
                <a:latin typeface="Arial"/>
              </a:rPr>
              <a:t>Коррекция слоговой структуры слова с использованием тактильно-кинестетической стимуля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3504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</dc:creator>
  <dc:description/>
  <dc:language>en-US</dc:language>
  <cp:lastModifiedBy>наталья</cp:lastModifiedBy>
  <dcterms:modified xsi:type="dcterms:W3CDTF">2019-04-21T17:34:1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