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E95-AA07-4A92-8EC3-E72A187E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5C5-A5EF-44AF-ADC3-C8F0195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E73-B982-4D29-8D55-7FC0B312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1E4-6E8B-45BD-BF6D-4C4F05E3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4A9-77B9-4511-B951-EC6BF2E4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F86-1B45-42B6-96FB-8A33817D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C652-871C-4850-9101-895D0E00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1DA5-5D1F-4460-8AB2-58B09A9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32E-F35F-4BE7-A80F-2E4BB455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DC15-6A57-4C12-B4FF-E8B1C88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0C82-4B56-4B7D-8708-CCA2BD2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E7A-D32F-4700-B957-4FC2304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055-FC1A-470A-99F8-2AC18B3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890-4AB5-4602-8A37-183F2E9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693-B3A2-4822-ADBC-ACBA4CBF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091-3098-4DBC-83DB-AEA7C02E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676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17000" y="160020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1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676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17000" y="3964320"/>
            <a:ext cx="225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C42-4187-4BD6-944A-9A79EC12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2FA-F2E1-40DC-924E-1896ADF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C86-987C-43B0-964B-CA361DD4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48B-23AF-4200-A524-8A9FF84F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2743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661-1E23-471B-9A89-9A860787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13A-D790-408D-AC6E-147EFA59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396432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2EA-7044-47AE-BB50-DCB1A69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600200"/>
            <a:ext cx="3420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3964320"/>
            <a:ext cx="70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B19-DB29-4A1A-B6DC-D2671E48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8B36-D73A-4419-8D36-B86714D07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719E-3FE5-4800-AC4D-0E82C196DB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2130120"/>
            <a:ext cx="75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сследовательская работа на тему:</a:t>
            </a: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Символика ВЛКС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038480" y="45720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Яковлева Альвида 11а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ОУ КСОШ-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97080" y="1522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ок и комсомольский би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https://newauctionstatic.com.ua/offer_images/2017/07/11/02/big/Y/Yuzjalx3gvG/znachek_vlksm_komsomolskij_bilet.jpg"/>
          <p:cNvPicPr/>
          <p:nvPr/>
        </p:nvPicPr>
        <p:blipFill>
          <a:blip r:embed="rId1"/>
          <a:stretch/>
        </p:blipFill>
        <p:spPr>
          <a:xfrm>
            <a:off x="2819520" y="1523880"/>
            <a:ext cx="518148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http://bkcraduga.ru/images/p160_2y.jpg"/>
          <p:cNvPicPr/>
          <p:nvPr/>
        </p:nvPicPr>
        <p:blipFill>
          <a:blip r:embed="rId2"/>
          <a:stretch/>
        </p:blipFill>
        <p:spPr>
          <a:xfrm>
            <a:off x="1676520" y="914400"/>
            <a:ext cx="678168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http://bkcraduga.ru/images/4y.png"/>
          <p:cNvPicPr/>
          <p:nvPr/>
        </p:nvPicPr>
        <p:blipFill>
          <a:blip r:embed="rId2"/>
          <a:stretch/>
        </p:blipFill>
        <p:spPr>
          <a:xfrm>
            <a:off x="1676520" y="990720"/>
            <a:ext cx="70866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http://bkcraduga.ru/images/p160_8y.jpg"/>
          <p:cNvPicPr/>
          <p:nvPr/>
        </p:nvPicPr>
        <p:blipFill>
          <a:blip r:embed="rId1"/>
          <a:stretch/>
        </p:blipFill>
        <p:spPr>
          <a:xfrm>
            <a:off x="1523880" y="380880"/>
            <a:ext cx="7390080" cy="2681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http://cs10150.vkontakte.ru/u34712711/-1/x_c3c5d8a1.jpg"/>
          <p:cNvPicPr/>
          <p:nvPr/>
        </p:nvPicPr>
        <p:blipFill>
          <a:blip r:embed="rId2"/>
          <a:stretch/>
        </p:blipFill>
        <p:spPr>
          <a:xfrm>
            <a:off x="1905120" y="2819520"/>
            <a:ext cx="28242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им образом, я пришла к выводу, что комсомол был действительно самой многочисленной общественно-политической организацией, имеющей свой символизм, свою структуру и даже свои печатные издания. Такая организация сплотила советскую молодежь, способствовала её самоопределению, осознанию своих ценностных установок и увлекала интересными и социально-значимыми делами.  На сегодняшний день аналогов комсомолу нет, есть молодёжные организации (РДШ и другие), но они немногочисленны, и не имеют такой сплоченности. Я думаю, что задача Российского правительства  обратить внимание на формирование подобной организации, способной объединить молодежь и организовать необходимую гражданскому обществу помощь и поддержку, ведь опыт создания такой организации у нас уже име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55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 и 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00200" y="1600200"/>
            <a:ext cx="7364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циклопедия для детей. Том 37. История ХIХ-ХХ веков. Новое и Новейшее время. Издательство "Аванта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bkcraduga.ru/p160aa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kprf-chita.ru/index.ph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www.msk.kp.ru/daily/24007/837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s://ru.wikipedia.org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2130120"/>
            <a:ext cx="75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38280" y="3962520"/>
            <a:ext cx="59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заголо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http://mir-animashki.com/_dr/7/31821727.jpg"/>
          <p:cNvPicPr/>
          <p:nvPr/>
        </p:nvPicPr>
        <p:blipFill>
          <a:blip r:embed="rId1"/>
          <a:stretch/>
        </p:blipFill>
        <p:spPr>
          <a:xfrm>
            <a:off x="2514600" y="609480"/>
            <a:ext cx="60958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вание спис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. Актуальность исследо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I. Комсомольская правда - один из главных символов молодежной организации ВЛК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II. Награды  Комсомола как символ героизма и мужества советской молодёж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V. Символика членов ВЛКСМ - значки и комсомольский билет, история поя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- изучить основную символику ВЛКСМ и определить её роль в формировании ценностных установок советской молодёж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чи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какой была роль СМИ в истории молодёжной организации ВЛКСМ, а именно "Комсомольской правды" как главного печатного издания комсомо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комиться с основными достижениями комсомольцев и наградной символикой ВЛК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ить знаки комсомольца - как определенный статус молодёжи в советском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сомольская прав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ÐÐµÑÐ²ÑÐ¹ Ð¿Ð¾Ð»ÐµÑ ÑÐµÐ»Ð¾Ð²ÐµÐºÐ° Ð² ÐºÐ¾ÑÐ¼Ð¾Ñ. &quot;ÐÐ¾Ð¼ÑÐ¾Ð¼Ð¾Ð»ÑÑÐºÐ°Ñ Ð¿ÑÐ°Ð²Ð´Ð°&quot; Ð¾Ñ 13 Ð°Ð¿ÑÐµÐ»Ñ 1961 Ð³Ð¾Ð´Ð°. Ð²Ð¾Ð¹Ð½Ð°, Ð¸ÑÑÐ¾ÑÐ¸Ñ, ÑÐ°ÐºÑÑ"/>
          <p:cNvPicPr/>
          <p:nvPr/>
        </p:nvPicPr>
        <p:blipFill>
          <a:blip r:embed="rId1"/>
          <a:stretch/>
        </p:blipFill>
        <p:spPr>
          <a:xfrm>
            <a:off x="1905120" y="1523880"/>
            <a:ext cx="325728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http://shapkino.ru/UserFiles/File/OldNewspapers/Koms_Pr/KP-1985-104-1.JPG"/>
          <p:cNvPicPr/>
          <p:nvPr/>
        </p:nvPicPr>
        <p:blipFill>
          <a:blip r:embed="rId2"/>
          <a:stretch/>
        </p:blipFill>
        <p:spPr>
          <a:xfrm>
            <a:off x="5410080" y="2666880"/>
            <a:ext cx="3210120" cy="1246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Красного зна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3" descr="http://falerist.com/images/201601/goods_img/4309_P_1452928390169.jpg"/>
          <p:cNvPicPr/>
          <p:nvPr/>
        </p:nvPicPr>
        <p:blipFill>
          <a:blip r:embed="rId1"/>
          <a:stretch/>
        </p:blipFill>
        <p:spPr>
          <a:xfrm>
            <a:off x="3657600" y="1600200"/>
            <a:ext cx="36576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Трудового Красного Зна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http://auction-su.com/uplimg/img_3190650_8c88fbb22422c5b9e872460aa43e90ee.jpg"/>
          <p:cNvPicPr/>
          <p:nvPr/>
        </p:nvPicPr>
        <p:blipFill>
          <a:blip r:embed="rId2"/>
          <a:stretch/>
        </p:blipFill>
        <p:spPr>
          <a:xfrm>
            <a:off x="2819520" y="1600200"/>
            <a:ext cx="5257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Ле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http://krimkomsomol.ru/uploads/posts/2018-05/1526737745_orden-oktyabrskoy-revolyucii-1.jpg"/>
          <p:cNvPicPr/>
          <p:nvPr/>
        </p:nvPicPr>
        <p:blipFill>
          <a:blip r:embed="rId2"/>
          <a:stretch/>
        </p:blipFill>
        <p:spPr>
          <a:xfrm>
            <a:off x="3048120" y="1752480"/>
            <a:ext cx="4724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ден Октябрьской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http://numizmatov.com/wp-content/uploads/2014/06/orden_lenina_kopia.jpg"/>
          <p:cNvPicPr/>
          <p:nvPr/>
        </p:nvPicPr>
        <p:blipFill>
          <a:blip r:embed="rId2"/>
          <a:stretch/>
        </p:blipFill>
        <p:spPr>
          <a:xfrm>
            <a:off x="3048120" y="1676520"/>
            <a:ext cx="47242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вгений</dc:creator>
  <dc:description/>
  <dc:language>en-US</dc:language>
  <cp:lastModifiedBy>Евгений</cp:lastModifiedBy>
  <dcterms:modified xsi:type="dcterms:W3CDTF">2018-10-28T17:06:3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