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4FA-E6FB-4D9A-8241-B832DB1E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787-B6A3-43CD-A5A3-3B518A7D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FB1-A3BD-48CB-9AA7-C402D3C4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77C-24B1-46B7-A316-E62D66DC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484D-F82B-4DCC-AEAB-060B4A4E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C77B-96A0-4490-8DDE-FBDE0430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03CA-A477-439B-95DB-DE189A0E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A6F1-0623-4A89-8FA4-E6366BFA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39B9-A116-42C7-9441-FB70D874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3102-E8F1-4770-8B81-BD128C10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C7E8-21E7-4018-9E48-DC989B5A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489-8832-4DD0-A238-311CB565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D718-4170-4C33-80A3-72338A30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77D5-AA31-4189-B1C9-D6A85CF8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5B70-736D-493B-BA0F-7FA5EC8F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5172-44AB-4F88-9671-ADBCF1DB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67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1700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67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1700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D73F-CDBE-435E-AA1C-FC0D15D5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64AD-D045-47FD-8C75-C15ABEB5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1B8-3DDB-4C48-A259-B75779E4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969-16D1-47A5-B59C-6B5621E3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43A-B884-46CD-B0BC-EEE24E5D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469-ADED-4283-BC29-162C2709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72C-FAA2-496D-A4F7-8B59D20A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ECD-1C9D-43CA-9033-2C14C99B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850-11B9-42DA-B088-26BEE8026C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CAC4-4599-4CD6-837E-0AA5BB1DAE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2130120"/>
            <a:ext cx="75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сследовательская работа на тему: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Символика ВЛКС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038480" y="4572000"/>
            <a:ext cx="5105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Яковлева Альвида 11а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ОУ КСОШ-Д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97080" y="1522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70578130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чок и комсомольский би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https://newauctionstatic.com.ua/offer_images/2017/07/11/02/big/Y/Yuzjalx3gvG/znachek_vlksm_komsomolskij_bilet.jpg"/>
          <p:cNvPicPr/>
          <p:nvPr/>
        </p:nvPicPr>
        <p:blipFill>
          <a:blip r:embed="rId1"/>
          <a:stretch/>
        </p:blipFill>
        <p:spPr>
          <a:xfrm>
            <a:off x="2819520" y="1523880"/>
            <a:ext cx="51814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http://bkcraduga.ru/images/p160_2y.jpg"/>
          <p:cNvPicPr/>
          <p:nvPr/>
        </p:nvPicPr>
        <p:blipFill>
          <a:blip r:embed="rId2"/>
          <a:stretch/>
        </p:blipFill>
        <p:spPr>
          <a:xfrm>
            <a:off x="1676520" y="914400"/>
            <a:ext cx="67816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http://bkcraduga.ru/images/4y.png"/>
          <p:cNvPicPr/>
          <p:nvPr/>
        </p:nvPicPr>
        <p:blipFill>
          <a:blip r:embed="rId2"/>
          <a:stretch/>
        </p:blipFill>
        <p:spPr>
          <a:xfrm>
            <a:off x="1676520" y="990720"/>
            <a:ext cx="70866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http://bkcraduga.ru/images/p160_8y.jpg"/>
          <p:cNvPicPr/>
          <p:nvPr/>
        </p:nvPicPr>
        <p:blipFill>
          <a:blip r:embed="rId1"/>
          <a:stretch/>
        </p:blipFill>
        <p:spPr>
          <a:xfrm>
            <a:off x="1523880" y="380880"/>
            <a:ext cx="7390080" cy="2681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http://cs10150.vkontakte.ru/u34712711/-1/x_c3c5d8a1.jpg"/>
          <p:cNvPicPr/>
          <p:nvPr/>
        </p:nvPicPr>
        <p:blipFill>
          <a:blip r:embed="rId2"/>
          <a:stretch/>
        </p:blipFill>
        <p:spPr>
          <a:xfrm>
            <a:off x="1905120" y="2819520"/>
            <a:ext cx="28242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им образом, я пришла к выводу, что комсомол был действительно самой многочисленной общественно-политической организацией, имеющей свой символизм, свою структуру и даже свои печатные издания. Такая организация сплотила советскую молодежь, способствовала её самоопределению, осознанию своих ценностных установок и увлекала интересными и социально-значимыми делами.  На сегодняшний день аналогов комсомолу нет, есть молодёжные организации (РДШ и другие), но они немногочисленны, и не имеют такой сплоченности. Я думаю, что задача Российского правительства  обратить внимание на формирование подобной организации, способной объединить молодежь и организовать необходимую гражданскому обществу помощь и поддержку, ведь опыт создания такой организации у нас уже име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55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 и 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00200" y="1600200"/>
            <a:ext cx="7364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Том 37. История ХIХ-ХХ веков. Новое и Новейшее время. Издательство "Аванта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kcraduga.ru/p160aa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kprf-chita.ru/index.ph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www.msk.kp.ru/daily/24007/83729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ru.wikipedia.org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2130120"/>
            <a:ext cx="75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38280" y="396252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заголо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http://mir-animashki.com/_dr/7/31821727.jpg"/>
          <p:cNvPicPr/>
          <p:nvPr/>
        </p:nvPicPr>
        <p:blipFill>
          <a:blip r:embed="rId1"/>
          <a:stretch/>
        </p:blipFill>
        <p:spPr>
          <a:xfrm>
            <a:off x="2514600" y="609480"/>
            <a:ext cx="60958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спис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иссле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. Актуальность исслед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I. Комсомольская правда - один из главных символов молодежной организации ВЛК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II. Награды  Комсомола как символ героизма и мужества советской молодёж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V. Символика членов ВЛКСМ - значки и комсомольский билет, история поя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- изучить основную символику ВЛКСМ и определить её роль в формировании ценностных установок советской молодёж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чи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ь какой была роль СМИ в истории молодёжной организации ВЛКСМ, а именно "Комсомольской правды" как главного печатного издания комсомо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ться с основными достижениями комсомольцев и наградной символикой ВЛК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ить знаки комсомольца - как определенный статус молодёжи в советском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сомольская прав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3" descr="ÐÐµÑÐ²ÑÐ¹ Ð¿Ð¾Ð»ÐµÑ ÑÐµÐ»Ð¾Ð²ÐµÐºÐ° Ð² ÐºÐ¾ÑÐ¼Ð¾Ñ. &quot;ÐÐ¾Ð¼ÑÐ¾Ð¼Ð¾Ð»ÑÑÐºÐ°Ñ Ð¿ÑÐ°Ð²Ð´Ð°&quot; Ð¾Ñ 13 Ð°Ð¿ÑÐµÐ»Ñ 1961 Ð³Ð¾Ð´Ð°. Ð²Ð¾Ð¹Ð½Ð°, Ð¸ÑÑÐ¾ÑÐ¸Ñ, ÑÐ°ÐºÑÑ"/>
          <p:cNvPicPr/>
          <p:nvPr/>
        </p:nvPicPr>
        <p:blipFill>
          <a:blip r:embed="rId1"/>
          <a:stretch/>
        </p:blipFill>
        <p:spPr>
          <a:xfrm>
            <a:off x="1905120" y="1523880"/>
            <a:ext cx="325728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http://shapkino.ru/UserFiles/File/OldNewspapers/Koms_Pr/KP-1985-104-1.JPG"/>
          <p:cNvPicPr/>
          <p:nvPr/>
        </p:nvPicPr>
        <p:blipFill>
          <a:blip r:embed="rId2"/>
          <a:stretch/>
        </p:blipFill>
        <p:spPr>
          <a:xfrm>
            <a:off x="5410080" y="2666880"/>
            <a:ext cx="3210120" cy="1246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ден Красного зна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3" descr="http://falerist.com/images/201601/goods_img/4309_P_1452928390169.jpg"/>
          <p:cNvPicPr/>
          <p:nvPr/>
        </p:nvPicPr>
        <p:blipFill>
          <a:blip r:embed="rId1"/>
          <a:stretch/>
        </p:blipFill>
        <p:spPr>
          <a:xfrm>
            <a:off x="3657600" y="1600200"/>
            <a:ext cx="36576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ден Трудового Красного Зна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http://auction-su.com/uplimg/img_3190650_8c88fbb22422c5b9e872460aa43e90ee.jpg"/>
          <p:cNvPicPr/>
          <p:nvPr/>
        </p:nvPicPr>
        <p:blipFill>
          <a:blip r:embed="rId2"/>
          <a:stretch/>
        </p:blipFill>
        <p:spPr>
          <a:xfrm>
            <a:off x="2819520" y="1600200"/>
            <a:ext cx="52578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ден Ле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http://krimkomsomol.ru/uploads/posts/2018-05/1526737745_orden-oktyabrskoy-revolyucii-1.jpg"/>
          <p:cNvPicPr/>
          <p:nvPr/>
        </p:nvPicPr>
        <p:blipFill>
          <a:blip r:embed="rId2"/>
          <a:stretch/>
        </p:blipFill>
        <p:spPr>
          <a:xfrm>
            <a:off x="3048120" y="1752480"/>
            <a:ext cx="4724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ден Октябрьской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" descr="http://numizmatov.com/wp-content/uploads/2014/06/orden_lenina_kopia.jpg"/>
          <p:cNvPicPr/>
          <p:nvPr/>
        </p:nvPicPr>
        <p:blipFill>
          <a:blip r:embed="rId2"/>
          <a:stretch/>
        </p:blipFill>
        <p:spPr>
          <a:xfrm>
            <a:off x="3048120" y="1676520"/>
            <a:ext cx="47242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вгений</dc:creator>
  <dc:description/>
  <dc:language>en-US</dc:language>
  <cp:lastModifiedBy>Евгений</cp:lastModifiedBy>
  <dcterms:modified xsi:type="dcterms:W3CDTF">2018-10-28T17:06:3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