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88B-8B0F-4527-B010-104C4A3D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C0EB-C418-41B6-8AEE-9E18458D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585C-04D4-40F0-BDC3-20F12C51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A263-09B9-4821-A5E8-1CDBA67F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0FD1-E932-498E-B62B-41AB8D91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9159-DCB8-4CDC-9251-AE3416FC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DF5E-A1E1-4059-B4FA-AC9A2F2D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3E3A-2D13-42C4-88EF-A4F7E5D3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5005-313E-42BC-88F4-DC299A38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C328-4F57-4F8A-AF2C-BA06BB86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3F9D-C249-40EE-8586-BF640CA4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330C-3CC8-4084-BE8C-495D44FC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644C-4C33-4A53-B11F-F85958E61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424720" cy="71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автономное дошкольное образовательное учреждение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етский сад №2 «Росинка»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200"/>
            </a:br>
            <a:r>
              <a:rPr b="1" lang="en-US" sz="4000" spc="-1" strike="noStrike">
                <a:solidFill>
                  <a:srgbClr val="0000ff"/>
                </a:solidFill>
                <a:latin typeface="Monotype Corsiva"/>
              </a:rPr>
              <a:t>Семинар-практикум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Monotype Corsiva"/>
              </a:rPr>
              <a:t>«Исследовательская и экспериментальная деятельность дошкольников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Monotype Corsiva"/>
              </a:rPr>
              <a:t>как условие развития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Monotype Corsiva"/>
              </a:rPr>
              <a:t>познавательной активности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066920" y="5444640"/>
            <a:ext cx="3848040" cy="12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готов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лягровская Н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спит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Опыт 1 «Поймай воздух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368360"/>
            <a:ext cx="84978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Опыт 2  «Спасательный жил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3240000" cy="2900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508720" y="1341360"/>
            <a:ext cx="3114720" cy="2978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132000" y="4005360"/>
            <a:ext cx="2737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Опыт №3 «Надувающийся шари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3384360" cy="4824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580000" y="1341360"/>
            <a:ext cx="2708280" cy="28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924360" y="3500280"/>
            <a:ext cx="23446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знавательная деятельность понимается не только как процесс усвоения знаний, умений и навыков, а, главным образом, как поиск знаний, приобретение знаний самостоятельно или под тактичным руководством взрослого. Знания, добытые самостоятельно, всегда являются осознанными и более прочны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Синквей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 строч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это название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 строч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это определение темы в двух прилагательных или причаст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 строч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это три глагола, показывающие действие в рамках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 строч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фраза из четырех слов, показывающая отношение автора к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5 строч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завершение темы, синоним первого слова, выраженный любой частью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Ответ</a:t>
            </a: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  Экспери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  Увлекательный, познава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.  Открывает, подтверждает,  дока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. Жизнь без экспериментов скуч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. Иссле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042560" y="83628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Monotype Corsiva"/>
              </a:rPr>
              <a:t>Благодарю за внима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освоение организации  исследовательской и экспериментальной деятельности с детьми и её последующее активное применение в практической деятельности педагог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повысить уровень профессиональной компетенции педагогов по развитию познавательной активности дошкольников через поисково-исследовательскую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представить участникам семинара одну из форм проведения опытно-эксперименталь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сформировать у педагогов мотивацию на использование в образовательном процессе опытно-экспериментальной деятельности для развития познавательной  активности дошкольников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Актуальност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3600" spc="-1" strike="noStrike">
                <a:solidFill>
                  <a:srgbClr val="ff0000"/>
                </a:solidFill>
                <a:latin typeface="Monotype Corsiva"/>
              </a:rPr>
              <a:t>« Умейте открыть перед ребенком в окружающем мире что – то одно, но открыть так, чтобы кусочек жизни заиграл перед детьми всеми красками радуги. Оставляйте всегда что – то недосказанное, чтобы ребенку захотелось еще и еще раз возвратиться к тому, что он узнал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Monotype Corsiva"/>
              </a:rPr>
              <a:t>                            </a:t>
            </a:r>
            <a:r>
              <a:rPr b="1" i="1" lang="en-US" sz="3600" spc="-1" strike="noStrike">
                <a:solidFill>
                  <a:srgbClr val="ff0000"/>
                </a:solidFill>
                <a:latin typeface="Monotype Corsiva"/>
              </a:rPr>
              <a:t>( В.А. Сухомлински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Упражнение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«Найдите определение опыта и эксперимент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пы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– метод познания окружающего мира через непосредственное, практическое изучение во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ксперимент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это любой опыт, попытка осуществить что-либо, особый вид практики, предпринимаемой для получения нового знания или проверки стар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тановка исследовательской задачи в виде проблемной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прогнозирование результата (старший дошкольный возрас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уточнение правил безопасности жизнедеятельности в ходе осуществления эксперимент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уточнение плана иссле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выбор оборудования и его размещение вместе с детьми в зоне иссле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выполнение эксперимента (под руководством воспитател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наблюдение результатов эксперим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фиксирование результатов эксперим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формулировка выводов (при педагогической поддержке в младшем дошкольном возрасте, самостоятельно в среднем и старшем дошкольном возраст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onotype Corsiva"/>
              </a:rPr>
              <a:t> </a:t>
            </a: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Упражнение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«Определение  порядка структурных компонентов</a:t>
            </a:r>
            <a:r>
              <a:rPr b="0" lang="en-US" sz="3600" spc="-1" strike="noStrike">
                <a:solidFill>
                  <a:srgbClr val="ff0000"/>
                </a:solidFill>
                <a:latin typeface="Monotype Corsiva"/>
              </a:rPr>
              <a:t> </a:t>
            </a: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эксперимента»</a:t>
            </a:r>
            <a:r>
              <a:rPr b="0" lang="en-US" sz="3600" spc="-1" strike="noStrike">
                <a:solidFill>
                  <a:srgbClr val="ff0000"/>
                </a:solidFill>
                <a:latin typeface="Monotype Corsiva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Блиц-игра «Вопрос-отв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Что первично: причина или следств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Назовите формы работы по развитию познавательно-исследовательской деятельности с детьми 5-7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Перечислите виды экспериментов с детьми 2-3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Формы работы с детьми младшего возраста по познавательному развит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Одинаковы ли понятия: любознательность и любопытство? Ответ обоснуй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Главная характерная особенность в познании детей 6-7 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Игра «ОБЪЯСНЯЛКИ» (от дете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Это такое помещение, где стоит много всяких баночек, в них что-то кипит. Они стеклянные и могут разбиться, поэтому надо быть осторожными. А ещё там по разному пахнет, иногда даже взрывается. Там очень интересно, я бы хотел там работать. Люди там работают в белых хала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Это такое дело, когда хотят что-то узнать и специально устраивают, а потом смотрят. Если всё получилось, то говорят что он удачный, а если нет, то что-нибудь меняют и снова смотрят, и так пока не получится. Мне нравиться это делать, это интересно, только не всегда разреш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Игра «ОБЪЯСНЯЛКИ» (от дете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Это такой прибор, в который если смотришь на что-то очень-очень маленькое, оно становится большим. Он похож на бинокль, у меня дома и в детском саду они игрушечные, а в школе настоящ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Это такая стеклянная трубочка, в неё постоянно что-то наливают, добавляют какой-то порошок, в ней всё шипит, булькает и меняется цвет. С ней нужно быть очень осторож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Китайская послов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«Расскажи –и я забуду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покажи –и я запомню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дай попробовать -и я пойму».</a:t>
            </a: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5T18:15:59Z</dcterms:created>
  <dc:creator>User</dc:creator>
  <dc:description/>
  <dc:language>en-US</dc:language>
  <cp:lastModifiedBy>User</cp:lastModifiedBy>
  <dcterms:modified xsi:type="dcterms:W3CDTF">2019-03-26T12:08:45Z</dcterms:modified>
  <cp:revision>4</cp:revision>
  <dc:subject/>
  <dc:title>Муниципальное автономное дошкольное образовательное учреждение  детский сад №2 «Росинка»    Семинар-практикум  «Исследовательская и экспериментальная деятельность  как условие развития  познавательной активности      </dc:title>
</cp:coreProperties>
</file>