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C52-525E-4489-B40F-34A28FB6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E82-4989-4C13-A115-E7F44ABF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D55-F013-4383-94F4-2AD52B47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85B-3783-4D82-B982-AA3CDE55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CAB-A7F7-4FDE-8966-D5E57D92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812-FE8F-4D4D-A981-7D69C2B6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054-BCC3-4DA3-A83F-854B2248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F40-8EDA-4833-98A8-D7F15225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40D-56E4-43F9-AEF3-155860E9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D24-8840-4291-B3BA-92C60C7C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AF5-88AB-469B-B27D-8041EA1A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C5D-6A60-4D2D-8057-9A680C28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535D-839D-49B9-999E-C35A16A24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42472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дошкольное образовательное учреждение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етский сад №2 «Росинка»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200"/>
            </a:b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Семинар-практикум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«Исследовательская и экспериментальная деятельность дошкольников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как условие развития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познавательной активности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066920" y="5444640"/>
            <a:ext cx="3848040" cy="12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гото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лягровская Н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Опыт 1 «Поймай возду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368360"/>
            <a:ext cx="84978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Опыт 2  «Спасательный жил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240000" cy="2900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508720" y="1341360"/>
            <a:ext cx="3114720" cy="2978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132000" y="4005360"/>
            <a:ext cx="2737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Опыт №3 «Надувающийся шар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3384360" cy="4824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580000" y="1341360"/>
            <a:ext cx="2708280" cy="28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924360" y="3500280"/>
            <a:ext cx="23446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знавательная деятельность понимается не только как процесс усвоения знаний, умений и навыков, а, главным образом, как поиск знаний, приобретение знаний самостоятельно или под тактичным руководством взрослого. Знания, добытые самостоятельно, всегда являются осознанными и более прочны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Синквей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 строч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это название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 строч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это определение темы в двух прилагательных или причас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 строч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это три глагола, показывающие действие в рамках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 строч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фраза из четырех слов, показывающая отношение автора к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5 строч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завершение темы, синоним первого слова, выраженный любой частью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Ответ</a:t>
            </a: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  Э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  Увлекательный, познав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.  Открывает, подтверждает,  дока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. Жизнь без экспериментов скуч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. Ис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042560" y="83628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Monotype Corsiva"/>
              </a:rPr>
              <a:t>Благодарю за внима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своение организации  исследовательской и экспериментальной деятельности с детьми и её последующее активное применение в практической деятельности педагог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повысить уровень профессиональной компетенции педагогов по развитию познавательной активности дошкольников через поисково-исследовательскую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представить участникам семинара одну из форм проведения опытно-эксперимента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сформировать у педагогов мотивацию на использование в образовательном процессе опытно-экспериментальной деятельности для развития познавательной  активности дошкольников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Актуальнос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« Умейте открыть перед ребенком в окружающем мире что – то одно, но открыть так, чтобы кусочек жизни заиграл перед детьми всеми красками радуги. Оставляйте всегда что – то недосказанное, чтобы ребенку захотелось еще и еще раз возвратиться к тому, что он узна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           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( В.А. Сухомлински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Упражнение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«Найдите определение опыта и эксперимен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– метод познания окружающего мира через непосредственное, практическое изучение во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ксперимент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это любой опыт, попытка осуществить что-либо, особый вид практики, предпринимаемой для получения нового знания или проверки стар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тановка исследовательской задачи в виде проблемн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прогнозирование результата (старший дошкольный возрас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уточнение правил безопасности жизнедеятельности в ходе осуществления эксперимент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уточнение плана ис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выбор оборудования и его размещение вместе с детьми в зоне ис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выполнение эксперимента (под руководством воспитател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наблюдение результатов экспери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фиксирование результатов экспери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формулировка выводов (при педагогической поддержке в младшем дошкольном возрасте, самостоятельно в среднем и старшем дошкольном возраст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 </a:t>
            </a: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Упражнение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«Определение  порядка структурных компонентов</a:t>
            </a: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 </a:t>
            </a: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эксперимента»</a:t>
            </a: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Блиц-игра «Вопрос-отве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Что первично: причина или следств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Назовите формы работы по развитию познавательно-исследовательской деятельности с детьми 5-7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Перечислите виды экспериментов с детьми 2-3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Формы работы с детьми младшего возраста по познавательному развит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Одинаковы ли понятия: любознательность и любопытство? Ответ обоснуй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Главная характерная особенность в познании детей 6-7 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Игра «ОБЪЯСНЯЛКИ» (от дете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Это такое помещение, где стоит много всяких баночек, в них что-то кипит. Они стеклянные и могут разбиться, поэтому надо быть осторожными. А ещё там по разному пахнет, иногда даже взрывается. Там очень интересно, я бы хотел там работать. Люди там работают в белых хала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Это такое дело, когда хотят что-то узнать и специально устраивают, а потом смотрят. Если всё получилось, то говорят что он удачный, а если нет, то что-нибудь меняют и снова смотрят, и так пока не получится. Мне нравиться это делать, это интересно, только не всегда разреш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Игра «ОБЪЯСНЯЛКИ» (от дете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Это такой прибор, в который если смотришь на что-то очень-очень маленькое, оно становится большим. Он похож на бинокль, у меня дома и в детском саду они игрушечные, а в школе настоящ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Это такая стеклянная трубочка, в неё постоянно что-то наливают, добавляют какой-то порошок, в ней всё шипит, булькает и меняется цвет. С ней нужно быть очень осторож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Китайская послов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«Расскажи –и я забуду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покажи –и я запомню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Monotype Corsiva"/>
              </a:rPr>
              <a:t>дай попробовать -и я пойму».</a:t>
            </a: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18:15:59Z</dcterms:created>
  <dc:creator>User</dc:creator>
  <dc:description/>
  <dc:language>en-US</dc:language>
  <cp:lastModifiedBy>User</cp:lastModifiedBy>
  <dcterms:modified xsi:type="dcterms:W3CDTF">2019-03-26T12:08:45Z</dcterms:modified>
  <cp:revision>4</cp:revision>
  <dc:subject/>
  <dc:title>Муниципальное автономное дошкольное образовательное учреждение  детский сад №2 «Росинка»    Семинар-практикум  «Исследовательская и экспериментальная деятельность  как условие развития  познавательной активности      </dc:title>
</cp:coreProperties>
</file>