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72E3-EFF9-46E1-9DC5-6E77E3C44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B1EE-E31D-419C-8EB6-D5F936E9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32B3-860A-47C2-AF53-E17FD0EE2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46D2-2A52-4B6D-AF3F-59966B1B0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AEBC-1A64-4294-BB18-890031F74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8F7A-2C48-43DF-9BF5-696D0D3A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E26E-010E-4639-B40B-04177BE4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47DF-661B-4F01-A884-F4A6BBC2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9284-1562-46C3-B522-69EDB6E7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9888-46E1-46B5-9A06-2FEB1FD4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4A3B-8D60-4E95-A657-41D1F60E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6558-0F37-4F6A-BC99-733AEB0F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4760-5161-48C2-98E0-D6FF3EDE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1C9E-A428-4EAF-AFF0-18A1F655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B22E-BDE4-4CCB-9832-E8FFB3EE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3ABC-BDF4-4262-B0E5-A348264A9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3BF1-76C3-4592-895F-4CF58687E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8842-8A16-4C92-8E3B-80F13362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43D7-64C5-4B20-BCB2-19087A69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10A1-54A7-4137-B506-1FB164CB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54FB-0C63-461D-8803-FC313472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0C5A-8A5A-4B42-A704-69989D28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1251-CEA4-4C14-A0F0-DE90696E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DABD-5200-4A2B-965C-6C2870FE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75BB-89D0-40D3-90F9-AA3D37B59D2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BA0E-B10F-4773-A4DB-E5631BC3188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Атом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5361840" y="5013360"/>
            <a:ext cx="249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боту выполнил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ченик 4 класс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аврилов Александ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2" descr="ÐÐ°ÑÑÐ¸Ð½ÐºÐ¸ Ð¿Ð¾ Ð·Ð°Ð¿ÑÐ¾ÑÑ ÑÐ¸ÑÑÐ½Ð¾Ðº Ð°ÑÐ¾Ð¼Ð° Ð»Ð¸ÑÐ¸Ñ"/>
          <p:cNvPicPr/>
          <p:nvPr/>
        </p:nvPicPr>
        <p:blipFill>
          <a:blip r:embed="rId1"/>
          <a:stretch/>
        </p:blipFill>
        <p:spPr>
          <a:xfrm>
            <a:off x="611280" y="765000"/>
            <a:ext cx="214308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4"/>
          <p:cNvSpPr/>
          <p:nvPr/>
        </p:nvSpPr>
        <p:spPr>
          <a:xfrm>
            <a:off x="755640" y="404640"/>
            <a:ext cx="812484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роверь себ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ие явления доказывают сложность строения атома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 Какие модели строения атома вы знает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 Из каких частиц состоит атомное ядро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Text Box 6">
            <a:hlinkClick r:id="rId1" action="ppaction://hlinksldjump"/>
          </p:cNvPr>
          <p:cNvSpPr/>
          <p:nvPr/>
        </p:nvSpPr>
        <p:spPr>
          <a:xfrm>
            <a:off x="900000" y="458136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. Дайте комментарий строчкам из стихотворения В.Брюсова «Мир электрона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4"/>
          <p:cNvSpPr/>
          <p:nvPr/>
        </p:nvSpPr>
        <p:spPr>
          <a:xfrm>
            <a:off x="1527120" y="2205000"/>
            <a:ext cx="6861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Задание на дом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Приготовьте сообщение на тему «Эволюция представлений о строении атома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6" descr="43A"/>
          <p:cNvPicPr/>
          <p:nvPr/>
        </p:nvPicPr>
        <p:blipFill>
          <a:blip r:embed="rId1"/>
          <a:stretch/>
        </p:blipFill>
        <p:spPr>
          <a:xfrm>
            <a:off x="-304920" y="-228600"/>
            <a:ext cx="10404720" cy="78040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4"/>
          <p:cNvSpPr/>
          <p:nvPr/>
        </p:nvSpPr>
        <p:spPr>
          <a:xfrm flipV="1" rot="18580800">
            <a:off x="6935760" y="-1726920"/>
            <a:ext cx="45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692360" y="692280"/>
            <a:ext cx="7075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ть может, эти электроны –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иры, где пять материков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кусства, званья, войны, трон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память сорока век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щё, быть может, каждый атом –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ленная, где сто планет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м все, что здесь в объёме сжатом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 также то, чего здесь не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.Брюс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5"/>
          <p:cNvSpPr/>
          <p:nvPr/>
        </p:nvSpPr>
        <p:spPr>
          <a:xfrm>
            <a:off x="684360" y="692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447840" y="765000"/>
            <a:ext cx="83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сновные сведения о строении атом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684360" y="162864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Понятие «атом» пришло к нам из античности, но совершенно изменило тот первоначальный смысл, который вкладывали в него древние греки ( в переводе с греческого «атом» означает «неделимый»). Этимология названия «неделимый» отражает сущность атома до наоборо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755640" y="321300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Атом делим, что доказали явления фотоэффекта, радиоактивности, электролиза и други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684360" y="436572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Изучение этих явлений определило разработку различных моделей строения атома как сложной частиц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684360" y="40464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904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работ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«О структуре атома» Дж.Томс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ал описание своей модели, получившей образное названи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«пудинг с изюмом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3" name="Group 19"/>
          <p:cNvGrpSpPr/>
          <p:nvPr/>
        </p:nvGrpSpPr>
        <p:grpSpPr>
          <a:xfrm>
            <a:off x="2484360" y="1700280"/>
            <a:ext cx="4175280" cy="3889440"/>
            <a:chOff x="2484360" y="1700280"/>
            <a:chExt cx="4175280" cy="3889440"/>
          </a:xfrm>
        </p:grpSpPr>
        <p:sp>
          <p:nvSpPr>
            <p:cNvPr id="164" name="Oval 5"/>
            <p:cNvSpPr/>
            <p:nvPr/>
          </p:nvSpPr>
          <p:spPr>
            <a:xfrm>
              <a:off x="2484360" y="1700280"/>
              <a:ext cx="4175280" cy="3889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5" name="Group 18"/>
            <p:cNvGrpSpPr/>
            <p:nvPr/>
          </p:nvGrpSpPr>
          <p:grpSpPr>
            <a:xfrm>
              <a:off x="3132000" y="2276640"/>
              <a:ext cx="3166560" cy="2592360"/>
              <a:chOff x="3132000" y="2276640"/>
              <a:chExt cx="3166560" cy="2592360"/>
            </a:xfrm>
          </p:grpSpPr>
          <p:sp>
            <p:nvSpPr>
              <p:cNvPr id="166" name="Oval 6"/>
              <p:cNvSpPr/>
              <p:nvPr/>
            </p:nvSpPr>
            <p:spPr>
              <a:xfrm>
                <a:off x="4789440" y="2492280"/>
                <a:ext cx="719280" cy="72072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" name="Oval 7"/>
              <p:cNvSpPr/>
              <p:nvPr/>
            </p:nvSpPr>
            <p:spPr>
              <a:xfrm>
                <a:off x="3203640" y="2276640"/>
                <a:ext cx="718920" cy="72072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" name="Oval 8"/>
              <p:cNvSpPr/>
              <p:nvPr/>
            </p:nvSpPr>
            <p:spPr>
              <a:xfrm>
                <a:off x="3132000" y="3500280"/>
                <a:ext cx="719280" cy="72072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" name="Oval 9"/>
              <p:cNvSpPr/>
              <p:nvPr/>
            </p:nvSpPr>
            <p:spPr>
              <a:xfrm>
                <a:off x="4932360" y="4148280"/>
                <a:ext cx="719280" cy="72072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Text Box 14"/>
              <p:cNvSpPr/>
              <p:nvPr/>
            </p:nvSpPr>
            <p:spPr>
              <a:xfrm>
                <a:off x="4194360" y="2482920"/>
                <a:ext cx="418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Text Box 15"/>
              <p:cNvSpPr/>
              <p:nvPr/>
            </p:nvSpPr>
            <p:spPr>
              <a:xfrm>
                <a:off x="4069080" y="4218120"/>
                <a:ext cx="418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" name="Text Box 16"/>
              <p:cNvSpPr/>
              <p:nvPr/>
            </p:nvSpPr>
            <p:spPr>
              <a:xfrm>
                <a:off x="4511880" y="3425760"/>
                <a:ext cx="418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" name="Text Box 17"/>
              <p:cNvSpPr/>
              <p:nvPr/>
            </p:nvSpPr>
            <p:spPr>
              <a:xfrm>
                <a:off x="5880240" y="3130560"/>
                <a:ext cx="418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Oval 5"/>
          <p:cNvSpPr/>
          <p:nvPr/>
        </p:nvSpPr>
        <p:spPr>
          <a:xfrm>
            <a:off x="2843280" y="692280"/>
            <a:ext cx="2663640" cy="2520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Oval 7"/>
          <p:cNvSpPr/>
          <p:nvPr/>
        </p:nvSpPr>
        <p:spPr>
          <a:xfrm>
            <a:off x="4334040" y="1192320"/>
            <a:ext cx="458640" cy="468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Oval 8"/>
          <p:cNvSpPr/>
          <p:nvPr/>
        </p:nvSpPr>
        <p:spPr>
          <a:xfrm>
            <a:off x="3322800" y="1052640"/>
            <a:ext cx="458640" cy="4665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Oval 9"/>
          <p:cNvSpPr/>
          <p:nvPr/>
        </p:nvSpPr>
        <p:spPr>
          <a:xfrm>
            <a:off x="3276720" y="1846440"/>
            <a:ext cx="458640" cy="4665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Oval 10"/>
          <p:cNvSpPr/>
          <p:nvPr/>
        </p:nvSpPr>
        <p:spPr>
          <a:xfrm>
            <a:off x="4425840" y="2265480"/>
            <a:ext cx="459000" cy="468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3954600" y="11858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3875400" y="231156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4156200" y="179712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5032440" y="160668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539640" y="4076640"/>
            <a:ext cx="8425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 этой модели атом уподоблён пудингу сферической формы, имеющему положительный заряд. Внутрь сферы вкраплены, как изюм в пудинге, отрицательно заряженные электроны. Электроны совершают колебательные движения, благодаря которым атом излучает электромагнитную энергию. Атом в целом электронейтрален. Модель атома Дж.Томсона не была подтверждена экспериментальными фактами и осталась гипотезо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684360" y="404640"/>
            <a:ext cx="779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ru-RU" sz="1800" spc="-1" strike="noStrike">
                <a:solidFill>
                  <a:srgbClr val="000066"/>
                </a:solidFill>
                <a:latin typeface="Garamond"/>
              </a:rPr>
              <a:t>Согласно планетарной модели, предложенной Э.Резерфордом, атом состоит из положительно заряженного ядра и электронов, движущихся вокруг ядра по замкнутым орбитам, подобно движению планет вокруг Солнца. Модель Э.Резерфорда не смогла объяснить излучение и поглощение энергии атомо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5" name="Group 63"/>
          <p:cNvGrpSpPr/>
          <p:nvPr/>
        </p:nvGrpSpPr>
        <p:grpSpPr>
          <a:xfrm>
            <a:off x="1874880" y="2199960"/>
            <a:ext cx="3921120" cy="4013280"/>
            <a:chOff x="1874880" y="2199960"/>
            <a:chExt cx="3921120" cy="4013280"/>
          </a:xfrm>
        </p:grpSpPr>
        <p:sp>
          <p:nvSpPr>
            <p:cNvPr id="186" name="Oval 25"/>
            <p:cNvSpPr/>
            <p:nvPr/>
          </p:nvSpPr>
          <p:spPr>
            <a:xfrm>
              <a:off x="1979640" y="3645000"/>
              <a:ext cx="360360" cy="360360"/>
            </a:xfrm>
            <a:prstGeom prst="ellipse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Oval 26"/>
            <p:cNvSpPr/>
            <p:nvPr/>
          </p:nvSpPr>
          <p:spPr>
            <a:xfrm>
              <a:off x="4140360" y="5589720"/>
              <a:ext cx="360360" cy="360360"/>
            </a:xfrm>
            <a:prstGeom prst="ellipse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Oval 28"/>
            <p:cNvSpPr/>
            <p:nvPr/>
          </p:nvSpPr>
          <p:spPr>
            <a:xfrm>
              <a:off x="5435640" y="3789360"/>
              <a:ext cx="360360" cy="360360"/>
            </a:xfrm>
            <a:prstGeom prst="ellipse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Oval 29"/>
            <p:cNvSpPr/>
            <p:nvPr/>
          </p:nvSpPr>
          <p:spPr>
            <a:xfrm>
              <a:off x="4140360" y="2563920"/>
              <a:ext cx="360360" cy="360360"/>
            </a:xfrm>
            <a:prstGeom prst="ellipse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Arc 37"/>
            <p:cNvSpPr/>
            <p:nvPr/>
          </p:nvSpPr>
          <p:spPr>
            <a:xfrm flipH="1" rot="16495200">
              <a:off x="1704960" y="4062960"/>
              <a:ext cx="4003560" cy="28728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25386" y="334"/>
                  </a:moveTo>
                  <a:cubicBezTo>
                    <a:pt x="-29843" y="2169"/>
                    <a:pt x="-22336" y="11131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553" y="0"/>
                    <a:pt x="23505" y="63"/>
                    <a:pt x="24451" y="188"/>
                  </a:cubicBezTo>
                </a:path>
                <a:path stroke="0" w="43200" h="43200">
                  <a:moveTo>
                    <a:pt x="25386" y="334"/>
                  </a:moveTo>
                  <a:cubicBezTo>
                    <a:pt x="-29843" y="2169"/>
                    <a:pt x="-22336" y="11131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553" y="0"/>
                    <a:pt x="23505" y="63"/>
                    <a:pt x="24451" y="188"/>
                  </a:cubicBezTo>
                  <a:lnTo>
                    <a:pt x="21600" y="21600"/>
                  </a:lnTo>
                  <a:lnTo>
                    <a:pt x="25386" y="334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Arc 38"/>
            <p:cNvSpPr/>
            <p:nvPr/>
          </p:nvSpPr>
          <p:spPr>
            <a:xfrm flipH="1" rot="1921800">
              <a:off x="2050920" y="3327120"/>
              <a:ext cx="3600720" cy="154152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25386" y="334"/>
                  </a:moveTo>
                  <a:cubicBezTo>
                    <a:pt x="-29843" y="2169"/>
                    <a:pt x="-22336" y="11131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553" y="0"/>
                    <a:pt x="23505" y="63"/>
                    <a:pt x="24451" y="188"/>
                  </a:cubicBezTo>
                </a:path>
                <a:path stroke="0" w="43200" h="43200">
                  <a:moveTo>
                    <a:pt x="25386" y="334"/>
                  </a:moveTo>
                  <a:cubicBezTo>
                    <a:pt x="-29843" y="2169"/>
                    <a:pt x="-22336" y="11131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553" y="0"/>
                    <a:pt x="23505" y="63"/>
                    <a:pt x="24451" y="188"/>
                  </a:cubicBezTo>
                  <a:lnTo>
                    <a:pt x="21600" y="21600"/>
                  </a:lnTo>
                  <a:lnTo>
                    <a:pt x="25386" y="334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Arc 39"/>
            <p:cNvSpPr/>
            <p:nvPr/>
          </p:nvSpPr>
          <p:spPr>
            <a:xfrm flipH="1" rot="4608600">
              <a:off x="2144880" y="3378960"/>
              <a:ext cx="3601080" cy="154152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25386" y="334"/>
                  </a:moveTo>
                  <a:cubicBezTo>
                    <a:pt x="-29843" y="2169"/>
                    <a:pt x="-22336" y="11131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553" y="0"/>
                    <a:pt x="23505" y="63"/>
                    <a:pt x="24451" y="188"/>
                  </a:cubicBezTo>
                </a:path>
                <a:path stroke="0" w="43200" h="43200">
                  <a:moveTo>
                    <a:pt x="25386" y="334"/>
                  </a:moveTo>
                  <a:cubicBezTo>
                    <a:pt x="-29843" y="2169"/>
                    <a:pt x="-22336" y="11131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553" y="0"/>
                    <a:pt x="23505" y="63"/>
                    <a:pt x="24451" y="188"/>
                  </a:cubicBezTo>
                  <a:lnTo>
                    <a:pt x="21600" y="21600"/>
                  </a:lnTo>
                  <a:lnTo>
                    <a:pt x="25386" y="334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Arc 40"/>
            <p:cNvSpPr/>
            <p:nvPr/>
          </p:nvSpPr>
          <p:spPr>
            <a:xfrm flipH="1" rot="670800">
              <a:off x="1908000" y="3789360"/>
              <a:ext cx="3835440" cy="71748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25386" y="334"/>
                  </a:moveTo>
                  <a:cubicBezTo>
                    <a:pt x="-29843" y="2169"/>
                    <a:pt x="-22336" y="11131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553" y="0"/>
                    <a:pt x="23505" y="63"/>
                    <a:pt x="24451" y="188"/>
                  </a:cubicBezTo>
                </a:path>
                <a:path stroke="0" w="43200" h="43200">
                  <a:moveTo>
                    <a:pt x="25386" y="334"/>
                  </a:moveTo>
                  <a:cubicBezTo>
                    <a:pt x="-29843" y="2169"/>
                    <a:pt x="-22336" y="11131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553" y="0"/>
                    <a:pt x="23505" y="63"/>
                    <a:pt x="24451" y="188"/>
                  </a:cubicBezTo>
                  <a:lnTo>
                    <a:pt x="21600" y="21600"/>
                  </a:lnTo>
                  <a:lnTo>
                    <a:pt x="25386" y="334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Arc 41"/>
            <p:cNvSpPr/>
            <p:nvPr/>
          </p:nvSpPr>
          <p:spPr>
            <a:xfrm flipH="1" rot="19422000">
              <a:off x="1762920" y="3716280"/>
              <a:ext cx="3600360" cy="71928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25386" y="334"/>
                  </a:moveTo>
                  <a:cubicBezTo>
                    <a:pt x="-29843" y="2169"/>
                    <a:pt x="-22336" y="11131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553" y="0"/>
                    <a:pt x="23505" y="63"/>
                    <a:pt x="24451" y="188"/>
                  </a:cubicBezTo>
                </a:path>
                <a:path stroke="0" w="43200" h="43200">
                  <a:moveTo>
                    <a:pt x="25386" y="334"/>
                  </a:moveTo>
                  <a:cubicBezTo>
                    <a:pt x="-29843" y="2169"/>
                    <a:pt x="-22336" y="11131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553" y="0"/>
                    <a:pt x="23505" y="63"/>
                    <a:pt x="24451" y="188"/>
                  </a:cubicBezTo>
                  <a:lnTo>
                    <a:pt x="21600" y="21600"/>
                  </a:lnTo>
                  <a:lnTo>
                    <a:pt x="25386" y="334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Arc 42"/>
            <p:cNvSpPr/>
            <p:nvPr/>
          </p:nvSpPr>
          <p:spPr>
            <a:xfrm flipH="1" rot="7234200">
              <a:off x="1741680" y="3378960"/>
              <a:ext cx="3600720" cy="154152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25386" y="334"/>
                  </a:moveTo>
                  <a:cubicBezTo>
                    <a:pt x="-29843" y="2169"/>
                    <a:pt x="-22336" y="11131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553" y="0"/>
                    <a:pt x="23505" y="63"/>
                    <a:pt x="24451" y="188"/>
                  </a:cubicBezTo>
                </a:path>
                <a:path stroke="0" w="43200" h="43200">
                  <a:moveTo>
                    <a:pt x="25386" y="334"/>
                  </a:moveTo>
                  <a:cubicBezTo>
                    <a:pt x="-29843" y="2169"/>
                    <a:pt x="-22336" y="11131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553" y="0"/>
                    <a:pt x="23505" y="63"/>
                    <a:pt x="24451" y="188"/>
                  </a:cubicBezTo>
                  <a:lnTo>
                    <a:pt x="21600" y="21600"/>
                  </a:lnTo>
                  <a:lnTo>
                    <a:pt x="25386" y="334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Arc 43"/>
            <p:cNvSpPr/>
            <p:nvPr/>
          </p:nvSpPr>
          <p:spPr>
            <a:xfrm flipH="1">
              <a:off x="2194920" y="3357720"/>
              <a:ext cx="3600360" cy="13665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25386" y="334"/>
                  </a:moveTo>
                  <a:cubicBezTo>
                    <a:pt x="-29843" y="2169"/>
                    <a:pt x="-22336" y="11131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553" y="0"/>
                    <a:pt x="23505" y="63"/>
                    <a:pt x="24451" y="188"/>
                  </a:cubicBezTo>
                </a:path>
                <a:path stroke="0" w="43200" h="43200">
                  <a:moveTo>
                    <a:pt x="25386" y="334"/>
                  </a:moveTo>
                  <a:cubicBezTo>
                    <a:pt x="-29843" y="2169"/>
                    <a:pt x="-22336" y="11131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553" y="0"/>
                    <a:pt x="23505" y="63"/>
                    <a:pt x="24451" y="188"/>
                  </a:cubicBezTo>
                  <a:lnTo>
                    <a:pt x="21600" y="21600"/>
                  </a:lnTo>
                  <a:lnTo>
                    <a:pt x="25386" y="334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Oval 45"/>
            <p:cNvSpPr/>
            <p:nvPr/>
          </p:nvSpPr>
          <p:spPr>
            <a:xfrm>
              <a:off x="2627280" y="2924280"/>
              <a:ext cx="360360" cy="360360"/>
            </a:xfrm>
            <a:prstGeom prst="ellipse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" name="Oval 46"/>
            <p:cNvSpPr/>
            <p:nvPr/>
          </p:nvSpPr>
          <p:spPr>
            <a:xfrm>
              <a:off x="3203640" y="4508640"/>
              <a:ext cx="360360" cy="360360"/>
            </a:xfrm>
            <a:prstGeom prst="ellipse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9" name="Group 61"/>
            <p:cNvGrpSpPr/>
            <p:nvPr/>
          </p:nvGrpSpPr>
          <p:grpSpPr>
            <a:xfrm>
              <a:off x="3419640" y="3789360"/>
              <a:ext cx="433080" cy="431640"/>
              <a:chOff x="3419640" y="3789360"/>
              <a:chExt cx="433080" cy="431640"/>
            </a:xfrm>
          </p:grpSpPr>
          <p:sp>
            <p:nvSpPr>
              <p:cNvPr id="200" name="Oval 44"/>
              <p:cNvSpPr/>
              <p:nvPr/>
            </p:nvSpPr>
            <p:spPr>
              <a:xfrm>
                <a:off x="3635280" y="3860640"/>
                <a:ext cx="144720" cy="1447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" name="Oval 47"/>
              <p:cNvSpPr/>
              <p:nvPr/>
            </p:nvSpPr>
            <p:spPr>
              <a:xfrm>
                <a:off x="3708360" y="3933720"/>
                <a:ext cx="144360" cy="1447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" name="Oval 48"/>
              <p:cNvSpPr/>
              <p:nvPr/>
            </p:nvSpPr>
            <p:spPr>
              <a:xfrm>
                <a:off x="3708360" y="400536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" name="Oval 49"/>
              <p:cNvSpPr/>
              <p:nvPr/>
            </p:nvSpPr>
            <p:spPr>
              <a:xfrm>
                <a:off x="3635280" y="4076640"/>
                <a:ext cx="144720" cy="1443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" name="Oval 50"/>
              <p:cNvSpPr/>
              <p:nvPr/>
            </p:nvSpPr>
            <p:spPr>
              <a:xfrm>
                <a:off x="3564000" y="3860640"/>
                <a:ext cx="144360" cy="1447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" name="Oval 51"/>
              <p:cNvSpPr/>
              <p:nvPr/>
            </p:nvSpPr>
            <p:spPr>
              <a:xfrm>
                <a:off x="3564000" y="400536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" name="Oval 52"/>
              <p:cNvSpPr/>
              <p:nvPr/>
            </p:nvSpPr>
            <p:spPr>
              <a:xfrm>
                <a:off x="3564000" y="407664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" name="Oval 53"/>
              <p:cNvSpPr/>
              <p:nvPr/>
            </p:nvSpPr>
            <p:spPr>
              <a:xfrm>
                <a:off x="3419640" y="378936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" name="Oval 54"/>
              <p:cNvSpPr/>
              <p:nvPr/>
            </p:nvSpPr>
            <p:spPr>
              <a:xfrm>
                <a:off x="3635280" y="3789360"/>
                <a:ext cx="144720" cy="1443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" name="Oval 55"/>
              <p:cNvSpPr/>
              <p:nvPr/>
            </p:nvSpPr>
            <p:spPr>
              <a:xfrm>
                <a:off x="3419640" y="3933720"/>
                <a:ext cx="144360" cy="1447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" name="Oval 56"/>
              <p:cNvSpPr/>
              <p:nvPr/>
            </p:nvSpPr>
            <p:spPr>
              <a:xfrm>
                <a:off x="3492360" y="4005360"/>
                <a:ext cx="144720" cy="1443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" name="Oval 57"/>
              <p:cNvSpPr/>
              <p:nvPr/>
            </p:nvSpPr>
            <p:spPr>
              <a:xfrm>
                <a:off x="3490920" y="378936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" name="Oval 58"/>
              <p:cNvSpPr/>
              <p:nvPr/>
            </p:nvSpPr>
            <p:spPr>
              <a:xfrm>
                <a:off x="3564000" y="3933720"/>
                <a:ext cx="144360" cy="1447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" name="Oval 59"/>
              <p:cNvSpPr/>
              <p:nvPr/>
            </p:nvSpPr>
            <p:spPr>
              <a:xfrm>
                <a:off x="3419640" y="4076640"/>
                <a:ext cx="144360" cy="1443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4" name="Oval 60"/>
            <p:cNvSpPr/>
            <p:nvPr/>
          </p:nvSpPr>
          <p:spPr>
            <a:xfrm>
              <a:off x="5075280" y="4941720"/>
              <a:ext cx="360360" cy="360360"/>
            </a:xfrm>
            <a:prstGeom prst="ellipse">
              <a:avLst/>
            </a:prstGeom>
            <a:solidFill>
              <a:srgbClr val="8080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1311120" y="2492280"/>
            <a:ext cx="707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Comic Sans MS"/>
              </a:rPr>
              <a:t>В 1913 г. Н.Бор предложил квантовую модель строения</a:t>
            </a:r>
            <a:r>
              <a:rPr b="0" i="1" lang="ru-RU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i="1" lang="ru-RU" sz="3200" spc="-1" strike="noStrike">
                <a:solidFill>
                  <a:srgbClr val="000099"/>
                </a:solidFill>
                <a:latin typeface="Comic Sans MS"/>
              </a:rPr>
              <a:t>атом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879120" y="579600"/>
            <a:ext cx="68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Garamond"/>
              </a:rPr>
              <a:t>Развитие представлений о строении атом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808200" y="1341360"/>
            <a:ext cx="72928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Garamond"/>
              </a:rPr>
              <a:t>Атом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– химическая неделимая частица (элемент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Line 6"/>
          <p:cNvSpPr/>
          <p:nvPr/>
        </p:nvSpPr>
        <p:spPr>
          <a:xfrm>
            <a:off x="4427640" y="17733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736560" y="2276640"/>
            <a:ext cx="7364520" cy="1465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Доказательства сложности строения атом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Открытие рентгеновских лучей (1895 г., К.Рентген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2. Открытие катодных лучей (1897 г., Дж.Томсон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3. Открытие радиоактивности (1896 г., А.Беккерель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и её изучение (1897 -1903 гг., М.Склодовская-Кюри, П.Кюри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Line 8"/>
          <p:cNvSpPr/>
          <p:nvPr/>
        </p:nvSpPr>
        <p:spPr>
          <a:xfrm>
            <a:off x="4427640" y="37893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684360" y="4297320"/>
            <a:ext cx="7416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Модели строения атом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«Пудинг с изюмом» (1902 -1904гг., В.Кельвин, Дж.Томсон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2. Планетарная (1907г., Э.Резерфорд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3. Квантовая модель Н.Бора (1913 г.)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4427640" y="551808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11"/>
          <p:cNvSpPr/>
          <p:nvPr/>
        </p:nvSpPr>
        <p:spPr>
          <a:xfrm>
            <a:off x="663480" y="5927760"/>
            <a:ext cx="743760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Современные представления  о строении атома на основе квантовой механик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13"/>
          <p:cNvSpPr/>
          <p:nvPr/>
        </p:nvSpPr>
        <p:spPr>
          <a:xfrm rot="7802400">
            <a:off x="6716160" y="3573360"/>
            <a:ext cx="505080" cy="1295280"/>
          </a:xfrm>
          <a:custGeom>
            <a:avLst/>
            <a:gdLst>
              <a:gd name="textAreaLeft" fmla="*/ 105120 w 505080"/>
              <a:gd name="textAreaRight" fmla="*/ 399960 w 505080"/>
              <a:gd name="textAreaTop" fmla="*/ 269640 h 1295280"/>
              <a:gd name="textAreaBottom" fmla="*/ 102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AutoShape 12"/>
          <p:cNvSpPr/>
          <p:nvPr/>
        </p:nvSpPr>
        <p:spPr>
          <a:xfrm rot="13372800">
            <a:off x="5672160" y="3536280"/>
            <a:ext cx="504720" cy="1368360"/>
          </a:xfrm>
          <a:custGeom>
            <a:avLst/>
            <a:gdLst>
              <a:gd name="textAreaLeft" fmla="*/ 105120 w 504720"/>
              <a:gd name="textAreaRight" fmla="*/ 399600 w 504720"/>
              <a:gd name="textAreaTop" fmla="*/ 285120 h 1368360"/>
              <a:gd name="textAreaBottom" fmla="*/ 108324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Oval 4"/>
          <p:cNvSpPr/>
          <p:nvPr/>
        </p:nvSpPr>
        <p:spPr>
          <a:xfrm rot="845400">
            <a:off x="4788000" y="1022400"/>
            <a:ext cx="2808360" cy="1081080"/>
          </a:xfrm>
          <a:prstGeom prst="ellipse">
            <a:avLst/>
          </a:prstGeom>
          <a:solidFill>
            <a:srgbClr val="ffe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5912640" y="9810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ядр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4879800" y="1521000"/>
            <a:ext cx="73080" cy="1079280"/>
          </a:xfrm>
          <a:prstGeom prst="rect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Oval 8"/>
          <p:cNvSpPr/>
          <p:nvPr/>
        </p:nvSpPr>
        <p:spPr>
          <a:xfrm>
            <a:off x="1547640" y="5084640"/>
            <a:ext cx="216000" cy="216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Oval 9"/>
          <p:cNvSpPr/>
          <p:nvPr/>
        </p:nvSpPr>
        <p:spPr>
          <a:xfrm>
            <a:off x="4808520" y="1376280"/>
            <a:ext cx="216000" cy="216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4134240" y="2738520"/>
            <a:ext cx="13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Электрон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AutoShape 11"/>
          <p:cNvSpPr/>
          <p:nvPr/>
        </p:nvSpPr>
        <p:spPr>
          <a:xfrm rot="10800000">
            <a:off x="6103440" y="1665000"/>
            <a:ext cx="505080" cy="2158920"/>
          </a:xfrm>
          <a:custGeom>
            <a:avLst/>
            <a:gdLst>
              <a:gd name="textAreaLeft" fmla="*/ 105120 w 505080"/>
              <a:gd name="textAreaRight" fmla="*/ 399960 w 505080"/>
              <a:gd name="textAreaTop" fmla="*/ 449640 h 2158920"/>
              <a:gd name="textAreaBottom" fmla="*/ 1709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Oval 5"/>
          <p:cNvSpPr/>
          <p:nvPr/>
        </p:nvSpPr>
        <p:spPr>
          <a:xfrm>
            <a:off x="1258920" y="3429000"/>
            <a:ext cx="360360" cy="360360"/>
          </a:xfrm>
          <a:prstGeom prst="ellipse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Oval 14"/>
          <p:cNvSpPr/>
          <p:nvPr/>
        </p:nvSpPr>
        <p:spPr>
          <a:xfrm>
            <a:off x="2195640" y="3645000"/>
            <a:ext cx="576000" cy="57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Oval 15"/>
          <p:cNvSpPr/>
          <p:nvPr/>
        </p:nvSpPr>
        <p:spPr>
          <a:xfrm>
            <a:off x="826920" y="4400640"/>
            <a:ext cx="576360" cy="57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4460760" y="537372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Нейтрон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7193880" y="53737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Протон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8" name="Group 27"/>
          <p:cNvGrpSpPr/>
          <p:nvPr/>
        </p:nvGrpSpPr>
        <p:grpSpPr>
          <a:xfrm>
            <a:off x="2556000" y="4653000"/>
            <a:ext cx="938160" cy="720720"/>
            <a:chOff x="2556000" y="4653000"/>
            <a:chExt cx="938160" cy="720720"/>
          </a:xfrm>
        </p:grpSpPr>
        <p:sp>
          <p:nvSpPr>
            <p:cNvPr id="239" name="Oval 18"/>
            <p:cNvSpPr/>
            <p:nvPr/>
          </p:nvSpPr>
          <p:spPr>
            <a:xfrm>
              <a:off x="2846520" y="4942080"/>
              <a:ext cx="43200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Oval 20"/>
            <p:cNvSpPr/>
            <p:nvPr/>
          </p:nvSpPr>
          <p:spPr>
            <a:xfrm>
              <a:off x="3061080" y="4869000"/>
              <a:ext cx="433080" cy="43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Oval 21"/>
            <p:cNvSpPr/>
            <p:nvPr/>
          </p:nvSpPr>
          <p:spPr>
            <a:xfrm>
              <a:off x="2556000" y="4797360"/>
              <a:ext cx="433440" cy="43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Oval 19"/>
            <p:cNvSpPr/>
            <p:nvPr/>
          </p:nvSpPr>
          <p:spPr>
            <a:xfrm>
              <a:off x="2846520" y="4653000"/>
              <a:ext cx="43200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3" name="Text Box 22"/>
          <p:cNvSpPr/>
          <p:nvPr/>
        </p:nvSpPr>
        <p:spPr>
          <a:xfrm>
            <a:off x="6972120" y="3429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Нуклон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Oval 23"/>
          <p:cNvSpPr/>
          <p:nvPr/>
        </p:nvSpPr>
        <p:spPr>
          <a:xfrm>
            <a:off x="7184880" y="1592280"/>
            <a:ext cx="216000" cy="216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24"/>
          <p:cNvSpPr/>
          <p:nvPr/>
        </p:nvSpPr>
        <p:spPr>
          <a:xfrm>
            <a:off x="3295440" y="6284880"/>
            <a:ext cx="384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Схема строения атом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 Box 26"/>
          <p:cNvSpPr/>
          <p:nvPr/>
        </p:nvSpPr>
        <p:spPr>
          <a:xfrm>
            <a:off x="663480" y="549360"/>
            <a:ext cx="3332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Атом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это электронейтральная система взаимодействующих элементарных частиц, состоящая из ядра (образованного протонами и нейтронами) и электроно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59259E-006 L 0.53959 -0.29908 E">
                                      <p:cBhvr>
                                        <p:cTn id="206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1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48148E-006 L 0.35833 -0.19954 E">
                                      <p:cBhvr>
                                        <p:cTn id="222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40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8 0.01042 L 0.48056 0.00533 E">
                                      <p:cBhvr>
                                        <p:cTn id="241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52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1065 L 0.54357 0.09722 E">
                                      <p:cBhvr>
                                        <p:cTn id="253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2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2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2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7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4.07407E-006 L 0.35434 -0.37269 E">
                                      <p:cBhvr>
                                        <p:cTn id="277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2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28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6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15:24:39Z</dcterms:created>
  <dc:creator>Санёк</dc:creator>
  <dc:description/>
  <dc:language>en-US</dc:language>
  <cp:lastModifiedBy>User</cp:lastModifiedBy>
  <dcterms:modified xsi:type="dcterms:W3CDTF">2019-04-21T15:31:37Z</dcterms:modified>
  <cp:revision>5</cp:revision>
  <dc:subject/>
  <dc:title>Слайд 1</dc:title>
</cp:coreProperties>
</file>