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964-8158-4839-B8F7-84B00171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990-C009-4582-8A32-F8E5BBD7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BD9-B454-43DB-86AC-2C6E09CF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465-5150-49FF-BBF9-D5A04F4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3B2-7F04-4401-8910-DC715F67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04AE-BB42-4735-90DE-9D94CA3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3144-8D9F-4D1C-BCF4-6A0EFC35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D75B-B876-4FA8-A2F8-6BFC7EEA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7EE9-3F95-408E-AB82-C7B2432A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9F06-59C1-4710-A131-FBB61D3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C5E5-F687-4E3E-A071-4519000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E23-DA6E-4452-822E-5CA67A9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A313-A87B-4DF4-BA0D-7603FA69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D5A-EAE3-4785-8BC8-0F663D2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7E47-1721-41A1-9E0A-5FBD4FF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F20-30E2-4684-B576-7FF981F5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8C1-0FC7-41B8-BB67-37982079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F78-C219-4AE0-A39C-2950C8DB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301-AE13-4DA9-A559-5537E0E4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E7-807A-4CA0-9BC7-2CD911C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6B7-13B4-4D63-8EEA-053BBAB3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6F2-BF2F-4F86-901D-C345195F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15C-A202-4B3D-A8A7-244CF0E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C5E-0F90-475A-A5CE-D2DF188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27E8-4690-446A-95EA-4C93CC4461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4DB-1AA6-40E6-B9BF-A4477039763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Ато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361840" y="501336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боту выполни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ник 4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аврилов Александ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ÐÐ°ÑÑÐ¸Ð½ÐºÐ¸ Ð¿Ð¾ Ð·Ð°Ð¿ÑÐ¾ÑÑ ÑÐ¸ÑÑÐ½Ð¾Ðº Ð°ÑÐ¾Ð¼Ð° Ð»Ð¸ÑÐ¸Ñ"/>
          <p:cNvPicPr/>
          <p:nvPr/>
        </p:nvPicPr>
        <p:blipFill>
          <a:blip r:embed="rId1"/>
          <a:stretch/>
        </p:blipFill>
        <p:spPr>
          <a:xfrm>
            <a:off x="611280" y="765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755640" y="404640"/>
            <a:ext cx="8124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верь себ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ие явления доказывают сложность строения атом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Какие модели строения атома вы знает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Из каких частиц состоит атомное ядр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6">
            <a:hlinkClick r:id="rId1" action="ppaction://hlinksldjump"/>
          </p:cNvPr>
          <p:cNvSpPr/>
          <p:nvPr/>
        </p:nvSpPr>
        <p:spPr>
          <a:xfrm>
            <a:off x="900000" y="4581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Дайте комментарий строчкам из стихотворения В.Брюсова «Мир электрон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527120" y="2205000"/>
            <a:ext cx="686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Задание на до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иготовьте сообщение на тему «Эволюция представлений о строении атом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43A"/>
          <p:cNvPicPr/>
          <p:nvPr/>
        </p:nvPicPr>
        <p:blipFill>
          <a:blip r:embed="rId1"/>
          <a:stretch/>
        </p:blipFill>
        <p:spPr>
          <a:xfrm>
            <a:off x="-304920" y="-228600"/>
            <a:ext cx="10404720" cy="7804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 flipV="1" rot="18580800">
            <a:off x="6935760" y="-172692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692360" y="692280"/>
            <a:ext cx="707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ть может, эти электроны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ы, где пять материков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усства, званья, войны, тро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амять сорока ве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ё, быть может, каждый атом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ленная, где сто план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м все, что здесь в объёме сжато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также то, чего здесь н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Брю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68436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47840" y="765000"/>
            <a:ext cx="83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сведения о строении ат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4360" y="16286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нятие «атом» пришло к нам из античности, но совершенно изменило тот первоначальный смысл, который вкладывали в него древние греки ( в переводе с греческого «атом» означает «неделимый»). Этимология названия «неделимый» отражает сущность атома до наоборо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55640" y="3213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Атом делим, что доказали явления фотоэффекта, радиоактивности, электролиза и друг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84360" y="43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Изучение этих явлений определило разработку различных моделей строения атома как сложной частиц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684360" y="40464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904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бот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О структуре атома» Дж.Том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л описание своей модели, получившей образное названи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пудинг с изюм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2484360" y="1700280"/>
            <a:ext cx="4175280" cy="3889440"/>
            <a:chOff x="2484360" y="1700280"/>
            <a:chExt cx="4175280" cy="3889440"/>
          </a:xfrm>
        </p:grpSpPr>
        <p:sp>
          <p:nvSpPr>
            <p:cNvPr id="164" name="Oval 5"/>
            <p:cNvSpPr/>
            <p:nvPr/>
          </p:nvSpPr>
          <p:spPr>
            <a:xfrm>
              <a:off x="2484360" y="1700280"/>
              <a:ext cx="4175280" cy="388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5" name="Group 18"/>
            <p:cNvGrpSpPr/>
            <p:nvPr/>
          </p:nvGrpSpPr>
          <p:grpSpPr>
            <a:xfrm>
              <a:off x="3132000" y="2276640"/>
              <a:ext cx="3166560" cy="2592360"/>
              <a:chOff x="3132000" y="2276640"/>
              <a:chExt cx="3166560" cy="2592360"/>
            </a:xfrm>
          </p:grpSpPr>
          <p:sp>
            <p:nvSpPr>
              <p:cNvPr id="166" name="Oval 6"/>
              <p:cNvSpPr/>
              <p:nvPr/>
            </p:nvSpPr>
            <p:spPr>
              <a:xfrm>
                <a:off x="4789440" y="2492280"/>
                <a:ext cx="71928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Oval 7"/>
              <p:cNvSpPr/>
              <p:nvPr/>
            </p:nvSpPr>
            <p:spPr>
              <a:xfrm>
                <a:off x="3203640" y="2276640"/>
                <a:ext cx="71892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Oval 8"/>
              <p:cNvSpPr/>
              <p:nvPr/>
            </p:nvSpPr>
            <p:spPr>
              <a:xfrm>
                <a:off x="3132000" y="3500280"/>
                <a:ext cx="71928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Oval 9"/>
              <p:cNvSpPr/>
              <p:nvPr/>
            </p:nvSpPr>
            <p:spPr>
              <a:xfrm>
                <a:off x="4932360" y="4148280"/>
                <a:ext cx="71928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Text Box 14"/>
              <p:cNvSpPr/>
              <p:nvPr/>
            </p:nvSpPr>
            <p:spPr>
              <a:xfrm>
                <a:off x="4194360" y="24829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Text Box 15"/>
              <p:cNvSpPr/>
              <p:nvPr/>
            </p:nvSpPr>
            <p:spPr>
              <a:xfrm>
                <a:off x="4069080" y="42181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Text Box 16"/>
              <p:cNvSpPr/>
              <p:nvPr/>
            </p:nvSpPr>
            <p:spPr>
              <a:xfrm>
                <a:off x="4511880" y="342576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Text Box 17"/>
              <p:cNvSpPr/>
              <p:nvPr/>
            </p:nvSpPr>
            <p:spPr>
              <a:xfrm>
                <a:off x="5880240" y="313056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5"/>
          <p:cNvSpPr/>
          <p:nvPr/>
        </p:nvSpPr>
        <p:spPr>
          <a:xfrm>
            <a:off x="2843280" y="692280"/>
            <a:ext cx="2663640" cy="25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334040" y="1192320"/>
            <a:ext cx="458640" cy="4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3322800" y="1052640"/>
            <a:ext cx="458640" cy="4665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3276720" y="1846440"/>
            <a:ext cx="458640" cy="4665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4425840" y="2265480"/>
            <a:ext cx="459000" cy="4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954600" y="11858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875400" y="2311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156200" y="1797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032440" y="1606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39640" y="4076640"/>
            <a:ext cx="842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этой модели атом уподоблён пудингу сферической формы, имеющему положительный заряд. Внутрь сферы вкраплены, как изюм в пудинге, отрицательно заряженные электроны. Электроны совершают колебательные движения, благодаря которым атом излучает электромагнитную энергию. Атом в целом электронейтрален. Модель атома Дж.Томсона не была подтверждена экспериментальными фактами и осталась гипотез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84360" y="404640"/>
            <a:ext cx="779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Garamond"/>
              </a:rPr>
              <a:t>Согласно планетарной модели, предложенной Э.Резерфордом, атом состоит из положительно заряженного ядра и электронов, движущихся вокруг ядра по замкнутым орбитам, подобно движению планет вокруг Солнца. Модель Э.Резерфорда не смогла объяснить излучение и поглощение энергии атом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" name="Group 63"/>
          <p:cNvGrpSpPr/>
          <p:nvPr/>
        </p:nvGrpSpPr>
        <p:grpSpPr>
          <a:xfrm>
            <a:off x="1874880" y="2199960"/>
            <a:ext cx="3921120" cy="4013280"/>
            <a:chOff x="1874880" y="2199960"/>
            <a:chExt cx="3921120" cy="4013280"/>
          </a:xfrm>
        </p:grpSpPr>
        <p:sp>
          <p:nvSpPr>
            <p:cNvPr id="186" name="Oval 25"/>
            <p:cNvSpPr/>
            <p:nvPr/>
          </p:nvSpPr>
          <p:spPr>
            <a:xfrm>
              <a:off x="1979640" y="364500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4140360" y="558972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28"/>
            <p:cNvSpPr/>
            <p:nvPr/>
          </p:nvSpPr>
          <p:spPr>
            <a:xfrm>
              <a:off x="5435640" y="378936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29"/>
            <p:cNvSpPr/>
            <p:nvPr/>
          </p:nvSpPr>
          <p:spPr>
            <a:xfrm>
              <a:off x="4140360" y="256392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rc 37"/>
            <p:cNvSpPr/>
            <p:nvPr/>
          </p:nvSpPr>
          <p:spPr>
            <a:xfrm flipH="1" rot="16495200">
              <a:off x="1704960" y="4062960"/>
              <a:ext cx="4003560" cy="2872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Arc 38"/>
            <p:cNvSpPr/>
            <p:nvPr/>
          </p:nvSpPr>
          <p:spPr>
            <a:xfrm flipH="1" rot="1921800">
              <a:off x="2050920" y="3327120"/>
              <a:ext cx="3600720" cy="1541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Arc 39"/>
            <p:cNvSpPr/>
            <p:nvPr/>
          </p:nvSpPr>
          <p:spPr>
            <a:xfrm flipH="1" rot="4608600">
              <a:off x="2144880" y="3378960"/>
              <a:ext cx="3601080" cy="1541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rc 40"/>
            <p:cNvSpPr/>
            <p:nvPr/>
          </p:nvSpPr>
          <p:spPr>
            <a:xfrm flipH="1" rot="670800">
              <a:off x="1908000" y="3789360"/>
              <a:ext cx="3835440" cy="7174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Arc 41"/>
            <p:cNvSpPr/>
            <p:nvPr/>
          </p:nvSpPr>
          <p:spPr>
            <a:xfrm flipH="1" rot="19422000">
              <a:off x="1762920" y="3716280"/>
              <a:ext cx="3600360" cy="7192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rc 42"/>
            <p:cNvSpPr/>
            <p:nvPr/>
          </p:nvSpPr>
          <p:spPr>
            <a:xfrm flipH="1" rot="7234200">
              <a:off x="1741680" y="3378960"/>
              <a:ext cx="3600720" cy="1541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Arc 43"/>
            <p:cNvSpPr/>
            <p:nvPr/>
          </p:nvSpPr>
          <p:spPr>
            <a:xfrm flipH="1">
              <a:off x="2194920" y="3357720"/>
              <a:ext cx="3600360" cy="13665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45"/>
            <p:cNvSpPr/>
            <p:nvPr/>
          </p:nvSpPr>
          <p:spPr>
            <a:xfrm>
              <a:off x="2627280" y="292428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46"/>
            <p:cNvSpPr/>
            <p:nvPr/>
          </p:nvSpPr>
          <p:spPr>
            <a:xfrm>
              <a:off x="3203640" y="450864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9" name="Group 61"/>
            <p:cNvGrpSpPr/>
            <p:nvPr/>
          </p:nvGrpSpPr>
          <p:grpSpPr>
            <a:xfrm>
              <a:off x="3419640" y="3789360"/>
              <a:ext cx="433080" cy="431640"/>
              <a:chOff x="3419640" y="3789360"/>
              <a:chExt cx="433080" cy="431640"/>
            </a:xfrm>
          </p:grpSpPr>
          <p:sp>
            <p:nvSpPr>
              <p:cNvPr id="200" name="Oval 44"/>
              <p:cNvSpPr/>
              <p:nvPr/>
            </p:nvSpPr>
            <p:spPr>
              <a:xfrm>
                <a:off x="3635280" y="386064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Oval 47"/>
              <p:cNvSpPr/>
              <p:nvPr/>
            </p:nvSpPr>
            <p:spPr>
              <a:xfrm>
                <a:off x="3708360" y="393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3708360" y="4005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3635280" y="407664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3564000" y="386064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3564000" y="4005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3564000" y="40766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3419640" y="3789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Oval 54"/>
              <p:cNvSpPr/>
              <p:nvPr/>
            </p:nvSpPr>
            <p:spPr>
              <a:xfrm>
                <a:off x="3635280" y="378936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Oval 55"/>
              <p:cNvSpPr/>
              <p:nvPr/>
            </p:nvSpPr>
            <p:spPr>
              <a:xfrm>
                <a:off x="3419640" y="393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Oval 56"/>
              <p:cNvSpPr/>
              <p:nvPr/>
            </p:nvSpPr>
            <p:spPr>
              <a:xfrm>
                <a:off x="3492360" y="400536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Oval 57"/>
              <p:cNvSpPr/>
              <p:nvPr/>
            </p:nvSpPr>
            <p:spPr>
              <a:xfrm>
                <a:off x="3490920" y="3789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Oval 58"/>
              <p:cNvSpPr/>
              <p:nvPr/>
            </p:nvSpPr>
            <p:spPr>
              <a:xfrm>
                <a:off x="3564000" y="393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Oval 59"/>
              <p:cNvSpPr/>
              <p:nvPr/>
            </p:nvSpPr>
            <p:spPr>
              <a:xfrm>
                <a:off x="3419640" y="40766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Oval 60"/>
            <p:cNvSpPr/>
            <p:nvPr/>
          </p:nvSpPr>
          <p:spPr>
            <a:xfrm>
              <a:off x="5075280" y="494172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311120" y="2492280"/>
            <a:ext cx="707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В 1913 г. Н.Бор предложил квантовую модель строения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ато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879120" y="5796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aramond"/>
              </a:rPr>
              <a:t>Развитие представлений о строении ато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808200" y="1341360"/>
            <a:ext cx="7292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Атом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– химическая неделимая частица (элемен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4427640" y="1773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736560" y="2276640"/>
            <a:ext cx="7364520" cy="1465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оказательства сложности строения ато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ткрытие рентгеновских лучей (1895 г., К.Рентген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. Открытие катодных лучей (1897 г., Дж.Томсон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. Открытие радиоактивности (1896 г., А.Беккерел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 её изучение (1897 -1903 гг., М.Склодовская-Кюри, П.Кюр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4427640" y="3789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84360" y="4297320"/>
            <a:ext cx="741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одели строения ато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«Пудинг с изюмом» (1902 -1904гг., В.Кельвин, Дж.Томсон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. Планетарная (1907г., Э.Резерфорд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. Квантовая модель Н.Бора (1913 г.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427640" y="55180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663480" y="5927760"/>
            <a:ext cx="74376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временные представления  о строении атома на основе квантовой механ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13"/>
          <p:cNvSpPr/>
          <p:nvPr/>
        </p:nvSpPr>
        <p:spPr>
          <a:xfrm rot="7802400">
            <a:off x="6716160" y="3573360"/>
            <a:ext cx="505080" cy="1295280"/>
          </a:xfrm>
          <a:custGeom>
            <a:avLst/>
            <a:gdLst>
              <a:gd name="textAreaLeft" fmla="*/ 105120 w 505080"/>
              <a:gd name="textAreaRight" fmla="*/ 399960 w 505080"/>
              <a:gd name="textAreaTop" fmla="*/ 269640 h 1295280"/>
              <a:gd name="textAreaBottom" fmla="*/ 102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12"/>
          <p:cNvSpPr/>
          <p:nvPr/>
        </p:nvSpPr>
        <p:spPr>
          <a:xfrm rot="13372800">
            <a:off x="5672160" y="3536280"/>
            <a:ext cx="504720" cy="1368360"/>
          </a:xfrm>
          <a:custGeom>
            <a:avLst/>
            <a:gdLst>
              <a:gd name="textAreaLeft" fmla="*/ 105120 w 504720"/>
              <a:gd name="textAreaRight" fmla="*/ 399600 w 50472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4"/>
          <p:cNvSpPr/>
          <p:nvPr/>
        </p:nvSpPr>
        <p:spPr>
          <a:xfrm rot="845400">
            <a:off x="4788000" y="1022400"/>
            <a:ext cx="2808360" cy="1081080"/>
          </a:xfrm>
          <a:prstGeom prst="ellipse">
            <a:avLst/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91264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879800" y="1521000"/>
            <a:ext cx="73080" cy="107928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1547640" y="508464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4808520" y="137628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134240" y="27385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Электро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11"/>
          <p:cNvSpPr/>
          <p:nvPr/>
        </p:nvSpPr>
        <p:spPr>
          <a:xfrm rot="10800000">
            <a:off x="6103440" y="1665000"/>
            <a:ext cx="505080" cy="2158920"/>
          </a:xfrm>
          <a:custGeom>
            <a:avLst/>
            <a:gdLst>
              <a:gd name="textAreaLeft" fmla="*/ 105120 w 505080"/>
              <a:gd name="textAreaRight" fmla="*/ 399960 w 505080"/>
              <a:gd name="textAreaTop" fmla="*/ 449640 h 2158920"/>
              <a:gd name="textAreaBottom" fmla="*/ 170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1258920" y="3429000"/>
            <a:ext cx="360360" cy="36036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2195640" y="3645000"/>
            <a:ext cx="57600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826920" y="4400640"/>
            <a:ext cx="57636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460760" y="53737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ейтро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193880" y="5373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ото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Group 27"/>
          <p:cNvGrpSpPr/>
          <p:nvPr/>
        </p:nvGrpSpPr>
        <p:grpSpPr>
          <a:xfrm>
            <a:off x="2556000" y="4653000"/>
            <a:ext cx="938160" cy="720720"/>
            <a:chOff x="2556000" y="4653000"/>
            <a:chExt cx="938160" cy="720720"/>
          </a:xfrm>
        </p:grpSpPr>
        <p:sp>
          <p:nvSpPr>
            <p:cNvPr id="239" name="Oval 18"/>
            <p:cNvSpPr/>
            <p:nvPr/>
          </p:nvSpPr>
          <p:spPr>
            <a:xfrm>
              <a:off x="2846520" y="494208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0"/>
            <p:cNvSpPr/>
            <p:nvPr/>
          </p:nvSpPr>
          <p:spPr>
            <a:xfrm>
              <a:off x="3061080" y="4869000"/>
              <a:ext cx="433080" cy="43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2556000" y="4797360"/>
              <a:ext cx="43344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19"/>
            <p:cNvSpPr/>
            <p:nvPr/>
          </p:nvSpPr>
          <p:spPr>
            <a:xfrm>
              <a:off x="2846520" y="465300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Text Box 22"/>
          <p:cNvSpPr/>
          <p:nvPr/>
        </p:nvSpPr>
        <p:spPr>
          <a:xfrm>
            <a:off x="6972120" y="3429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укло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7184880" y="159228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3295440" y="628488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хема строения ато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63480" y="549360"/>
            <a:ext cx="333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Ат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это электронейтральная система взаимодействующих элементарных частиц, состоящая из ядра (образованного протонами и нейтронами) и электрон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0.53959 -0.29908 E">
                                      <p:cBhvr>
                                        <p:cTn id="20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35833 -0.19954 E">
                                      <p:cBhvr>
                                        <p:cTn id="22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1042 L 0.48056 0.00533 E">
                                      <p:cBhvr>
                                        <p:cTn id="24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1065 L 0.54357 0.09722 E">
                                      <p:cBhvr>
                                        <p:cTn id="25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4.07407E-006 L 0.35434 -0.37269 E">
                                      <p:cBhvr>
                                        <p:cTn id="27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24:39Z</dcterms:created>
  <dc:creator>Санёк</dc:creator>
  <dc:description/>
  <dc:language>en-US</dc:language>
  <cp:lastModifiedBy>User</cp:lastModifiedBy>
  <dcterms:modified xsi:type="dcterms:W3CDTF">2019-04-21T15:31:37Z</dcterms:modified>
  <cp:revision>5</cp:revision>
  <dc:subject/>
  <dc:title>Слайд 1</dc:title>
</cp:coreProperties>
</file>