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525D-8D63-4003-9330-FC081AEE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848B7-666D-4DCB-9E31-11FA3FFC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2CBDF-0F0A-45D3-A9D8-3D51E19F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8E7D-B9CB-4E1F-8FA8-31ED66C3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F7FB-BAEF-4700-B42E-D21E1CBB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923A-2473-4233-A5AC-D60E231C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C436-2B3E-4A71-8462-6970A166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2D7-9A13-45C8-B881-F9D1926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8F2A-403B-4BDE-8CD9-06B8F4C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A278-639A-4DB8-B716-0538F285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A5B-CFEA-4712-A450-CAC1ADD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7986-AA25-47CE-9314-3747C1C4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79A-CA00-4522-B081-54CBEE5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89DA-54B6-4340-A7D1-B8656DE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3A27-8AB6-441C-BD06-97E30239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E666-32B7-4910-9F35-86806687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5DB3-9C5A-4AE1-8856-60DB59F8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0C4A-088B-49E6-A23F-6F5400E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34C4-738E-4B8C-A90C-87976717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1903-3CAB-4E4B-9B79-E235CF4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829D-F7F4-4069-806B-06C02F0D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E855-0834-4EE2-9472-5423273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2519-EDD2-4C32-837C-9760EDD5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F10DC-BBA4-47C9-A583-359CBB48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24D-97EC-4C28-AD53-0FED6871C5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DC1-5922-4467-956D-2CD181A6B2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more7007/view/62677/" TargetMode="External"/><Relationship Id="rId3" Type="http://schemas.openxmlformats.org/officeDocument/2006/relationships/image" Target="../media/image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845602.html" TargetMode="External"/><Relationship Id="rId2" Type="http://schemas.openxmlformats.org/officeDocument/2006/relationships/image" Target="../media/image1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ервый космонавт земли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Юрий Алексеевич 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2484360" y="3284640"/>
            <a:ext cx="3960720" cy="3240000"/>
            <a:chOff x="2484360" y="3284640"/>
            <a:chExt cx="3960720" cy="3240000"/>
          </a:xfrm>
        </p:grpSpPr>
        <p:sp>
          <p:nvSpPr>
            <p:cNvPr id="103" name="Rectangle 19"/>
            <p:cNvSpPr/>
            <p:nvPr/>
          </p:nvSpPr>
          <p:spPr>
            <a:xfrm>
              <a:off x="2484360" y="3284640"/>
              <a:ext cx="3960720" cy="324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4" name="Picture 18" descr="gagarin_skaf"/>
            <p:cNvPicPr/>
            <p:nvPr/>
          </p:nvPicPr>
          <p:blipFill>
            <a:blip r:embed="rId2"/>
            <a:stretch/>
          </p:blipFill>
          <p:spPr>
            <a:xfrm>
              <a:off x="2556000" y="3357720"/>
              <a:ext cx="3809880" cy="3085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18864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Семь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68" name="Group 18"/>
          <p:cNvGrpSpPr/>
          <p:nvPr/>
        </p:nvGrpSpPr>
        <p:grpSpPr>
          <a:xfrm>
            <a:off x="1447920" y="1219320"/>
            <a:ext cx="6095880" cy="4267080"/>
            <a:chOff x="1447920" y="1219320"/>
            <a:chExt cx="6095880" cy="4267080"/>
          </a:xfrm>
        </p:grpSpPr>
        <p:sp>
          <p:nvSpPr>
            <p:cNvPr id="169" name="Rectangle 17"/>
            <p:cNvSpPr/>
            <p:nvPr/>
          </p:nvSpPr>
          <p:spPr>
            <a:xfrm>
              <a:off x="1447920" y="1219320"/>
              <a:ext cx="6095880" cy="426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0" name="Picture 12" descr="gagarin_2_30"/>
            <p:cNvPicPr/>
            <p:nvPr/>
          </p:nvPicPr>
          <p:blipFill>
            <a:blip r:embed="rId1"/>
            <a:stretch/>
          </p:blipFill>
          <p:spPr>
            <a:xfrm>
              <a:off x="1523880" y="1295280"/>
              <a:ext cx="5904000" cy="40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13"/>
          <p:cNvSpPr/>
          <p:nvPr/>
        </p:nvSpPr>
        <p:spPr>
          <a:xfrm>
            <a:off x="1384200" y="5199120"/>
            <a:ext cx="5275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63480" y="5486400"/>
            <a:ext cx="441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63920" y="5516640"/>
            <a:ext cx="71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Гагарин, жена и доч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3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оследний вы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1371600" y="1523880"/>
            <a:ext cx="6477120" cy="4114800"/>
            <a:chOff x="1371600" y="1523880"/>
            <a:chExt cx="6477120" cy="4114800"/>
          </a:xfrm>
        </p:grpSpPr>
        <p:sp>
          <p:nvSpPr>
            <p:cNvPr id="177" name="Rectangle 9"/>
            <p:cNvSpPr/>
            <p:nvPr/>
          </p:nvSpPr>
          <p:spPr>
            <a:xfrm>
              <a:off x="1371600" y="1523880"/>
              <a:ext cx="6477120" cy="4114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78" name="Picture 8" descr="gagarin14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324480" cy="393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AutoShape 11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амять народ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11280" y="1916280"/>
            <a:ext cx="44654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менем Гагар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званы город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лощади, улицы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его имя присвое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енно – воздушно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кадемии в Мони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2" name="Group 10"/>
          <p:cNvGrpSpPr/>
          <p:nvPr/>
        </p:nvGrpSpPr>
        <p:grpSpPr>
          <a:xfrm>
            <a:off x="5410080" y="1447920"/>
            <a:ext cx="2971800" cy="5029200"/>
            <a:chOff x="5410080" y="1447920"/>
            <a:chExt cx="2971800" cy="5029200"/>
          </a:xfrm>
        </p:grpSpPr>
        <p:sp>
          <p:nvSpPr>
            <p:cNvPr id="183" name="Rectangle 9"/>
            <p:cNvSpPr/>
            <p:nvPr/>
          </p:nvSpPr>
          <p:spPr>
            <a:xfrm>
              <a:off x="5410080" y="1447920"/>
              <a:ext cx="2971800" cy="50292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84" name="Picture 8" descr="gagarin_2_13"/>
            <p:cNvPicPr/>
            <p:nvPr/>
          </p:nvPicPr>
          <p:blipFill>
            <a:blip r:embed="rId1"/>
            <a:stretch/>
          </p:blipFill>
          <p:spPr>
            <a:xfrm>
              <a:off x="5486400" y="1523880"/>
              <a:ext cx="2781360" cy="48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AutoShape 11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оследняя запись в дневнике Юрия Гагарин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2742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Garamond"/>
              </a:rPr>
              <a:t>Нет у меня сильнее влечения, чем желание летать. Летчик должен летать. Всегда летать.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"/>
          <p:cNvSpPr/>
          <p:nvPr/>
        </p:nvSpPr>
        <p:spPr>
          <a:xfrm>
            <a:off x="46836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ец – Алексей Иванович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292720" y="5589720"/>
            <a:ext cx="331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ать – Анна Тимофеевн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агари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7" name="Group 24"/>
          <p:cNvGrpSpPr/>
          <p:nvPr/>
        </p:nvGrpSpPr>
        <p:grpSpPr>
          <a:xfrm>
            <a:off x="5508720" y="1557360"/>
            <a:ext cx="2808360" cy="3816360"/>
            <a:chOff x="5508720" y="1557360"/>
            <a:chExt cx="2808360" cy="3816360"/>
          </a:xfrm>
        </p:grpSpPr>
        <p:sp>
          <p:nvSpPr>
            <p:cNvPr id="108" name="Rectangle 19"/>
            <p:cNvSpPr/>
            <p:nvPr/>
          </p:nvSpPr>
          <p:spPr>
            <a:xfrm>
              <a:off x="5508720" y="1557360"/>
              <a:ext cx="280836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9" name="Picture 13" descr="Безимени-2"/>
            <p:cNvPicPr/>
            <p:nvPr/>
          </p:nvPicPr>
          <p:blipFill>
            <a:blip r:embed="rId1"/>
            <a:stretch/>
          </p:blipFill>
          <p:spPr>
            <a:xfrm>
              <a:off x="5580000" y="1628640"/>
              <a:ext cx="2692440" cy="36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23"/>
          <p:cNvGrpSpPr/>
          <p:nvPr/>
        </p:nvGrpSpPr>
        <p:grpSpPr>
          <a:xfrm>
            <a:off x="611280" y="1557360"/>
            <a:ext cx="3024000" cy="3816360"/>
            <a:chOff x="611280" y="1557360"/>
            <a:chExt cx="3024000" cy="3816360"/>
          </a:xfrm>
        </p:grpSpPr>
        <p:sp>
          <p:nvSpPr>
            <p:cNvPr id="111" name="Rectangle 18"/>
            <p:cNvSpPr/>
            <p:nvPr/>
          </p:nvSpPr>
          <p:spPr>
            <a:xfrm>
              <a:off x="611280" y="1557360"/>
              <a:ext cx="3024000" cy="3816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2" name="Picture 15" descr="Безимени-3 копия"/>
            <p:cNvPicPr/>
            <p:nvPr/>
          </p:nvPicPr>
          <p:blipFill>
            <a:blip r:embed="rId2"/>
            <a:stretch/>
          </p:blipFill>
          <p:spPr>
            <a:xfrm>
              <a:off x="684360" y="1628640"/>
              <a:ext cx="2844720" cy="36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16"/>
          <p:cNvSpPr/>
          <p:nvPr/>
        </p:nvSpPr>
        <p:spPr>
          <a:xfrm>
            <a:off x="2556000" y="260280"/>
            <a:ext cx="352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Родители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25">
            <a:hlinkClick r:id="rId3" action="ppaction://hlinksldjump"/>
          </p:cNvPr>
          <p:cNvSpPr/>
          <p:nvPr/>
        </p:nvSpPr>
        <p:spPr>
          <a:xfrm>
            <a:off x="8610480" y="6400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03640" y="260280"/>
            <a:ext cx="4680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Д е т с т в о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40384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Родился 9 марта 1934 года в селе Клушино Гжатского района Смоленской област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4643280" y="1484280"/>
            <a:ext cx="4176720" cy="4681440"/>
            <a:chOff x="4643280" y="1484280"/>
            <a:chExt cx="4176720" cy="4681440"/>
          </a:xfrm>
        </p:grpSpPr>
        <p:sp>
          <p:nvSpPr>
            <p:cNvPr id="118" name="Rectangle 16"/>
            <p:cNvSpPr/>
            <p:nvPr/>
          </p:nvSpPr>
          <p:spPr>
            <a:xfrm>
              <a:off x="4643280" y="1484280"/>
              <a:ext cx="4176720" cy="46814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19" name="Picture 10" descr="домик"/>
            <p:cNvPicPr/>
            <p:nvPr/>
          </p:nvPicPr>
          <p:blipFill>
            <a:blip r:embed="rId1"/>
            <a:stretch/>
          </p:blipFill>
          <p:spPr>
            <a:xfrm>
              <a:off x="4716360" y="1557360"/>
              <a:ext cx="4032360" cy="453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Group 17"/>
          <p:cNvGrpSpPr/>
          <p:nvPr/>
        </p:nvGrpSpPr>
        <p:grpSpPr>
          <a:xfrm>
            <a:off x="611280" y="260280"/>
            <a:ext cx="2232000" cy="3960720"/>
            <a:chOff x="611280" y="260280"/>
            <a:chExt cx="2232000" cy="3960720"/>
          </a:xfrm>
        </p:grpSpPr>
        <p:sp>
          <p:nvSpPr>
            <p:cNvPr id="121" name="Rectangle 15"/>
            <p:cNvSpPr/>
            <p:nvPr/>
          </p:nvSpPr>
          <p:spPr>
            <a:xfrm>
              <a:off x="611280" y="260280"/>
              <a:ext cx="2232000" cy="39607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22" name="Picture 14" descr="gagarin_2_25"/>
            <p:cNvPicPr/>
            <p:nvPr/>
          </p:nvPicPr>
          <p:blipFill>
            <a:blip r:embed="rId2"/>
            <a:stretch/>
          </p:blipFill>
          <p:spPr>
            <a:xfrm>
              <a:off x="684360" y="333360"/>
              <a:ext cx="208584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AutoShape 19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28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Учеб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267920"/>
            <a:ext cx="496872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51г. закончи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юберецкое ремеслен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лище по специа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овщик-литейщ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3933720"/>
            <a:ext cx="510192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955г. закончил с отличием Саратовский индустриальный технику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5435640" y="1268280"/>
            <a:ext cx="2881440" cy="4537080"/>
            <a:chOff x="5435640" y="1268280"/>
            <a:chExt cx="2881440" cy="4537080"/>
          </a:xfrm>
        </p:grpSpPr>
        <p:sp>
          <p:nvSpPr>
            <p:cNvPr id="128" name="Rectangle 9"/>
            <p:cNvSpPr/>
            <p:nvPr/>
          </p:nvSpPr>
          <p:spPr>
            <a:xfrm>
              <a:off x="5435640" y="1268280"/>
              <a:ext cx="2881440" cy="4537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29" name="Picture 8" descr="gagarin_2_24"/>
            <p:cNvPicPr/>
            <p:nvPr/>
          </p:nvPicPr>
          <p:blipFill>
            <a:blip r:embed="rId1"/>
            <a:stretch/>
          </p:blipFill>
          <p:spPr>
            <a:xfrm>
              <a:off x="5508720" y="1341360"/>
              <a:ext cx="2757240" cy="439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11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Увлечени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Занятия в аэроклубе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( 1954 год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348000" y="1557360"/>
            <a:ext cx="5256360" cy="4248000"/>
            <a:chOff x="3348000" y="1557360"/>
            <a:chExt cx="5256360" cy="4248000"/>
          </a:xfrm>
        </p:grpSpPr>
        <p:sp>
          <p:nvSpPr>
            <p:cNvPr id="134" name="Rectangle 9"/>
            <p:cNvSpPr/>
            <p:nvPr/>
          </p:nvSpPr>
          <p:spPr>
            <a:xfrm>
              <a:off x="3348000" y="1557360"/>
              <a:ext cx="5256360" cy="4248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5" name="Picture 8" descr="gagarin_2_27"/>
            <p:cNvPicPr/>
            <p:nvPr/>
          </p:nvPicPr>
          <p:blipFill>
            <a:blip r:embed="rId1"/>
            <a:stretch/>
          </p:blipFill>
          <p:spPr>
            <a:xfrm>
              <a:off x="3492360" y="1700280"/>
              <a:ext cx="5040360" cy="402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AutoShape 11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42920" y="259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Арми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590920"/>
            <a:ext cx="4038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ужба в армии и учеба в военно – авиационном училище в Оренбург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4800600" y="1371600"/>
            <a:ext cx="3657600" cy="4952880"/>
            <a:chOff x="4800600" y="1371600"/>
            <a:chExt cx="3657600" cy="4952880"/>
          </a:xfrm>
        </p:grpSpPr>
        <p:sp>
          <p:nvSpPr>
            <p:cNvPr id="140" name="Rectangle 9"/>
            <p:cNvSpPr/>
            <p:nvPr/>
          </p:nvSpPr>
          <p:spPr>
            <a:xfrm>
              <a:off x="4800600" y="1371600"/>
              <a:ext cx="3657600" cy="4952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1" name="Picture 8" descr="0_f454_cbec54fd_L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76920" y="1447920"/>
              <a:ext cx="3483000" cy="48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AutoShape 11">
            <a:hlinkClick r:id="rId4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Космос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599840"/>
            <a:ext cx="6553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1960 год включен в группу кандидатов в космонав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5" name="Group 12"/>
          <p:cNvGrpSpPr/>
          <p:nvPr/>
        </p:nvGrpSpPr>
        <p:grpSpPr>
          <a:xfrm>
            <a:off x="3657600" y="3276720"/>
            <a:ext cx="4952880" cy="2590560"/>
            <a:chOff x="3657600" y="3276720"/>
            <a:chExt cx="4952880" cy="2590560"/>
          </a:xfrm>
        </p:grpSpPr>
        <p:sp>
          <p:nvSpPr>
            <p:cNvPr id="146" name="Rectangle 11"/>
            <p:cNvSpPr/>
            <p:nvPr/>
          </p:nvSpPr>
          <p:spPr>
            <a:xfrm>
              <a:off x="3657600" y="3276720"/>
              <a:ext cx="4952880" cy="25905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7" name="Picture 8" descr="titovgroup"/>
            <p:cNvPicPr/>
            <p:nvPr/>
          </p:nvPicPr>
          <p:blipFill>
            <a:blip r:embed="rId1"/>
            <a:stretch/>
          </p:blipFill>
          <p:spPr>
            <a:xfrm>
              <a:off x="3733920" y="3352680"/>
              <a:ext cx="4752720" cy="243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10"/>
          <p:cNvSpPr/>
          <p:nvPr/>
        </p:nvSpPr>
        <p:spPr>
          <a:xfrm>
            <a:off x="1143000" y="4724280"/>
            <a:ext cx="190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Гагар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685800" y="5410080"/>
            <a:ext cx="2895480" cy="0"/>
          </a:xfrm>
          <a:prstGeom prst="line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3">
            <a:hlinkClick r:id="rId2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Первый полет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2 апреля 1961 года Юрий Гагарин впервые в мире совершил полет в космос на космическом корабле – спутнике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сто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4427640" y="1557360"/>
            <a:ext cx="4248000" cy="4680000"/>
            <a:chOff x="4427640" y="1557360"/>
            <a:chExt cx="4248000" cy="4680000"/>
          </a:xfrm>
        </p:grpSpPr>
        <p:sp>
          <p:nvSpPr>
            <p:cNvPr id="154" name="Rectangle 13"/>
            <p:cNvSpPr/>
            <p:nvPr/>
          </p:nvSpPr>
          <p:spPr>
            <a:xfrm>
              <a:off x="4427640" y="1557360"/>
              <a:ext cx="4248000" cy="4680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55" name="Picture 12" descr="12 апреля 1961 года Советский Союз вывел на орбиту Земли космический корабль-спутник &quot;Восток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500720" y="1628640"/>
              <a:ext cx="4103640" cy="453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AutoShape 15">
            <a:hlinkClick r:id="rId3" action="ppaction://hlinksldjump"/>
          </p:cNvPr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Garamond"/>
              </a:rPr>
              <a:t>Мировая слав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Его приглашали во многие страны ми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9" name="Group 15"/>
          <p:cNvGrpSpPr/>
          <p:nvPr/>
        </p:nvGrpSpPr>
        <p:grpSpPr>
          <a:xfrm>
            <a:off x="228600" y="3581280"/>
            <a:ext cx="4038480" cy="2819520"/>
            <a:chOff x="228600" y="3581280"/>
            <a:chExt cx="4038480" cy="2819520"/>
          </a:xfrm>
        </p:grpSpPr>
        <p:sp>
          <p:nvSpPr>
            <p:cNvPr id="160" name="Rectangle 12"/>
            <p:cNvSpPr/>
            <p:nvPr/>
          </p:nvSpPr>
          <p:spPr>
            <a:xfrm>
              <a:off x="228600" y="3581280"/>
              <a:ext cx="4038480" cy="2819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1" name="Picture 8" descr="0_25b23_592c55b2_L"/>
            <p:cNvPicPr/>
            <p:nvPr/>
          </p:nvPicPr>
          <p:blipFill>
            <a:blip r:embed="rId2"/>
            <a:stretch/>
          </p:blipFill>
          <p:spPr>
            <a:xfrm>
              <a:off x="304920" y="3657600"/>
              <a:ext cx="3898800" cy="268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4"/>
          <p:cNvGrpSpPr/>
          <p:nvPr/>
        </p:nvGrpSpPr>
        <p:grpSpPr>
          <a:xfrm>
            <a:off x="4724280" y="1600200"/>
            <a:ext cx="4114800" cy="3048120"/>
            <a:chOff x="4724280" y="1600200"/>
            <a:chExt cx="4114800" cy="3048120"/>
          </a:xfrm>
        </p:grpSpPr>
        <p:sp>
          <p:nvSpPr>
            <p:cNvPr id="163" name="Rectangle 13"/>
            <p:cNvSpPr/>
            <p:nvPr/>
          </p:nvSpPr>
          <p:spPr>
            <a:xfrm>
              <a:off x="4724280" y="1600200"/>
              <a:ext cx="4114800" cy="30481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64" name="Picture 10" descr="0_fc0f_4f1734bf_L"/>
            <p:cNvPicPr/>
            <p:nvPr/>
          </p:nvPicPr>
          <p:blipFill>
            <a:blip r:embed="rId3"/>
            <a:stretch/>
          </p:blipFill>
          <p:spPr>
            <a:xfrm>
              <a:off x="4800600" y="1676520"/>
              <a:ext cx="3954600" cy="28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11"/>
          <p:cNvSpPr/>
          <p:nvPr/>
        </p:nvSpPr>
        <p:spPr>
          <a:xfrm>
            <a:off x="5334120" y="48006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Фиделем Кастр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8610480" y="639432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3794" y="9642"/>
                </a:moveTo>
                <a:lnTo>
                  <a:pt x="7301" y="9642"/>
                </a:lnTo>
                <a:lnTo>
                  <a:pt x="7301" y="14978"/>
                </a:lnTo>
                <a:cubicBezTo>
                  <a:pt x="7301" y="15900"/>
                  <a:pt x="8102" y="16631"/>
                  <a:pt x="9138" y="16631"/>
                </a:cubicBezTo>
                <a:lnTo>
                  <a:pt x="10800" y="16631"/>
                </a:lnTo>
                <a:cubicBezTo>
                  <a:pt x="11836" y="16631"/>
                  <a:pt x="12636" y="15900"/>
                  <a:pt x="12636" y="14978"/>
                </a:cubicBezTo>
                <a:lnTo>
                  <a:pt x="12636" y="9642"/>
                </a:lnTo>
                <a:lnTo>
                  <a:pt x="10800" y="9642"/>
                </a:lnTo>
                <a:lnTo>
                  <a:pt x="14308" y="6135"/>
                </a:lnTo>
                <a:lnTo>
                  <a:pt x="17981" y="9642"/>
                </a:lnTo>
                <a:lnTo>
                  <a:pt x="16144" y="9642"/>
                </a:lnTo>
                <a:lnTo>
                  <a:pt x="16144" y="14978"/>
                </a:lnTo>
                <a:cubicBezTo>
                  <a:pt x="16144" y="17746"/>
                  <a:pt x="13568" y="20304"/>
                  <a:pt x="10800" y="20304"/>
                </a:cubicBezTo>
                <a:lnTo>
                  <a:pt x="9138" y="20304"/>
                </a:lnTo>
                <a:cubicBezTo>
                  <a:pt x="6370" y="20304"/>
                  <a:pt x="3794" y="17746"/>
                  <a:pt x="3794" y="1497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1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3:14:45Z</dcterms:created>
  <dc:creator>Ученик</dc:creator>
  <dc:description/>
  <dc:language>en-US</dc:language>
  <cp:lastModifiedBy>USER</cp:lastModifiedBy>
  <dcterms:modified xsi:type="dcterms:W3CDTF">2019-04-21T09:29:02Z</dcterms:modified>
  <cp:revision>14</cp:revision>
  <dc:subject/>
  <dc:title>Первый космонавт земли</dc:title>
</cp:coreProperties>
</file>