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0A60-0840-4419-B635-7C727035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B94D-8EA6-46B4-9AF3-10741E45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CFF2-06B6-4B82-9F30-3DBADDCF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13DA-5E96-492D-B285-2354DF5B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59F7-2458-4A13-8362-8EF2B3B9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FFDA-A1FA-4555-AB58-BD390132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EC2F-9BB5-4705-B0F9-E3FAF7F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C667-FD6F-4D2D-ABB7-FC5C1F3A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7956-1E7C-447A-AD55-A373556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360E-B4B0-4163-9ADB-4E3A5B9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501B-AE99-4D9D-A4F7-C782223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0FE2-F34A-49D4-9C96-66807020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F45C-152D-4A0F-B4A2-7359371B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497F-AD68-4B30-AA6D-6BB8EF5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BBE7-BB14-45C4-A8C3-5471A444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381E-6B0A-473A-B3FE-913F9B52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7DBD-864F-4D92-A72C-52AC8BAE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F2FE-3771-4E85-8474-2A1CD16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172B-7992-4194-93F5-15B19B0A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1C44-218A-4E37-B1A4-E311D32F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14F1-3469-4FCD-B88A-63EABFF4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EF9E-C1EE-4F45-BBB3-9A412C2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4F60-98C2-4A88-9D23-C995CD2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8F6F-BE32-401D-A05A-ED01875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E4EE-CBE1-4DE8-A9E9-3B0A7A1780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5A9D-1371-419B-A3CB-94598A0F3C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more7007/view/62677/" TargetMode="Externa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845602.html" TargetMode="External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ервый космонавт земл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Юрий Алексеевич Гагар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2484360" y="3284640"/>
            <a:ext cx="3960720" cy="3240000"/>
            <a:chOff x="2484360" y="3284640"/>
            <a:chExt cx="3960720" cy="3240000"/>
          </a:xfrm>
        </p:grpSpPr>
        <p:sp>
          <p:nvSpPr>
            <p:cNvPr id="103" name="Rectangle 19"/>
            <p:cNvSpPr/>
            <p:nvPr/>
          </p:nvSpPr>
          <p:spPr>
            <a:xfrm>
              <a:off x="2484360" y="3284640"/>
              <a:ext cx="3960720" cy="324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4" name="Picture 18" descr="gagarin_skaf"/>
            <p:cNvPicPr/>
            <p:nvPr/>
          </p:nvPicPr>
          <p:blipFill>
            <a:blip r:embed="rId2"/>
            <a:stretch/>
          </p:blipFill>
          <p:spPr>
            <a:xfrm>
              <a:off x="2556000" y="3357720"/>
              <a:ext cx="3809880" cy="3085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Семь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68" name="Group 18"/>
          <p:cNvGrpSpPr/>
          <p:nvPr/>
        </p:nvGrpSpPr>
        <p:grpSpPr>
          <a:xfrm>
            <a:off x="1447920" y="1219320"/>
            <a:ext cx="6095880" cy="4267080"/>
            <a:chOff x="1447920" y="1219320"/>
            <a:chExt cx="6095880" cy="4267080"/>
          </a:xfrm>
        </p:grpSpPr>
        <p:sp>
          <p:nvSpPr>
            <p:cNvPr id="169" name="Rectangle 17"/>
            <p:cNvSpPr/>
            <p:nvPr/>
          </p:nvSpPr>
          <p:spPr>
            <a:xfrm>
              <a:off x="1447920" y="1219320"/>
              <a:ext cx="6095880" cy="426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0" name="Picture 12" descr="gagarin_2_30"/>
            <p:cNvPicPr/>
            <p:nvPr/>
          </p:nvPicPr>
          <p:blipFill>
            <a:blip r:embed="rId1"/>
            <a:stretch/>
          </p:blipFill>
          <p:spPr>
            <a:xfrm>
              <a:off x="1523880" y="1295280"/>
              <a:ext cx="5904000" cy="408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 Box 13"/>
          <p:cNvSpPr/>
          <p:nvPr/>
        </p:nvSpPr>
        <p:spPr>
          <a:xfrm>
            <a:off x="1384200" y="5199120"/>
            <a:ext cx="527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63480" y="5486400"/>
            <a:ext cx="441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63920" y="5516640"/>
            <a:ext cx="71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Гагарин, жена и дочк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оследний вы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1371600" y="1523880"/>
            <a:ext cx="6477120" cy="4114800"/>
            <a:chOff x="1371600" y="1523880"/>
            <a:chExt cx="6477120" cy="4114800"/>
          </a:xfrm>
        </p:grpSpPr>
        <p:sp>
          <p:nvSpPr>
            <p:cNvPr id="177" name="Rectangle 9"/>
            <p:cNvSpPr/>
            <p:nvPr/>
          </p:nvSpPr>
          <p:spPr>
            <a:xfrm>
              <a:off x="1371600" y="1523880"/>
              <a:ext cx="6477120" cy="4114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8" name="Picture 8" descr="gagarin14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324480" cy="393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AutoShape 11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амять народ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11280" y="1916280"/>
            <a:ext cx="44654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менем Гага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званы город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лощади, улицы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его имя присвое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енно – воздуш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кадемии в Мони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5410080" y="1447920"/>
            <a:ext cx="2971800" cy="5029200"/>
            <a:chOff x="5410080" y="1447920"/>
            <a:chExt cx="2971800" cy="5029200"/>
          </a:xfrm>
        </p:grpSpPr>
        <p:sp>
          <p:nvSpPr>
            <p:cNvPr id="183" name="Rectangle 9"/>
            <p:cNvSpPr/>
            <p:nvPr/>
          </p:nvSpPr>
          <p:spPr>
            <a:xfrm>
              <a:off x="5410080" y="1447920"/>
              <a:ext cx="2971800" cy="5029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84" name="Picture 8" descr="gagarin_2_13"/>
            <p:cNvPicPr/>
            <p:nvPr/>
          </p:nvPicPr>
          <p:blipFill>
            <a:blip r:embed="rId1"/>
            <a:stretch/>
          </p:blipFill>
          <p:spPr>
            <a:xfrm>
              <a:off x="5486400" y="1523880"/>
              <a:ext cx="2781360" cy="48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AutoShape 11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оследняя запись в дневнике Юрия Гагарин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742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Нет у меня сильнее влечения, чем желание летать. Летчик должен летать. Всегда летать.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46836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тец – Алексей Иванович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9272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ать – Анна Тимофеевн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агар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7" name="Group 24"/>
          <p:cNvGrpSpPr/>
          <p:nvPr/>
        </p:nvGrpSpPr>
        <p:grpSpPr>
          <a:xfrm>
            <a:off x="5508720" y="1557360"/>
            <a:ext cx="2808360" cy="3816360"/>
            <a:chOff x="5508720" y="1557360"/>
            <a:chExt cx="2808360" cy="3816360"/>
          </a:xfrm>
        </p:grpSpPr>
        <p:sp>
          <p:nvSpPr>
            <p:cNvPr id="108" name="Rectangle 19"/>
            <p:cNvSpPr/>
            <p:nvPr/>
          </p:nvSpPr>
          <p:spPr>
            <a:xfrm>
              <a:off x="5508720" y="1557360"/>
              <a:ext cx="280836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9" name="Picture 13" descr="Безимени-2"/>
            <p:cNvPicPr/>
            <p:nvPr/>
          </p:nvPicPr>
          <p:blipFill>
            <a:blip r:embed="rId1"/>
            <a:stretch/>
          </p:blipFill>
          <p:spPr>
            <a:xfrm>
              <a:off x="5580000" y="1628640"/>
              <a:ext cx="2692440" cy="36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23"/>
          <p:cNvGrpSpPr/>
          <p:nvPr/>
        </p:nvGrpSpPr>
        <p:grpSpPr>
          <a:xfrm>
            <a:off x="611280" y="1557360"/>
            <a:ext cx="3024000" cy="3816360"/>
            <a:chOff x="611280" y="1557360"/>
            <a:chExt cx="3024000" cy="3816360"/>
          </a:xfrm>
        </p:grpSpPr>
        <p:sp>
          <p:nvSpPr>
            <p:cNvPr id="111" name="Rectangle 18"/>
            <p:cNvSpPr/>
            <p:nvPr/>
          </p:nvSpPr>
          <p:spPr>
            <a:xfrm>
              <a:off x="611280" y="1557360"/>
              <a:ext cx="302400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2" name="Picture 15" descr="Безимени-3 копия"/>
            <p:cNvPicPr/>
            <p:nvPr/>
          </p:nvPicPr>
          <p:blipFill>
            <a:blip r:embed="rId2"/>
            <a:stretch/>
          </p:blipFill>
          <p:spPr>
            <a:xfrm>
              <a:off x="684360" y="1628640"/>
              <a:ext cx="284472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16"/>
          <p:cNvSpPr/>
          <p:nvPr/>
        </p:nvSpPr>
        <p:spPr>
          <a:xfrm>
            <a:off x="2556000" y="260280"/>
            <a:ext cx="35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Родител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25">
            <a:hlinkClick r:id="rId3" action="ppaction://hlinksldjump"/>
          </p:cNvPr>
          <p:cNvSpPr/>
          <p:nvPr/>
        </p:nvSpPr>
        <p:spPr>
          <a:xfrm>
            <a:off x="8610480" y="6400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3640" y="260280"/>
            <a:ext cx="4680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Д е т с т в о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429228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Родился 9 марта 1934 года в селе Клушино Гжатского района Смоленской обла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Group 18"/>
          <p:cNvGrpSpPr/>
          <p:nvPr/>
        </p:nvGrpSpPr>
        <p:grpSpPr>
          <a:xfrm>
            <a:off x="4643280" y="1484280"/>
            <a:ext cx="4176720" cy="4681440"/>
            <a:chOff x="4643280" y="1484280"/>
            <a:chExt cx="4176720" cy="4681440"/>
          </a:xfrm>
        </p:grpSpPr>
        <p:sp>
          <p:nvSpPr>
            <p:cNvPr id="118" name="Rectangle 16"/>
            <p:cNvSpPr/>
            <p:nvPr/>
          </p:nvSpPr>
          <p:spPr>
            <a:xfrm>
              <a:off x="4643280" y="1484280"/>
              <a:ext cx="4176720" cy="46814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9" name="Picture 10" descr="домик"/>
            <p:cNvPicPr/>
            <p:nvPr/>
          </p:nvPicPr>
          <p:blipFill>
            <a:blip r:embed="rId1"/>
            <a:stretch/>
          </p:blipFill>
          <p:spPr>
            <a:xfrm>
              <a:off x="4716360" y="1557360"/>
              <a:ext cx="4032360" cy="453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7"/>
          <p:cNvGrpSpPr/>
          <p:nvPr/>
        </p:nvGrpSpPr>
        <p:grpSpPr>
          <a:xfrm>
            <a:off x="611280" y="260280"/>
            <a:ext cx="2232000" cy="3960720"/>
            <a:chOff x="611280" y="260280"/>
            <a:chExt cx="2232000" cy="3960720"/>
          </a:xfrm>
        </p:grpSpPr>
        <p:sp>
          <p:nvSpPr>
            <p:cNvPr id="121" name="Rectangle 15"/>
            <p:cNvSpPr/>
            <p:nvPr/>
          </p:nvSpPr>
          <p:spPr>
            <a:xfrm>
              <a:off x="611280" y="260280"/>
              <a:ext cx="2232000" cy="3960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22" name="Picture 14" descr="gagarin_2_25"/>
            <p:cNvPicPr/>
            <p:nvPr/>
          </p:nvPicPr>
          <p:blipFill>
            <a:blip r:embed="rId2"/>
            <a:stretch/>
          </p:blipFill>
          <p:spPr>
            <a:xfrm>
              <a:off x="684360" y="333360"/>
              <a:ext cx="208584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AutoShape 19">
            <a:hlinkClick r:id="rId3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28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Учеб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267920"/>
            <a:ext cx="496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51г. закончи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юберецкое ремесленн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лище по специа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овщик-литейщ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3933720"/>
            <a:ext cx="51019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55г. закончил с отличием Саратовский индустриальный технику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5435640" y="1268280"/>
            <a:ext cx="2881440" cy="4537080"/>
            <a:chOff x="5435640" y="1268280"/>
            <a:chExt cx="2881440" cy="4537080"/>
          </a:xfrm>
        </p:grpSpPr>
        <p:sp>
          <p:nvSpPr>
            <p:cNvPr id="128" name="Rectangle 9"/>
            <p:cNvSpPr/>
            <p:nvPr/>
          </p:nvSpPr>
          <p:spPr>
            <a:xfrm>
              <a:off x="5435640" y="1268280"/>
              <a:ext cx="2881440" cy="453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29" name="Picture 8" descr="gagarin_2_24"/>
            <p:cNvPicPr/>
            <p:nvPr/>
          </p:nvPicPr>
          <p:blipFill>
            <a:blip r:embed="rId1"/>
            <a:stretch/>
          </p:blipFill>
          <p:spPr>
            <a:xfrm>
              <a:off x="5508720" y="1341360"/>
              <a:ext cx="2757240" cy="439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AutoShape 11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Увлеч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Занятия в аэроклу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( 1954 год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348000" y="1557360"/>
            <a:ext cx="5256360" cy="4248000"/>
            <a:chOff x="3348000" y="1557360"/>
            <a:chExt cx="5256360" cy="4248000"/>
          </a:xfrm>
        </p:grpSpPr>
        <p:sp>
          <p:nvSpPr>
            <p:cNvPr id="134" name="Rectangle 9"/>
            <p:cNvSpPr/>
            <p:nvPr/>
          </p:nvSpPr>
          <p:spPr>
            <a:xfrm>
              <a:off x="3348000" y="1557360"/>
              <a:ext cx="5256360" cy="4248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5" name="Picture 8" descr="gagarin_2_27"/>
            <p:cNvPicPr/>
            <p:nvPr/>
          </p:nvPicPr>
          <p:blipFill>
            <a:blip r:embed="rId1"/>
            <a:stretch/>
          </p:blipFill>
          <p:spPr>
            <a:xfrm>
              <a:off x="3492360" y="1700280"/>
              <a:ext cx="5040360" cy="40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AutoShape 11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Арм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590920"/>
            <a:ext cx="4038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ужба в армии и учеба в военно – авиационном училище в Оренбург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4800600" y="1371600"/>
            <a:ext cx="3657600" cy="4952880"/>
            <a:chOff x="4800600" y="1371600"/>
            <a:chExt cx="3657600" cy="4952880"/>
          </a:xfrm>
        </p:grpSpPr>
        <p:sp>
          <p:nvSpPr>
            <p:cNvPr id="140" name="Rectangle 9"/>
            <p:cNvSpPr/>
            <p:nvPr/>
          </p:nvSpPr>
          <p:spPr>
            <a:xfrm>
              <a:off x="4800600" y="1371600"/>
              <a:ext cx="3657600" cy="4952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1" name="Picture 8" descr="0_f454_cbec54fd_L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76920" y="1447920"/>
              <a:ext cx="3483000" cy="48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AutoShape 11">
            <a:hlinkClick r:id="rId4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Космос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599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960 год включен в группу кандидатов в космонав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5" name="Group 12"/>
          <p:cNvGrpSpPr/>
          <p:nvPr/>
        </p:nvGrpSpPr>
        <p:grpSpPr>
          <a:xfrm>
            <a:off x="3657600" y="3276720"/>
            <a:ext cx="4952880" cy="2590560"/>
            <a:chOff x="3657600" y="3276720"/>
            <a:chExt cx="4952880" cy="2590560"/>
          </a:xfrm>
        </p:grpSpPr>
        <p:sp>
          <p:nvSpPr>
            <p:cNvPr id="146" name="Rectangle 11"/>
            <p:cNvSpPr/>
            <p:nvPr/>
          </p:nvSpPr>
          <p:spPr>
            <a:xfrm>
              <a:off x="3657600" y="3276720"/>
              <a:ext cx="4952880" cy="25905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7" name="Picture 8" descr="titovgroup"/>
            <p:cNvPicPr/>
            <p:nvPr/>
          </p:nvPicPr>
          <p:blipFill>
            <a:blip r:embed="rId1"/>
            <a:stretch/>
          </p:blipFill>
          <p:spPr>
            <a:xfrm>
              <a:off x="3733920" y="3352680"/>
              <a:ext cx="4752720" cy="243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10"/>
          <p:cNvSpPr/>
          <p:nvPr/>
        </p:nvSpPr>
        <p:spPr>
          <a:xfrm>
            <a:off x="1143000" y="472428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685800" y="5410080"/>
            <a:ext cx="2895480" cy="0"/>
          </a:xfrm>
          <a:prstGeom prst="line">
            <a:avLst/>
          </a:prstGeom>
          <a:ln w="381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3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ервый по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2 апреля 1961 года Юрий Гагарин впервые в мире совершил полет в космос на космическом корабле – спутнике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сто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4427640" y="1557360"/>
            <a:ext cx="4248000" cy="4680000"/>
            <a:chOff x="4427640" y="1557360"/>
            <a:chExt cx="4248000" cy="4680000"/>
          </a:xfrm>
        </p:grpSpPr>
        <p:sp>
          <p:nvSpPr>
            <p:cNvPr id="154" name="Rectangle 13"/>
            <p:cNvSpPr/>
            <p:nvPr/>
          </p:nvSpPr>
          <p:spPr>
            <a:xfrm>
              <a:off x="4427640" y="1557360"/>
              <a:ext cx="4248000" cy="468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55" name="Picture 12" descr="12 апреля 1961 года Советский Союз вывел на орбиту Земли космический корабль-спутник &quot;Восток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500720" y="1628640"/>
              <a:ext cx="4103640" cy="453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AutoShape 15">
            <a:hlinkClick r:id="rId3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Мировая сла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Его приглашали во многие страны ми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228600" y="3581280"/>
            <a:ext cx="4038480" cy="2819520"/>
            <a:chOff x="228600" y="3581280"/>
            <a:chExt cx="4038480" cy="2819520"/>
          </a:xfrm>
        </p:grpSpPr>
        <p:sp>
          <p:nvSpPr>
            <p:cNvPr id="160" name="Rectangle 12"/>
            <p:cNvSpPr/>
            <p:nvPr/>
          </p:nvSpPr>
          <p:spPr>
            <a:xfrm>
              <a:off x="228600" y="3581280"/>
              <a:ext cx="4038480" cy="2819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61" name="Picture 8" descr="0_25b23_592c55b2_L"/>
            <p:cNvPicPr/>
            <p:nvPr/>
          </p:nvPicPr>
          <p:blipFill>
            <a:blip r:embed="rId2"/>
            <a:stretch/>
          </p:blipFill>
          <p:spPr>
            <a:xfrm>
              <a:off x="304920" y="3657600"/>
              <a:ext cx="3898800" cy="26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4"/>
          <p:cNvGrpSpPr/>
          <p:nvPr/>
        </p:nvGrpSpPr>
        <p:grpSpPr>
          <a:xfrm>
            <a:off x="4724280" y="1600200"/>
            <a:ext cx="4114800" cy="3048120"/>
            <a:chOff x="4724280" y="1600200"/>
            <a:chExt cx="4114800" cy="3048120"/>
          </a:xfrm>
        </p:grpSpPr>
        <p:sp>
          <p:nvSpPr>
            <p:cNvPr id="163" name="Rectangle 13"/>
            <p:cNvSpPr/>
            <p:nvPr/>
          </p:nvSpPr>
          <p:spPr>
            <a:xfrm>
              <a:off x="4724280" y="1600200"/>
              <a:ext cx="4114800" cy="30481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64" name="Picture 10" descr="0_fc0f_4f1734bf_L"/>
            <p:cNvPicPr/>
            <p:nvPr/>
          </p:nvPicPr>
          <p:blipFill>
            <a:blip r:embed="rId3"/>
            <a:stretch/>
          </p:blipFill>
          <p:spPr>
            <a:xfrm>
              <a:off x="4800600" y="1676520"/>
              <a:ext cx="3954600" cy="28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11"/>
          <p:cNvSpPr/>
          <p:nvPr/>
        </p:nvSpPr>
        <p:spPr>
          <a:xfrm>
            <a:off x="5334120" y="48006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Фиделем Кастр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1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14:45Z</dcterms:created>
  <dc:creator>Ученик</dc:creator>
  <dc:description/>
  <dc:language>en-US</dc:language>
  <cp:lastModifiedBy>USER</cp:lastModifiedBy>
  <dcterms:modified xsi:type="dcterms:W3CDTF">2019-04-21T09:29:02Z</dcterms:modified>
  <cp:revision>14</cp:revision>
  <dc:subject/>
  <dc:title>Первый космонавт земли</dc:title>
</cp:coreProperties>
</file>