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1AA9-C920-4379-9724-A7321036D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C17D-4C1B-44ED-8CB5-13635C10B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3320-9206-4F55-AEB3-AE323C257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2D0-84E3-44A3-9C5A-10003A8BB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9CB7-ABFD-4C94-A04C-DFF5A79446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D608-A886-4CC9-B66B-C0097B18D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7E70-2509-4B6C-BC60-D4FA90DBE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229-CE09-4BF1-90C9-B6C88B546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C473-6F6C-4C17-A333-12ACD77AC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CDC7-5487-48A3-8EFE-C1F6912677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CE0E-10F1-41E4-9717-C85C6902B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3F45-24D7-4D49-93DE-F150BB86A5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351-AE38-42E0-807B-BE5152A91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9037-E0C7-4C86-8DD3-21AB42612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F0B3-33CA-4B42-9E8F-E75C6B8AF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66AA-0F8A-48ED-AF31-60E96F24F1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2536-A910-4684-B3F7-33B602AB2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3EB6-9E3A-492F-8047-7C52B69E7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8CB-AF94-46BC-95A8-3AFC092808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AB2E-3426-487E-8425-954A611EF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парр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469C-DEB8-41CF-B749-FDEF5161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F16-C560-4A6D-99C8-AA7D738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BE8-E046-4816-A4BA-B6E2FDFC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33B-9304-418C-8664-4229AF54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531-DD5A-443F-91FB-620EF4F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047-3F14-4242-85F4-CC3AE705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CCAA-54DB-4003-86EC-6750DECD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281-335B-4C25-BC00-8B4C3873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CCE-4B3C-45E0-BC2C-B16D59D9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55F-96B2-4B4C-B4F2-774ED8D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FA6-3EFA-4563-A5FC-ED6747C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1DB-64AF-4F8E-9926-8508554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E64B-E788-4061-A012-A523D20AF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E:%5C&#1061;-&#1052;&#1072;&#1085;&#1089;&#1080;&#1081;&#1089;&#1082;%5C&#1089;&#1082;&#1072;&#1095;&#1077;&#1085;&#1086;%5C&#1053;&#1086;&#1074;&#1072;&#1103;%20&#1087;&#1072;&#1087;&#1082;&#1072;%5C30%20yjz,%5C30%20yjz,%5C&#1055;&#1089;&#1080;&#1093;&#1086;&#1083;&#1086;&#1075;&#1080;%5C&#1052;&#1080;&#1088;%20&#1075;&#1083;&#1072;&#1079;&#1072;&#1084;&#1080;%20&#1088;&#1077;&#1073;&#1077;&#1085;&#1082;&#1072;-&#1091;&#1089;&#1077;&#1095;&#1077;&#1085;&#1099;&#1081;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5651640" y="260280"/>
            <a:ext cx="28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мам и папам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свяща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C:\Users\ru\Desktop\эмблема солнышка\1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987640" y="5516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ниж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ru\Desktop\эмблема солнышка\11.jpg"/>
          <p:cNvPicPr/>
          <p:nvPr/>
        </p:nvPicPr>
        <p:blipFill>
          <a:blip r:embed="rId1"/>
          <a:stretch/>
        </p:blipFill>
        <p:spPr>
          <a:xfrm>
            <a:off x="285840" y="28584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6084720" y="1844640"/>
            <a:ext cx="280836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отказывайте ребенку в помощи, если он  с чем-то не справляется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просит помочь… Даже если и не просит - замечайте, когда ребенку плохо, и помогайте ему в этот мо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Users\ru\Desktop\эмблема солнышка\12.jpg"/>
          <p:cNvPicPr/>
          <p:nvPr/>
        </p:nvPicPr>
        <p:blipFill>
          <a:blip r:embed="rId1"/>
          <a:stretch/>
        </p:blipFill>
        <p:spPr>
          <a:xfrm>
            <a:off x="571680" y="164304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611280" y="260280"/>
            <a:ext cx="684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мучь себя, если не можешь чего-то сделать для своего ребенка, мучь – если можешь, но не дела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C:\Users\ru\Desktop\эмблема солнышка\13.jpg"/>
          <p:cNvPicPr/>
          <p:nvPr/>
        </p:nvPicPr>
        <p:blipFill>
          <a:blip r:embed="rId1"/>
          <a:stretch/>
        </p:blipFill>
        <p:spPr>
          <a:xfrm>
            <a:off x="2413080" y="1809720"/>
            <a:ext cx="4317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6012000" y="2198520"/>
            <a:ext cx="291600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наказывайте ребенка, не дав ему объясниться            (не ставьте сразу в угол, не ругайте)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казание назначенное в гневе, не достигает цели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И.Кан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:\Users\ru\Desktop\эмблема солнышка\14.jpg"/>
          <p:cNvPicPr/>
          <p:nvPr/>
        </p:nvPicPr>
        <p:blipFill>
          <a:blip r:embed="rId1"/>
          <a:srcRect l="6620" t="0" r="9005" b="0"/>
          <a:stretch/>
        </p:blipFill>
        <p:spPr>
          <a:xfrm>
            <a:off x="1071720" y="1500120"/>
            <a:ext cx="364320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588000" y="1916280"/>
            <a:ext cx="187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: для ребенка сделано недостаточно, если не сделано вс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C:\Users\ru\Desktop\эмблема солнышка\15.jpg"/>
          <p:cNvPicPr/>
          <p:nvPr/>
        </p:nvPicPr>
        <p:blipFill>
          <a:blip r:embed="rId1"/>
          <a:stretch/>
        </p:blipFill>
        <p:spPr>
          <a:xfrm>
            <a:off x="857160" y="128592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826920" y="620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й любить чужого ребенка. Никогда не делай чужому то, что не хотел бы, чтобы другие сделали тво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Users\ru\Desktop\эмблема солнышка\16.jpg"/>
          <p:cNvPicPr/>
          <p:nvPr/>
        </p:nvPicPr>
        <p:blipFill>
          <a:blip r:embed="rId1"/>
          <a:srcRect l="0" t="30147" r="0" b="0"/>
          <a:stretch/>
        </p:blipFill>
        <p:spPr>
          <a:xfrm>
            <a:off x="2413080" y="2786040"/>
            <a:ext cx="43178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468360" y="5516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и своего ребенка любым: неталантливым, неудачливым, взрослым. Общаясь с ним, радуйся, потому что – это праздник, который пока с т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:\Users\ru\Desktop\эмблема солнышка\17.jpg"/>
          <p:cNvPicPr/>
          <p:nvPr/>
        </p:nvPicPr>
        <p:blipFill>
          <a:blip r:embed="rId1"/>
          <a:stretch/>
        </p:blipFill>
        <p:spPr>
          <a:xfrm>
            <a:off x="1214280" y="571680"/>
            <a:ext cx="60008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900000" y="6195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atura MT Script Capitals"/>
              </a:rPr>
              <a:t>Дети учатся жить у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43040" y="2312640"/>
            <a:ext cx="8400960" cy="30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ка постоянно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критикую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учитс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ненавиде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ок живет во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ражд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учитс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агрессив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ка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смеиваю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становитс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замкнуты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000000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ребенок растет в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упрека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учится жить с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чувством вин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5000"/>
              </a:lnSpc>
              <a:buClr>
                <a:srgbClr val="ffff66"/>
              </a:buClr>
              <a:buFont typeface="Tahom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асто подбадрива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рить в себ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ка част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валя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учится быт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лагодар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ок живет в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ст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учится быть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раведлив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ебенок жив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обстановке принят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н находи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юбов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55640" y="6195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Matura MT Script Capitals"/>
              </a:rPr>
              <a:t>Дети учатся жить у 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00000" y="35928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66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Все дети разные. Но все они нуждаются в нашей любви, ласке, заботе. И все они достойны этой награды: и тихони, и забияки, и задиры, и шалу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116000" y="1989000"/>
            <a:ext cx="7777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ждый ребенок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меет право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дом и любящую семью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7301"/>
                </a:moveTo>
                <a:lnTo>
                  <a:pt x="4761" y="7301"/>
                </a:lnTo>
                <a:lnTo>
                  <a:pt x="5144" y="7667"/>
                </a:lnTo>
                <a:lnTo>
                  <a:pt x="14353" y="7667"/>
                </a:lnTo>
                <a:lnTo>
                  <a:pt x="14910" y="8224"/>
                </a:lnTo>
                <a:lnTo>
                  <a:pt x="14910" y="8772"/>
                </a:lnTo>
                <a:lnTo>
                  <a:pt x="16755" y="8772"/>
                </a:lnTo>
                <a:lnTo>
                  <a:pt x="17121" y="8224"/>
                </a:lnTo>
                <a:lnTo>
                  <a:pt x="17861" y="8224"/>
                </a:lnTo>
                <a:lnTo>
                  <a:pt x="17861" y="13376"/>
                </a:lnTo>
                <a:lnTo>
                  <a:pt x="17121" y="13376"/>
                </a:lnTo>
                <a:lnTo>
                  <a:pt x="16755" y="12828"/>
                </a:lnTo>
                <a:lnTo>
                  <a:pt x="14910" y="12828"/>
                </a:lnTo>
                <a:lnTo>
                  <a:pt x="14910" y="14107"/>
                </a:lnTo>
                <a:lnTo>
                  <a:pt x="5327" y="14107"/>
                </a:lnTo>
                <a:lnTo>
                  <a:pt x="5327" y="9877"/>
                </a:lnTo>
                <a:lnTo>
                  <a:pt x="5144" y="9877"/>
                </a:lnTo>
                <a:lnTo>
                  <a:pt x="4761" y="10243"/>
                </a:lnTo>
                <a:lnTo>
                  <a:pt x="3848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00000" y="26712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У детей – свой мир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Они по-своему знают - что важно, а что не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Дети тоже ищут смысл жизни, но… по-сво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ru\Desktop\эмблема солнышка\2.jpg"/>
          <p:cNvPicPr/>
          <p:nvPr/>
        </p:nvPicPr>
        <p:blipFill>
          <a:blip r:embed="rId1"/>
          <a:stretch/>
        </p:blipFill>
        <p:spPr>
          <a:xfrm>
            <a:off x="285840" y="148428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00000" y="21492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Matura MT Script Capitals"/>
              </a:rPr>
              <a:t>Открыв для себя внутренний мир малыша, мы сможем по-новому взглянуть на него, научимся понимать его на первый взгляд бессмысленные поступ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/>
          </p:cNvPr>
          <p:cNvSpPr/>
          <p:nvPr/>
        </p:nvSpPr>
        <p:spPr>
          <a:xfrm>
            <a:off x="8675640" y="645336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7301"/>
                </a:moveTo>
                <a:lnTo>
                  <a:pt x="8379" y="7301"/>
                </a:lnTo>
                <a:lnTo>
                  <a:pt x="8762" y="7667"/>
                </a:lnTo>
                <a:lnTo>
                  <a:pt x="17971" y="7667"/>
                </a:lnTo>
                <a:lnTo>
                  <a:pt x="18528" y="8224"/>
                </a:lnTo>
                <a:lnTo>
                  <a:pt x="18528" y="8772"/>
                </a:lnTo>
                <a:lnTo>
                  <a:pt x="20373" y="8772"/>
                </a:lnTo>
                <a:lnTo>
                  <a:pt x="20739" y="8224"/>
                </a:lnTo>
                <a:lnTo>
                  <a:pt x="21478" y="8224"/>
                </a:lnTo>
                <a:lnTo>
                  <a:pt x="21478" y="13376"/>
                </a:lnTo>
                <a:lnTo>
                  <a:pt x="20739" y="13376"/>
                </a:lnTo>
                <a:lnTo>
                  <a:pt x="20373" y="12828"/>
                </a:lnTo>
                <a:lnTo>
                  <a:pt x="18528" y="12828"/>
                </a:lnTo>
                <a:lnTo>
                  <a:pt x="18528" y="14107"/>
                </a:lnTo>
                <a:lnTo>
                  <a:pt x="8945" y="14107"/>
                </a:lnTo>
                <a:lnTo>
                  <a:pt x="8945" y="9877"/>
                </a:lnTo>
                <a:lnTo>
                  <a:pt x="8762" y="9877"/>
                </a:lnTo>
                <a:lnTo>
                  <a:pt x="8379" y="10243"/>
                </a:lnTo>
                <a:lnTo>
                  <a:pt x="7466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69228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10 заповедей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C:\Users\ru\Desktop\эмблема солнышка\3.jpg"/>
          <p:cNvPicPr/>
          <p:nvPr/>
        </p:nvPicPr>
        <p:blipFill>
          <a:blip r:embed="rId1"/>
          <a:stretch/>
        </p:blipFill>
        <p:spPr>
          <a:xfrm>
            <a:off x="5286240" y="1714680"/>
            <a:ext cx="32385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826920" y="47628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042920" y="549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жди, что твой ребенок  будет таким, как ты. Или таким, как ты хочешь. Помоги ему стать не тобой, а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C:\Users\ru\Desktop\эмблема солнышка\5.jpg"/>
          <p:cNvPicPr/>
          <p:nvPr/>
        </p:nvPicPr>
        <p:blipFill>
          <a:blip r:embed="rId1"/>
          <a:stretch/>
        </p:blipFill>
        <p:spPr>
          <a:xfrm>
            <a:off x="500040" y="1357200"/>
            <a:ext cx="32385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68360" y="40464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умай, что ребенок твой: он Бож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ru\Desktop\эмблема солнышка\7.jpg"/>
          <p:cNvPicPr/>
          <p:nvPr/>
        </p:nvPicPr>
        <p:blipFill>
          <a:blip r:embed="rId1"/>
          <a:stretch/>
        </p:blipFill>
        <p:spPr>
          <a:xfrm>
            <a:off x="714240" y="1143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724360" y="907920"/>
            <a:ext cx="2808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требуй от ребенка платы за все, что ты для него делаешь: ты дал ему жизнь, как он может отблагодарить теб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даст жизнь другому, тот – третьему: это необратимый закон благода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Users\ru\Desktop\эмблема солнышка\8.jpg"/>
          <p:cNvPicPr/>
          <p:nvPr/>
        </p:nvPicPr>
        <p:blipFill>
          <a:blip r:embed="rId1"/>
          <a:stretch/>
        </p:blipFill>
        <p:spPr>
          <a:xfrm>
            <a:off x="214200" y="164304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156360" y="1781280"/>
            <a:ext cx="277164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мни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ребенок живет в постоянном напряжении и неувер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ше поведение должно говорить ему: «Я тебя люблю таким, каков ты есть»... «Я рядом с тобой всег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:\Users\ru\Desktop\эмблема солнышка\9.jpg"/>
          <p:cNvPicPr/>
          <p:nvPr/>
        </p:nvPicPr>
        <p:blipFill>
          <a:blip r:embed="rId1"/>
          <a:stretch/>
        </p:blipFill>
        <p:spPr>
          <a:xfrm>
            <a:off x="642960" y="1214280"/>
            <a:ext cx="504828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826920" y="47628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тносись к его проблемам свысока: тяжесть жизни дана каждому по силам, и будь уверен, ему его ноша тяжела не меньше чем тебе. А может и больше, ведь у него нет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:\Users\ru\Desktop\эмблема солнышка\10.jpg"/>
          <p:cNvPicPr/>
          <p:nvPr/>
        </p:nvPicPr>
        <p:blipFill>
          <a:blip r:embed="rId1"/>
          <a:stretch/>
        </p:blipFill>
        <p:spPr>
          <a:xfrm>
            <a:off x="5143680" y="1857240"/>
            <a:ext cx="32382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0:18:37Z</dcterms:created>
  <dc:creator>User</dc:creator>
  <dc:description/>
  <dc:language>en-US</dc:language>
  <cp:lastModifiedBy>User</cp:lastModifiedBy>
  <dcterms:modified xsi:type="dcterms:W3CDTF">2011-10-12T19:14:20Z</dcterms:modified>
  <cp:revision>10</cp:revision>
  <dc:subject/>
  <dc:title>Slide 1</dc:title>
</cp:coreProperties>
</file>