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D141-AF18-4C3F-94BB-1A149C115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B6AD-9334-48F2-B8DB-110A5A86A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1872-D6E2-451D-9E15-E80CCD61A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6AE6-7AFD-40CA-ABE6-0FBC52122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448-A151-4DFC-9746-244078CF72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41B7-7604-4561-88AA-A6320038C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0FAD-BAF4-4D59-A062-B5BA93FCB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089B-0A8B-47AA-BBFD-A9F0E763B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F44D-9347-4987-B245-529C87B84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DCB4-C14D-490A-9F3F-A083493F9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25A8-66AF-4EB9-8E7E-EFE71AF8F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EEFD-AC71-49DB-B44D-E8E790EEE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DE97-B4AE-471E-ABBB-0F1CABAF2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04B-6DE9-4683-BB09-97907DB50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074B-AADD-4D53-BF7F-CEF47FB7A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AF84-EE77-4ED5-A88B-87CA241E4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0802-9723-4A42-BE08-F5672D8DF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3531-D2EE-41D7-9F0D-6B752186D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4B80-4A0E-4FAF-A28B-2B13B4D5C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5837-7313-40CF-A32B-0363A4B10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парр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399-0E61-405E-AA87-3DC22B50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E48-B9BE-4568-953B-98488B6B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899-277C-428D-814F-F16F42DE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80A-4797-4359-8EA3-F319582B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3B3-1A72-446E-842A-AB27D60A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F27-AB37-44C8-9D9B-AA78FF57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332-DA5E-425B-9E36-32B0FC46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FD6-9AF6-4141-B37E-825C6CE0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ED5-2147-4093-B83D-18DA9158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087-A2F6-41B5-AD52-9D2A76E0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33A-A003-4DE9-9AD9-7B0AC28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177-DBEC-4ED9-81CD-823D712B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90AA-F937-48C0-9113-2525B07D9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E:%5C&#1061;-&#1052;&#1072;&#1085;&#1089;&#1080;&#1081;&#1089;&#1082;%5C&#1089;&#1082;&#1072;&#1095;&#1077;&#1085;&#1086;%5C&#1053;&#1086;&#1074;&#1072;&#1103;%20&#1087;&#1072;&#1087;&#1082;&#1072;%5C30%20yjz,%5C30%20yjz,%5C&#1055;&#1089;&#1080;&#1093;&#1086;&#1083;&#1086;&#1075;&#1080;%5C&#1052;&#1080;&#1088;%20&#1075;&#1083;&#1072;&#1079;&#1072;&#1084;&#1080;%20&#1088;&#1077;&#1073;&#1077;&#1085;&#1082;&#1072;-&#1091;&#1089;&#1077;&#1095;&#1077;&#1085;&#1099;&#1081;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5651640" y="260280"/>
            <a:ext cx="28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мам и папам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свяща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:\Users\ru\Desktop\эмблема солнышка\1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987640" y="5516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униж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Users\ru\Desktop\эмблема солнышка\11.jpg"/>
          <p:cNvPicPr/>
          <p:nvPr/>
        </p:nvPicPr>
        <p:blipFill>
          <a:blip r:embed="rId1"/>
          <a:stretch/>
        </p:blipFill>
        <p:spPr>
          <a:xfrm>
            <a:off x="285840" y="28584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6084720" y="1844640"/>
            <a:ext cx="28083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отказывайте ребенку в помощи, если он  с чем-то не справляется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просит помочь… Даже если и не просит - замечайте, когда ребенку плохо, и помогайте ему в этот мо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Users\ru\Desktop\эмблема солнышка\12.jpg"/>
          <p:cNvPicPr/>
          <p:nvPr/>
        </p:nvPicPr>
        <p:blipFill>
          <a:blip r:embed="rId1"/>
          <a:stretch/>
        </p:blipFill>
        <p:spPr>
          <a:xfrm>
            <a:off x="571680" y="16430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611280" y="260280"/>
            <a:ext cx="684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учь себя, если не можешь чего-то сделать для своего ребенка, мучь – если можешь, но не дела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C:\Users\ru\Desktop\эмблема солнышка\13.jpg"/>
          <p:cNvPicPr/>
          <p:nvPr/>
        </p:nvPicPr>
        <p:blipFill>
          <a:blip r:embed="rId1"/>
          <a:stretch/>
        </p:blipFill>
        <p:spPr>
          <a:xfrm>
            <a:off x="2413080" y="180972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6012000" y="2198520"/>
            <a:ext cx="291600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наказывайте ребенка, не дав ему объясниться            (не ставьте сразу в угол, не ругайте)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казание назначенное в гневе, не достигает цели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И.Кан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:\Users\ru\Desktop\эмблема солнышка\14.jpg"/>
          <p:cNvPicPr/>
          <p:nvPr/>
        </p:nvPicPr>
        <p:blipFill>
          <a:blip r:embed="rId1"/>
          <a:srcRect l="6620" t="0" r="9005" b="0"/>
          <a:stretch/>
        </p:blipFill>
        <p:spPr>
          <a:xfrm>
            <a:off x="1071720" y="1500120"/>
            <a:ext cx="364320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588000" y="191628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: для ребенка сделано недостаточно, если не сделано вс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C:\Users\ru\Desktop\эмблема солнышка\15.jpg"/>
          <p:cNvPicPr/>
          <p:nvPr/>
        </p:nvPicPr>
        <p:blipFill>
          <a:blip r:embed="rId1"/>
          <a:stretch/>
        </p:blipFill>
        <p:spPr>
          <a:xfrm>
            <a:off x="857160" y="1285920"/>
            <a:ext cx="431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826920" y="6206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й любить чужого ребенка. Никогда не делай чужому то, что не хотел бы, чтобы другие сделали тво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Users\ru\Desktop\эмблема солнышка\16.jpg"/>
          <p:cNvPicPr/>
          <p:nvPr/>
        </p:nvPicPr>
        <p:blipFill>
          <a:blip r:embed="rId1"/>
          <a:srcRect l="0" t="30147" r="0" b="0"/>
          <a:stretch/>
        </p:blipFill>
        <p:spPr>
          <a:xfrm>
            <a:off x="2413080" y="2786040"/>
            <a:ext cx="43178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7"/>
          <p:cNvSpPr/>
          <p:nvPr/>
        </p:nvSpPr>
        <p:spPr>
          <a:xfrm>
            <a:off x="468360" y="5516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 своего ребенка любым: неталантливым, неудачливым, взрослым. Общаясь с ним, радуйся, потому что – это праздник, который пока с т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C:\Users\ru\Desktop\эмблема солнышка\17.jpg"/>
          <p:cNvPicPr/>
          <p:nvPr/>
        </p:nvPicPr>
        <p:blipFill>
          <a:blip r:embed="rId1"/>
          <a:stretch/>
        </p:blipFill>
        <p:spPr>
          <a:xfrm>
            <a:off x="1214280" y="571680"/>
            <a:ext cx="60008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900000" y="61956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Matura MT Script Capitals"/>
              </a:rPr>
              <a:t>Дети учатся жить у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43040" y="2312640"/>
            <a:ext cx="8400960" cy="30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5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ребенка постоянно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ритикую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он учитс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ненавиде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5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ребенок живет во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ражд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он учитс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агрессивност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5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ребенка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ысмеиваю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он становитс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замкнуты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5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ребенок растет в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упрека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он учится жить с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чувством вин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5000"/>
              </a:lnSpc>
              <a:buClr>
                <a:srgbClr val="ffff66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ебенк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асто подбадрива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 учи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рить в себ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ебенка част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валя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 учится быт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лагодар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ебенок живет в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ст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 учится быт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праведлив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ебенок жив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обстановке принят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 находи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юбов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55640" y="6195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Matura MT Script Capitals"/>
              </a:rPr>
              <a:t>Дети учатся жить у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900000" y="35928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66"/>
                </a:solidFill>
                <a:latin typeface="Matura MT Script Capital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Все дети разные. Но все они нуждаются в нашей любви, ласке, заботе. И все они достойны этой награды: и тихони, и забияки, и задиры, и шалу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116000" y="1989000"/>
            <a:ext cx="77770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</a:t>
            </a: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ждый ребенок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меет право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дом и любящую семью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7301"/>
                </a:moveTo>
                <a:lnTo>
                  <a:pt x="4761" y="7301"/>
                </a:lnTo>
                <a:lnTo>
                  <a:pt x="5144" y="7667"/>
                </a:lnTo>
                <a:lnTo>
                  <a:pt x="14353" y="7667"/>
                </a:lnTo>
                <a:lnTo>
                  <a:pt x="14910" y="8224"/>
                </a:lnTo>
                <a:lnTo>
                  <a:pt x="14910" y="8772"/>
                </a:lnTo>
                <a:lnTo>
                  <a:pt x="16755" y="8772"/>
                </a:lnTo>
                <a:lnTo>
                  <a:pt x="17121" y="8224"/>
                </a:lnTo>
                <a:lnTo>
                  <a:pt x="17861" y="8224"/>
                </a:lnTo>
                <a:lnTo>
                  <a:pt x="17861" y="13376"/>
                </a:lnTo>
                <a:lnTo>
                  <a:pt x="17121" y="13376"/>
                </a:lnTo>
                <a:lnTo>
                  <a:pt x="16755" y="12828"/>
                </a:lnTo>
                <a:lnTo>
                  <a:pt x="14910" y="12828"/>
                </a:lnTo>
                <a:lnTo>
                  <a:pt x="14910" y="14107"/>
                </a:lnTo>
                <a:lnTo>
                  <a:pt x="5327" y="14107"/>
                </a:lnTo>
                <a:lnTo>
                  <a:pt x="5327" y="9877"/>
                </a:lnTo>
                <a:lnTo>
                  <a:pt x="5144" y="9877"/>
                </a:lnTo>
                <a:lnTo>
                  <a:pt x="4761" y="10243"/>
                </a:lnTo>
                <a:lnTo>
                  <a:pt x="384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00000" y="26712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У детей – свой мир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Они по-своему знают - что важно, а что не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Дети тоже ищут смысл жизни, но… по-сво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ru\Desktop\эмблема солнышка\2.jpg"/>
          <p:cNvPicPr/>
          <p:nvPr/>
        </p:nvPicPr>
        <p:blipFill>
          <a:blip r:embed="rId1"/>
          <a:stretch/>
        </p:blipFill>
        <p:spPr>
          <a:xfrm>
            <a:off x="285840" y="1484280"/>
            <a:ext cx="378612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00000" y="21492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Открыв для себя внутренний мир малыша, мы сможем по-новому взглянуть на него, научимся понимать его на первый взгляд бессмысленные поступ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>
            <a:hlinkClick r:id="rId1"/>
          </p:cNvPr>
          <p:cNvSpPr/>
          <p:nvPr/>
        </p:nvSpPr>
        <p:spPr>
          <a:xfrm>
            <a:off x="8675640" y="6453360"/>
            <a:ext cx="289080" cy="21564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44" h="21600">
                <a:moveTo>
                  <a:pt x="7466" y="7301"/>
                </a:moveTo>
                <a:lnTo>
                  <a:pt x="8379" y="7301"/>
                </a:lnTo>
                <a:lnTo>
                  <a:pt x="8762" y="7667"/>
                </a:lnTo>
                <a:lnTo>
                  <a:pt x="17971" y="7667"/>
                </a:lnTo>
                <a:lnTo>
                  <a:pt x="18528" y="8224"/>
                </a:lnTo>
                <a:lnTo>
                  <a:pt x="18528" y="8772"/>
                </a:lnTo>
                <a:lnTo>
                  <a:pt x="20373" y="8772"/>
                </a:lnTo>
                <a:lnTo>
                  <a:pt x="20739" y="8224"/>
                </a:lnTo>
                <a:lnTo>
                  <a:pt x="21478" y="8224"/>
                </a:lnTo>
                <a:lnTo>
                  <a:pt x="21478" y="13376"/>
                </a:lnTo>
                <a:lnTo>
                  <a:pt x="20739" y="13376"/>
                </a:lnTo>
                <a:lnTo>
                  <a:pt x="20373" y="12828"/>
                </a:lnTo>
                <a:lnTo>
                  <a:pt x="18528" y="12828"/>
                </a:lnTo>
                <a:lnTo>
                  <a:pt x="18528" y="14107"/>
                </a:lnTo>
                <a:lnTo>
                  <a:pt x="8945" y="14107"/>
                </a:lnTo>
                <a:lnTo>
                  <a:pt x="8945" y="9877"/>
                </a:lnTo>
                <a:lnTo>
                  <a:pt x="8762" y="9877"/>
                </a:lnTo>
                <a:lnTo>
                  <a:pt x="8379" y="10243"/>
                </a:lnTo>
                <a:lnTo>
                  <a:pt x="7466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26920" y="69228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10 заповедей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:\Users\ru\Desktop\эмблема солнышка\3.jpg"/>
          <p:cNvPicPr/>
          <p:nvPr/>
        </p:nvPicPr>
        <p:blipFill>
          <a:blip r:embed="rId1"/>
          <a:stretch/>
        </p:blipFill>
        <p:spPr>
          <a:xfrm>
            <a:off x="5286240" y="1714680"/>
            <a:ext cx="3238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826920" y="476280"/>
            <a:ext cx="74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42920" y="549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жди, что твой ребенок  будет таким, как ты. Или таким, как ты хочешь. Помоги ему стать не тобой, а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C:\Users\ru\Desktop\эмблема солнышка\5.jpg"/>
          <p:cNvPicPr/>
          <p:nvPr/>
        </p:nvPicPr>
        <p:blipFill>
          <a:blip r:embed="rId1"/>
          <a:stretch/>
        </p:blipFill>
        <p:spPr>
          <a:xfrm>
            <a:off x="500040" y="1357200"/>
            <a:ext cx="32385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8360" y="404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умай, что ребенок твой: он Бож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ru\Desktop\эмблема солнышка\7.jpg"/>
          <p:cNvPicPr/>
          <p:nvPr/>
        </p:nvPicPr>
        <p:blipFill>
          <a:blip r:embed="rId1"/>
          <a:stretch/>
        </p:blipFill>
        <p:spPr>
          <a:xfrm>
            <a:off x="714240" y="114300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724360" y="907920"/>
            <a:ext cx="2808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требуй от ребенка платы за все, что ты для него делаешь: ты дал ему жизнь, как он может отблагодарить теб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даст жизнь другому, тот – третьему: это необратимый закон благода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Users\ru\Desktop\эмблема солнышка\8.jpg"/>
          <p:cNvPicPr/>
          <p:nvPr/>
        </p:nvPicPr>
        <p:blipFill>
          <a:blip r:embed="rId1"/>
          <a:stretch/>
        </p:blipFill>
        <p:spPr>
          <a:xfrm>
            <a:off x="214200" y="164304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6156360" y="1781280"/>
            <a:ext cx="27716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мн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 ребенок живет в постоянном напряжении и неувер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ше поведение должно говорить ему: «Я тебя люблю таким, каков ты есть»... «Я рядом с тобой всег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ru\Desktop\эмблема солнышка\9.jpg"/>
          <p:cNvPicPr/>
          <p:nvPr/>
        </p:nvPicPr>
        <p:blipFill>
          <a:blip r:embed="rId1"/>
          <a:stretch/>
        </p:blipFill>
        <p:spPr>
          <a:xfrm>
            <a:off x="642960" y="1214280"/>
            <a:ext cx="5048280" cy="378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826920" y="47628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тносись к его проблемам свысока: тяжесть жизни дана каждому по силам, и будь уверен, ему его ноша тяжела не меньше чем тебе. А может и больше, ведь у него нет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ru\Desktop\эмблема солнышка\10.jpg"/>
          <p:cNvPicPr/>
          <p:nvPr/>
        </p:nvPicPr>
        <p:blipFill>
          <a:blip r:embed="rId1"/>
          <a:stretch/>
        </p:blipFill>
        <p:spPr>
          <a:xfrm>
            <a:off x="5143680" y="1857240"/>
            <a:ext cx="32382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0:18:37Z</dcterms:created>
  <dc:creator>User</dc:creator>
  <dc:description/>
  <dc:language>en-US</dc:language>
  <cp:lastModifiedBy>User</cp:lastModifiedBy>
  <dcterms:modified xsi:type="dcterms:W3CDTF">2011-10-12T19:14:20Z</dcterms:modified>
  <cp:revision>10</cp:revision>
  <dc:subject/>
  <dc:title>Slide 1</dc:title>
</cp:coreProperties>
</file>