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688-E834-404A-8767-938F8185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7D7-2231-49D2-BAF5-F097B92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52E-93EE-453A-9B80-C2B42E27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A41-4E7E-4B64-B93E-BB4061B5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18E-7E02-4872-90B0-4F5491BA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29B-4280-45AA-932A-FA07F191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2BF-DD3A-465D-A286-0E0E0C4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0E2-0C4B-47A0-8D2C-E90D1CF4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99C-5E36-4751-83CB-0DD63224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F3C-4853-4AF3-8F63-832BDD19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508-6572-425D-A1DE-EFBF1DA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C3D-ADCD-47C8-B3DC-C892DE9B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5DF-FBEA-4CFA-A19D-01C933EFFC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ela.mobi/?text=present+continuous" TargetMode="External"/><Relationship Id="rId2" Type="http://schemas.openxmlformats.org/officeDocument/2006/relationships/hyperlink" Target="http://templated.ru/" TargetMode="External"/><Relationship Id="rId3" Type="http://schemas.openxmlformats.org/officeDocument/2006/relationships/hyperlink" Target="http://en.islcollective.com/resources/projectables_page?id=32100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8592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62864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Mak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920" y="198864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Dad/my/not/painting/is/today/house/the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mail/am/an/I/writing/not/my/to/friend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Are/the/not/TV/children/watching/now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Car/his/ Tom/reparing/is/not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2d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Arial"/>
              </a:rPr>
              <a:t>She/mum/is/her/not/for/now/waiting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Sleeping/the/not/by/fire/dog/the/is/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What are they doing now?</a:t>
            </a:r>
            <a:br>
              <a:rPr sz="4400"/>
            </a:b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Use these verb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2276640"/>
            <a:ext cx="3816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pour some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play with t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have some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do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To collect  st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Содержимое 10" descr="ios_lg_sq2x_image.jpg"/>
          <p:cNvPicPr/>
          <p:nvPr/>
        </p:nvPicPr>
        <p:blipFill>
          <a:blip r:embed="rId1"/>
          <a:stretch/>
        </p:blipFill>
        <p:spPr>
          <a:xfrm>
            <a:off x="4211640" y="2060640"/>
            <a:ext cx="4546440" cy="4321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ll the g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3816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ela.mobi/?text=present+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emplate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islcollective.com/resources/projectables_page?id=3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Arial"/>
              </a:rPr>
              <a:t>Утвердительное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2386080"/>
          <a:ext cx="8280360" cy="3892320"/>
        </p:xfrm>
        <a:graphic>
          <a:graphicData uri="http://schemas.openxmlformats.org/drawingml/2006/table">
            <a:tbl>
              <a:tblPr/>
              <a:tblGrid>
                <a:gridCol w="2760480"/>
                <a:gridCol w="2759040"/>
                <a:gridCol w="2760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7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ng</a:t>
                      </a:r>
                      <a:r>
                        <a:rPr b="1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Dad/my/painting/is/today/house/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mail/am/an/I/writing/my/to/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re/the/TV/children/watching/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Car/his/ Tom/reparing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e/mum/is/her/for/now/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leeping/the/by/fire/dog/the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57200" y="2130480"/>
            <a:ext cx="8229600" cy="3819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79280" y="2066760"/>
            <a:ext cx="8785440" cy="417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Find the right varia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989000"/>
            <a:ext cx="8964720" cy="430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Отрицательное пред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2565360"/>
          <a:ext cx="8713800" cy="3946680"/>
        </p:xfrm>
        <a:graphic>
          <a:graphicData uri="http://schemas.openxmlformats.org/drawingml/2006/table">
            <a:tbl>
              <a:tblPr/>
              <a:tblGrid>
                <a:gridCol w="2178000"/>
                <a:gridCol w="2179440"/>
                <a:gridCol w="2178360"/>
                <a:gridCol w="2178000"/>
              </a:tblGrid>
              <a:tr h="1341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36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09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Put the words in the correct order to make full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36480" y="1988640"/>
            <a:ext cx="8507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Dad/my/not/painting/is/today/house/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Email/am/an/I/writing/not/my/to/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Are/the/not/TV/children/watching/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Car/his/ Tom/reparing/is/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She/mum/is/her/not/for/now/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leeping/the/not/by/fire/dog/the/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2d05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Вопросительное пред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133720"/>
          <a:ext cx="8229600" cy="407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g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8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32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Ольга</cp:lastModifiedBy>
  <dcterms:modified xsi:type="dcterms:W3CDTF">2019-04-22T11:35:06Z</dcterms:modified>
  <cp:revision>731</cp:revision>
  <dc:subject/>
  <dc:title>Diapositiva 1</dc:title>
</cp:coreProperties>
</file>