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B27F-A2EB-408B-9E3D-A9C41911D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06B5-4882-422B-A8F7-44187A622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8E0B-8398-45D9-B796-5015D93F9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4D4E-3661-4215-9495-CC3F9AA7A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8FFA-4712-4306-8337-0C6299CAA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F108-1DD0-45BA-8FF9-81344FB69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8CFA-4015-44AB-A410-6C7675BE3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D571-748C-4C7E-975E-84520E895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9A90-A2A9-4FF7-8270-5D83B9AAF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7378-26ED-4DF5-A2B2-21C62B4D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58E0-0671-4988-AE68-BE0D6F21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37B8-1459-4B71-A087-A8E484C8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C0DF3-3DAE-45B5-81BB-02CAA0A5101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ru.ela.mobi/?text=present+continuous" TargetMode="External"/><Relationship Id="rId2" Type="http://schemas.openxmlformats.org/officeDocument/2006/relationships/hyperlink" Target="http://templated.ru/" TargetMode="External"/><Relationship Id="rId3" Type="http://schemas.openxmlformats.org/officeDocument/2006/relationships/hyperlink" Target="http://en.islcollective.com/resources/projectables_page?id=32100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24360" y="404280"/>
            <a:ext cx="485928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92d050"/>
                </a:solidFill>
                <a:latin typeface="Arial"/>
              </a:rPr>
              <a:t>Present Continuous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2"/>
          <p:cNvSpPr/>
          <p:nvPr/>
        </p:nvSpPr>
        <p:spPr>
          <a:xfrm>
            <a:off x="5076720" y="1628640"/>
            <a:ext cx="3672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Arial"/>
              </a:rPr>
              <a:t>Make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7129440" cy="4525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Arial"/>
              </a:rPr>
              <a:t>Put the words in the correct order to make full sentenc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78920" y="1988640"/>
            <a:ext cx="87138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92d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Arial"/>
              </a:rPr>
              <a:t>Dad/my/not/painting/is/today/house/the/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c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Email/am/an/I/writing/not/my/to/friend/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2d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Arial"/>
              </a:rPr>
              <a:t>Are/the/not/TV/children/watching/now/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c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Car/his/ Tom/reparing/is/not/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2d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Arial"/>
              </a:rPr>
              <a:t>She/mum/is/her/not/for/now/waiting/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c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Sleeping/the/not/by/fire/dog/the/is/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Arial"/>
              </a:rPr>
              <a:t>What are they doing now?</a:t>
            </a:r>
            <a:br>
              <a:rPr sz="4400"/>
            </a:br>
            <a:r>
              <a:rPr b="0" lang="en-US" sz="4400" spc="-1" strike="noStrike">
                <a:solidFill>
                  <a:srgbClr val="92d050"/>
                </a:solidFill>
                <a:latin typeface="Arial"/>
              </a:rPr>
              <a:t>Use these verb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78920" y="2276640"/>
            <a:ext cx="381636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2d050"/>
                </a:solidFill>
                <a:latin typeface="Arial"/>
              </a:rPr>
              <a:t>To sle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2d050"/>
                </a:solidFill>
                <a:latin typeface="Arial"/>
              </a:rPr>
              <a:t>To pour some t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2d050"/>
                </a:solidFill>
                <a:latin typeface="Arial"/>
              </a:rPr>
              <a:t>To play with to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2d050"/>
                </a:solidFill>
                <a:latin typeface="Arial"/>
              </a:rPr>
              <a:t>To have some t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2d050"/>
                </a:solidFill>
                <a:latin typeface="Arial"/>
              </a:rPr>
              <a:t>To do ho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2d050"/>
                </a:solidFill>
                <a:latin typeface="Arial"/>
              </a:rPr>
              <a:t>To collect  st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Содержимое 10" descr="ios_lg_sq2x_image.jpg"/>
          <p:cNvPicPr/>
          <p:nvPr/>
        </p:nvPicPr>
        <p:blipFill>
          <a:blip r:embed="rId1"/>
          <a:stretch/>
        </p:blipFill>
        <p:spPr>
          <a:xfrm>
            <a:off x="4211640" y="2060640"/>
            <a:ext cx="4546440" cy="43210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Arial"/>
              </a:rPr>
              <a:t>Fill the g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8642160" cy="3816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2d050"/>
                </a:solidFill>
                <a:latin typeface="Arial"/>
              </a:rPr>
              <a:t>Использованные ресур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2205000"/>
            <a:ext cx="850752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ru.ela.mobi/?text=present+continu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emplated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en.islcollective.com/resources/projectables_page?id=32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92d050"/>
                </a:solidFill>
                <a:latin typeface="Arial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844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00"/>
                </a:solidFill>
                <a:latin typeface="Arial"/>
              </a:rPr>
              <a:t>Утвердительное предло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68360" y="2386080"/>
          <a:ext cx="8280360" cy="3892320"/>
        </p:xfrm>
        <a:graphic>
          <a:graphicData uri="http://schemas.openxmlformats.org/drawingml/2006/table">
            <a:tbl>
              <a:tblPr/>
              <a:tblGrid>
                <a:gridCol w="2760480"/>
                <a:gridCol w="2759040"/>
                <a:gridCol w="2760840"/>
              </a:tblGrid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en-US" sz="28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I</a:t>
                      </a:r>
                      <a:r>
                        <a:rPr b="1" lang="en-US" sz="28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72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V</a:t>
                      </a:r>
                      <a:r>
                        <a:rPr b="1" lang="en-US" sz="4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ing</a:t>
                      </a:r>
                      <a:r>
                        <a:rPr b="1" lang="en-US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1554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H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Sh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I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2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W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Yo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Th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2d050"/>
                </a:solidFill>
                <a:latin typeface="Arial"/>
              </a:rPr>
              <a:t>Put the words in the correct order to make full sente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Dad/my/painting/is/today/house/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Arial"/>
              </a:rPr>
              <a:t>Email/am/an/I/writing/my/to/fri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Are/the/TV/children/watching/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Arial"/>
              </a:rPr>
              <a:t>Car/his/ Tom/reparing/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She/mum/is/her/for/now/wa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Arial"/>
              </a:rPr>
              <a:t>Sleeping/the/by/fire/dog/the/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Arial"/>
              </a:rPr>
              <a:t>Find the right varia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457200" y="2130480"/>
            <a:ext cx="8229600" cy="38196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Arial"/>
              </a:rPr>
              <a:t>Find the right varia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179280" y="2066760"/>
            <a:ext cx="8785440" cy="41706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Arial"/>
              </a:rPr>
              <a:t>Find the right varia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0" y="1989000"/>
            <a:ext cx="8964720" cy="4302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92d050"/>
                </a:solidFill>
                <a:latin typeface="Arial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00"/>
                </a:solidFill>
                <a:latin typeface="Arial"/>
              </a:rPr>
              <a:t>Отрицательное предло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50920" y="2565360"/>
          <a:ext cx="8713800" cy="3946680"/>
        </p:xfrm>
        <a:graphic>
          <a:graphicData uri="http://schemas.openxmlformats.org/drawingml/2006/table">
            <a:tbl>
              <a:tblPr/>
              <a:tblGrid>
                <a:gridCol w="2178000"/>
                <a:gridCol w="2179440"/>
                <a:gridCol w="2178360"/>
                <a:gridCol w="2178000"/>
              </a:tblGrid>
              <a:tr h="1341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    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a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4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o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V</a:t>
                      </a:r>
                      <a:r>
                        <a:rPr b="1" lang="en-US" sz="36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in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310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09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a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2d050"/>
                </a:solidFill>
                <a:latin typeface="Arial"/>
              </a:rPr>
              <a:t>Put the words in the correct order to make full sente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36480" y="1988640"/>
            <a:ext cx="850752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Dad/my/not/painting/is/today/house/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Arial"/>
              </a:rPr>
              <a:t>Email/am/an/I/writing/not/my/to/fri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Are/the/not/TV/children/watching/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Arial"/>
              </a:rPr>
              <a:t>Car/his/ Tom/reparing/is/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She/mum/is/her/not/for/now/wa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Arial"/>
              </a:rPr>
              <a:t>Sleeping/the/not/by/fire/dog/the/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92d050"/>
                </a:solidFill>
                <a:latin typeface="Arial"/>
              </a:rPr>
              <a:t>Present Continuous</a:t>
            </a:r>
            <a:br>
              <a:rPr sz="4400"/>
            </a:br>
            <a:r>
              <a:rPr b="1" lang="ru-RU" sz="2800" spc="-1" strike="noStrike">
                <a:solidFill>
                  <a:srgbClr val="92d050"/>
                </a:solidFill>
                <a:latin typeface="Arial"/>
              </a:rPr>
              <a:t>Вопросительное предлож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84360" y="2133720"/>
          <a:ext cx="8229600" cy="4073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278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32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8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g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8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?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adde1"/>
                    </a:solidFill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S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2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32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W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32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Yo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32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the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Ольга</cp:lastModifiedBy>
  <dcterms:modified xsi:type="dcterms:W3CDTF">2019-04-22T11:35:06Z</dcterms:modified>
  <cp:revision>731</cp:revision>
  <dc:subject/>
  <dc:title>Diapositiva 1</dc:title>
</cp:coreProperties>
</file>