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wmf" ContentType="image/x-wmf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7832-481B-442A-89CF-7199497E0544}" type="slidenum">
              <a:rPr b="0" lang="ru-RU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6AF8-E386-45E1-A93D-78EDC81D5125}" type="slidenum">
              <a:rPr b="0" lang="ru-RU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89A-E898-4E4E-90A2-60902A94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EF58-E8EA-4615-9B62-EDACEF12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11CF-2452-4AD4-BF28-015EAFAE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637C-183F-4E6B-BDED-A6D2229A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48F5-0913-4FD1-8443-8592D124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FCD7-F079-494F-A4AF-6FF95EAF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BA1B-443C-4B88-9521-F3DC81D4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7ADF-AAA5-41D1-8EB9-BCE20F23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D03B-F56A-419C-BFC5-70D01853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C4FF-CD7B-436D-9429-B11BBF17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F7EA-1078-4462-890B-B9F7EB2B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83D5-2E89-4A87-B47B-EB3C1BB0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E78D-7F10-48CD-9417-47D3C6EC932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i?id=14590291-23-72&amp;n=21"/>
          <p:cNvPicPr/>
          <p:nvPr/>
        </p:nvPicPr>
        <p:blipFill>
          <a:blip r:embed="rId1"/>
          <a:stretch/>
        </p:blipFill>
        <p:spPr>
          <a:xfrm>
            <a:off x="611280" y="3213000"/>
            <a:ext cx="3832200" cy="28749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3059280" y="1341360"/>
            <a:ext cx="33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95280" y="1268280"/>
            <a:ext cx="8424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Rockwell"/>
              </a:rPr>
              <a:t>Презентация к уроку </a:t>
            </a: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“American TV families?” </a:t>
            </a:r>
            <a:r>
              <a:rPr b="1" lang="ru-RU" sz="2000" spc="-1" strike="noStrike">
                <a:solidFill>
                  <a:srgbClr val="000000"/>
                </a:solidFill>
                <a:latin typeface="Rockwel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culture corner)</a:t>
            </a:r>
            <a:r>
              <a:rPr b="1" lang="ru-RU" sz="2000" spc="-1" strike="noStrike">
                <a:solidFill>
                  <a:srgbClr val="000000"/>
                </a:solidFill>
                <a:latin typeface="Rockwell"/>
              </a:rPr>
              <a:t>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 Spotlight 5. Module 4 “Family ties</a:t>
            </a: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”.</a:t>
            </a: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5" descr="Рисунок5.jpg"/>
          <p:cNvPicPr/>
          <p:nvPr/>
        </p:nvPicPr>
        <p:blipFill>
          <a:blip r:embed="rId1"/>
          <a:stretch/>
        </p:blipFill>
        <p:spPr>
          <a:xfrm>
            <a:off x="500040" y="1214280"/>
            <a:ext cx="3538440" cy="452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00720" y="857160"/>
            <a:ext cx="42861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ggie Simps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baby of the family. She is small and she has got fair hair. She can't walk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she can't talk, but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can play the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xophone. She is quiet, friendl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ery clev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928600" y="272520"/>
            <a:ext cx="60008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rge Simps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the mother of the family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 is 38 years old. She is tall and slim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ir is blue! She can cook well and she is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y patient and kind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 is afraid of flying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428760" y="428760"/>
            <a:ext cx="238284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rcRect l="4620" t="9305" r="34873" b="815"/>
          <a:stretch/>
        </p:blipFill>
        <p:spPr>
          <a:xfrm>
            <a:off x="755640" y="2637000"/>
            <a:ext cx="1359000" cy="151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3835440" y="2492280"/>
            <a:ext cx="1447920" cy="1873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6732720" y="2708280"/>
            <a:ext cx="1611360" cy="1506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8" name="Picture 8" descr=""/>
          <p:cNvPicPr/>
          <p:nvPr/>
        </p:nvPicPr>
        <p:blipFill>
          <a:blip r:embed="rId4"/>
          <a:stretch/>
        </p:blipFill>
        <p:spPr>
          <a:xfrm>
            <a:off x="4572000" y="404640"/>
            <a:ext cx="1611360" cy="1944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9" name="Picture 9" descr=""/>
          <p:cNvPicPr/>
          <p:nvPr/>
        </p:nvPicPr>
        <p:blipFill>
          <a:blip r:embed="rId5"/>
          <a:stretch/>
        </p:blipFill>
        <p:spPr>
          <a:xfrm>
            <a:off x="2843280" y="404640"/>
            <a:ext cx="1442880" cy="1944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0" name="Text Box 10"/>
          <p:cNvSpPr/>
          <p:nvPr/>
        </p:nvSpPr>
        <p:spPr>
          <a:xfrm>
            <a:off x="611280" y="47628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324000" y="54936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95280" y="333360"/>
            <a:ext cx="216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g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h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l, slim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ook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, kin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6372360" y="404640"/>
            <a:ext cx="2592360" cy="23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m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h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l, f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ting, drinkin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n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3203640" y="4508640"/>
            <a:ext cx="27385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sa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edish, French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v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179280" y="4437000"/>
            <a:ext cx="295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r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c book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nch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ughty, nois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5867280" y="4365720"/>
            <a:ext cx="327672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ggi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b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't walk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play saxo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endly, clev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флингстоун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1908000" y="54936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he Flintstones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622440" y="1924200"/>
            <a:ext cx="2857320" cy="28065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4067280" y="1628640"/>
            <a:ext cx="460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he Flintstones lives in prehistoric town Bedrock. This is a happy family of three. Fred Flintstone, Wilma Flintstone and their daughter Pebbles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red Flintstone is short and chubby (</a:t>
            </a:r>
            <a:r>
              <a:rPr b="0" lang="ru-RU" sz="1800" spc="-1" strike="noStrike">
                <a:solidFill>
                  <a:srgbClr val="000000"/>
                </a:solidFill>
                <a:latin typeface="굴림"/>
              </a:rPr>
              <a:t>пухленький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. He`s got short, black hair, a round nose and a pig mouth. He is funny and loves his wife Wilma and his baby daughter Pebbles very much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Wilma is short and slim. She`s got long, red hair and small eyes. She is kind. She’s funny, too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ebbles is small and pretty. She’s got long, red hair and a small nose and  mouth. She is very clever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he Flintstones have got a pet called Dino. It’s very nice and loving pet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5"/>
          <p:cNvSpPr txBox="1"/>
          <p:nvPr/>
        </p:nvSpPr>
        <p:spPr>
          <a:xfrm>
            <a:off x="1692360" y="476280"/>
            <a:ext cx="640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ettenschweiler"/>
              </a:rPr>
              <a:t>correct the sentences below</a:t>
            </a:r>
            <a:endParaRPr b="0" lang="en-US" sz="2800" spc="1" strike="noStrike">
              <a:ln w="19080">
                <a:solidFill>
                  <a:srgbClr val="cc99ff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ettenschweiler"/>
              <a:ea typeface="Haettenschweiler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755640" y="2133720"/>
            <a:ext cx="770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a) Fred Flintstone is the mother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b) Wilma Flintstone is the daughter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c) Bam-Bam is </a:t>
            </a:r>
            <a:r>
              <a:rPr b="1" lang="ru-RU" sz="3200" spc="-1" strike="noStrike">
                <a:solidFill>
                  <a:srgbClr val="000000"/>
                </a:solidFill>
                <a:latin typeface="굴림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 pet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d) Fred Flintstone hasn’t got round nose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e) The Flintstones is a sad family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f) Pebbles has got a big nose and mouth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http://stat16.privet.ru/lr/0b102add78ac412910fad25cc0dba6dc"/>
          <p:cNvPicPr/>
          <p:nvPr/>
        </p:nvPicPr>
        <p:blipFill>
          <a:blip r:embed="rId1"/>
          <a:stretch/>
        </p:blipFill>
        <p:spPr>
          <a:xfrm>
            <a:off x="1547640" y="0"/>
            <a:ext cx="624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" descr="0906f9a03a296f3baddafdc78421249d"/>
          <p:cNvPicPr/>
          <p:nvPr/>
        </p:nvPicPr>
        <p:blipFill>
          <a:blip r:embed="rId1"/>
          <a:stretch/>
        </p:blipFill>
        <p:spPr>
          <a:xfrm>
            <a:off x="826920" y="0"/>
            <a:ext cx="7705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doc6aot4vct78h12vh9q30a_800_4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476360" y="187920"/>
            <a:ext cx="67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Family members</a:t>
            </a:r>
            <a:r>
              <a:rPr b="0" lang="ru-RU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187280" y="1050120"/>
            <a:ext cx="6913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ister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Aun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Brother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Uncl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Grandfather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Grandmother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Mother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Father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258920" y="620640"/>
            <a:ext cx="662616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굴림"/>
              </a:rPr>
              <a:t>Thank you 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굴림"/>
              </a:rPr>
              <a:t>for your excellent work!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1187280" y="1054080"/>
            <a:ext cx="309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Kozuka Gothic Pro B"/>
              </a:rPr>
              <a:t>ooCl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Kozuka Gothic Pro B"/>
              </a:rPr>
              <a:t>indK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Kozuka Gothic Pro B"/>
              </a:rPr>
              <a:t>leverC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Kozuka Gothic Pro B"/>
              </a:rPr>
              <a:t>ndFriely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Kozuka Gothic Pro B"/>
              </a:rPr>
              <a:t>unnyF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Kozuka Gothic Pro B"/>
              </a:rPr>
              <a:t>htyNaug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Kozuka Gothic Pro B"/>
              </a:rPr>
              <a:t>utiBeaful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Kozuka Gothic Pro B"/>
              </a:rPr>
              <a:t>isyNo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042920" y="18828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ff"/>
                </a:solidFill>
                <a:latin typeface="Kozuka Gothic Pro B"/>
              </a:rPr>
              <a:t>Say the words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4572000" y="982440"/>
            <a:ext cx="309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Kozuka Gothic Pro B"/>
              </a:rPr>
              <a:t>Cool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Kozuka Gothic Pro B"/>
              </a:rPr>
              <a:t>Kind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Kozuka Gothic Pro B"/>
              </a:rPr>
              <a:t>Clever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Kozuka Gothic Pro B"/>
              </a:rPr>
              <a:t>Friendly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Kozuka Gothic Pro B"/>
              </a:rPr>
              <a:t>Funny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Kozuka Gothic Pro B"/>
              </a:rPr>
              <a:t>Naughty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Kozuka Gothic Pro B"/>
              </a:rPr>
              <a:t>Beautiful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Kozuka Gothic Pro B"/>
              </a:rPr>
              <a:t>Noisy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1258920" y="5805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굴림"/>
              </a:rPr>
              <a:t>Example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굴림"/>
              </a:rPr>
              <a:t>My dad is cool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375"/>
          <p:cNvGraphicFramePr/>
          <p:nvPr/>
        </p:nvGraphicFramePr>
        <p:xfrm>
          <a:off x="0" y="0"/>
          <a:ext cx="4211640" cy="60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211640" cy="60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382" descr="mzl"/>
          <p:cNvPicPr/>
          <p:nvPr/>
        </p:nvPicPr>
        <p:blipFill>
          <a:blip r:embed="rId3"/>
          <a:stretch/>
        </p:blipFill>
        <p:spPr>
          <a:xfrm>
            <a:off x="3828960" y="2867040"/>
            <a:ext cx="5315040" cy="39909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83"/>
          <p:cNvSpPr/>
          <p:nvPr/>
        </p:nvSpPr>
        <p:spPr>
          <a:xfrm>
            <a:off x="4140360" y="22050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ow check your answers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384"/>
          <p:cNvSpPr/>
          <p:nvPr/>
        </p:nvSpPr>
        <p:spPr>
          <a:xfrm>
            <a:off x="2843280" y="18900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My bod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1116000" y="189000"/>
            <a:ext cx="720108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굴림"/>
              </a:rPr>
              <a:t>Repeat, please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Lisa   [li:sə ]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Bart   [ba:t ]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Homer   [houmə ]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Maggie   [mægi ]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Marge   [ma:d</a:t>
            </a:r>
            <a:r>
              <a:rPr b="1" lang="ru-RU" sz="4000" spc="-1" strike="noStrike">
                <a:solidFill>
                  <a:srgbClr val="000000"/>
                </a:solidFill>
                <a:latin typeface="굴림"/>
              </a:rPr>
              <a:t>з</a:t>
            </a: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patient</a:t>
            </a:r>
            <a:r>
              <a:rPr b="0" lang="ru-RU" sz="4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[peiʃnt]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saxophone [sæksəfoun]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Swedish [swi:diʃ]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8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779640" y="764640"/>
            <a:ext cx="4857480" cy="49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sa Simps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8 years old. She's short and she's got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ir hair. She is very clever. S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a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ng and play the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xophone and she can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ak Swedish and French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Содержимое 5" descr="lisa-jazz.gif"/>
          <p:cNvPicPr/>
          <p:nvPr/>
        </p:nvPicPr>
        <p:blipFill>
          <a:blip r:embed="rId1"/>
          <a:stretch/>
        </p:blipFill>
        <p:spPr>
          <a:xfrm>
            <a:off x="639720" y="858960"/>
            <a:ext cx="308448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91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одержимое 4" descr="bart-simpson.jpg"/>
          <p:cNvPicPr/>
          <p:nvPr/>
        </p:nvPicPr>
        <p:blipFill>
          <a:blip r:embed="rId1"/>
          <a:stretch/>
        </p:blipFill>
        <p:spPr>
          <a:xfrm>
            <a:off x="426960" y="573120"/>
            <a:ext cx="3718080" cy="5072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285800" y="857160"/>
            <a:ext cx="464364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rt Simpson is 1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ears old. He is short with fair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ir. He is naughty and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isy. He likes comic books and skateboarding. He can speak French. He'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g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sisters, Lisa an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ggie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одержимое 5" descr="Рисунок2.jpg"/>
          <p:cNvPicPr/>
          <p:nvPr/>
        </p:nvPicPr>
        <p:blipFill>
          <a:blip r:embed="rId1"/>
          <a:stretch/>
        </p:blipFill>
        <p:spPr>
          <a:xfrm>
            <a:off x="357120" y="1285920"/>
            <a:ext cx="348156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286160" y="999720"/>
            <a:ext cx="440064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mer Simpson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ther of the family. He is 39 year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l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is tall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fat. He likes eating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drinking very much. He is not very clever, but he's funny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02:09:30Z</dcterms:created>
  <dc:creator>user</dc:creator>
  <dc:description/>
  <dc:language>en-US</dc:language>
  <cp:lastModifiedBy>Ольга</cp:lastModifiedBy>
  <dcterms:modified xsi:type="dcterms:W3CDTF">2018-01-30T03:40:37Z</dcterms:modified>
  <cp:revision>57</cp:revision>
  <dc:subject/>
  <dc:title>슬라이드 1</dc:title>
</cp:coreProperties>
</file>