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34F-61D8-47BF-BB09-09EEBF30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139-A052-4ADE-A1D3-E992E46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7D9-E412-41E3-9FEC-77DB7E2E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A7E-6BF0-4714-B8F9-12459F70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E784-5E74-4CE1-A312-757E810A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2AD2-B41B-4A95-905D-3160E12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9D86-6686-47CB-A6A2-546CB0A1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63B-8521-4D86-9185-F886054A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DCCE-381D-4BF7-8107-9E80FF1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8C7E-EEEA-4DD6-B74C-3B80D30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BFF-74D1-425A-BB10-C6AF716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6D9-0A8F-4B1B-B8BD-D0E0BDCD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F8A6-6E98-4A6C-A51F-4898ACD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094-E068-4B73-877C-E5801CB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0858-F21B-4E68-BFB3-115A2BA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EAEB-7084-4294-AAFA-F4D2A466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D6DE-CE51-4D2D-9CF3-D5C33DB3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F5A-9C48-49E0-8D9F-CBAFD367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98B-0F83-4D7B-BF98-8D7C2D3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5AF-798B-4DDA-B260-6C82A832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3B8-3DBC-4620-887C-E8E34EA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26E-92A3-4C80-BEB0-9178E08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E63-E1B4-4E72-A2EF-F0F77B28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D3B-7255-40B5-8CF7-B0AE620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DF1-912D-4265-BC1F-85E53FAA71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3FAA-23AB-418A-A51C-EE2CBC1703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bliya.info/bibleysky_slovar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Arial"/>
              </a:rPr>
              <a:t>ДРЕВНЯЯ ИНД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Индия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БРАХМА-ТВОРЕЦ И ПРАВИТЕЛЬ МИР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14560" y="1599840"/>
            <a:ext cx="532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Брахманизм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религия древних индийцев, явившаяся результатом дальнейшего развития ведической религии в период становления рабовладельческого общества (1 тыс. до н.э.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Брахманиз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оздал учение о делении общества на ка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 реинкарнации (переселении душ после смерти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 карме («закон справедливого воздаяния», согласно которому форма каждого нового перевоплощения души зависит от поступков человека в предыдущей жизни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 сансаре (бесконечной цепи перерождений в чувственном мире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 нирване (состоянии абсолютного покоя, достижение которого является главной целью религиозной практики индусов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2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16360" cy="4680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НДИЙСКИЕ ВАРНЫ - КАС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г Брахма разделил людей на каст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елив их занятия, права и обязанности. Положение каждой касты определялось её происхождением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аже цвет одежды каждой касте подобрал особы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 своих уст Брахма создал касту жрецов-брахманов. Поэтому только брахман может говорить от имени бо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  <a:ea typeface="Times New Roman"/>
              </a:rPr>
              <a:t>Из рук своих Брахма создал воин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Из бёдер были созданы земледельцы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ног, запачканных в грязи, Брахма создал касту слу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3cccc"/>
                </a:solidFill>
                <a:latin typeface="Verdana"/>
                <a:ea typeface="Times New Roman"/>
              </a:rPr>
              <a:t>Особенно тяжёлым и унизительным было положение неприкасаемых, не входящих ни в одну из кас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2852640"/>
            <a:ext cx="208764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284640"/>
            <a:ext cx="3672000" cy="1008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59280" y="4437000"/>
            <a:ext cx="172872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4941720"/>
            <a:ext cx="20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БУДД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Будда – основатель религии буддиз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Буддизм распространился по всему ми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Его последователи есть и в Росс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2498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МАХАБХАРА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496360" cy="3068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1125360"/>
            <a:ext cx="9144000" cy="2492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пос народов Индии - древнейшие стихотворные предания и леге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стоит из 18 книг, всего содержит 107 тысяч сти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йствующими лицами эпоса являются боги, цари, мудрецы, аске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ифические существа и герои, а также обыкновенные лю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ахабхарата часто рассматривается как священная книга, как руковод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и решении спорных религиозных, философских или моральных вопро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тересно, что известная заповедь: "Не делай другому того, что было 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приятно тебе самому" впервые прозвучала в строках Махабхараты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РАМАЯ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мая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- эпическая поэма, содержащая 24 тысячи двустиший. Героем Рамаяны является Рама (санскр. "темный") - седьмая аватара (воплощение) бога Вишну, включенный в индусский религиозный пантеон, сын Дашаратхи, царя Айодхьи, и его жены Каусальи, потомок Рагху, легендарного царя Солнечной династ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АРХИТЕКТУ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73996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664000" cy="216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2664000" cy="223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11280" y="36450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564000" y="3716280"/>
            <a:ext cx="2592360" cy="19447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219640" y="213372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195640" y="2133720"/>
            <a:ext cx="20872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АЗВИТИЕ НАУЧНЫХ ЗН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рабские циф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самом дел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ийск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ийцы впервые ста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писывать числа ка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вычно нам- сотн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есятки, единиц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76520" cy="52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457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Шахмат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ин индийский математик изобрел оригинальную игру и представил ее индийскому радже, которому игра показалась интересной. Что же попросил индус за свое изобретение? Всего лишь хлебные зерна в том количестве, чтобы на первой клетке лежало одно зернышко, на второй – два, на третьей – четыре и так в двойном объеме для каждой последующей клетки (всего их 64). Раджа удивился столь низкой плате и приказал выдать изобретателю его награду. Но оказалось, что и во всей Индии не найдется такого количества зер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450072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МЕСТОПОЛОЖЕ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89120" y="1600200"/>
            <a:ext cx="3782880" cy="453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5240" cy="4608360"/>
          </a:xfrm>
          <a:prstGeom prst="rect">
            <a:avLst/>
          </a:prstGeom>
          <a:ln w="76320">
            <a:solidFill>
              <a:srgbClr val="003b76"/>
            </a:solidFill>
            <a:miter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ийский оке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равийское мо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ан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987640" y="1916280"/>
            <a:ext cx="180036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92360" y="2707920"/>
            <a:ext cx="1297080" cy="115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19280" y="3644640"/>
            <a:ext cx="309708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637000"/>
            <a:ext cx="367344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2852640"/>
            <a:ext cx="158436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ИНД И ГАНГ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60720" cy="273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              </a:t>
            </a: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д  </a:t>
            </a: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66ccff"/>
                </a:solidFill>
                <a:latin typeface="Verdana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н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66ccff"/>
                </a:solidFill>
                <a:latin typeface="Verdana"/>
              </a:rPr>
              <a:t>Самые широкие и многоводные реки Индии. Они берут начало в Гималаях. На берегах этих рек селились в древности индийцы. Они считали эти реки священными и верили, что на заснеженных вершинах Гималаев, у истоков Ганга, живут бог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431928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ГИМАЛА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сочайшие в мире го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дятся на севере полуострова Индост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щищают Индию от потоков холодного воздух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46400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37440"/>
          </a:xfrm>
          <a:prstGeom prst="rect">
            <a:avLst/>
          </a:prstGeom>
          <a:ln w="57240">
            <a:solidFill>
              <a:srgbClr val="003b76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ЖУНГЛИ- это непроходимые тропические леса.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ревья в этих вечнозеленых лесах бывают необычайной высоты.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десь можно встретить могучего слона, дикого буйвола, оленя и множество птиц и обезьян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ДРЕВНЕЙШИЕ ГОРОД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424800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3280" y="1600200"/>
            <a:ext cx="4176720" cy="2189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3941280"/>
            <a:ext cx="8642160" cy="258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003b7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Ок.5000 тыс.лет назад в Индии возникли таинственные города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Спустя тысячу лет они неожиданно опусте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ЕЛИГИИ ДРЕВНЕЙ ИНД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916280"/>
            <a:ext cx="309708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Е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3429000"/>
            <a:ext cx="309708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4941720"/>
            <a:ext cx="3097440" cy="165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ЕД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ндиец эпохи вед обожествлял силы природы, одушевлял растения, горы и реки. Чтобы завоевать расположение богов, индийцы приносили им жертвы, молили о помощи, потомстве и богатств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808360" cy="28814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НДУ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3789360"/>
            <a:ext cx="87854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ишну            Брахма              Ши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248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102)"/>
                                      </p:to>
                                    </p:set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102)"/>
                                      </p:to>
                                    </p:se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6:34:17Z</dcterms:created>
  <dc:creator>Оля</dc:creator>
  <dc:description/>
  <dc:language>en-US</dc:language>
  <cp:lastModifiedBy>АДМИН</cp:lastModifiedBy>
  <dcterms:modified xsi:type="dcterms:W3CDTF">2019-04-18T19:01:09Z</dcterms:modified>
  <cp:revision>11</cp:revision>
  <dc:subject/>
  <dc:title>ДРЕВНЯЯ ИНДИЯ</dc:title>
</cp:coreProperties>
</file>