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0F04-9DEB-45DB-9E5C-F23408FB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671-9259-460D-8AF1-257886A4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2FA7-825F-4F07-A264-7AC34E83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3B7-F13F-4545-99E5-3341F127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7C91-4836-41EC-B336-B5E00F29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62D9-2C05-46F2-BCF0-45AFB04F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D74A-3A52-49BA-8100-5DA12CA4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2949-925A-41AC-AA53-D949F18F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8372-DDB7-412B-8F7C-CE17780E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84D9-267F-4FD5-A671-AD1800CD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7B54-B73D-4717-B6BE-6DF83A48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8A3-29AB-41C6-ABDA-CCD9E134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223D-1560-4ABF-A4D4-25D52F77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CA5A-0389-4B64-A24B-72DCB35F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419E-57F6-4393-91BA-65DD01EC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2C24-CB2A-4373-9503-4C3BAEF4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D459-FD86-4A87-AC74-40EA5042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6AA6-141D-4C39-B251-66A38173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4E0-BF39-4BF6-AE6B-AD495F63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E027-25F3-41B6-BA38-2EEA4C25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6B49-F72A-4A10-A345-8AEEEDA4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720-EA61-43E8-9FEB-A65B21FB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6DCC-6A66-441E-8594-DE196316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1A4-82A3-43E6-9DB3-D82202A8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A713-D42B-43BA-98DD-5197267F7F8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F44A-4D6B-40C9-BD01-7B43F3712C9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ibliya.info/bibleysky_slovar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Arial"/>
              </a:rPr>
              <a:t>ДРЕВНЯЯ ИНДИЯ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8" name="" descr="Индия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БРАХМА-ТВОРЕЦ И ПРАВИТЕЛЬ МИР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14560" y="1599840"/>
            <a:ext cx="532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Брахманизм 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религия древних индийцев, явившаяся результатом дальнейшего развития ведической религии в период становления рабовладельческого общества (1 тыс. до н.э.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Брахманизм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создал учение о делении общества на касты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 реинкарнации (переселении душ после смерти)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 карме («закон справедливого воздаяния», согласно которому форма каждого нового перевоплощения души зависит от поступков человека в предыдущей жизни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 сансаре (бесконечной цепи перерождений в чувственном мире)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 нирване (состоянии абсолютного покоя, достижение которого является главной целью религиозной практики индусов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0240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816360" cy="4680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ИНДИЙСКИЕ ВАРНЫ - КАС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832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Бог Брахма разделил людей на касты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о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делив их занятия, права и обязанности. Положение каждой касты определялось её происхождением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Даже цвет одежды каждой касте подобрал особы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Из своих уст Брахма создал касту жрецов-брахманов. Поэтому только брахман может говорить от имени бог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  <a:ea typeface="Times New Roman"/>
              </a:rPr>
              <a:t>Из рук своих Брахма создал воин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Из бёдер были созданы земледельцы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Из ног, запачканных в грязи, Брахма создал касту слу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Verdana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33cccc"/>
                </a:solidFill>
                <a:latin typeface="Verdana"/>
                <a:ea typeface="Times New Roman"/>
              </a:rPr>
              <a:t>Особенно тяжёлым и унизительным было положение неприкасаемых, не входящих ни в одну из кас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2700360" y="2852640"/>
            <a:ext cx="208764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3284640"/>
            <a:ext cx="3672000" cy="10080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59280" y="4437000"/>
            <a:ext cx="1728720" cy="360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4941720"/>
            <a:ext cx="2016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БУДДИЗМ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Будда – основатель религии буддизм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Буддизм распространился по всему мир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Его последователи есть и в Росси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24980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МАХАБХАРАТ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8496360" cy="3068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1125360"/>
            <a:ext cx="9144000" cy="2492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Эпос народов Индии - древнейшие стихотворные предания и леген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остоит из 18 книг, всего содержит 107 тысяч стих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ействующими лицами эпоса являются боги, цари, мудрецы, аскет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мифические существа и герои, а также обыкновенные люд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Махабхарата часто рассматривается как священная книга, как руководст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ри решении спорных религиозных, философских или моральных вопрос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нтересно, что известная заповедь: "Не делай другому того, что было б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приятно тебе самому" впервые прозвучала в строках Махабхараты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РАМАЯН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амаян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 - эпическая поэма, содержащая 24 тысячи двустиший. Героем Рамаяны является Рама (санскр. "темный") - седьмая аватара (воплощение) бога Вишну, включенный в индусский религиозный пантеон, сын Дашаратхи, царя Айодхьи, и его жены Каусальи, потомок Рагху, легендарного царя Солнечной династ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88764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0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2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АРХИТЕКТУР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2739960" cy="2189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300720" y="1268280"/>
            <a:ext cx="2664000" cy="2160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3492360" y="1268280"/>
            <a:ext cx="2664000" cy="2232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6300720" y="3645000"/>
            <a:ext cx="2664000" cy="2016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611280" y="3645000"/>
            <a:ext cx="2736720" cy="2016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3564000" y="3716280"/>
            <a:ext cx="2592360" cy="1944720"/>
          </a:xfrm>
          <a:prstGeom prst="rect">
            <a:avLst/>
          </a:prstGeom>
          <a:ln w="9360">
            <a:solidFill>
              <a:srgbClr val="003b76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5219640" y="2133720"/>
            <a:ext cx="2087640" cy="3024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2195640" y="2133720"/>
            <a:ext cx="208728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РАЗВИТИЕ НАУЧНЫХ ЗНАН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рабские цифр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 самом дел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ндийски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ндийцы впервые стал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аписывать числа ка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ривычно нам- сотни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десятки, единиц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476520" cy="523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7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7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7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8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9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9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9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97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9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10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11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6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17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18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500720" cy="34578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Шахмат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196640"/>
            <a:ext cx="44956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дин индийский математик изобрел оригинальную игру и представил ее индийскому радже, которому игра показалась интересной. Что же попросил индус за свое изобретение? Всего лишь хлебные зерна в том количестве, чтобы на первой клетке лежало одно зернышко, на второй – два, на третьей – четыре и так в двойном объеме для каждой последующей клетки (всего их 64). Раджа удивился столь низкой плате и приказал выдать изобретателю его награду. Но оказалось, что и во всей Индии не найдется такого количества зерн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4005360"/>
            <a:ext cx="450072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МЕСТОПОЛОЖЕНИ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89120" y="1600200"/>
            <a:ext cx="3782880" cy="4530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4035240" cy="4608360"/>
          </a:xfrm>
          <a:prstGeom prst="rect">
            <a:avLst/>
          </a:prstGeom>
          <a:ln w="76320">
            <a:solidFill>
              <a:srgbClr val="003b76"/>
            </a:solidFill>
            <a:miter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Гимала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ндийский океа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равийское мор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н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Ган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987640" y="1916280"/>
            <a:ext cx="180036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92360" y="2707920"/>
            <a:ext cx="1297080" cy="115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619280" y="3644640"/>
            <a:ext cx="3097080" cy="18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2637000"/>
            <a:ext cx="3673440" cy="180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2852640"/>
            <a:ext cx="1584360" cy="237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ИНД И ГАНГ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960720" cy="27367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941640"/>
            <a:ext cx="822960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66ccff"/>
                </a:solidFill>
                <a:latin typeface="Verdana"/>
              </a:rPr>
              <a:t>              </a:t>
            </a: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д  </a:t>
            </a:r>
            <a:r>
              <a:rPr b="1" lang="ru-RU" sz="1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66ccff"/>
                </a:solidFill>
                <a:latin typeface="Verdana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анг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66ccff"/>
                </a:solidFill>
                <a:latin typeface="Verdana"/>
              </a:rPr>
              <a:t>Самые широкие и многоводные реки Индии. Они берут начало в Гималаях. На берегах этих рек селились в древности индийцы. Они считали эти реки священными и верили, что на заснеженных вершинах Гималаев, у истоков Ганга, живут боги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4319280" cy="28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ГИМАЛА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сочайшие в мире гор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ходятся на севере полуострова Индоста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ащищают Индию от потоков холодного воздух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46400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37440"/>
          </a:xfrm>
          <a:prstGeom prst="rect">
            <a:avLst/>
          </a:prstGeom>
          <a:ln w="57240">
            <a:solidFill>
              <a:srgbClr val="003b76"/>
            </a:solidFill>
            <a:miter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ЖУНГЛИ- это непроходимые тропические леса.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еревья в этих вечнозеленых лесах бывают необычайной высоты.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десь можно встретить могучего слона, дикого буйвола, оленя и множество птиц и обезьян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ДРЕВНЕЙШИЕ ГОРОД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4000" y="1600200"/>
            <a:ext cx="4248000" cy="2189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43280" y="1600200"/>
            <a:ext cx="4176720" cy="21891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3941280"/>
            <a:ext cx="8642160" cy="25830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003b7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Ок.5000 тыс.лет назад в Индии возникли таинственные города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Спустя тысячу лет они неожиданно опустел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РЕЛИГИИ ДРЕВНЕЙ ИНДИ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1916280"/>
            <a:ext cx="3097080" cy="1655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ВЕД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16360" y="3429000"/>
            <a:ext cx="3097080" cy="1655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БУДД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4941720"/>
            <a:ext cx="3097440" cy="165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ИНДУ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3095640" cy="4032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ВЕДИЗМ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0384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Индиец эпохи вед обожествлял силы природы, одушевлял растения, горы и реки. Чтобы завоевать расположение богов, индийцы приносили им жертвы, молили о помощи, потомстве и богатств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2808360" cy="28814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ИНДУИЗМ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9280" y="3789360"/>
            <a:ext cx="878544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ишну            Брахма              Ши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2592360" cy="2808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588000" y="1557360"/>
            <a:ext cx="224820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102)"/>
                                      </p:to>
                                    </p:set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102)"/>
                                      </p:to>
                                    </p:set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6:34:17Z</dcterms:created>
  <dc:creator>Оля</dc:creator>
  <dc:description/>
  <dc:language>en-US</dc:language>
  <cp:lastModifiedBy>АДМИН</cp:lastModifiedBy>
  <dcterms:modified xsi:type="dcterms:W3CDTF">2019-04-18T19:01:09Z</dcterms:modified>
  <cp:revision>11</cp:revision>
  <dc:subject/>
  <dc:title>ДРЕВНЯЯ ИНДИЯ</dc:title>
</cp:coreProperties>
</file>