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E5F-AECE-45AD-AF62-C88AE30F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9B0-C9B0-4546-ABB3-4F899A24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748-9AD5-43EC-942A-23CD4DAD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272-8C16-401D-BEB1-5E13F7E0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177-4071-409A-964B-68B192EF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4B8-FEF0-4ABC-81CB-C1765C03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AEAC2-D9FD-407F-8709-3B44C052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641BE-B0C4-46F7-98E2-8709BD01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0EAE4-30C9-4C1C-A187-39898C9E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7B1-E317-4794-A457-D970132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3ED74-997B-452F-943D-CB44642F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814DA-6942-4C83-95A0-B5DAE603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E9376-3B8F-4785-B168-C26204ED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F6B22-6EBC-41DC-A157-E49D861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47B96-DBDC-4E75-9F74-3A8CB1A5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6EE18-B844-4C63-A49B-182E3F5B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2D922-B7FB-4DFD-83E7-6C5A8755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43AA2-F10C-4601-83B2-66238E38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9A09B-FFE5-44A0-A543-9E6824FB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6C050-EF35-413A-81AE-A49E9E5E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841-1E44-4F3F-BA9B-29C297C8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510E0-96F3-4A75-ABCE-447917F4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5993A-9111-4DF0-813E-26411447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3130F-9234-4B74-A0D0-40BD1E9A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6955D-22A6-43F0-A66A-9CC8EA63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1EEE0-CE60-49EC-B85C-E4C88569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A9860-11DC-458D-A705-499D4DF1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A6CE8-60BA-49A3-9B21-E84F2756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C8999-B63A-40B2-8606-6EF0A81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58BA9-0A0B-4516-9532-CA79C3A1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23BF4-8D5E-4F0D-BAF8-EDAB29FA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A01-529A-4E75-8240-143C9263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0D435-ABF9-4053-9C54-FC9C2BEF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22C-D37E-4B1B-BBCF-EEAF1680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6BF-F367-4ED7-9009-681B7E8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B12-AF7B-49B3-B219-78E156F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A454-A0E8-4486-BAE9-A7DC57B5F5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99af69cffd8c.png"/>
          <p:cNvPicPr/>
          <p:nvPr/>
        </p:nvPicPr>
        <p:blipFill>
          <a:blip r:embed="rId3"/>
          <a:stretch/>
        </p:blipFill>
        <p:spPr>
          <a:xfrm>
            <a:off x="-357120" y="2214720"/>
            <a:ext cx="3095640" cy="46432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3e94ac1b51e7.png"/>
          <p:cNvPicPr/>
          <p:nvPr/>
        </p:nvPicPr>
        <p:blipFill>
          <a:blip r:embed="rId4"/>
          <a:stretch/>
        </p:blipFill>
        <p:spPr>
          <a:xfrm>
            <a:off x="6429240" y="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Рисунок1.png"/>
          <p:cNvPicPr/>
          <p:nvPr/>
        </p:nvPicPr>
        <p:blipFill>
          <a:blip r:embed="rId5"/>
          <a:stretch/>
        </p:blipFill>
        <p:spPr>
          <a:xfrm>
            <a:off x="-571680" y="6419880"/>
            <a:ext cx="2962440" cy="438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3e94ac1b51e7.png"/>
          <p:cNvPicPr/>
          <p:nvPr/>
        </p:nvPicPr>
        <p:blipFill>
          <a:blip r:embed="rId3"/>
          <a:stretch/>
        </p:blipFill>
        <p:spPr>
          <a:xfrm>
            <a:off x="6786720" y="285840"/>
            <a:ext cx="2071440" cy="2071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7591-5BD1-4AE4-9286-27AAC4239F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D9C8-C2BE-4900-B2A1-F3FF148D1C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1573200" y="927000"/>
            <a:ext cx="6242040" cy="42354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786120" y="4714920"/>
            <a:ext cx="4857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дготовила: учитель начальных классов МБОУ Хохорской СОШ Гомбоева И.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preview_publication"/>
          <p:cNvPicPr/>
          <p:nvPr/>
        </p:nvPicPr>
        <p:blipFill>
          <a:blip r:embed="rId1"/>
          <a:stretch/>
        </p:blipFill>
        <p:spPr>
          <a:xfrm>
            <a:off x="6072120" y="3873600"/>
            <a:ext cx="3071880" cy="29844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1500120"/>
            <a:ext cx="9144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ГА БА БО КА ПА КА РА КЕ ТА ЦУ  НА МИ ВЕ ТО РИ ТА ЛЕ НА ВЕ ТА КУ ПА ВЫ СЫ ЛЕ РО СЕ ЛО ЛУ ЖА БА ПА МА ТА РА КА НО ДИ ВА РИ ЧЕ ТЫ РЕ ПЯ ШЕ СЕ ВО СЕ ДЕ ВЯ ДЕ СЯ ТА СИ  КО МЕ РИ КА КИ РИ МЕ РА ЦУ КО ГО ЛО БА ТЕ РА ТА СИ НО ЛЮ КО БЕ СО НО КА ЧЕ ВЕ РЕ 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142920" y="285840"/>
            <a:ext cx="785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  <a:ea typeface="Arial"/>
              </a:rPr>
              <a:t>Сосчитай все слоги «Б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Изображение:Strupp.gif‎"/>
          <p:cNvPicPr/>
          <p:nvPr/>
        </p:nvPicPr>
        <p:blipFill>
          <a:blip r:embed="rId1"/>
          <a:stretch/>
        </p:blipFill>
        <p:spPr>
          <a:xfrm>
            <a:off x="9360" y="2162160"/>
            <a:ext cx="8964720" cy="3973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34640" cy="16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ужно быстро называть вслух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ЦВЕТ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, которым написано каждое сло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9"/>
          <p:cNvSpPr/>
          <p:nvPr/>
        </p:nvSpPr>
        <p:spPr>
          <a:xfrm>
            <a:off x="1403280" y="2060640"/>
            <a:ext cx="6945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1116000" y="6858000"/>
            <a:ext cx="6945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1403280" y="5157720"/>
            <a:ext cx="4176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619280" y="479736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5651640" y="472428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4680000" y="1628640"/>
            <a:ext cx="4464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0" y="1714680"/>
            <a:ext cx="892980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чи вют гнезда на деревьях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тради Раи хорошие отлетк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школьной площядке играли   дет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мчался на лошад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ве стречет кузнечи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случилось чюд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214200" y="500040"/>
            <a:ext cx="6715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ди ошиб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4200" y="404280"/>
            <a:ext cx="824544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айди и выпиши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азвания цве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2920" y="178596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квилегиясколкактусиреньландыш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зцастраргладиолусгедргиезжбуд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лияцчнияколокольчикр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оябархатцыплдсвлн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4200" y="404280"/>
            <a:ext cx="824544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2920" y="178596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а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легияскол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ту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рень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андыш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зц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стр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адиолу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дргиезжбуд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ил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чния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локольчи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оя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архатц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дсвлн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14200" y="150012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йти в ряду группы из трёх последовательных цифр, сумма которых равна 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895613485264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Содержимое 2"/>
          <p:cNvSpPr/>
          <p:nvPr/>
        </p:nvSpPr>
        <p:spPr>
          <a:xfrm>
            <a:off x="357120" y="478620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89561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48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52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64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Содержимое 2"/>
          <p:cNvSpPr/>
          <p:nvPr/>
        </p:nvSpPr>
        <p:spPr>
          <a:xfrm>
            <a:off x="0" y="214308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еред вами 2 ряда чисел. В первом из них подчеркните все однозначные числа, а во втором обведите в кружок двузначные чис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4    11   5   23    10    0    6     234    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    7    33    14     345    3     20    3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-142920" y="285480"/>
            <a:ext cx="4143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полю, расчерченному на клеточки ползает жук. Жук двигается по команде. Он может двигаться вниз, вверх, вправо, влево. Я диктую детям ходы, они передвигают по полю жука в нужном направлении. Делают это мысленно.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исовать или водить пальцем по полю нельзя!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Рисунок 9" descr="razv2_56.gif"/>
          <p:cNvPicPr/>
          <p:nvPr/>
        </p:nvPicPr>
        <p:blipFill>
          <a:blip r:embed="rId1"/>
          <a:stretch/>
        </p:blipFill>
        <p:spPr>
          <a:xfrm>
            <a:off x="3943440" y="1928880"/>
            <a:ext cx="52005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Расшифруй слов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Object 3" descr="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-142920" y="1743120"/>
            <a:ext cx="91440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обрать к предмету второй пары такой предмет, чтобы между ними была та же смысловая связь, что и в первой паре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Карандаш – грифель, шариковая ручка – паста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Утверждения: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Коньки – лёд, лыжи -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Дом – кирпич, стакан - 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Свет – глаза, запах - 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Река – лодка, дорога -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 Вода – жажда, пища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571760" y="1357200"/>
            <a:ext cx="6572160" cy="32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Н  М  Е  Т  Р  А  Л   О  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1   2    3  4  5   6  7   8   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23458 ,  485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428920" y="357120"/>
            <a:ext cx="42148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д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66"/>
          <p:cNvSpPr/>
          <p:nvPr/>
        </p:nvSpPr>
        <p:spPr>
          <a:xfrm>
            <a:off x="0" y="456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78"/>
          <p:cNvSpPr/>
          <p:nvPr/>
        </p:nvSpPr>
        <p:spPr>
          <a:xfrm>
            <a:off x="357120" y="142920"/>
            <a:ext cx="7072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имся быть внимательны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76"/>
          <p:cNvSpPr/>
          <p:nvPr/>
        </p:nvSpPr>
        <p:spPr>
          <a:xfrm>
            <a:off x="1357200" y="2928960"/>
            <a:ext cx="8001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7   19    2     16    10    5    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76"/>
          <p:cNvSpPr/>
          <p:nvPr/>
        </p:nvSpPr>
        <p:spPr>
          <a:xfrm>
            <a:off x="0" y="714240"/>
            <a:ext cx="71438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Спиши числа. Каждое однозначное число увеличь на 3, а каждое двузначное число уменьши на 5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66"/>
          <p:cNvSpPr/>
          <p:nvPr/>
        </p:nvSpPr>
        <p:spPr>
          <a:xfrm>
            <a:off x="0" y="456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171" descr="image"/>
          <p:cNvPicPr/>
          <p:nvPr/>
        </p:nvPicPr>
        <p:blipFill>
          <a:blip r:embed="rId1"/>
          <a:stretch/>
        </p:blipFill>
        <p:spPr>
          <a:xfrm>
            <a:off x="2357280" y="1928880"/>
            <a:ext cx="6081840" cy="4429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77"/>
          <p:cNvSpPr/>
          <p:nvPr/>
        </p:nvSpPr>
        <p:spPr>
          <a:xfrm>
            <a:off x="0" y="357120"/>
            <a:ext cx="7500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йди пропущенное чи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йди ошибки в предложен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т идет под дорожко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бака вылезла в конур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ня сидит под стул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горь спускается на лестниц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 столе лежит красная помидо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 яблоне выросли сладкие яблок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д рекой летит самол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гда Семен станет младше он пойдет в школ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139680" y="0"/>
            <a:ext cx="6248520" cy="1468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143080" y="2356920"/>
            <a:ext cx="6858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Arial"/>
              </a:rPr>
              <a:t>Ав-обус, а-лея, ап-ека, бе-ёза, бо-ото, яб-око, вет-р, воро-ей, в-ск-есенье, вос-ок,  ге-ой, го-од, дев-чка, дер-во, до-ога, за-ц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Arial"/>
              </a:rPr>
              <a:t>завт-ак, ка-анд-ш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139680" y="0"/>
            <a:ext cx="6248520" cy="14684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928520" y="1428840"/>
            <a:ext cx="64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Желто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кол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Паровоз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ястич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Желта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кчоба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Красива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ниш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Мышь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ищи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Вишнево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ьнера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Старинна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гин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Лис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рт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Котенок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аку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</a:rPr>
              <a:t>Сине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1579680" y="1925640"/>
            <a:ext cx="6931080" cy="421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Calibri"/>
              </a:rPr>
              <a:t>Н  М  Е  Т  Р  А  Л   О  С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Calibri"/>
              </a:rPr>
              <a:t>1   2   3  4  5   6  7   8   0 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0000"/>
                </a:solidFill>
                <a:latin typeface="Calibri"/>
              </a:rPr>
              <a:t>2345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  М  Е  Т  Р  А  Л   О  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  2   3  4  5   6  7   8   0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32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  М  Е  Т  Р  А  Л   О  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  2   3  4  5   6  7   8   0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734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  М  Е  Т  Р  А  Л   О  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   2   3  4  5   6  7   8   0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58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http://storage1.tvidi.com/Cms/News/2/9/2292/23908_129013933360053327479_Original.jpg"/>
          <p:cNvPicPr/>
          <p:nvPr/>
        </p:nvPicPr>
        <p:blipFill>
          <a:blip r:embed="rId1"/>
          <a:stretch/>
        </p:blipFill>
        <p:spPr>
          <a:xfrm>
            <a:off x="0" y="571680"/>
            <a:ext cx="8929800" cy="61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http://rad-dou5.caduk.ru/images/clip_image005.jpg"/>
          <p:cNvPicPr/>
          <p:nvPr/>
        </p:nvPicPr>
        <p:blipFill>
          <a:blip r:embed="rId1"/>
          <a:stretch/>
        </p:blipFill>
        <p:spPr>
          <a:xfrm>
            <a:off x="0" y="1357200"/>
            <a:ext cx="910764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НАЙДИ тень снегов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rad-dou5.caduk.ru/images/clip_image001.jpg33"/>
          <p:cNvPicPr/>
          <p:nvPr/>
        </p:nvPicPr>
        <p:blipFill>
          <a:blip r:embed="rId1"/>
          <a:stretch/>
        </p:blipFill>
        <p:spPr>
          <a:xfrm>
            <a:off x="285840" y="1576440"/>
            <a:ext cx="8502480" cy="5281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ЧТО НАРИСОВАН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Ирина</cp:lastModifiedBy>
  <cp:lastPrinted>2015-10-23T10:32:56Z</cp:lastPrinted>
  <dcterms:modified xsi:type="dcterms:W3CDTF">2019-04-22T05:47:46Z</dcterms:modified>
  <cp:revision>10</cp:revision>
  <dc:subject/>
  <dc:title>Слайд 1</dc:title>
</cp:coreProperties>
</file>