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038-2ABD-4B23-B273-DD50D04A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131-D1BA-4CDE-A94A-8210AFCA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BEB-00D2-4800-BC0C-D61C2AF4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4E7-C5F2-4184-91A5-1095AE34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6A2-117D-4A66-B793-2FA001A0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F83-82CC-430D-B6E9-D32185C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A9F1A-DC3E-42C6-A098-9A249247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D35E3-0AE3-46A1-BFB8-47186DC3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0ED37-ECD3-45A4-830D-BE96F859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4C8-A2B9-42F3-AE68-6C7BC12A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30F5F-43E6-4F03-8E8E-1129E49A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BAFE9-F1B4-44E9-86FC-D0FA95D2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DBC05-A9A4-4001-8F79-225AB6CB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4D899-C078-442D-B622-51D5065B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31409-4731-4D3E-A1DB-622D5CD5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16706-D3D2-49BE-B935-BA8EAE69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795B1-C6CF-42CB-B972-AF7D7CCD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D688D-4B69-4422-96F1-A35F4ECB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230DE-5571-4B40-ABCE-B404A51C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A70C5-FD14-4289-8495-F390EB1C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E29-4267-4D0B-BD65-768CF8DC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6531D-309A-4060-BCBC-C8DB5ECC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E3616-D43F-4754-A4F0-71BF8B30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332DA-7B8B-487A-95E0-7CFD8E4C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7C279-AA52-403F-B42B-AE6F57C7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39F87-E0DD-4423-8082-73B89F6B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602DE-52BA-4E96-A342-187EB76F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74203-E9EF-4400-8FBB-AC77E84B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49D4E-D2DC-43A8-A2FF-B767CE0A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22493-5712-4FDF-BBC2-0D2C8BFB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BD1E3-5C8E-4B40-8D47-5DFF1F85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14E-8026-48EB-ABEC-998E766B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C0B40-0796-4E27-860C-C77C6BB2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E35-C4FC-451A-917F-A628905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FCA-6360-47F6-B739-F4CE15C1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213-F4D6-4151-8494-27C60D2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99F0-0117-4EA2-BC22-D79521514F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99af69cffd8c.png"/>
          <p:cNvPicPr/>
          <p:nvPr/>
        </p:nvPicPr>
        <p:blipFill>
          <a:blip r:embed="rId3"/>
          <a:stretch/>
        </p:blipFill>
        <p:spPr>
          <a:xfrm>
            <a:off x="-357120" y="2214720"/>
            <a:ext cx="3095640" cy="4643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3e94ac1b51e7.png"/>
          <p:cNvPicPr/>
          <p:nvPr/>
        </p:nvPicPr>
        <p:blipFill>
          <a:blip r:embed="rId4"/>
          <a:stretch/>
        </p:blipFill>
        <p:spPr>
          <a:xfrm>
            <a:off x="6429240" y="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Рисунок1.png"/>
          <p:cNvPicPr/>
          <p:nvPr/>
        </p:nvPicPr>
        <p:blipFill>
          <a:blip r:embed="rId5"/>
          <a:stretch/>
        </p:blipFill>
        <p:spPr>
          <a:xfrm>
            <a:off x="-571680" y="6419880"/>
            <a:ext cx="2962440" cy="438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3e94ac1b51e7.png"/>
          <p:cNvPicPr/>
          <p:nvPr/>
        </p:nvPicPr>
        <p:blipFill>
          <a:blip r:embed="rId3"/>
          <a:stretch/>
        </p:blipFill>
        <p:spPr>
          <a:xfrm>
            <a:off x="6786720" y="285840"/>
            <a:ext cx="2071440" cy="2071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ACA6-2196-406B-80CA-B4B28192C9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D44F-2032-4395-9B6C-88CF52D19C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1573200" y="927000"/>
            <a:ext cx="6242040" cy="4235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786120" y="4714920"/>
            <a:ext cx="485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дготовила: учитель начальных классов МБОУ Хохорской СОШ Гомбоева И.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preview_publication"/>
          <p:cNvPicPr/>
          <p:nvPr/>
        </p:nvPicPr>
        <p:blipFill>
          <a:blip r:embed="rId1"/>
          <a:stretch/>
        </p:blipFill>
        <p:spPr>
          <a:xfrm>
            <a:off x="6072120" y="3873600"/>
            <a:ext cx="3071880" cy="29844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150012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ГА БА БО КА ПА КА РА КЕ ТА ЦУ  НА МИ ВЕ ТО РИ ТА ЛЕ НА ВЕ ТА КУ ПА ВЫ СЫ ЛЕ РО СЕ ЛО ЛУ ЖА БА ПА МА ТА РА КА НО ДИ ВА РИ ЧЕ ТЫ РЕ ПЯ ШЕ СЕ ВО СЕ ДЕ ВЯ ДЕ СЯ ТА СИ  КО МЕ РИ КА КИ РИ МЕ РА ЦУ КО ГО ЛО БА ТЕ РА ТА СИ НО ЛЮ КО БЕ СО НО КА ЧЕ ВЕ РЕ 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42920" y="285840"/>
            <a:ext cx="785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  <a:ea typeface="Arial"/>
              </a:rPr>
              <a:t>Сосчитай все слоги «Б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Изображение:Strupp.gif‎"/>
          <p:cNvPicPr/>
          <p:nvPr/>
        </p:nvPicPr>
        <p:blipFill>
          <a:blip r:embed="rId1"/>
          <a:stretch/>
        </p:blipFill>
        <p:spPr>
          <a:xfrm>
            <a:off x="9360" y="2162160"/>
            <a:ext cx="8964720" cy="3973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34640" cy="16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ужно быстро называть вслух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ЦВЕ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которым написано каждое сло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"/>
          <p:cNvSpPr/>
          <p:nvPr/>
        </p:nvSpPr>
        <p:spPr>
          <a:xfrm>
            <a:off x="1403280" y="2060640"/>
            <a:ext cx="6945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1116000" y="6858000"/>
            <a:ext cx="6945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403280" y="5157720"/>
            <a:ext cx="4176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619280" y="479736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5651640" y="472428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4680000" y="1628640"/>
            <a:ext cx="4464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0" y="1714680"/>
            <a:ext cx="892980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чи вют гнезда на деревья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тради Раи хорошие отле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школьной площядке играли   дет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мчался на лошад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ве стречет кузнечи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случилось чюд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214200" y="500040"/>
            <a:ext cx="6715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ди ошиб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4200" y="404280"/>
            <a:ext cx="824544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айди и выпиши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азвания цве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2920" y="178596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квилегиясколкактусиреньландыш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зцастраргладиолусгедргиезжбуд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лияцчнияколокольчикр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оябархатцыплдсвлн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4200" y="404280"/>
            <a:ext cx="824544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2920" y="178596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легияскол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ту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рень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андыш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зц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стр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диолу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дргиезжбуд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ил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чния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локольчи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оя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рхатц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дсвлн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4200" y="150012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йти в ряду группы из трёх последовательных цифр, сумма которых равна 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895613485264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Содержимое 2"/>
          <p:cNvSpPr/>
          <p:nvPr/>
        </p:nvSpPr>
        <p:spPr>
          <a:xfrm>
            <a:off x="357120" y="47862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89561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48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52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64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Содержимое 2"/>
          <p:cNvSpPr/>
          <p:nvPr/>
        </p:nvSpPr>
        <p:spPr>
          <a:xfrm>
            <a:off x="0" y="214308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еред вами 2 ряда чисел. В первом из них подчеркните все однозначные числа, а во втором обведите в кружок двузначные чис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    11   5   23    10    0    6     234    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    7    33    14     345    3     20    3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-142920" y="285480"/>
            <a:ext cx="4143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полю, расчерченному на клеточки ползает жук. Жук двигается по команде. Он может двигаться вниз, вверх, вправо, влево. Я диктую детям ходы, они передвигают по полю жука в нужном направлении. Делают это мысленно.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исовать или водить пальцем по полю нельзя!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Рисунок 9" descr="razv2_56.gif"/>
          <p:cNvPicPr/>
          <p:nvPr/>
        </p:nvPicPr>
        <p:blipFill>
          <a:blip r:embed="rId1"/>
          <a:stretch/>
        </p:blipFill>
        <p:spPr>
          <a:xfrm>
            <a:off x="3943440" y="1928880"/>
            <a:ext cx="52005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Расшифруй сло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Object 3" descr="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-142920" y="1743120"/>
            <a:ext cx="9144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обрать к предмету второй пары такой предмет, чтобы между ними была та же смысловая связь, что и в первой паре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Карандаш – грифель, шариковая ручка – паста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тверждения: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оньки – лёд, лыжи -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Дом – кирпич, стакан - 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вет – глаза, запах - 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Река – лодка, дорога -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Вода – жажда, пища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571760" y="1357200"/>
            <a:ext cx="657216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Н  М  Е  Т  Р  А  Л   О  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1   2    3  4  5   6  7   8   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23458 ,  485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428920" y="357120"/>
            <a:ext cx="42148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д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66"/>
          <p:cNvSpPr/>
          <p:nvPr/>
        </p:nvSpPr>
        <p:spPr>
          <a:xfrm>
            <a:off x="0" y="45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78"/>
          <p:cNvSpPr/>
          <p:nvPr/>
        </p:nvSpPr>
        <p:spPr>
          <a:xfrm>
            <a:off x="357120" y="142920"/>
            <a:ext cx="7072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имся быть внимательны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76"/>
          <p:cNvSpPr/>
          <p:nvPr/>
        </p:nvSpPr>
        <p:spPr>
          <a:xfrm>
            <a:off x="1357200" y="2928960"/>
            <a:ext cx="8001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7   19    2     16    10    5    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76"/>
          <p:cNvSpPr/>
          <p:nvPr/>
        </p:nvSpPr>
        <p:spPr>
          <a:xfrm>
            <a:off x="0" y="714240"/>
            <a:ext cx="71438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Спиши числа. Каждое однозначное число увеличь на 3, а каждое двузначное число уменьши на 5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66"/>
          <p:cNvSpPr/>
          <p:nvPr/>
        </p:nvSpPr>
        <p:spPr>
          <a:xfrm>
            <a:off x="0" y="45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171" descr="image"/>
          <p:cNvPicPr/>
          <p:nvPr/>
        </p:nvPicPr>
        <p:blipFill>
          <a:blip r:embed="rId1"/>
          <a:stretch/>
        </p:blipFill>
        <p:spPr>
          <a:xfrm>
            <a:off x="2357280" y="1928880"/>
            <a:ext cx="6081840" cy="4429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77"/>
          <p:cNvSpPr/>
          <p:nvPr/>
        </p:nvSpPr>
        <p:spPr>
          <a:xfrm>
            <a:off x="0" y="357120"/>
            <a:ext cx="7500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ди пропущенное чи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йди ошибки в предложен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т идет под дорожк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бака вылезла в конур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ня сидит под стул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горь спускается на лестниц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столе лежит красная помидо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яблоне выросли сладкие яблок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 рекой летит самол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гда Семен станет младше он пойдет в школ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139680" y="0"/>
            <a:ext cx="6248520" cy="1468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143080" y="2356920"/>
            <a:ext cx="6858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Arial"/>
              </a:rPr>
              <a:t>Ав-обус, а-лея, ап-ека, бе-ёза, бо-ото, яб-око, вет-р, воро-ей, в-ск-есенье, вос-ок,  ге-ой, го-од, дев-чка, дер-во, до-ога, за-ц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Arial"/>
              </a:rPr>
              <a:t>завт-ак, ка-анд-ш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139680" y="0"/>
            <a:ext cx="6248520" cy="14684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928520" y="1428840"/>
            <a:ext cx="64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Желто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кол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Паровоз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стич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Желта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кчоба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Красива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ниш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Мыш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ищи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Вишнево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ьнера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Старинна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гин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Лис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рт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Котенок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аку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Сине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1579680" y="1925640"/>
            <a:ext cx="6931080" cy="421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Calibri"/>
              </a:rPr>
              <a:t>Н  М  Е  Т  Р  А  Л   О  С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Calibri"/>
              </a:rPr>
              <a:t>1   2   3  4  5   6  7   8   0 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0000"/>
                </a:solidFill>
                <a:latin typeface="Calibri"/>
              </a:rPr>
              <a:t>2345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  М  Е  Т  Р  А  Л   О  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  2   3  4  5   6  7   8   0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32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  М  Е  Т  Р  А  Л   О  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  2   3  4  5   6  7   8   0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734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  М  Е  Т  Р  А  Л   О  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  2   3  4  5   6  7   8   0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58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http://storage1.tvidi.com/Cms/News/2/9/2292/23908_129013933360053327479_Original.jpg"/>
          <p:cNvPicPr/>
          <p:nvPr/>
        </p:nvPicPr>
        <p:blipFill>
          <a:blip r:embed="rId1"/>
          <a:stretch/>
        </p:blipFill>
        <p:spPr>
          <a:xfrm>
            <a:off x="0" y="571680"/>
            <a:ext cx="8929800" cy="61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://rad-dou5.caduk.ru/images/clip_image005.jpg"/>
          <p:cNvPicPr/>
          <p:nvPr/>
        </p:nvPicPr>
        <p:blipFill>
          <a:blip r:embed="rId1"/>
          <a:stretch/>
        </p:blipFill>
        <p:spPr>
          <a:xfrm>
            <a:off x="0" y="1357200"/>
            <a:ext cx="910764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АЙДИ тень снегов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rad-dou5.caduk.ru/images/clip_image001.jpg33"/>
          <p:cNvPicPr/>
          <p:nvPr/>
        </p:nvPicPr>
        <p:blipFill>
          <a:blip r:embed="rId1"/>
          <a:stretch/>
        </p:blipFill>
        <p:spPr>
          <a:xfrm>
            <a:off x="285840" y="1576440"/>
            <a:ext cx="8502480" cy="5281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ЧТО НАРИСОВА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Ирина</cp:lastModifiedBy>
  <cp:lastPrinted>2015-10-23T10:32:56Z</cp:lastPrinted>
  <dcterms:modified xsi:type="dcterms:W3CDTF">2019-04-22T05:47:46Z</dcterms:modified>
  <cp:revision>10</cp:revision>
  <dc:subject/>
  <dc:title>Слайд 1</dc:title>
</cp:coreProperties>
</file>