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92FF-E926-450E-A198-434D46EDA4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B5AD-A3A3-4802-B530-2D5D75F1BF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462A-1E62-4E42-B7B0-E5524D5939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28F2-3DB0-407A-9D53-8CD28A9CC1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ED5B-AAB9-42DE-B866-5E230918BE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E8CE-693D-4CA3-A21B-C85420334B0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58E9-DC85-420E-8AFD-D8521E5A77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D601-01FE-4856-A10A-BEBD0B4EB6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1841-8341-49E0-8E84-39103B7362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79FA-24FB-412F-B7EF-9EA7765B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F854-E251-4302-90E4-D63C2747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47E2-3D00-47A3-9432-70E0ECAC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1AF3-8048-4B46-ADE1-43E00498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7097-FB25-48F7-BF67-8B6282E1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9C89-558C-40A9-9FCE-04609B33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C628-8BE9-4D5E-A3D4-23F6724E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C869-B310-435C-9C56-149ECE91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3EEF-DCCF-4F20-8E19-0B5AB0AD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794F-47FB-4C6A-9E7D-22481F25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23C1-A63E-4CE6-B204-7F6D0CAA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876A-494D-4A95-B094-3FBD5802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4045-B3CC-4E3B-82C0-D830A108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8401-A636-4250-ABA3-A9626971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1670-05CD-4746-9B43-2C9006A4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08F4-D496-4D1E-8362-DC4D8D3F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1D1A-331C-4F30-A5C3-472FF62D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7BF0-C023-4540-8FBF-9CD3636F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55269-EDEA-40EA-A3C6-ED941678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C323-A86E-4D41-B628-D74DCF73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02FC-96AB-42EF-B524-9B061471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9E5F-776F-4128-BC0B-37E4792C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8FB1-F082-43E7-A9B2-78F70E9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9EADF-B88F-48C1-8110-884F4950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84"/>
            </a:gs>
            <a:gs pos="100000">
              <a:srgbClr val="3939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B20A-A574-404D-B6E3-4F0A6FC66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84"/>
            </a:gs>
            <a:gs pos="100000">
              <a:srgbClr val="3939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96A5-BF0F-4990-8667-A700F0614C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f5f5f"/>
            </a:gs>
            <a:gs pos="50000">
              <a:srgbClr val="2c2c2c"/>
            </a:gs>
            <a:gs pos="100000">
              <a:srgbClr val="5f5f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И.А.Бунин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 «Тёмные аллеи»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1979640"/>
            <a:ext cx="571500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f_17908958"/>
          <p:cNvPicPr/>
          <p:nvPr/>
        </p:nvPicPr>
        <p:blipFill>
          <a:blip r:embed="rId1"/>
          <a:stretch/>
        </p:blipFill>
        <p:spPr>
          <a:xfrm>
            <a:off x="2514600" y="1600200"/>
            <a:ext cx="403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4d4d"/>
            </a:gs>
            <a:gs pos="100000">
              <a:srgbClr val="2424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5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647640"/>
            <a:ext cx="822960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Любов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</a:t>
            </a: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Предательство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                </a:t>
            </a: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Расплат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Стрелка вниз 1"/>
          <p:cNvSpPr/>
          <p:nvPr/>
        </p:nvSpPr>
        <p:spPr>
          <a:xfrm>
            <a:off x="1523880" y="1676520"/>
            <a:ext cx="990720" cy="12189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Стрелка вниз 2"/>
          <p:cNvSpPr/>
          <p:nvPr/>
        </p:nvSpPr>
        <p:spPr>
          <a:xfrm>
            <a:off x="4495680" y="3701880"/>
            <a:ext cx="1094040" cy="978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4d4d"/>
            </a:gs>
            <a:gs pos="100000">
              <a:srgbClr val="2424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5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647640"/>
            <a:ext cx="822960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    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Zvuki-oseni-(muzofon.com).mp3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9481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4d4d"/>
            </a:gs>
            <a:gs pos="100000">
              <a:srgbClr val="2424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647640"/>
            <a:ext cx="822960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    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04920" y="291960"/>
            <a:ext cx="3962160" cy="6477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4267080" y="366840"/>
            <a:ext cx="464832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d4d4d"/>
            </a:gs>
            <a:gs pos="100000">
              <a:srgbClr val="2424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47640"/>
            <a:ext cx="822960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                           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Диаграмма 1" descr=""/>
          <p:cNvPicPr/>
          <p:nvPr/>
        </p:nvPicPr>
        <p:blipFill>
          <a:blip r:embed="rId1"/>
          <a:stretch/>
        </p:blipFill>
        <p:spPr>
          <a:xfrm>
            <a:off x="1473120" y="1346040"/>
            <a:ext cx="6197760" cy="4165920"/>
          </a:xfrm>
          <a:prstGeom prst="rect">
            <a:avLst/>
          </a:prstGeom>
          <a:ln w="0">
            <a:noFill/>
          </a:ln>
        </p:spPr>
      </p:pic>
      <p:pic>
        <p:nvPicPr>
          <p:cNvPr id="125" name="Диаграмма 2" descr=""/>
          <p:cNvPicPr/>
          <p:nvPr/>
        </p:nvPicPr>
        <p:blipFill>
          <a:blip r:embed="rId2"/>
          <a:stretch/>
        </p:blipFill>
        <p:spPr>
          <a:xfrm>
            <a:off x="1854360" y="558720"/>
            <a:ext cx="581652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f5f5f"/>
            </a:gs>
            <a:gs pos="100000">
              <a:srgbClr val="2c2c2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Garamond"/>
              </a:rPr>
              <a:t>В чём же загадка любви по Бунину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 Бунина любовь всегда связана со смертью, хотя иногда эта смерть может быть не физической, а духов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юбовь – счастье и трагедия одновременн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юбовь – вспышка, мгновение счастья, о котором помнят всю жизнь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юбовь – высший судья в человеческих отношения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5" descr="temnyie-allei-02"/>
          <p:cNvPicPr/>
          <p:nvPr/>
        </p:nvPicPr>
        <p:blipFill>
          <a:blip r:embed="rId1"/>
          <a:srcRect l="21455" t="15621" r="22792" b="21881"/>
          <a:stretch/>
        </p:blipFill>
        <p:spPr>
          <a:xfrm>
            <a:off x="7315200" y="388620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sd156_07_02_01"/>
          <p:cNvPicPr/>
          <p:nvPr/>
        </p:nvPicPr>
        <p:blipFill>
          <a:blip r:embed="rId2"/>
          <a:srcRect l="17999" t="16268" r="19005" b="22715"/>
          <a:stretch/>
        </p:blipFill>
        <p:spPr>
          <a:xfrm>
            <a:off x="152280" y="15228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a05"/>
          <p:cNvPicPr/>
          <p:nvPr/>
        </p:nvPicPr>
        <p:blipFill>
          <a:blip r:embed="rId3"/>
          <a:stretch/>
        </p:blipFill>
        <p:spPr>
          <a:xfrm rot="1989600">
            <a:off x="6400800" y="5410080"/>
            <a:ext cx="866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f5f5f"/>
            </a:gs>
            <a:gs pos="50000">
              <a:srgbClr val="2c2c2c"/>
            </a:gs>
            <a:gs pos="100000">
              <a:srgbClr val="5f5f5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гласны ли вы?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якая любовь – великое счастье, даже если она не разделена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Д.Харатьян И С.Тарасова - Песня О Любви.mp3" descr=""/>
          <p:cNvPicPr/>
          <p:nvPr/>
        </p:nvPicPr>
        <p:blipFill>
          <a:blip r:embed="rId1"/>
          <a:stretch/>
        </p:blipFill>
        <p:spPr>
          <a:xfrm>
            <a:off x="81532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1440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f5f5f"/>
            </a:gs>
            <a:gs pos="50000">
              <a:srgbClr val="2c2c2c"/>
            </a:gs>
            <a:gs pos="100000">
              <a:srgbClr val="5f5f5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77560"/>
            <a:ext cx="83059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ее задание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Сообщение о жизни и творчестве М. Булгаков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очинение-рассуждение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частья в жизни нет, есть только зарницы его – цените их, живите ими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</cp:lastModifiedBy>
  <dcterms:modified xsi:type="dcterms:W3CDTF">2013-03-19T14:03:53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