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9595-5837-4A20-BC14-D27D84B79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B970-8FFF-40EE-BBE6-CA9AB5EC10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08D6-78B9-4C0F-9DF2-064C5098BC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2D5D-BADE-48B7-A654-C8C36044F2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7DE3-1B39-41C4-81A0-B12AFE79AA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8782-4F7C-49B7-BCAD-95FE888A9C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B1EA-7B2F-43B3-97C7-32FC5AA99A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3173-F0CE-4027-962A-F1425CC1BF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7AB2-AD80-4CEC-8CA6-8F7F984D40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B981-39E6-4F4C-A66A-EEEB5C51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2192-0ED6-499E-9FF7-E56A5E96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0C42-6046-4475-8883-20FF027D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5C8D-50F6-4F90-AE03-D485FA12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BBC6-2BC6-4947-9BFD-8850FE28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0A65-B36E-4E96-8A47-D0F23665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D3A7-592F-43A4-84BD-67B2CA24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32E8-7391-48D6-8B97-7E783A29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2289-F197-4DFF-916A-24BB5F6C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B880-5C5C-4175-9C62-474B6DCA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6BF9-B25E-4F88-A985-24E4D511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83C8-0CE2-4080-AA16-B4BCC272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71E4-4A5A-4AC3-A2D0-D24A72F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0ECC-4C24-4403-90C7-4672C350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95D1-6F16-4F92-ADA2-2F469C99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5DDE-F34E-4257-BCBF-FF99AFA0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9B4C-9DF5-4A06-B6CD-FCBC3E85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124A-BE66-4C95-B5D1-F022D183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B8CF-3CDD-47E9-8ED4-011DA2AE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CEEE-13D1-46B9-9ED5-48B4936B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748D-C5B3-43CB-ADD3-8A94B8FE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D88C-86C2-4380-A48B-04F6AE84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1082-A2EA-4D7B-AC97-10DCB3ED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6FF0-C060-4F80-82D2-A22AB4D8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84"/>
            </a:gs>
            <a:gs pos="100000">
              <a:srgbClr val="3939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8742-5832-48E8-A6E0-FC73B544E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84"/>
            </a:gs>
            <a:gs pos="100000">
              <a:srgbClr val="3939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A0A8-E0A1-42A0-90BF-631E45BD76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f5f5f"/>
            </a:gs>
            <a:gs pos="50000">
              <a:srgbClr val="2c2c2c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И.А.Бунин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 «Тёмные аллеи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1979640"/>
            <a:ext cx="571500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f_17908958"/>
          <p:cNvPicPr/>
          <p:nvPr/>
        </p:nvPicPr>
        <p:blipFill>
          <a:blip r:embed="rId1"/>
          <a:stretch/>
        </p:blipFill>
        <p:spPr>
          <a:xfrm>
            <a:off x="2514600" y="160020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4d4d"/>
            </a:gs>
            <a:gs pos="100000">
              <a:srgbClr val="24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647640"/>
            <a:ext cx="822960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Любов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</a:t>
            </a: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Предательство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                </a:t>
            </a: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Расплат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Стрелка вниз 1"/>
          <p:cNvSpPr/>
          <p:nvPr/>
        </p:nvSpPr>
        <p:spPr>
          <a:xfrm>
            <a:off x="1523880" y="1676520"/>
            <a:ext cx="990720" cy="12189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Стрелка вниз 2"/>
          <p:cNvSpPr/>
          <p:nvPr/>
        </p:nvSpPr>
        <p:spPr>
          <a:xfrm>
            <a:off x="4495680" y="3701880"/>
            <a:ext cx="1094040" cy="978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4d4d"/>
            </a:gs>
            <a:gs pos="100000">
              <a:srgbClr val="24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647640"/>
            <a:ext cx="822960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    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Zvuki-oseni-(muzofon.com).mp3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9481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4d4d"/>
            </a:gs>
            <a:gs pos="100000">
              <a:srgbClr val="24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647640"/>
            <a:ext cx="822960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    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04920" y="291960"/>
            <a:ext cx="3962160" cy="647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4267080" y="366840"/>
            <a:ext cx="464832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4d4d"/>
            </a:gs>
            <a:gs pos="100000">
              <a:srgbClr val="24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47640"/>
            <a:ext cx="822960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    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  <p:pic>
        <p:nvPicPr>
          <p:cNvPr id="125" name="Диаграмма 2" descr=""/>
          <p:cNvPicPr/>
          <p:nvPr/>
        </p:nvPicPr>
        <p:blipFill>
          <a:blip r:embed="rId2"/>
          <a:stretch/>
        </p:blipFill>
        <p:spPr>
          <a:xfrm>
            <a:off x="1854360" y="558720"/>
            <a:ext cx="581652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f5f5f"/>
            </a:gs>
            <a:gs pos="100000">
              <a:srgbClr val="2c2c2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Garamond"/>
              </a:rPr>
              <a:t>В чём же загадка любви по Бунину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 Бунина любовь всегда связана со смертью, хотя иногда эта смерть может быть не физической, а духов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юбовь – счастье и трагедия одновременн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юбовь – вспышка, мгновение счастья, о котором помнят всю жизн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юбовь – высший судья в человеческих отношения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5" descr="temnyie-allei-02"/>
          <p:cNvPicPr/>
          <p:nvPr/>
        </p:nvPicPr>
        <p:blipFill>
          <a:blip r:embed="rId1"/>
          <a:srcRect l="21455" t="15621" r="22792" b="21881"/>
          <a:stretch/>
        </p:blipFill>
        <p:spPr>
          <a:xfrm>
            <a:off x="7315200" y="38862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sd156_07_02_01"/>
          <p:cNvPicPr/>
          <p:nvPr/>
        </p:nvPicPr>
        <p:blipFill>
          <a:blip r:embed="rId2"/>
          <a:srcRect l="17999" t="16268" r="19005" b="22715"/>
          <a:stretch/>
        </p:blipFill>
        <p:spPr>
          <a:xfrm>
            <a:off x="152280" y="15228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a05"/>
          <p:cNvPicPr/>
          <p:nvPr/>
        </p:nvPicPr>
        <p:blipFill>
          <a:blip r:embed="rId3"/>
          <a:stretch/>
        </p:blipFill>
        <p:spPr>
          <a:xfrm rot="1989600">
            <a:off x="6400800" y="5410080"/>
            <a:ext cx="866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f5f5f"/>
            </a:gs>
            <a:gs pos="50000">
              <a:srgbClr val="2c2c2c"/>
            </a:gs>
            <a:gs pos="100000">
              <a:srgbClr val="5f5f5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гласны ли вы?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якая любовь – великое счастье, даже если она не разделена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Д.Харатьян И С.Тарасова - Песня О Любви.mp3" descr=""/>
          <p:cNvPicPr/>
          <p:nvPr/>
        </p:nvPicPr>
        <p:blipFill>
          <a:blip r:embed="rId1"/>
          <a:stretch/>
        </p:blipFill>
        <p:spPr>
          <a:xfrm>
            <a:off x="81532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1440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f5f5f"/>
            </a:gs>
            <a:gs pos="50000">
              <a:srgbClr val="2c2c2c"/>
            </a:gs>
            <a:gs pos="100000">
              <a:srgbClr val="5f5f5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ее задание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ообщение о жизни и творчестве М. Булгаков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очинение-рассуждение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частья в жизни нет, есть только зарницы его – цените их, живите ими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</cp:lastModifiedBy>
  <dcterms:modified xsi:type="dcterms:W3CDTF">2013-03-19T14:03:53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