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6515-DE43-4557-8C7E-9E72910DFC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«Кеподьсаськ занавесть» (198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EE87-1F5A-4C5A-9F36-5B40F0F3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348D-4490-46AC-8AAC-59C207A8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B83C-11C6-48A4-B958-82339FAB4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9499-9F06-4192-9B0D-D53A0A8DE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0080-B1A0-4E44-9582-AB13613E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06B2-C579-4EF5-BFDB-BDE5E2DB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79EA-D453-471C-BE87-EECFAE31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EAE0-ECC5-4363-B0FB-981B588E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23F3-2C4A-40F0-A513-B322B29F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E3AC-6481-4D94-88A7-863DCA8C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4507-A53A-473D-8E53-63E738B6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B13B-312D-4AEC-ADFB-8CA79502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ACDA-DAB1-4C50-9C60-5963FD55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6660-33A7-48AC-BB2D-7B193511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5B7A-69D9-4C06-B5CC-5B5BE0F8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3A99-2BF2-41FD-AFAB-79AE73045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C5F2-B2DE-4612-92A5-B37A140D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44AC-A668-4710-964D-DD199C14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0530-9ADB-43E2-ADFF-535EC486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CA61-4515-4652-B83F-759130B8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0629-6A8B-4883-84B6-284E6481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D866-47EE-4844-A402-F80A7247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F01D-17E8-4720-B03C-E86627E3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96CF-720E-4129-9C1D-B448E561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CE4A-21F2-4A23-A24F-6C62721CC2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26D8-D469-4812-8659-5234F8A413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Кужа велень писательхне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оклазе: МБОУ «Мордовско – Полянская ООШ» мокшень кялень и литературань тонафты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исеева Л.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Яков Максимович Пинясов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(28.12.1913 – 22.05.1984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ков Максимович Пинясов шачсь 1913 кизонь декабрьста Зубово-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янскяй райононь Кужа велеса. Тяса аделазе начальнай школать, тяста ушедсь ломанень оцю киц. Я.М. Пинясов- МССР-нь Государственнай премиянь васенце лауреатсь, Мордовиянь народнай васенце писательсь. Книганзон эзда ламотне ётафтфт колмогемоньда лама кяльс. Мокшень писательть произведениянзон лувондсазь Англияса, Китайса, Венгрияса, Болгарияса, Румынияса, Германияса и лия странаса эряй иттне. Сембось иттненди казсь 70 лама книг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2781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исательть книганз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1905120" cy="25239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580000" y="1628640"/>
            <a:ext cx="2049480" cy="2952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2771640" y="3933720"/>
            <a:ext cx="190512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Григорий Ильич Пинясов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(11.09.1944 – 03.03.2008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708000" y="1484280"/>
            <a:ext cx="5256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.И.Пинясовонь шачема-касома аймакоц – Зубово-Полянскяй райононь Кужа велесь, конань колга писательсь сёрмады: «Кельме и ши мадома ширде сонь кяшезь аера вармада туста вирьхне. А шинь стяма и лямбе ширеса келептезь сянгяря и панчфу эльснон лугатне. Сенем санкс лангаст таргавсть ляйхне и ляйнятне, оцю калонь сельмокс пиндолдыхть эрьхкне и эрьхконятне…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08448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исательть сатфксонз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64000" y="1484280"/>
            <a:ext cx="32608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Г.И.Пинясовонь васенце стихотворенияц, кона печатлафоль «Мокша» журналть омбоце номерсонза 1961 кизо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2449800" cy="4680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2"/>
          <a:stretch/>
        </p:blipFill>
        <p:spPr>
          <a:xfrm>
            <a:off x="2843280" y="1557360"/>
            <a:ext cx="24494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C:\Users\user123\Documents\Panasonic\MFS\Scan\20140903_161600.jpg"/>
          <p:cNvPicPr/>
          <p:nvPr/>
        </p:nvPicPr>
        <p:blipFill>
          <a:blip r:embed="rId1"/>
          <a:stretch/>
        </p:blipFill>
        <p:spPr>
          <a:xfrm>
            <a:off x="900000" y="476280"/>
            <a:ext cx="2592360" cy="3456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123\Documents\Panasonic\MFS\Scan\20140904_161954.jpg"/>
          <p:cNvPicPr/>
          <p:nvPr/>
        </p:nvPicPr>
        <p:blipFill>
          <a:blip r:embed="rId2"/>
          <a:stretch/>
        </p:blipFill>
        <p:spPr>
          <a:xfrm>
            <a:off x="5292720" y="549360"/>
            <a:ext cx="2589120" cy="3311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C:\Users\user123\Documents\Panasonic\MFS\Scan\20140905_170412.jpg"/>
          <p:cNvPicPr/>
          <p:nvPr/>
        </p:nvPicPr>
        <p:blipFill>
          <a:blip r:embed="rId3"/>
          <a:stretch/>
        </p:blipFill>
        <p:spPr>
          <a:xfrm>
            <a:off x="3203640" y="3645000"/>
            <a:ext cx="1800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иколай Борисович Голенков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(17.08.1958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95280" y="1600200"/>
            <a:ext cx="46911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я мокшень писательть лемоц содаф эрь шабати. Н.Б. Голенков сёрмады и пеетьфти азкст, и сценкат, и стихт, и пьесат, и ёфкс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Якстерь Тяштенять «мархта Николай Борисович эряфонц сотозе 1988 кизоста сявомок. Тяда инголе тонафнесь Ленинградскяй государственнай университетть журналистикань факультетса, покодсь «Мокшень правда» газетать редакцияса. Инь удалаф пеетькшнеманза сувасть мокшень сатирикнень и юмаристтнень «Тон – тейнь, мон…» марстонь сборниказост. (1986к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4257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.Б. Голенковонь книганз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" descr="ÐÐ°ÑÑÐ¸Ð½ÐºÐ¸ Ð¿Ð¾ Ð·Ð°Ð¿ÑÐ¾ÑÑ Ð¤Ð¾ÑÐ¾Ð³ÑÐ°ÑÐ¸Ñ ÐºÐ½Ð¸Ð³ Ð.Ð. ÐÐ¾Ð»ÐµÐ½ÐºÐ¾Ð²Ð°"/>
          <p:cNvPicPr/>
          <p:nvPr/>
        </p:nvPicPr>
        <p:blipFill>
          <a:blip r:embed="rId1"/>
          <a:stretch/>
        </p:blipFill>
        <p:spPr>
          <a:xfrm>
            <a:off x="179280" y="1484280"/>
            <a:ext cx="2733840" cy="38098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ÐÐ°ÑÑÐ¸Ð½ÐºÐ¸ Ð¿Ð¾ Ð·Ð°Ð¿ÑÐ¾ÑÑ Ð¤Ð¾ÑÐ¾Ð³ÑÐ°ÑÐ¸Ñ ÐºÐ½Ð¸Ð³ Ð.Ð. ÐÐ¾Ð»ÐµÐ½ÐºÐ¾Ð²Ð°"/>
          <p:cNvPicPr/>
          <p:nvPr/>
        </p:nvPicPr>
        <p:blipFill>
          <a:blip r:embed="rId2"/>
          <a:stretch/>
        </p:blipFill>
        <p:spPr>
          <a:xfrm>
            <a:off x="2843280" y="2781360"/>
            <a:ext cx="2716200" cy="3744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5724360" y="1484280"/>
            <a:ext cx="3240360" cy="35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Кеподьсаськ занавесть» (198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Варсиень лувихть» (199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Зрнянь сельмоветть» (200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Мокшень панар» (200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Тюштянь торамац» (200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11280" y="981000"/>
            <a:ext cx="799308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яемозонк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леда шумбрат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22T18:28:50Z</dcterms:created>
  <dc:creator>Людмила</dc:creator>
  <dc:description/>
  <dc:language>en-US</dc:language>
  <cp:lastModifiedBy>Людмила</cp:lastModifiedBy>
  <dcterms:modified xsi:type="dcterms:W3CDTF">2019-04-22T18:58:35Z</dcterms:modified>
  <cp:revision>4</cp:revision>
  <dc:subject/>
  <dc:title>Кужа велень писательхне.</dc:title>
</cp:coreProperties>
</file>