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6F91-4332-4535-80AA-F2CFF5B7AF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Кеподьсаськ занавесть» (198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69D6-EC78-4829-8D97-8C870C87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B18-A763-4D65-9218-65826EAD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69A3-CB43-4B51-B142-68FE23CB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67A-946B-475B-BA6A-2D95E9C2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48E9-D488-4AD5-B3CB-AF0EAFCE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6AB5-A731-455F-BBEA-DA05FD2F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EDDB-7C82-4610-B659-1C6A692B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69B1-CCED-4F30-907E-318A2BB8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7A9F-5527-469D-BC84-D48662CE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A191-248A-44C8-AEB7-8E3BD5FD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97F6-B5E4-421C-AA41-A0AD618A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AD6-7151-442E-BE81-622BD1F0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F5A0-256B-4BEF-B372-167F3CD0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9B80-EEE5-4942-BC2B-05B80FD2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BCAD-EF2A-4833-A9C4-60B540A1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78D5-50B7-4194-9A8D-A678FE13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FEF3-E354-475D-B4CA-591E2D59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0F6-8816-400E-87DF-97494A29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76D-C10F-45D8-BCDB-DB86C459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67AE-F7B4-4C59-95F1-C9DEC578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C97C-3F53-483D-BC22-92375078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6E2-4A85-4B23-A331-3BEC1085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26C-CEF4-4D0D-8FD0-79387319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BAB-3790-48F9-A9A2-B483B3EA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ED2F-107B-4B97-B72B-1D9189993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06C1-D9F6-4254-B584-EB01B8BC62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ужа велень писательхне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оклазе: МБОУ «Мордовско – Полянская ООШ» мокшень кялень и литературань тонафты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исеева Л.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Яков Максимович Пинясов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(28.12.1913 – 22.05.1984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ков Максимович Пинясов шачсь 1913 кизонь декабрьста Зубово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янскяй райононь Кужа велеса. Тяса аделазе начальнай школать, тяста ушедсь ломанень оцю киц. Я.М. Пинясов- МССР-нь Государственнай премиянь васенце лауреатсь, Мордовиянь народнай васенце писательсь. Книганзон эзда ламотне ётафтфт колмогемоньда лама кяльс. Мокшень писательть произведениянзон лувондсазь Англияса, Китайса, Венгрияса, Болгарияса, Румынияса, Германияса и лия странаса эряй иттне. Сембось иттненди казсь 70 лама книг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2781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исательть книган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1905120" cy="2523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580000" y="1628640"/>
            <a:ext cx="2049480" cy="2952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771640" y="3933720"/>
            <a:ext cx="19051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ригорий Ильич Пинясов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(11.09.1944 – 03.03.2008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708000" y="1484280"/>
            <a:ext cx="5256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И.Пинясовонь шачема-касома аймакоц – Зубово-Полянскяй райононь Кужа велесь, конань колга писательсь сёрмады: «Кельме и ши мадома ширде сонь кяшезь аера вармада туста вирьхне. А шинь стяма и лямбе ширеса келептезь сянгяря и панчфу эльснон лугатне. Сенем санкс лангаст таргавсть ляйхне и ляйнятне, оцю калонь сельмокс пиндолдыхть эрьхкне и эрьхконятне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0844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исательть сатфксон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64000" y="1484280"/>
            <a:ext cx="32608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.И.Пинясовонь васенце стихотворенияц, кона печатлафоль «Мокша» журналть омбоце номерсонза 1961 кизо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2449800" cy="4680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843280" y="1557360"/>
            <a:ext cx="2449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Users\user123\Documents\Panasonic\MFS\Scan\20140903_161600.jpg"/>
          <p:cNvPicPr/>
          <p:nvPr/>
        </p:nvPicPr>
        <p:blipFill>
          <a:blip r:embed="rId1"/>
          <a:stretch/>
        </p:blipFill>
        <p:spPr>
          <a:xfrm>
            <a:off x="900000" y="476280"/>
            <a:ext cx="2592360" cy="345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123\Documents\Panasonic\MFS\Scan\20140904_161954.jpg"/>
          <p:cNvPicPr/>
          <p:nvPr/>
        </p:nvPicPr>
        <p:blipFill>
          <a:blip r:embed="rId2"/>
          <a:stretch/>
        </p:blipFill>
        <p:spPr>
          <a:xfrm>
            <a:off x="5292720" y="549360"/>
            <a:ext cx="2589120" cy="3311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C:\Users\user123\Documents\Panasonic\MFS\Scan\20140905_170412.jpg"/>
          <p:cNvPicPr/>
          <p:nvPr/>
        </p:nvPicPr>
        <p:blipFill>
          <a:blip r:embed="rId3"/>
          <a:stretch/>
        </p:blipFill>
        <p:spPr>
          <a:xfrm>
            <a:off x="3203640" y="3645000"/>
            <a:ext cx="1800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иколай Борисович Голенков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(17.08.1958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я мокшень писательть лемоц содаф эрь шабати. Н.Б. Голенков сёрмады и пеетьфти азкст, и сценкат, и стихт, и пьесат, и ёфк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Якстерь Тяштенять «мархта Николай Борисович эряфонц сотозе 1988 кизоста сявомок. Тяда инголе тонафнесь Ленинградскяй государственнай университетть журналистикань факультетса, покодсь «Мокшень правда» газетать редакцияса. Инь удалаф пеетькшнеманза сувасть мокшень сатирикнень и юмаристтнень «Тон – тейнь, мон…» марстонь сборниказост. (1986к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4257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.Б. Голенковонь книган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" descr="ÐÐ°ÑÑÐ¸Ð½ÐºÐ¸ Ð¿Ð¾ Ð·Ð°Ð¿ÑÐ¾ÑÑ Ð¤Ð¾ÑÐ¾Ð³ÑÐ°ÑÐ¸Ñ ÐºÐ½Ð¸Ð³ Ð.Ð. ÐÐ¾Ð»ÐµÐ½ÐºÐ¾Ð²Ð°"/>
          <p:cNvPicPr/>
          <p:nvPr/>
        </p:nvPicPr>
        <p:blipFill>
          <a:blip r:embed="rId1"/>
          <a:stretch/>
        </p:blipFill>
        <p:spPr>
          <a:xfrm>
            <a:off x="179280" y="1484280"/>
            <a:ext cx="2733840" cy="3809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ÐÐ°ÑÑÐ¸Ð½ÐºÐ¸ Ð¿Ð¾ Ð·Ð°Ð¿ÑÐ¾ÑÑ Ð¤Ð¾ÑÐ¾Ð³ÑÐ°ÑÐ¸Ñ ÐºÐ½Ð¸Ð³ Ð.Ð. ÐÐ¾Ð»ÐµÐ½ÐºÐ¾Ð²Ð°"/>
          <p:cNvPicPr/>
          <p:nvPr/>
        </p:nvPicPr>
        <p:blipFill>
          <a:blip r:embed="rId2"/>
          <a:stretch/>
        </p:blipFill>
        <p:spPr>
          <a:xfrm>
            <a:off x="2843280" y="2781360"/>
            <a:ext cx="2716200" cy="3744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724360" y="1484280"/>
            <a:ext cx="324036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Кеподьсаськ занавесть» (198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Варсиень лувихть» (199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рнянь сельмоветть» (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Мокшень панар» (200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Тюштянь торамац» (200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11280" y="981000"/>
            <a:ext cx="799308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яемозонк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леда шумбрат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2T18:28:50Z</dcterms:created>
  <dc:creator>Людмила</dc:creator>
  <dc:description/>
  <dc:language>en-US</dc:language>
  <cp:lastModifiedBy>Людмила</cp:lastModifiedBy>
  <dcterms:modified xsi:type="dcterms:W3CDTF">2019-04-22T18:58:35Z</dcterms:modified>
  <cp:revision>4</cp:revision>
  <dc:subject/>
  <dc:title>Кужа велень писательхне.</dc:title>
</cp:coreProperties>
</file>