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BD72-9DF6-42C9-A8CE-9C1BF786CC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зьма Григорьевич Абрамов колеганзон ётк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узьма Григорьевич Абрам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E458-9F53-4FCA-B7C8-6C67733F1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EA8B-02FC-420A-9F3C-7EAB1E70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C363-C6E1-40E2-8F77-E3983EE6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8A29-4B9C-4B7F-BF7B-CB155C8C0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0576-BC8D-43E0-A79D-38CA953F1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B220-0A54-4C1C-9A1E-1A1BFBA4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180A-ECCC-4AA2-913B-93BAD5BC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7F03-B0A4-4560-B2EE-2CBA34DB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B94B-3042-4EAB-B7BF-A39C910A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B064-8B4D-4B98-B646-5B35DA87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FC01-A7DA-493B-AF66-E3DA1C42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8C0D-37E1-415F-A24C-CB90FCA2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2472-6D81-457C-BA7A-B3E67E44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BE3A8-57F7-4311-96E3-E3F41342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4A4F-A492-42C7-B2AB-30B08964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D0F3-8DD9-4E0F-BEB0-1EEB4C611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3D7B-7842-49D0-A062-903E6085F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3D6A-5F36-4299-8551-42A02424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0B94-AD88-4153-BAA2-1EB82F6A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E851-6D23-437A-96EA-02C62FD4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3C54-736E-4254-A747-31C34F19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93D0-2A00-44CE-8CAC-4DF42037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5FC4-93FB-482D-A491-4C6E8259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0483-5296-47A3-A1D1-004B7B37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5C08-7D8B-4AC9-9540-ADBE5AC21239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8EA2-E39A-4023-8EBE-387B3EDC19C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4978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Кузьма Григорьевич Абрамов</a:t>
            </a:r>
            <a:br>
              <a:rPr sz="4400"/>
            </a:b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                 (1914 - 2008)</a:t>
            </a:r>
            <a:br>
              <a:rPr sz="4400"/>
            </a:b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124000" y="3886200"/>
            <a:ext cx="56880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Аноклазе: МБОУ «Мордовско – Полянская ООШ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онафтысь: Моисеева Л.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9280" y="226800"/>
            <a:ext cx="7516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исательсь колеганзон мархта, конат сафт Кенияста и Угандаста (1970 к.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4" name="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468360" y="2368440"/>
            <a:ext cx="669600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ÐÐ°ÑÑÐ¸Ð½ÐºÐ¸ Ð¿Ð¾ Ð·Ð°Ð¿ÑÐ¾ÑÑ ÐºÑÐ·ÑÐ¼Ð° Ð³ÑÐ¸Ð³Ð¾ÑÑÐµÐ²Ð¸Ñ Ð°Ð±ÑÐ°Ð¼Ð¾Ð² Ð¿ÑÐµÐ·ÐµÐ½ÑÐ°ÑÐ¸Ñ"/>
          <p:cNvPicPr/>
          <p:nvPr/>
        </p:nvPicPr>
        <p:blipFill>
          <a:blip r:embed="rId1"/>
          <a:stretch/>
        </p:blipFill>
        <p:spPr>
          <a:xfrm>
            <a:off x="468360" y="1725480"/>
            <a:ext cx="6912000" cy="46087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262080" y="271440"/>
            <a:ext cx="762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узьма Григорьевич Абрамов коллеганзон ёткс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Награданза и премиянз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9280" y="1598760"/>
            <a:ext cx="7777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рденТрудового Красного Знамени Орден Отечественной войны второй степени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рден Красной звезды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рден Дружбы народов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Медаль «За победу над Германией» </a:t>
            </a:r>
            <a:br>
              <a:rPr sz="3200"/>
            </a:b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ире Найман велес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0" name="" descr="ÐÐ°ÑÑÐ¸Ð½ÐºÐ¸ Ð¿Ð¾ Ð·Ð°Ð¿ÑÐ¾ÑÑ Ð¤Ð¾ÑÐ¾Ð³ÑÐ°ÑÐ¸Ñ ÐÐ¾Ð»ÑÑÐµÐ±ÐµÑÐµÐ·Ð½Ð¸ÐºÐ¾Ð²ÑÐºÐ¸Ð¹ ÑÐ°Ð¹Ð¾Ð½ Ñ. Ð¡ÑÐ°ÑÑÐµ ÐÐ°Ð¹Ð¼Ð°Ð½Ñ"/>
          <p:cNvPicPr/>
          <p:nvPr/>
        </p:nvPicPr>
        <p:blipFill>
          <a:blip r:embed="rId1"/>
          <a:stretch/>
        </p:blipFill>
        <p:spPr>
          <a:xfrm>
            <a:off x="324000" y="1700280"/>
            <a:ext cx="7129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ургаз – мокшэрзянь оцюн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2" name="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250920" y="1916280"/>
            <a:ext cx="2381040" cy="34192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ÐÐ¾ÑÐ¾Ð¶ÐµÐµ Ð¸Ð·Ð¾Ð±ÑÐ°Ð¶ÐµÐ½Ð¸Ðµ"/>
          <p:cNvPicPr/>
          <p:nvPr/>
        </p:nvPicPr>
        <p:blipFill>
          <a:blip r:embed="rId2"/>
          <a:stretch/>
        </p:blipFill>
        <p:spPr>
          <a:xfrm>
            <a:off x="3132000" y="1700280"/>
            <a:ext cx="40658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0560" y="227160"/>
            <a:ext cx="74451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Кузьма Григорьевич Абрамов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     (12.11.1914 – 04.08.2008)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2" name="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611280" y="1844640"/>
            <a:ext cx="460836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ÐÐ°ÑÑÐ¸Ð½ÐºÐ¸ Ð¿Ð¾ Ð·Ð°Ð¿ÑÐ¾ÑÑ ÐºÑÐ·ÑÐ¼Ð° Ð³ÑÐ¸Ð³Ð¾ÑÑÐµÐ²Ð¸Ñ Ð°Ð±ÑÐ°Ð¼Ð¾Ð² Ð¿ÑÐµÐ·ÐµÐ½ÑÐ°ÑÐ¸Ñ"/>
          <p:cNvPicPr/>
          <p:nvPr/>
        </p:nvPicPr>
        <p:blipFill>
          <a:blip r:embed="rId1"/>
          <a:stretch/>
        </p:blipFill>
        <p:spPr>
          <a:xfrm>
            <a:off x="179280" y="187200"/>
            <a:ext cx="7632720" cy="65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Кузьма Григорьевич Абрамовонь        эрямань киц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3313080" cy="49672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564000" y="1484280"/>
            <a:ext cx="4176720" cy="42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08ee"/>
                </a:solidFill>
                <a:latin typeface="Arial"/>
              </a:rPr>
              <a:t>Кузьма Григорьевич Абрамов – эрзянь содаф писатель. Писательсь шачсь Большеберезниковскяй райононь Сире Найман велеса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08ee"/>
                </a:solidFill>
                <a:latin typeface="Arial"/>
              </a:rPr>
              <a:t>Средняй школать аделамда меле покодсь учителькс, ульсь Великай Отечественнай войнас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08ee"/>
                </a:solidFill>
                <a:latin typeface="Arial"/>
              </a:rPr>
              <a:t>Мордовскяй пединститутса тонафнемстонза оцю мяль шарфнесь театральнай искусствати. Сон варчсезень эсь виензон сцена лангсонг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Мокшэрзянь писательть творчествац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492000" y="1598760"/>
            <a:ext cx="415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ёрмадсь стихт, пьесат. Азкст, повестть, ромат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сост няфнезень мокшетнень и эрзятнень тяниень ётай пингонь эряфснон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" descr="ÐÐ°ÑÑÐ¸Ð½ÐºÐ¸ Ð¿Ð¾ Ð·Ð°Ð¿ÑÐ¾ÑÑ ÐºÑÐ·ÑÐ¼Ð° Ð³ÑÐ¸Ð³Ð¾ÑÑÐµÐ²Ð¸Ñ Ð°Ð±ÑÐ°Ð¼Ð¾Ð² Ð¿ÑÐµÐ·ÐµÐ½ÑÐ°ÑÐ¸Ñ"/>
          <p:cNvPicPr/>
          <p:nvPr/>
        </p:nvPicPr>
        <p:blipFill>
          <a:blip r:embed="rId1"/>
          <a:stretch/>
        </p:blipFill>
        <p:spPr>
          <a:xfrm>
            <a:off x="250920" y="1700280"/>
            <a:ext cx="29160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Рузонь кяльса сёрматф книганз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1771560" cy="2736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627280" y="1197000"/>
            <a:ext cx="1800360" cy="2808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5435640" y="1125360"/>
            <a:ext cx="1766880" cy="2808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1042920" y="4076640"/>
            <a:ext cx="1730520" cy="25686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3924360" y="4076640"/>
            <a:ext cx="16891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Эрзянь кяльса книганз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7" name="" descr="ÐÐ±ÑÐ°Ð¼Ð¾Ð² Ð. ÐÐ»ÑÑÐ¸Ð½ÑÑ ÐºÐ¸ÑÑ. â Ð¡Ð°ÑÐ°Ð½ÑÐº, 1989. â 411 Ñ"/>
          <p:cNvPicPr/>
          <p:nvPr/>
        </p:nvPicPr>
        <p:blipFill>
          <a:blip r:embed="rId1"/>
          <a:stretch/>
        </p:blipFill>
        <p:spPr>
          <a:xfrm>
            <a:off x="179280" y="1628640"/>
            <a:ext cx="3029040" cy="47628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ÐÐ±ÑÐ°Ð¼Ð¾Ð² Ð. ÐÐ»ÑÑÐ¸Ð½ÑÑ ÐºÐ¸ÑÑ. ÐÐ²ÑÐ¾Ð³ÑÐ°Ñ"/>
          <p:cNvPicPr/>
          <p:nvPr/>
        </p:nvPicPr>
        <p:blipFill>
          <a:blip r:embed="rId2"/>
          <a:stretch/>
        </p:blipFill>
        <p:spPr>
          <a:xfrm>
            <a:off x="3635280" y="1628640"/>
            <a:ext cx="30196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ÐÐ±ÑÐ°Ð¼Ð¾Ð² Ð. ÐÑÑÐ³Ð°Ð·. Ð¡Ð°ÑÐ°Ð½ÑÐº, 1988. - 477 Ñ."/>
          <p:cNvPicPr/>
          <p:nvPr/>
        </p:nvPicPr>
        <p:blipFill>
          <a:blip r:embed="rId1"/>
          <a:stretch/>
        </p:blipFill>
        <p:spPr>
          <a:xfrm>
            <a:off x="611280" y="907920"/>
            <a:ext cx="3019320" cy="47628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ÐÐ±ÑÐ°Ð¼Ð¾Ð² Ð. ÐÑÑÐ³Ð°Ð·. ÐÐ²ÑÐ¾Ð³ÑÐ°Ñ"/>
          <p:cNvPicPr/>
          <p:nvPr/>
        </p:nvPicPr>
        <p:blipFill>
          <a:blip r:embed="rId2"/>
          <a:stretch/>
        </p:blipFill>
        <p:spPr>
          <a:xfrm>
            <a:off x="3995640" y="836640"/>
            <a:ext cx="30099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К.Г. Абрамовсь рьванц Анна Ивановнать мархта (1965 к.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2" name="" descr="ÐÐ°ÑÑÐ¸Ð½ÐºÐ¸ Ð¿Ð¾ Ð·Ð°Ð¿ÑÐ¾ÑÑ ÐºÑÐ·ÑÐ¼Ð° Ð³ÑÐ¸Ð³Ð¾ÑÑÐµÐ²Ð¸Ñ Ð°Ð±ÑÐ°Ð¼Ð¾Ð² Ð¿ÑÐµÐ·ÐµÐ½ÑÐ°ÑÐ¸Ñ"/>
          <p:cNvPicPr/>
          <p:nvPr/>
        </p:nvPicPr>
        <p:blipFill>
          <a:blip r:embed="rId1"/>
          <a:stretch/>
        </p:blipFill>
        <p:spPr>
          <a:xfrm>
            <a:off x="468360" y="1611360"/>
            <a:ext cx="705636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6T14:01:37Z</dcterms:created>
  <dc:creator>Людмила</dc:creator>
  <dc:description/>
  <dc:language>en-US</dc:language>
  <cp:lastModifiedBy>Людмила</cp:lastModifiedBy>
  <dcterms:modified xsi:type="dcterms:W3CDTF">2018-12-12T16:56:44Z</dcterms:modified>
  <cp:revision>3</cp:revision>
  <dc:subject/>
  <dc:title>Кузьма Григорьевич Абрамов                  (1914 – 2008)</dc:title>
</cp:coreProperties>
</file>