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A66B-FE82-4302-A898-120D02578F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ьма Григорьевич Абрамов колеганзон ёт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узьма Григорьевич Абра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3C9-8002-4D66-ACF6-2DB92B27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1CC-3A65-4A1E-BA67-824CF20B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B56-0FAE-41FF-8401-22D9BFE5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348-DCBF-4FC7-8C62-B23F88F9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5EE9-8B45-4E19-8EB7-F19A8A75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A5AF-9F8B-4C1D-B813-95CFB595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54F1-FA1E-4D30-97AC-627333F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3CEC-8025-4058-ADD6-07D2BBED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5B08-2943-4C95-A4CE-DEDD8EB2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E672-704D-4E58-B85F-EB27DB2A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A505-6B37-4AA8-B8E2-8A09EDDC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D65-5B5F-4990-AA81-011D7509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92FC-897E-4C3D-A15F-929A70E8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674D-1BE6-4639-BA26-783E4928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ACD9-0C1E-4FED-8AAA-0377ED8B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0C48-9E42-4972-9FCE-4D8BBAB3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1DE9-0B4E-469A-B2EC-3A1B32C8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974-7A62-4C29-AB83-2B24E3DA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24A-CBBE-41D8-9D10-41FA0C70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BA9-4B12-44DE-B05A-A2B035F7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9EC-1EDE-4ADC-952B-475EDF1D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775-CA68-47C6-A36E-02229C93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FAC-8B85-4F3D-86CE-4448BD44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897-DA19-4672-AFAB-54BB8586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FF22-1F9E-4B0C-A3A3-B188A7F9E5F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EFAE-6B17-4A6E-A4BE-B2B5633A19E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Кузьма Григорьевич Абрамов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                 (1914 - 2008)</a:t>
            </a:r>
            <a:br>
              <a:rPr sz="4400"/>
            </a:b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124000" y="3886200"/>
            <a:ext cx="56880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ноклазе: МБОУ «Мордовско – Полянская ООШ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онафтысь: Моисеева Л.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226800"/>
            <a:ext cx="7516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исательсь колеганзон мархта, конат сафт Кенияста и Угандаста (1970 к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468360" y="2368440"/>
            <a:ext cx="669600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ÐÐ°ÑÑÐ¸Ð½ÐºÐ¸ Ð¿Ð¾ Ð·Ð°Ð¿ÑÐ¾ÑÑ ÐºÑÐ·ÑÐ¼Ð° Ð³ÑÐ¸Ð³Ð¾ÑÑÐµÐ²Ð¸Ñ Ð°Ð±ÑÐ°Ð¼Ð¾Ð² Ð¿ÑÐµÐ·ÐµÐ½ÑÐ°ÑÐ¸Ñ"/>
          <p:cNvPicPr/>
          <p:nvPr/>
        </p:nvPicPr>
        <p:blipFill>
          <a:blip r:embed="rId1"/>
          <a:stretch/>
        </p:blipFill>
        <p:spPr>
          <a:xfrm>
            <a:off x="468360" y="1725480"/>
            <a:ext cx="6912000" cy="4608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62080" y="271440"/>
            <a:ext cx="762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зьма Григорьевич Абрамов коллеганзон ёткс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граданза и премиянз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7777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денТрудового Красного Знамени Орден Отечественной войны второй степен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ден Красной звезды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ден Дружбы народов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едаль «За победу над Германией» 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ире Найман велес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" descr="ÐÐ°ÑÑÐ¸Ð½ÐºÐ¸ Ð¿Ð¾ Ð·Ð°Ð¿ÑÐ¾ÑÑ Ð¤Ð¾ÑÐ¾Ð³ÑÐ°ÑÐ¸Ñ ÐÐ¾Ð»ÑÑÐµÐ±ÐµÑÐµÐ·Ð½Ð¸ÐºÐ¾Ð²ÑÐºÐ¸Ð¹ ÑÐ°Ð¹Ð¾Ð½ Ñ. Ð¡ÑÐ°ÑÑÐµ ÐÐ°Ð¹Ð¼Ð°Ð½Ñ"/>
          <p:cNvPicPr/>
          <p:nvPr/>
        </p:nvPicPr>
        <p:blipFill>
          <a:blip r:embed="rId1"/>
          <a:stretch/>
        </p:blipFill>
        <p:spPr>
          <a:xfrm>
            <a:off x="324000" y="1700280"/>
            <a:ext cx="7129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ургаз – мокшэрзянь оцюн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250920" y="1916280"/>
            <a:ext cx="2381040" cy="3419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3132000" y="1700280"/>
            <a:ext cx="4065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227160"/>
            <a:ext cx="74451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узьма Григорьевич Абрамов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(12.11.1914 – 04.08.2008)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11280" y="1844640"/>
            <a:ext cx="460836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ÐÐ°ÑÑÐ¸Ð½ÐºÐ¸ Ð¿Ð¾ Ð·Ð°Ð¿ÑÐ¾ÑÑ ÐºÑÐ·ÑÐ¼Ð° Ð³ÑÐ¸Ð³Ð¾ÑÑÐµÐ²Ð¸Ñ Ð°Ð±ÑÐ°Ð¼Ð¾Ð² Ð¿ÑÐµÐ·ÐµÐ½ÑÐ°ÑÐ¸Ñ"/>
          <p:cNvPicPr/>
          <p:nvPr/>
        </p:nvPicPr>
        <p:blipFill>
          <a:blip r:embed="rId1"/>
          <a:stretch/>
        </p:blipFill>
        <p:spPr>
          <a:xfrm>
            <a:off x="179280" y="187200"/>
            <a:ext cx="763272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узьма Григорьевич Абрамовонь        эрямань киц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313080" cy="4967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564000" y="1484280"/>
            <a:ext cx="417672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08ee"/>
                </a:solidFill>
                <a:latin typeface="Arial"/>
              </a:rPr>
              <a:t>Кузьма Григорьевич Абрамов – эрзянь содаф писатель. Писательсь шачсь Большеберезниковскяй райононь Сире Найман велес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08ee"/>
                </a:solidFill>
                <a:latin typeface="Arial"/>
              </a:rPr>
              <a:t>Средняй школать аделамда меле покодсь учителькс, ульсь Великай Отечественнай войнас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08ee"/>
                </a:solidFill>
                <a:latin typeface="Arial"/>
              </a:rPr>
              <a:t>Мордовскяй пединститутса тонафнемстонза оцю мяль шарфнесь театральнай искусствати. Сон варчсезень эсь виензон сцена лангсонг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окшэрзянь писательть творчествац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92000" y="1598760"/>
            <a:ext cx="415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ёрмадсь стихт, пьесат. Азкст, повестть, ромат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сост няфнезень мокшетнень и эрзятнень тяниень ётай пингонь эряфсно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ÐÐ°ÑÑÐ¸Ð½ÐºÐ¸ Ð¿Ð¾ Ð·Ð°Ð¿ÑÐ¾ÑÑ ÐºÑÐ·ÑÐ¼Ð° Ð³ÑÐ¸Ð³Ð¾ÑÑÐµÐ²Ð¸Ñ Ð°Ð±ÑÐ°Ð¼Ð¾Ð² Ð¿ÑÐµÐ·ÐµÐ½ÑÐ°ÑÐ¸Ñ"/>
          <p:cNvPicPr/>
          <p:nvPr/>
        </p:nvPicPr>
        <p:blipFill>
          <a:blip r:embed="rId1"/>
          <a:stretch/>
        </p:blipFill>
        <p:spPr>
          <a:xfrm>
            <a:off x="250920" y="1700280"/>
            <a:ext cx="2916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узонь кяльса сёрматф книганз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771560" cy="2736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627280" y="1197000"/>
            <a:ext cx="1800360" cy="280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435640" y="1125360"/>
            <a:ext cx="1766880" cy="2808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042920" y="4076640"/>
            <a:ext cx="1730520" cy="2568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3924360" y="4076640"/>
            <a:ext cx="16891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рзянь кяльса книганз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ÐÐ±ÑÐ°Ð¼Ð¾Ð² Ð. ÐÐ»ÑÑÐ¸Ð½ÑÑ ÐºÐ¸ÑÑ. â Ð¡Ð°ÑÐ°Ð½ÑÐº, 1989. â 411 Ñ"/>
          <p:cNvPicPr/>
          <p:nvPr/>
        </p:nvPicPr>
        <p:blipFill>
          <a:blip r:embed="rId1"/>
          <a:stretch/>
        </p:blipFill>
        <p:spPr>
          <a:xfrm>
            <a:off x="179280" y="1628640"/>
            <a:ext cx="3029040" cy="4762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ÐÐ±ÑÐ°Ð¼Ð¾Ð² Ð. ÐÐ»ÑÑÐ¸Ð½ÑÑ ÐºÐ¸ÑÑ. ÐÐ²ÑÐ¾Ð³ÑÐ°Ñ"/>
          <p:cNvPicPr/>
          <p:nvPr/>
        </p:nvPicPr>
        <p:blipFill>
          <a:blip r:embed="rId2"/>
          <a:stretch/>
        </p:blipFill>
        <p:spPr>
          <a:xfrm>
            <a:off x="3635280" y="1628640"/>
            <a:ext cx="301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ÐÐ±ÑÐ°Ð¼Ð¾Ð² Ð. ÐÑÑÐ³Ð°Ð·. Ð¡Ð°ÑÐ°Ð½ÑÐº, 1988. - 477 Ñ."/>
          <p:cNvPicPr/>
          <p:nvPr/>
        </p:nvPicPr>
        <p:blipFill>
          <a:blip r:embed="rId1"/>
          <a:stretch/>
        </p:blipFill>
        <p:spPr>
          <a:xfrm>
            <a:off x="611280" y="907920"/>
            <a:ext cx="3019320" cy="4762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ÐÐ±ÑÐ°Ð¼Ð¾Ð² Ð. ÐÑÑÐ³Ð°Ð·. ÐÐ²ÑÐ¾Ð³ÑÐ°Ñ"/>
          <p:cNvPicPr/>
          <p:nvPr/>
        </p:nvPicPr>
        <p:blipFill>
          <a:blip r:embed="rId2"/>
          <a:stretch/>
        </p:blipFill>
        <p:spPr>
          <a:xfrm>
            <a:off x="3995640" y="836640"/>
            <a:ext cx="30099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.Г. Абрамовсь рьванц Анна Ивановнать мархта (1965 к.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" descr="ÐÐ°ÑÑÐ¸Ð½ÐºÐ¸ Ð¿Ð¾ Ð·Ð°Ð¿ÑÐ¾ÑÑ ÐºÑÐ·ÑÐ¼Ð° Ð³ÑÐ¸Ð³Ð¾ÑÑÐµÐ²Ð¸Ñ Ð°Ð±ÑÐ°Ð¼Ð¾Ð² Ð¿ÑÐµÐ·ÐµÐ½ÑÐ°ÑÐ¸Ñ"/>
          <p:cNvPicPr/>
          <p:nvPr/>
        </p:nvPicPr>
        <p:blipFill>
          <a:blip r:embed="rId1"/>
          <a:stretch/>
        </p:blipFill>
        <p:spPr>
          <a:xfrm>
            <a:off x="468360" y="1611360"/>
            <a:ext cx="70563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6T14:01:37Z</dcterms:created>
  <dc:creator>Людмила</dc:creator>
  <dc:description/>
  <dc:language>en-US</dc:language>
  <cp:lastModifiedBy>Людмила</cp:lastModifiedBy>
  <dcterms:modified xsi:type="dcterms:W3CDTF">2018-12-12T16:56:44Z</dcterms:modified>
  <cp:revision>3</cp:revision>
  <dc:subject/>
  <dc:title>Кузьма Григорьевич Абрамов                  (1914 – 2008)</dc:title>
</cp:coreProperties>
</file>