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EF29-7F10-46CC-919D-7160E126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84D-E43E-4A61-8373-32A9EA0F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542E-32A9-4650-9BBF-709EE1C6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490-7DF6-41AE-BD80-A6C7B0B0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335E-D05D-4320-B233-FEBB7E25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8A30-55C1-406A-977A-CB264610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0BA9-43E6-4836-86F6-A9AFB2D8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3A76-AD02-456F-8B8E-02CCF4B6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26B8-139C-4E8E-ACBE-6EDAB51A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F39E-C53B-40D2-B2C7-3A4C132A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9FF7-E0C7-4B48-8132-33BA9656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1DED-7CF6-45A7-8EAF-F32A620D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B3A4-B146-4FBE-82F5-27DC38B9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F361-F343-4890-BE0A-980B911E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1ED6-AA25-45FC-B4CD-B3506B17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7387-8811-4231-B2A5-59BC0B16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D99C-380E-46DE-948C-132FC995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18E-3ABE-471F-8763-83C9D83F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E6B-1FE6-457E-A3D9-ECAA60C0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8566-49FC-40A6-AF7E-6B9B73FD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F91F-C386-4355-81C8-32C3182C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27B-3C90-45B0-BFB9-EBC835D6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3153-3768-4F99-8543-4809D815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D33-85E7-41B9-AD5C-607E95C7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4021-27A2-487D-8EE8-DEF3E938BC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FC47-759F-4629-A21F-F13F648FC5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5968"/>
                </a:solidFill>
                <a:latin typeface="Cambria"/>
              </a:rPr>
              <a:t>Module 4                 </a:t>
            </a:r>
            <a:r>
              <a:rPr b="0" lang="en-US" sz="4000" spc="-1" strike="noStrike">
                <a:solidFill>
                  <a:srgbClr val="c00000"/>
                </a:solidFill>
                <a:latin typeface="Cambria"/>
              </a:rPr>
              <a:t>The    passive</a:t>
            </a:r>
            <a:endParaRPr b="0" lang="en-US" sz="4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11640" y="4941360"/>
            <a:ext cx="259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S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 – subject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P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 – predicate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O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 – object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A 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- agent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79280" y="1557360"/>
            <a:ext cx="849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ll employees   must  sign  the for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The form  must be signed  by all employ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Ex.2 p.68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190440" y="1268280"/>
            <a:ext cx="877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My brother’s  bik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stolen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is soup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made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ith carrots and coria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whom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s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Pam’s party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eing catered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ir hous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ill have been finished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Ex.2 p.68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190440" y="1268280"/>
            <a:ext cx="8773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My brother’s  bik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stolen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is soup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made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ith carrots and coria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whom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s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Pam’s party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eing catered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ir hous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ill have been finished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 thieves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ere arrested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by the polic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Ex.2 p.68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90440" y="1268280"/>
            <a:ext cx="877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My brother’s  bik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stolen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is soup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made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ith carrots and coria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whom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s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Pam’s party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eing catered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ir hous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ill have been finished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 thieves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ere arrested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by the polic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am hates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eing told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hat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Ex.2 p.68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90440" y="1268280"/>
            <a:ext cx="8773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My brother’s  bik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stolen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is soup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made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ith carrots and coria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whom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s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Pam’s party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eing catered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ir hous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ill have been finished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 thieves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ere arrested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by the polic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am hates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eing told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hat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 “Fifi Fairy” books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re written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M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Ex.2 p.68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190440" y="1268280"/>
            <a:ext cx="8773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My brother’s  bik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stolen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is soup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made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ith carrots and coria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whom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s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Pam’s party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eing catered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ir hous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ill have been finished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 thieves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ere arrested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(by the polic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am hates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eing told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hat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e “Fifi Fairy” books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re written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Ma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An apology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hould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e made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J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11640" y="4941360"/>
            <a:ext cx="259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S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 – subject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P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 – predicate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O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 – object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A 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- agent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79280" y="155736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           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P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All employees     must  sign        the for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                    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P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                            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The form   must be signed   by all employ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1134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156000" y="486900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S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 – subject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P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 – predicate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O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 – object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Cambria"/>
              </a:rPr>
              <a:t>A </a:t>
            </a:r>
            <a:r>
              <a:rPr b="1" lang="en-US" sz="2700" spc="-1" strike="noStrike">
                <a:solidFill>
                  <a:srgbClr val="31859c"/>
                </a:solidFill>
                <a:latin typeface="Cambria"/>
              </a:rPr>
              <a:t>- agent</a:t>
            </a: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79280" y="15573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The form  must be signed  by all employ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161000" y="2997360"/>
            <a:ext cx="6780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S 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+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to  be + V</a:t>
            </a:r>
            <a:r>
              <a:rPr b="1" lang="en-US" sz="4800" spc="-1" strike="noStrike" baseline="-25000">
                <a:solidFill>
                  <a:srgbClr val="c00000"/>
                </a:solidFill>
                <a:latin typeface="Calibri"/>
              </a:rPr>
              <a:t>3</a:t>
            </a: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en-US" sz="4000" spc="-1" strike="noStrike">
                <a:solidFill>
                  <a:srgbClr val="376092"/>
                </a:solidFill>
                <a:latin typeface="Calibri"/>
              </a:rPr>
              <a:t>+    A (b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1134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15968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431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ex.1 p.68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479520" y="1052640"/>
            <a:ext cx="4797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assi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has been ca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was still being f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s being cleared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will be sta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s discov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had been m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were s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has yet to be discov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431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ex.1 p.68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48280" y="1197000"/>
            <a:ext cx="428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Pass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as been ca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still being f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s being cleared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ill be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s dis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ad been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ere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as yet to be dis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5374080" y="1268280"/>
            <a:ext cx="2535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rok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had ever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are tr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has may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1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00000"/>
                </a:solidFill>
                <a:latin typeface="Cambria"/>
              </a:rPr>
              <a:t>by</a:t>
            </a:r>
            <a:endParaRPr b="0" lang="en-US" sz="60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2504880" y="1773360"/>
            <a:ext cx="4395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We omit it whe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It is obvi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Unimpor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Unkn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Already mentio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Ex.2 p.68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71000" y="1268280"/>
            <a:ext cx="762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1. My brother’s  bik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stolen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Ex.2 p.68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54080" y="1268280"/>
            <a:ext cx="877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My brother’s  bik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stolen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is soup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made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ith carrots and coria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5968"/>
                </a:solidFill>
                <a:latin typeface="Cambria"/>
              </a:rPr>
              <a:t>Ex.2 p.68</a:t>
            </a:r>
            <a:endParaRPr b="0" lang="en-US" sz="3600" spc="-1" strike="noStrike">
              <a:solidFill>
                <a:srgbClr val="215968"/>
              </a:solidFill>
              <a:latin typeface="Cambria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190440" y="1268280"/>
            <a:ext cx="877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My brother’s  bike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stolen 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This soup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s made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ith carrots and coria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By whom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s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Pam’s party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being catered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6:25:35Z</dcterms:created>
  <dc:creator>Ксения</dc:creator>
  <dc:description>Корпорация Майкрософт
Шаблон оформления</dc:description>
  <dc:language>en-US</dc:language>
  <cp:lastModifiedBy>Ксения</cp:lastModifiedBy>
  <dcterms:modified xsi:type="dcterms:W3CDTF">2013-02-11T16:37:41Z</dcterms:modified>
  <cp:revision>6</cp:revision>
  <dc:subject>Шаблон оформления</dc:subject>
  <dc:title>Module 4                 The    pass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99579990</vt:lpwstr>
  </property>
</Properties>
</file>