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459-B2B7-48B1-AF40-347A48E2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957-211F-4B28-AD02-3EAB7D12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CC1-2351-4183-82EB-870F1EAB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D8C-6915-4908-A6C1-F43B48D7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70CD-FFA6-4E4D-9A3A-B38966C9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F847-068F-4DAE-8392-5B07A2D2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E074-0FEA-4BFA-8469-2DEF2801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A24F-7339-4A45-9959-54C533EB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529C-747A-4B51-84DC-A1619A2F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E300-6CEC-4FB4-A8C7-FDBAF821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7190-A7D2-4A48-8A68-D1F8AA8A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0DA-3028-44A2-8AE6-46B64345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5F3E-8E49-422B-9E6F-B10EECC2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BE67-7B77-47D2-ADB6-4CC0B9E7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BEB4-7A3E-40E2-9346-774296D6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D128-094B-4AF3-AB6A-1039FC47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DA34-55AD-42EE-9F6B-078DCF74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021-1A74-44A6-B273-10F9199B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B05-F51D-4ECF-81EB-23BD6BFC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BE3-C6B2-4216-9936-8049FAEB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2D0-78AE-467E-B263-4EE70CC8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567-4380-4D00-B5A6-D560086F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81C-E8DB-4B05-AE53-B64372DE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904-EA30-487F-B09E-0F05D276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0089-984E-4C45-806D-A232CE1E8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FA8A-CC93-4702-8589-83DDA06ABA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5968"/>
                </a:solidFill>
                <a:latin typeface="Cambria"/>
              </a:rPr>
              <a:t>Module 4                 </a:t>
            </a:r>
            <a:r>
              <a:rPr b="0" lang="en-US" sz="4000" spc="-1" strike="noStrike">
                <a:solidFill>
                  <a:srgbClr val="c00000"/>
                </a:solidFill>
                <a:latin typeface="Cambria"/>
              </a:rPr>
              <a:t>The    passive</a:t>
            </a:r>
            <a:endParaRPr b="0" lang="en-US" sz="4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11640" y="4941360"/>
            <a:ext cx="259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S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subjec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P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predicate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O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objec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A 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- agen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79280" y="1557360"/>
            <a:ext cx="84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l employees   must  sign  the fo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he form  must be signed  by all employ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2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190440" y="1268280"/>
            <a:ext cx="877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My brother’s  bik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ol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is soup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mad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ith carrots and coria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whom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am’s party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catered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ir hous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ill have been finished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2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90440" y="1268280"/>
            <a:ext cx="877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My brother’s  bik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ol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is soup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mad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ith carrots and coria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whom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am’s party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catered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ir hous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ill have been finishe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 thieve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ere arreste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by the poli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2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90440" y="1268280"/>
            <a:ext cx="877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My brother’s  bik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ol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is soup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mad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ith carrots and coria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whom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am’s party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catered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ir hous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ill have been finishe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 thieve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ere arreste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by the poli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am hate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tol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hat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2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90440" y="1268280"/>
            <a:ext cx="877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My brother’s  bik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ol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is soup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mad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ith carrots and coria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whom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am’s party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catered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ir hous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ill have been finishe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 thieve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ere arreste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by the poli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am hate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tol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hat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 “Fifi Fairy” book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re writt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M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2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190440" y="1268280"/>
            <a:ext cx="8773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My brother’s  bik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ol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is soup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mad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ith carrots and coria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whom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am’s party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catered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ir hous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ill have been finishe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 thieve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ere arreste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by the poli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am hate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tol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hat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 “Fifi Fairy” book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re writt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M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n apology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hould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 mad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J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11640" y="4941360"/>
            <a:ext cx="259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S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subjec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P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predicate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O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objec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A 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- agen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79280" y="155736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           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P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l employees     must  sign        the fo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                    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P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                            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he form   must be signed   by all employ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1134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156000" y="486900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S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subjec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P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predicate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O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objec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A 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- agen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79280" y="155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he form  must be signed  by all employ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161000" y="2997360"/>
            <a:ext cx="6780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S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+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to  be + V</a:t>
            </a:r>
            <a:r>
              <a:rPr b="1" lang="en-US" sz="4800" spc="-1" strike="noStrike" baseline="-25000">
                <a:solidFill>
                  <a:srgbClr val="c00000"/>
                </a:solidFill>
                <a:latin typeface="Calibri"/>
              </a:rPr>
              <a:t>3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+    A (b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1134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431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1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479520" y="1052640"/>
            <a:ext cx="4797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assi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has been ca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was still being f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s being cleared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will be st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s discov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had been m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were s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has yet to be discov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431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1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48280" y="1197000"/>
            <a:ext cx="428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Pass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as been ca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ill being f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 being cleared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ill be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 dis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ad been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ere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as yet to be dis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5374080" y="1268280"/>
            <a:ext cx="2535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rok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had ever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re tr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has may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1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Cambria"/>
              </a:rPr>
              <a:t>by</a:t>
            </a:r>
            <a:endParaRPr b="0" lang="en-US" sz="6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504880" y="1773360"/>
            <a:ext cx="4395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We omit it wh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It is obvi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Unimpor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Unkn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Already mentio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2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71000" y="1268280"/>
            <a:ext cx="762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1. My brother’s  bik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ol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2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54080" y="1268280"/>
            <a:ext cx="877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My brother’s  bik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ol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is soup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mad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ith carrots and coria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2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90440" y="1268280"/>
            <a:ext cx="877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My brother’s  bik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ol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is soup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mad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ith carrots and coria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whom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am’s party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catered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6:25:35Z</dcterms:created>
  <dc:creator>Ксения</dc:creator>
  <dc:description>Корпорация Майкрософт
Шаблон оформления</dc:description>
  <dc:language>en-US</dc:language>
  <cp:lastModifiedBy>Ксения</cp:lastModifiedBy>
  <dcterms:modified xsi:type="dcterms:W3CDTF">2013-02-11T16:37:41Z</dcterms:modified>
  <cp:revision>6</cp:revision>
  <dc:subject>Шаблон оформления</dc:subject>
  <dc:title>Module 4                 The    pass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579990</vt:lpwstr>
  </property>
</Properties>
</file>