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2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BBE-388D-4774-83D3-C1DBCD3FE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2FF76C-1CBB-4B96-9FDA-C0FC45542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FE6D9D-EC15-4571-871D-BA384730B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66EBD8-99E0-4A65-B81A-70B0E8C0A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F29-6F14-4F85-8DE5-A86AE1A3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A6B-32DD-4E65-BD6D-CAAF9680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D52-DC74-4F75-A016-CDFBFC06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1A3-3D41-43FD-A1DA-8CD29B4C8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4DB5-11C5-479D-8FF1-C2204D2A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D86-9151-4183-8A20-4F3572E3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311-7A2E-4383-ADD8-5C92E8E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4F1-DE57-4B2A-95E6-1A08AC23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689-80AA-4AF7-A2DF-218FF9EC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B46-C4EF-4296-9918-56656E5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016C-A6FA-4489-B0A6-0F856C8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EC5-27CC-4721-829A-B21ADA6A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0F3E-F616-4EF1-9F3A-1DD6FFABE5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определ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центрации гемогло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493236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395280" y="476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оличественном определении 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ориметрическими методами возни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блема в выборе реагента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вращал бы все производные 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только в одну фор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фотометрическим анали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535120" y="3213000"/>
            <a:ext cx="407376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68360" y="26028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ми методами, количественно превращающ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в его производные, оказа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иглобинцианидный (HbCN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михромный (HbCh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гемиглобиназидный (HbN3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при фотометрировании дают наименьш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шибку определения среди других методов анализ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7200" y="214200"/>
            <a:ext cx="82724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мИглобинцианидный метод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метод Драбкина) (19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448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Спектр НвCN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3585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0" y="5357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 поглощения цианметгемоглоб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NmetH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771640" y="1459080"/>
            <a:ext cx="616752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Принцип метода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omic Sans MS"/>
              </a:rPr>
              <a:t>все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 фор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гемоглобина преобразую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mic Sans MS"/>
              </a:rPr>
              <a:t>в гемиглобинцианид 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(с помощ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трансформирующего реаг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(содержащего железосинеродист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калий, цианид калия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гидрокарбонат натрия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mic Sans MS"/>
              </a:rPr>
              <a:t>при длине волны 540 н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200" y="214200"/>
            <a:ext cx="827244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емИглобинцианидный метод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метод Драбкина) (19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48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403280" y="1436760"/>
            <a:ext cx="6186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4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C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16114,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г/л)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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367,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А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40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CN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,0  х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50920" y="2840040"/>
            <a:ext cx="873756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40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C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 абсорбция раствора гемоглобина при длине волны 540 н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6114,5  -  молекулярная масса мономера гемоглоб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,0  -  коэффициент миллимолярной экстинкции цианметгемоглоб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длина оптического пути, равная в большинстве фотометров 10 м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перевод молярной массы гемоглобина в миллимолярную мас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 – разведение крови (1 : 251, соотношение 20 мкл крови и 5,0 мл трансформирующего раств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68360" y="19656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Перевод гемоглобина в гемиглобинцианид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осуществляется при его взаимодействии с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Tahoma"/>
                <a:ea typeface="Calibri"/>
              </a:rPr>
              <a:t>трансформирующим растворо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содержащим феррицианид калия, цианид кал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дигидрофосфат калия и неионный детерген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1"/>
          <a:srcRect l="0" t="19576" r="0" b="6950"/>
          <a:stretch/>
        </p:blipFill>
        <p:spPr>
          <a:xfrm>
            <a:off x="4719600" y="2637000"/>
            <a:ext cx="4103640" cy="1028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4932360" y="4232160"/>
            <a:ext cx="38908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Детергент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 усиливает гемолиз эритроцитов и предотвращает мутность, связанную с белками плазм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26880" y="2325240"/>
            <a:ext cx="48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Дигидрофосфат кал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поддерживает уровень рН, при котором реакция проходит за 3-5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"/>
          <p:cNvPicPr/>
          <p:nvPr/>
        </p:nvPicPr>
        <p:blipFill>
          <a:blip r:embed="rId2"/>
          <a:stretch/>
        </p:blipFill>
        <p:spPr>
          <a:xfrm>
            <a:off x="826920" y="4479840"/>
            <a:ext cx="347688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79280" y="344520"/>
            <a:ext cx="879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Tahoma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Феррицианид калия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окисляет все формы гемоглобина в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метгемоглобин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, который образует с </a:t>
            </a:r>
            <a:r>
              <a:rPr b="1" lang="ru-RU" sz="2400" spc="-1" strike="noStrike">
                <a:solidFill>
                  <a:srgbClr val="0070c0"/>
                </a:solidFill>
                <a:latin typeface="Tahoma"/>
                <a:ea typeface="Calibri"/>
              </a:rPr>
              <a:t>цианистым калием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гемИглобинцианид, имеющий красноватый цвет, интенсивность окраски которого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прямо пропорциональна концентрации гемоглоби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в проб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ятиугольник 1"/>
          <p:cNvSpPr/>
          <p:nvPr/>
        </p:nvSpPr>
        <p:spPr>
          <a:xfrm>
            <a:off x="1333440" y="2900520"/>
            <a:ext cx="3384720" cy="59976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e2a2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кс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ятиугольник 3"/>
          <p:cNvSpPr/>
          <p:nvPr/>
        </p:nvSpPr>
        <p:spPr>
          <a:xfrm>
            <a:off x="1325520" y="3645000"/>
            <a:ext cx="3384720" cy="60012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e2a2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зокс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ятиугольник 4"/>
          <p:cNvSpPr/>
          <p:nvPr/>
        </p:nvSpPr>
        <p:spPr>
          <a:xfrm>
            <a:off x="1325520" y="4437000"/>
            <a:ext cx="3384720" cy="60012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e2a2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рбокси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ятиугольник 5"/>
          <p:cNvSpPr/>
          <p:nvPr/>
        </p:nvSpPr>
        <p:spPr>
          <a:xfrm>
            <a:off x="1287360" y="5229360"/>
            <a:ext cx="3384720" cy="60012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85" y="0"/>
                </a:lnTo>
                <a:lnTo>
                  <a:pt x="21600" y="10800"/>
                </a:lnTo>
                <a:lnTo>
                  <a:pt x="196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da1e9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г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ятиугольник 6" descr=""/>
          <p:cNvPicPr/>
          <p:nvPr/>
        </p:nvPicPr>
        <p:blipFill>
          <a:blip r:embed="rId1"/>
          <a:stretch/>
        </p:blipFill>
        <p:spPr>
          <a:xfrm>
            <a:off x="5353200" y="2749680"/>
            <a:ext cx="19429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82520" y="-115200"/>
            <a:ext cx="85010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Характеристика метода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  <a:ea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Гемиглобинцианидный метод, разработанный в 193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Драбкиным, был одобрен Международным Комит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по стандартизации в гематологии (ICSH) в 196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Основным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достои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гемиглобинцианидного метода является 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что HbCN (гемИглобинцианид) является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стабильны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 производным гемоглобина, и все имеющиеся в крови формы гемоглобина могут быть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быстро и количествен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Calibri"/>
              </a:rPr>
              <a:t>превращены в HbC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Метод обеспечивает возм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получения результатов с погрешно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Calibri"/>
              </a:rPr>
              <a:t>НЕ превышающей ± 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611280" y="54936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ребования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 работе с раствором, содержа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цианисты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09800" y="2951280"/>
            <a:ext cx="593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сех положительных параметрах гемиглобинцианидного метода большим его недостатком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, что он основан на примен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ядовитых цианистых соедин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5905440" y="9360"/>
            <a:ext cx="2625840" cy="2267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/>
          <a:srcRect l="11785" t="11809" r="11112" b="10356"/>
          <a:stretch/>
        </p:blipFill>
        <p:spPr>
          <a:xfrm>
            <a:off x="250920" y="2906640"/>
            <a:ext cx="23112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2"/>
          <p:cNvSpPr/>
          <p:nvPr/>
        </p:nvSpPr>
        <p:spPr>
          <a:xfrm>
            <a:off x="179280" y="189000"/>
            <a:ext cx="4586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цианистого калия многие применяют маскированный цианид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цетонциангидр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в процессе приготовления трансформирующего раствора распадается с образованием цианид-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4251600" cy="1817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2"/>
          <p:cNvSpPr/>
          <p:nvPr/>
        </p:nvSpPr>
        <p:spPr>
          <a:xfrm>
            <a:off x="220680" y="364500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действия ацетонциангидрина на человек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оден с действием синильной кисло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эффект разви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дленне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цетонциангидрин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сасывается через кожу и может вызывать тяжелые отрав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го предельно-допустимая концентрация (ПДК) составляет 0,9 мг/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ласс опасност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296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1099440" y="5000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содержания гемоглоби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линическое зна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73200" y="191628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ни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: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рушение синтез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вопотер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лиз, недостаток выработки эритроцитов и т.п.)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птическая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1382760"/>
            <a:ext cx="5084640" cy="337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8480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:\Новая папка (2)\Анализатор уровня гемоглобина в крови НemoCue Plasma-Low Hb - ООО МЕД-М эксклюзивный дистрибьютор HemoCue в России_files\clip_image007_0000.png"/>
          <p:cNvPicPr/>
          <p:nvPr/>
        </p:nvPicPr>
        <p:blipFill>
          <a:blip r:embed="rId1"/>
          <a:stretch/>
        </p:blipFill>
        <p:spPr>
          <a:xfrm>
            <a:off x="179280" y="1401840"/>
            <a:ext cx="4662720" cy="33368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179280" y="115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показаний гемоглобино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Гем-540” от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ремени инкуб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цов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рансформирующим раств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4842000" y="1839960"/>
            <a:ext cx="40161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 графика видно, что лишь на 15 минуте от начала реакции лизиса показания прибора начинают стабилизироваться и далее уже 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не меняются в течение последующих 2 ча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108000" y="4738680"/>
            <a:ext cx="885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этому, измерение гемоглобина следует проводить </a:t>
            </a: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не ранее, чем через 20 мину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сле внесения крови в пробир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трансформирующим раствором,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когда ве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имеющийся в пробирке гемоглобин преобразует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нечный продукт реакции - цианметгемоглоб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560" y="1857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емихром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462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250920" y="98100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цип гемихром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ан на пере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форм гемоглобина в одну -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и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250920" y="5192640"/>
            <a:ext cx="86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нсивность окраски прямо пропорциона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 в про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1" descr=""/>
          <p:cNvPicPr/>
          <p:nvPr/>
        </p:nvPicPr>
        <p:blipFill>
          <a:blip r:embed="rId1"/>
          <a:srcRect l="0" t="20454" r="50004" b="13904"/>
          <a:stretch/>
        </p:blipFill>
        <p:spPr>
          <a:xfrm>
            <a:off x="343080" y="2606760"/>
            <a:ext cx="1636560" cy="15159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89000" y="4202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моглоб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Крест 3"/>
          <p:cNvSpPr/>
          <p:nvPr/>
        </p:nvSpPr>
        <p:spPr>
          <a:xfrm>
            <a:off x="2133720" y="3116160"/>
            <a:ext cx="680760" cy="641520"/>
          </a:xfrm>
          <a:prstGeom prst="plus">
            <a:avLst>
              <a:gd name="adj" fmla="val 41278"/>
            </a:avLst>
          </a:prstGeom>
          <a:solidFill>
            <a:srgbClr val="ff66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блако 6"/>
          <p:cNvSpPr/>
          <p:nvPr/>
        </p:nvSpPr>
        <p:spPr>
          <a:xfrm>
            <a:off x="6516720" y="2313000"/>
            <a:ext cx="2378160" cy="2319480"/>
          </a:xfrm>
          <a:prstGeom prst="pie">
            <a:avLst/>
          </a:prstGeom>
          <a:solidFill>
            <a:srgbClr val="ff505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Геми-х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8"/>
          <p:cNvSpPr/>
          <p:nvPr/>
        </p:nvSpPr>
        <p:spPr>
          <a:xfrm>
            <a:off x="3017880" y="2427120"/>
            <a:ext cx="3384360" cy="2019600"/>
          </a:xfrm>
          <a:prstGeom prst="rightArrow">
            <a:avLst>
              <a:gd name="adj1" fmla="val 79481"/>
              <a:gd name="adj2" fmla="val 33911"/>
            </a:avLst>
          </a:prstGeom>
          <a:solidFill>
            <a:srgbClr val="ffffcc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формир. р-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рные кислоты + Феррицианид К (или додецилсульфа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емихром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462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Спектр НвHi"/>
          <p:cNvPicPr/>
          <p:nvPr/>
        </p:nvPicPr>
        <p:blipFill>
          <a:blip r:embed="rId1"/>
          <a:stretch/>
        </p:blipFill>
        <p:spPr>
          <a:xfrm>
            <a:off x="244440" y="1268280"/>
            <a:ext cx="295920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37960" y="4721400"/>
            <a:ext cx="26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 поглощения метгемоглоб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bMe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200400" y="1460520"/>
            <a:ext cx="569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ум кривой поглощения гемихрома находится на длине волны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33 н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ижайшая к 533 нм типовая длина волны – 540 нм, на которой и проводится фотометрирование с учетом коэффициента пересчета (фактора) дл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40 н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179280" y="798480"/>
            <a:ext cx="56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остоин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михромн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а является 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содержащиеся в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гемоглобина могу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ыстро и количеств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евращен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HbC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при полной без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формирующего раст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1"/>
          <a:stretch/>
        </p:blipFill>
        <p:spPr>
          <a:xfrm>
            <a:off x="5651640" y="3324240"/>
            <a:ext cx="2933640" cy="3103560"/>
          </a:xfrm>
          <a:prstGeom prst="rect">
            <a:avLst/>
          </a:prstGeom>
          <a:ln w="0">
            <a:noFill/>
          </a:ln>
        </p:spPr>
      </p:pic>
      <p:sp>
        <p:nvSpPr>
          <p:cNvPr id="128" name="Умножение 2"/>
          <p:cNvSpPr/>
          <p:nvPr/>
        </p:nvSpPr>
        <p:spPr>
          <a:xfrm>
            <a:off x="4859280" y="3429000"/>
            <a:ext cx="4105440" cy="4214880"/>
          </a:xfrm>
          <a:custGeom>
            <a:avLst/>
            <a:gdLst/>
            <a:ahLst/>
            <a:rect l="l" t="t" r="r" b="b"/>
            <a:pathLst>
              <a:path w="4105275" h="4214813">
                <a:moveTo>
                  <a:pt x="936549" y="1060443"/>
                </a:moveTo>
                <a:lnTo>
                  <a:pt x="1035420" y="964142"/>
                </a:lnTo>
                <a:lnTo>
                  <a:pt x="2052638" y="2008501"/>
                </a:lnTo>
                <a:lnTo>
                  <a:pt x="3069855" y="964142"/>
                </a:lnTo>
                <a:lnTo>
                  <a:pt x="3168726" y="1060443"/>
                </a:lnTo>
                <a:lnTo>
                  <a:pt x="2148972" y="2107407"/>
                </a:lnTo>
                <a:lnTo>
                  <a:pt x="3168726" y="3154370"/>
                </a:lnTo>
                <a:lnTo>
                  <a:pt x="3069855" y="3250671"/>
                </a:lnTo>
                <a:lnTo>
                  <a:pt x="2052638" y="2206312"/>
                </a:lnTo>
                <a:lnTo>
                  <a:pt x="1035420" y="3250671"/>
                </a:lnTo>
                <a:lnTo>
                  <a:pt x="936549" y="3154370"/>
                </a:lnTo>
                <a:lnTo>
                  <a:pt x="1956303" y="2107407"/>
                </a:lnTo>
                <a:lnTo>
                  <a:pt x="936549" y="1060443"/>
                </a:lnTo>
                <a:close/>
              </a:path>
            </a:pathLst>
          </a:custGeom>
          <a:solidFill>
            <a:srgbClr val="ff66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птическая 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1382760"/>
            <a:ext cx="5084640" cy="337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84804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5"/>
          <p:cNvSpPr/>
          <p:nvPr/>
        </p:nvSpPr>
        <p:spPr>
          <a:xfrm>
            <a:off x="179280" y="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­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↑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324000" y="1149480"/>
            <a:ext cx="439236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цитемия, гемоконцентрация при дегитратации, ожогах, упорной рво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ывание на больших высотах, чрезмерная физическая нагрузка или возб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5508720" y="1700280"/>
            <a:ext cx="273024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5003640" y="4005360"/>
            <a:ext cx="38736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4356000" y="1413000"/>
            <a:ext cx="460872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легких, приводящие к снижению легочной перфузии, плохой аэрации легк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оническое химическое воздействие нитритов, сульфонамидов, вызывающих образование мет- и сульфогемоглоб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395280" y="1159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­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↑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ы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и гемоглоби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rcRect l="57738" t="17671" r="4418" b="10890"/>
          <a:stretch/>
        </p:blipFill>
        <p:spPr>
          <a:xfrm>
            <a:off x="755640" y="1149480"/>
            <a:ext cx="2160720" cy="2611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1805040" y="4365720"/>
            <a:ext cx="273852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щий гемоглоб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распространяе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 форм гемогло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торые присутствуют в крови у здоровых люд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же появляются при пат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908000" y="2039760"/>
            <a:ext cx="55072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79280" y="3013200"/>
            <a:ext cx="84693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к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сстановлен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онимы: гемоглобин (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ро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б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глекислый г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50920" y="124128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ормы г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/>
          <a:stretch/>
        </p:blipFill>
        <p:spPr>
          <a:xfrm>
            <a:off x="4765680" y="106200"/>
            <a:ext cx="43052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9280" y="1125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б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к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CO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.: карбонмонокси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C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b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нимы: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ри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льф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b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ним – вердоглоб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мИглобинциан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CN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ин.: цианметгемоглоби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MetHb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539640" y="189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атологические формы г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749160" y="9828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71680" y="644400"/>
            <a:ext cx="792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всего в крови представл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ксигемогло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зоксигемогло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рбоксигемоглоб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тгемоглоб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Спектры гемоглобинов"/>
          <p:cNvPicPr/>
          <p:nvPr/>
        </p:nvPicPr>
        <p:blipFill>
          <a:blip r:embed="rId1"/>
          <a:stretch/>
        </p:blipFill>
        <p:spPr>
          <a:xfrm>
            <a:off x="395280" y="2982960"/>
            <a:ext cx="4772160" cy="3794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8"/>
          <p:cNvSpPr/>
          <p:nvPr/>
        </p:nvSpPr>
        <p:spPr>
          <a:xfrm>
            <a:off x="5292720" y="4221000"/>
            <a:ext cx="328608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ктр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още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кси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O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окси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Met)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рбоксигемоглоби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Hb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395280" y="26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определения г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анализируют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изводные гемогло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овавшиеся в процессе его окисления и присоединения к гему различных химических групп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ящих к изменению валентности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 окраски раствора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rcRect l="14092" t="0" r="9371" b="0"/>
          <a:stretch/>
        </p:blipFill>
        <p:spPr>
          <a:xfrm>
            <a:off x="2627280" y="2894040"/>
            <a:ext cx="3984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5:17:25Z</dcterms:created>
  <dc:creator>Sasha</dc:creator>
  <dc:description/>
  <dc:language>en-US</dc:language>
  <cp:lastModifiedBy>402</cp:lastModifiedBy>
  <dcterms:modified xsi:type="dcterms:W3CDTF">2019-02-15T11:06:44Z</dcterms:modified>
  <cp:revision>251</cp:revision>
  <dc:subject/>
  <dc:title>Слайд 1</dc:title>
</cp:coreProperties>
</file>