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CDB-7BBF-4825-BD39-A47FC08F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1C5-DE3E-4017-845C-7944B799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FE596-ABA6-4F4E-BB4C-C076C72B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27679-1401-4AA9-9986-FD5293B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DB20C-F6D8-4E09-990A-D3EAE4C8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CB82A-BDBA-4754-8CB7-DE1D15D2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0965-0FE8-4AD9-A711-2F30B631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6213-FCE3-48EF-83AF-C2654D70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9B917-DE00-49EF-A51E-ED44A731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E155-05E9-4803-BC10-014513A5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8EE21-44AF-4986-97D8-401B1570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CF573-079F-4F10-A188-A35B6473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B0C-2936-467F-9BCF-A7161681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638CE-784D-4B45-A31A-DD30F3DC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7DE3E-6D45-4A14-A644-F33236C7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5CD96-6396-4A4A-BE80-3541B674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62B7F-9050-4FD3-85A3-6DA61A11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F4F6-4351-41FE-A5E7-E8B0940F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A208F-DB09-4EAF-9B1C-1F48A205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AC88E-3552-4AD4-A37C-C526485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F0045-8A27-4883-A94E-D52163B6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B423A-43BE-44D3-B447-0B953449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E6FB-24D3-42C3-9A7B-59F71CFF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942-EDC3-4403-B305-48136A2D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4957F-6678-410B-B3FB-35D1080A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74B10-72F8-4596-8DF4-2A4B6F05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3255E-0DA5-48A8-A374-D45C43E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C49AE-4238-4611-A4C3-4427D8A8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24A47-7EC2-47DD-93BB-84422905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08EA7-0B47-4B6A-B69F-E429D8E1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08E82-8C62-44C7-9415-6B235AD6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382AB-FE35-49C1-9ACE-297B9032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91D57-95B2-4294-8B24-815C11A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0A92E-9F7C-47F7-BDE9-2B26B38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FDE2-CC61-45FD-9879-C33CEA1F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A9437-60F1-4005-9A7E-485AAC5F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3DE29-6EA5-4D3A-BFCC-42A7F184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4B0F0-79D2-409C-8CEE-6C05A3FA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FD21-3CDA-4A49-A4F3-240B0D20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7352-EE94-4442-B4DA-36657BF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10FB-5DB7-483F-A69A-EC633C4B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CF26-4659-43D1-BEF2-0642E6FA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BFAD-9E09-4F82-AA97-D30AB9A7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3FD-ADAB-4315-B8B8-6680940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DA0-532D-419A-8AD3-2F53419A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29F3-2C2E-4C2F-B71C-14E3980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3475-03C9-4005-955D-8668B4A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DC49-0A64-4810-9A35-BBAB402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6CD5-1D64-466A-872D-7B608391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AD3-FF82-47FF-93E7-7515855F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948D-6F17-4071-B432-293A06ED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4796-744B-49E6-A68A-153D3494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15EA-A1F4-4264-ADB1-348CB2D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E0C3-C79A-4AFD-97F3-93F93795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F9B7-F0E7-4254-8F8F-2207147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92C-DF7C-42A7-8402-F84124C2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2241-5741-4370-AB51-B4E3D2E6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4959-FD94-47AC-B3A5-CB48CEDF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979C-0EDD-45B5-977E-3C487DF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049E4-9929-4C72-A41D-1C1D32A4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22C7D-9556-41A5-B397-A2150D2B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BFFF6-D863-43C1-8C72-E781D176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65ECE-8B48-4725-9D14-56300F70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6E7A9-AA62-4037-8E47-96D1AF96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8AE2-2C02-4D06-82EA-98560234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C1E7-8666-4968-B411-DA7AC0E4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EEE-D0D6-4B9C-8C54-6B80B4CB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323D-22DC-4C94-A201-527E6707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38D57-4EE6-475C-BA06-D8E4D998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190EF-7A45-4432-BC10-A73B3105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77B5-C479-449D-9DC1-7EDD7598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7853-F770-4AE2-A714-805A14F1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6D82-AD91-471D-BD56-1DB1E213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36A8-2EA4-4730-84A5-73F307F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0933-BA59-4329-A18F-6152D4FB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A943-2BAF-4436-82F8-730A9FB1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7157A-BAD3-42B5-9494-5D2D2F86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4B6-5A90-4F4E-BCA1-CA7336B9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5F00-76AB-40C0-B39B-F2C5AF81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AD7DB-725C-41F8-9FF6-6B965CA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BBC9-5449-4A43-AA27-FBD34165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ECA5-6B7F-4BD0-BD5A-3D3F81B6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08CE-7F57-4BD0-99D7-4DFCF691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7C99-42DE-485B-ABAF-22E07DA3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CE91-1150-4EF8-97A0-9F5425C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2B03-4A17-4527-B657-B9F8E1DA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80A3D-1064-4340-8E87-2E9FDF55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65A4-5BD7-4C56-87F6-46221055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91C-A646-4394-A464-FA80B284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9815-9FF1-46DC-945E-74B88305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4BA1-A6C8-4514-A8F3-5F471495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6FDF-05AC-4E6D-8ADB-02247F3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F277-1295-44F1-9CE7-042BD38D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D1B6-67B3-4901-A6F5-B9ABDA04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A765F-212C-4972-A755-330C6206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85B19-8605-4CB5-A9AC-F266E370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0AAC1-6BF5-4947-BFDF-A40432D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9E102-BBBF-4BFC-A9DA-CA230DD2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9BD08-2C68-4FE5-9CC4-31FEE1E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F9E-BD3C-450C-AEFC-AAF5313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423A7-0065-4F45-9674-4DB8B1A9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F0BCC-61C7-4E1A-848E-B1B1EBFA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AC7E1-3693-4DA4-8DCD-8B58473F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89E04-E9FB-4E2B-A416-EB4BA842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2B198-B506-424A-9E44-A132C14B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DA8F-3404-4799-A15E-79E27CD3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2B594-8225-49FC-9958-5517E985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91155-8258-4434-B9EC-A70880CF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D194E-DCBC-47C3-A0A7-0A8F1B72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9950D-9D47-4D7B-9CE3-C0F06FC1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7DE-B281-4909-8A8B-039E67D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8A902-BFB3-4DCC-AD1A-C095522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7A169-F832-4EF3-94C8-DE02434C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B4B1C-22A3-47A4-9D7A-37918433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18259-6DF0-4FA1-A8E7-20FB8EFD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51D7-8B80-49D9-96A4-3395DF58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15C63-A617-464E-8BAE-D62300A8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D770-92C6-465A-8A5B-1CED0641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2A74E-1828-48B4-AC49-ECA19912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DEB4C-D48C-4AE0-8947-C83DF688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43144-3D2E-453E-A473-52761838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6FF-B355-4C0A-B3DB-2337EAE3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BF8C8-19DA-443D-A91C-6C17CB7B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7A529-61F7-46FB-B73E-E34E91B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7B737-D772-4102-B71E-9103199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A058E-59D7-4FCB-83A6-92FFBFB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E1B14-4DA1-4C99-966E-FE696F74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822EB-FD11-46BB-BEEC-0CD54860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ABB68-0A53-4F13-A5B5-4D7150B4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CF66D-D339-48B2-849F-8AD90527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2A87-FEB4-4C6B-8518-075737EE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B1DE9-406E-4358-B69D-6C093D8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3F26-963F-464A-9205-3A8E1F9F49CE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105E-0F6F-4483-99CF-051E140EAF98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6CF2-008B-4B7E-9AFA-A6B5A68E5855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34F-233F-4855-AA61-A21E6B32F491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DB4-FC99-4C17-8006-0351FA6EA8C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ED5-E319-43F4-AD03-05867CE917AB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69CF-9CB4-4E4B-B0A6-FD8F412BE0CD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E05C-015D-4481-B8B3-38B54415395B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0371-4AE8-49B1-8068-9630E0726120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B31A-4522-4F98-A80D-7FDA6C6852A4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049-DAB8-4306-9596-74AAF3FB1E1F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CustomShape 1"/>
          <p:cNvSpPr/>
          <p:nvPr/>
        </p:nvSpPr>
        <p:spPr>
          <a:xfrm>
            <a:off x="361800" y="1004760"/>
            <a:ext cx="83710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2169"/>
                </a:solidFill>
                <a:latin typeface="Times New Roman"/>
                <a:ea typeface="SimSun"/>
              </a:rPr>
              <a:t>«Помним! Любим! Гордимся!»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CustomShape 2"/>
          <p:cNvSpPr/>
          <p:nvPr/>
        </p:nvSpPr>
        <p:spPr>
          <a:xfrm>
            <a:off x="0" y="230040"/>
            <a:ext cx="91425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ое Управление Образования г. Москвы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О ОШ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Новогорск»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CustomShape 3"/>
          <p:cNvSpPr/>
          <p:nvPr/>
        </p:nvSpPr>
        <p:spPr>
          <a:xfrm>
            <a:off x="6045120" y="2124000"/>
            <a:ext cx="309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Проектную работу выполнил: Петров Кирилл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ученик 4-Б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DejaVu Sans"/>
              </a:rPr>
              <a:t>класса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CustomShape 4"/>
          <p:cNvSpPr/>
          <p:nvPr/>
        </p:nvSpPr>
        <p:spPr>
          <a:xfrm>
            <a:off x="1576440" y="6281640"/>
            <a:ext cx="59418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овогорск  2019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7" name="Рисунок 185" descr=""/>
          <p:cNvPicPr/>
          <p:nvPr/>
        </p:nvPicPr>
        <p:blipFill>
          <a:blip r:embed="rId1"/>
          <a:stretch/>
        </p:blipFill>
        <p:spPr>
          <a:xfrm>
            <a:off x="6753240" y="0"/>
            <a:ext cx="2389320" cy="56052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2" descr=""/>
          <p:cNvPicPr/>
          <p:nvPr/>
        </p:nvPicPr>
        <p:blipFill>
          <a:blip r:embed="rId2"/>
          <a:stretch/>
        </p:blipFill>
        <p:spPr>
          <a:xfrm>
            <a:off x="2322360" y="2332080"/>
            <a:ext cx="2322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CustomShape 1"/>
          <p:cNvSpPr/>
          <p:nvPr/>
        </p:nvSpPr>
        <p:spPr>
          <a:xfrm>
            <a:off x="457200" y="685800"/>
            <a:ext cx="82281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CustomShape 2"/>
          <p:cNvSpPr/>
          <p:nvPr/>
        </p:nvSpPr>
        <p:spPr>
          <a:xfrm>
            <a:off x="5651640" y="4786200"/>
            <a:ext cx="3338280" cy="18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1" name="Рисунок 191" descr=""/>
          <p:cNvPicPr/>
          <p:nvPr/>
        </p:nvPicPr>
        <p:blipFill>
          <a:blip r:embed="rId1"/>
          <a:stretch/>
        </p:blipFill>
        <p:spPr>
          <a:xfrm>
            <a:off x="3270240" y="1579680"/>
            <a:ext cx="1812960" cy="2504880"/>
          </a:xfrm>
          <a:prstGeom prst="rect">
            <a:avLst/>
          </a:prstGeom>
          <a:ln w="0">
            <a:noFill/>
          </a:ln>
        </p:spPr>
      </p:pic>
      <p:sp>
        <p:nvSpPr>
          <p:cNvPr id="592" name="CustomShape 3"/>
          <p:cNvSpPr/>
          <p:nvPr/>
        </p:nvSpPr>
        <p:spPr>
          <a:xfrm>
            <a:off x="158760" y="65160"/>
            <a:ext cx="53658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тров Борис Георгиеви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CustomShape 4"/>
          <p:cNvSpPr/>
          <p:nvPr/>
        </p:nvSpPr>
        <p:spPr>
          <a:xfrm>
            <a:off x="5738760" y="4786200"/>
            <a:ext cx="295128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4" name="Рисунок 1" descr=""/>
          <p:cNvPicPr/>
          <p:nvPr/>
        </p:nvPicPr>
        <p:blipFill>
          <a:blip r:embed="rId2"/>
          <a:stretch/>
        </p:blipFill>
        <p:spPr>
          <a:xfrm>
            <a:off x="6013440" y="414360"/>
            <a:ext cx="2951280" cy="73188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2" descr=""/>
          <p:cNvPicPr/>
          <p:nvPr/>
        </p:nvPicPr>
        <p:blipFill>
          <a:blip r:embed="rId3"/>
          <a:stretch/>
        </p:blipFill>
        <p:spPr>
          <a:xfrm>
            <a:off x="612720" y="1441440"/>
            <a:ext cx="1927440" cy="257184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3" descr=""/>
          <p:cNvPicPr/>
          <p:nvPr/>
        </p:nvPicPr>
        <p:blipFill>
          <a:blip r:embed="rId4"/>
          <a:stretch/>
        </p:blipFill>
        <p:spPr>
          <a:xfrm>
            <a:off x="5900760" y="1419120"/>
            <a:ext cx="2868480" cy="215424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2"/>
          <p:cNvSpPr/>
          <p:nvPr/>
        </p:nvSpPr>
        <p:spPr>
          <a:xfrm>
            <a:off x="0" y="4141800"/>
            <a:ext cx="9144000" cy="1954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ой прадедуш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Петров Борис Георгиеви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Участник Великой Отечественной война, но к сожалению в 2016 году он умер. Он прошёл всю войну - от Ленинграда до Берлина.     Участвовал в обороне Ленинграда, освобождал Советское Заполярье, штурмовал Кёнигсберг. Закончил войну в Берлине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 него 2 ордена и более 30 медалей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вою работу посвящаю памяти прадедушк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22:37Z</dcterms:modified>
  <cp:revision>176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