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ECE-4A90-4398-8679-2525E3F5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54D-2DF9-4DF7-9AD7-2059F225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3C85B-E0D6-4A9F-97AE-09A16424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F5347-B6D1-4A37-83D5-C7A11964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CF7E4-6315-4824-A988-90866B0D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7AAB7-E288-44B1-9907-EF5DC7E2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43C27-00CD-4D66-A204-5450227D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B0FE3-0E40-4CEF-9258-4374657F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EFD7B-1756-4123-B843-4EB7761C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08F02-D1A2-4CFE-9051-84B4467E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DC75F-BF5E-4DC3-9D76-B2BB7570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51196-AFED-48A0-9292-6AD5AD41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698-9137-4EEC-B2F0-6BD7C1F4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20449-B0C2-4830-9DDD-8D48399D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85301-3155-4C8B-9BC9-D96B279D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86911-0BB2-401B-800F-78FF304B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F6F35-5483-46DB-8327-BBD1BA2E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80175-6B4D-4A73-8D56-04A6FF3C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F4EE8-9F64-42F8-B1BA-3E394F2B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61502-3596-48DC-9B7C-BD45CA28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816C9-ECFC-4659-A09C-EF3F9623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94844-8202-4224-AF3E-5EA6C6F7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906EB-1014-4514-A1F3-AAF9EE11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3AB-EAF1-4452-9AEF-53CB8181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41DE6-0395-4AB6-BC35-44B3BC15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6300B-2D80-4A58-B6A1-2B37D3E6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88FED-A323-4824-BAC7-82990D36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53F9F-70C6-49FB-BAD0-A4BD0564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D3F74-4EE6-4B84-8696-03339ABA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89FD7-5C1B-4480-A02A-66B859F4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9C56A-6CF0-4857-AB28-B9775DB0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5094D-17B6-417B-9A17-6BB9657F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56028-44BC-4376-ADCC-5CD25FEE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50829-0F28-4133-A172-40757819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9E6B-F1B3-464B-BC3F-17DA55CF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0749B-69A3-4357-971B-68AB21A9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F94B2-1B70-44AA-B500-2D33B9AC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7435D-FDEB-4375-9F62-814FB6FE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EDF1-833A-43FE-B472-BBA160ED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23C5-840D-429A-B2C2-43548E3D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88FF-210C-4842-B2A7-1AC71C4C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8E45-D557-4BF0-9E46-C687CF87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3D0F-676D-41AC-A8F2-9B470EFB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23C3-BA2B-4F09-8195-F14F065F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D3C-DA58-45AC-9F48-D5C97C92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CFB5-2837-4917-A9FB-27F2879F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AE7C-23BF-42D9-9BD5-56FC0A51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7143-CF28-429E-BF54-27514DC7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C52F-A467-47FF-9E69-8C2B113C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D08C-6F34-4293-8394-B66A56F4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5FC32-CF8B-4390-91B1-ED5FBD88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863AD-9637-430B-A129-3419C97F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E77F1-20F7-4173-8848-BBA126A6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CDA5E-98EC-4172-8B73-17ED23A7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1EB7A-A395-489E-8546-814559F0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642-DFE4-45F2-8924-FEA5DE7A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71832-4226-497D-8611-362C89C0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AB384-DD1D-440E-9F3A-6C01052A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866F1-EB23-4540-9AD5-CBF35997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78AE5-F603-4FB7-97AF-2A005D65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727DC-8390-4B0F-8960-C3DF3769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B5C94-8349-4C62-B875-A8807647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A7E50-8807-48AD-B4DA-E83E299F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99779-16A4-46C1-ACA5-A761ED37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8962C-61AA-4863-98CD-CA5FCF55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B45B9-D784-4A37-809F-02DD9221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D05-C427-4DE3-BD03-F646C86E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DEB12-248B-4C44-9CE4-C0B05D98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DDE70-5D38-490F-958F-E218036C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6D35E-6CC7-4133-A503-CCA70E24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89347-5C8C-4055-B738-125C6559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DE091-203A-4C59-AC30-AD770A20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48D96-4C3B-4ADC-81CD-13401C30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7474F-58CA-42B7-BFB2-1FE08A32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C1A7A-2F16-4265-B3B8-DB33789B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21E71-1DBC-46AF-958C-74CEB834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42870-2BE3-4004-94B1-1BAA35F4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87D-49C8-4847-BAB2-C52499F1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1C13E-E3E7-4E24-A809-3E1305AB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E8A9E-EB39-4758-9541-220FAA58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3C7D1-D574-424D-B058-ACCB538E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6D2C7-CFD2-43EC-85E3-10A869F4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7BC44-AE82-4FA1-844C-3D8F133F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35C41-482E-4E0A-93BB-3C7AF797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61810-A19A-4BD9-B095-E9CA14B9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BD6A9-BE1B-4B40-AB3D-9CFB7469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DED04-BC7D-4D3D-8E2D-62592754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E87D3-D25C-49BA-954D-75C97903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5D1-1304-40C7-967C-2FB77EE9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CFBBD-4E4C-4567-BE6B-C25BAF53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B6370-EB64-4DB7-8F30-DF786955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A0C82-07B8-4BE3-8C74-A6EAC57C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C3EFD-4583-4C09-8577-74474B8F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ED650-A0D6-4069-BDEC-E8DC2A57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59E24-D38E-43E4-A54E-6BCBA336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1EB7C-1B3A-421B-A1DB-2E0B115F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3F56A-38D6-4AD1-91E1-EA830F56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06709-CBA1-4EAE-B48D-0B7DB15B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E7C90-E463-43FC-B566-E9A2B1C1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DD3-999D-4BDA-AA56-880CAB83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5269B-1214-435D-ADC1-E68CC37F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19F00-FAAB-4678-A02D-DCB035CD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F82EC-B711-4437-876D-D644EE98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A38A8-6377-4AC9-B40E-8F7BD950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CC0D3-AE55-403D-9091-EA4CAA0D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2796B-4BC4-46FD-A784-6F426D05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C1620-F7B5-47BC-8726-E54ED9C5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98273-1F57-4B9A-A098-864556E0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4F075-9120-45E7-87D4-1FA0757B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5BAC5-C751-4DC3-B562-2B75B79C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5DF-75DC-4445-924F-A27B41DA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92196-687E-4657-8839-AE9C372D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B2442-8935-457B-BBF0-8BFA8E30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F1786-FE6B-48CF-84A8-C3E69E7E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1786E-7192-4A9D-9220-F8C81BFB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596E4-A931-47A9-A931-5C5997C7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2B53F-EF12-4E19-B013-A6D086F7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19A43-3F57-4AFB-8160-6DE0EED9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5608B-888E-4935-AC21-5174E54B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70A71-6728-4112-A7FE-719203CE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BE628-E3D7-417C-9793-EF90B149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BDB-2087-491F-BB27-D3FF1076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813D7-FD76-4B1E-8A54-A5BB4F0E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19B6C-C50C-41EA-A3E2-D022AC71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29A9C-2A93-4C11-8120-BDD8996E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5A940-C2DC-4DFD-BE50-A4FF2957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D06FE-3E7C-4578-83F7-FC05654B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5AA8C-4E58-455B-8006-8177EB74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9D298-7EE1-4193-A4EF-C3EE02E9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05B87-D17E-4C20-9726-3575BE03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49AEF-13F9-4ACD-8D28-723417A7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CF415-7EF0-4E76-BEE8-D6AA3670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B7C4-56FD-4857-8B3E-26BE32BCB45C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000E-8DBF-4470-88F1-72367807891C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E2AE-06AB-4C9B-8421-6BE980831715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0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3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44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8966-0EB4-40D9-B30D-68C8FE0D8979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60C2-16EC-4492-8D5C-65370742F4D0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3CFE-31B8-4F9D-9143-7031957317AE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5823-321B-4757-A9FA-30217B6F3E79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2C44-969A-43A7-A2D6-9C6B87FC1206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5B41-561D-418B-BEDC-28CACE7960CE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32F1-C6F5-4488-A0C8-4C8F8C315E19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144B-91CE-44BC-8A5D-99C31F6C5E56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CustomShape 1"/>
          <p:cNvSpPr/>
          <p:nvPr/>
        </p:nvSpPr>
        <p:spPr>
          <a:xfrm>
            <a:off x="361800" y="1004760"/>
            <a:ext cx="837108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2169"/>
                </a:solidFill>
                <a:latin typeface="Times New Roman"/>
                <a:ea typeface="SimSun"/>
              </a:rPr>
              <a:t>«Помним! Любим! Гордимся!»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CustomShape 2"/>
          <p:cNvSpPr/>
          <p:nvPr/>
        </p:nvSpPr>
        <p:spPr>
          <a:xfrm>
            <a:off x="0" y="230040"/>
            <a:ext cx="91425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точное Управление Образования г. Москвы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О ОШ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«Новогорск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CustomShape 3"/>
          <p:cNvSpPr/>
          <p:nvPr/>
        </p:nvSpPr>
        <p:spPr>
          <a:xfrm>
            <a:off x="6045120" y="2124000"/>
            <a:ext cx="309744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DejaVu Sans"/>
              </a:rPr>
              <a:t>Проектную работу выполнил: Петров Кирилл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DejaVu Sans"/>
              </a:rPr>
              <a:t>ученик 4-Б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DejaVu Sans"/>
              </a:rPr>
              <a:t>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DejaVu Sans"/>
              </a:rPr>
              <a:t>класса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CustomShape 4"/>
          <p:cNvSpPr/>
          <p:nvPr/>
        </p:nvSpPr>
        <p:spPr>
          <a:xfrm>
            <a:off x="1576440" y="6281640"/>
            <a:ext cx="59418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Новогорск  2019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7" name="Рисунок 185" descr=""/>
          <p:cNvPicPr/>
          <p:nvPr/>
        </p:nvPicPr>
        <p:blipFill>
          <a:blip r:embed="rId1"/>
          <a:stretch/>
        </p:blipFill>
        <p:spPr>
          <a:xfrm>
            <a:off x="6753240" y="0"/>
            <a:ext cx="2389320" cy="560520"/>
          </a:xfrm>
          <a:prstGeom prst="rect">
            <a:avLst/>
          </a:prstGeom>
          <a:ln w="0">
            <a:noFill/>
          </a:ln>
        </p:spPr>
      </p:pic>
      <p:pic>
        <p:nvPicPr>
          <p:cNvPr id="588" name="Рисунок 2" descr=""/>
          <p:cNvPicPr/>
          <p:nvPr/>
        </p:nvPicPr>
        <p:blipFill>
          <a:blip r:embed="rId2"/>
          <a:stretch/>
        </p:blipFill>
        <p:spPr>
          <a:xfrm>
            <a:off x="2322360" y="2332080"/>
            <a:ext cx="23227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CustomShape 1"/>
          <p:cNvSpPr/>
          <p:nvPr/>
        </p:nvSpPr>
        <p:spPr>
          <a:xfrm>
            <a:off x="457200" y="685800"/>
            <a:ext cx="822816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CustomShape 2"/>
          <p:cNvSpPr/>
          <p:nvPr/>
        </p:nvSpPr>
        <p:spPr>
          <a:xfrm>
            <a:off x="5651640" y="4786200"/>
            <a:ext cx="333828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1" name="Рисунок 191" descr=""/>
          <p:cNvPicPr/>
          <p:nvPr/>
        </p:nvPicPr>
        <p:blipFill>
          <a:blip r:embed="rId1"/>
          <a:stretch/>
        </p:blipFill>
        <p:spPr>
          <a:xfrm>
            <a:off x="3270240" y="1579680"/>
            <a:ext cx="1812960" cy="2504880"/>
          </a:xfrm>
          <a:prstGeom prst="rect">
            <a:avLst/>
          </a:prstGeom>
          <a:ln w="0">
            <a:noFill/>
          </a:ln>
        </p:spPr>
      </p:pic>
      <p:sp>
        <p:nvSpPr>
          <p:cNvPr id="592" name="CustomShape 3"/>
          <p:cNvSpPr/>
          <p:nvPr/>
        </p:nvSpPr>
        <p:spPr>
          <a:xfrm>
            <a:off x="158760" y="65160"/>
            <a:ext cx="53658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тров Борис Георгиеви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CustomShape 4"/>
          <p:cNvSpPr/>
          <p:nvPr/>
        </p:nvSpPr>
        <p:spPr>
          <a:xfrm>
            <a:off x="5738760" y="4786200"/>
            <a:ext cx="295128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4" name="Рисунок 1" descr=""/>
          <p:cNvPicPr/>
          <p:nvPr/>
        </p:nvPicPr>
        <p:blipFill>
          <a:blip r:embed="rId2"/>
          <a:stretch/>
        </p:blipFill>
        <p:spPr>
          <a:xfrm>
            <a:off x="6013440" y="414360"/>
            <a:ext cx="2951280" cy="731880"/>
          </a:xfrm>
          <a:prstGeom prst="rect">
            <a:avLst/>
          </a:prstGeom>
          <a:ln w="0">
            <a:noFill/>
          </a:ln>
        </p:spPr>
      </p:pic>
      <p:pic>
        <p:nvPicPr>
          <p:cNvPr id="595" name="Рисунок 2" descr=""/>
          <p:cNvPicPr/>
          <p:nvPr/>
        </p:nvPicPr>
        <p:blipFill>
          <a:blip r:embed="rId3"/>
          <a:stretch/>
        </p:blipFill>
        <p:spPr>
          <a:xfrm>
            <a:off x="612720" y="1441440"/>
            <a:ext cx="1927440" cy="2571840"/>
          </a:xfrm>
          <a:prstGeom prst="rect">
            <a:avLst/>
          </a:prstGeom>
          <a:ln w="0">
            <a:noFill/>
          </a:ln>
        </p:spPr>
      </p:pic>
      <p:pic>
        <p:nvPicPr>
          <p:cNvPr id="596" name="Рисунок 3" descr=""/>
          <p:cNvPicPr/>
          <p:nvPr/>
        </p:nvPicPr>
        <p:blipFill>
          <a:blip r:embed="rId4"/>
          <a:stretch/>
        </p:blipFill>
        <p:spPr>
          <a:xfrm>
            <a:off x="5900760" y="1419120"/>
            <a:ext cx="2868480" cy="215424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2"/>
          <p:cNvSpPr/>
          <p:nvPr/>
        </p:nvSpPr>
        <p:spPr>
          <a:xfrm>
            <a:off x="0" y="4141800"/>
            <a:ext cx="9144000" cy="1954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й прадедуш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Петров Борис Георгиевич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Участник Великой Отечественной война, но к сожалению в 2016 году он умер. Он прошёл всю войну - от Ленинграда до Берлина.     Участвовал в обороне Ленинграда, освобождал Советское Заполярье, штурмовал Кёнигсберг. Закончил войну в Берлине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 него 2 ордена и более 30 медалей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вою работу посвящаю памяти прадедушки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4:40:04Z</dcterms:created>
  <dc:creator>User</dc:creator>
  <dc:description/>
  <dc:language>en-US</dc:language>
  <cp:lastModifiedBy>Пивоварова Анжела Анатольевна</cp:lastModifiedBy>
  <dcterms:modified xsi:type="dcterms:W3CDTF">2019-04-22T16:22:37Z</dcterms:modified>
  <cp:revision>176</cp:revision>
  <dc:subject/>
  <dc:title>Технология темперной живопи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2</vt:r8>
  </property>
</Properties>
</file>