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F9FC-7070-429D-AF58-4EEAA65B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2E07-419E-47CB-A3A8-E3176A11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1E04A-6EDB-498B-8318-25057F85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28C3B-85F7-4D02-A87C-C3C329BA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44227-9539-4203-B3C7-B0AB186D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3EE8A-A6C3-4F4B-925B-C06B0833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67AEC-B945-4BC1-AF5D-298E32EA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30DAC-6FCA-4E35-93FC-078E9ADF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F5C00-CC1A-45E2-B530-8E0DC006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5C15F-223E-469F-869B-8F50BCF9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9DA9B-FEE5-4965-A8E3-C87D1B0F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EBC2D-77D7-4610-8D2D-E65E7350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1471-95E3-409D-8B9E-1BBC7BE8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CA4CD-E551-45AE-AACA-45B89F1E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9F20F-0D49-4026-A8BF-D08C801E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DAEF8-8031-475B-BE50-9EBA0449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16B92-C3D7-4007-9075-8A9BE624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F8031-C6A0-46E8-9521-141C64BB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F3C69-69D6-4C3D-8253-2D97E286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BE652-D7C2-4F7A-8827-D0D90903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B47B2-D80F-48CF-940C-CAB8B097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7CE4A-19C5-4587-83EE-7EC87BD1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DA8D4-B00B-4A9F-8C3A-0FFDD9CE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0748-3390-4A90-9EAD-B4B5C00A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53E86-F416-4D65-8BE1-65BF134C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C5FF5-4E15-43A4-84B7-FFDDC01C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F4146-0CEC-4520-A366-87DAC4B2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7EA7C-908D-4B9F-B736-3098FB45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DB0B4-0B4D-4C1D-8277-856B9DD5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B0A0F-7A0C-4828-BC85-AD90FBD9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62F3A-D865-4399-AD0D-9553A142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72F52-9830-426A-940E-AE69CC1F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F8AD9-2CC3-4F5E-975B-805B9F17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D1C13-8254-426C-8C0A-B70DD73D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0E16-7152-4225-9BDF-824E691A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20F1A-D928-481D-A693-79265903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15982-4460-4C20-9E44-F0F22424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A9315-1FDD-4E1A-BC14-2B94FCEB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BC7B-713F-4E5F-9CB3-24E68E61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8907-E4EF-40F5-B001-91326BC2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2A2B-9EBB-45C6-8509-4DA62AD7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3BFF-B3EB-470F-B5CC-15FD2ED8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06D7-FD91-4156-9AD6-56621D93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E9A7-0D3B-4B9A-81E4-4C92E264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A417-3896-4B9D-9641-21D45B7B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CC82-04F2-4836-B98A-70A2E979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004F-84D8-40D9-A66C-3BA1EB51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7135-B7ED-4693-8245-91928548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C7D1-B470-45FE-9BFA-80312910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835F-B8F2-4BAD-9AA4-D59E720C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61AFB-D8A0-486F-8D08-A7886E4C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5A9EF-6713-4062-AC3A-E18A1B0D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DBF6F-7D3D-4EC9-9865-95D895CE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0EB06-4D1A-40EA-AA35-B8B13F09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CB0A1-1DE7-4990-B1F9-BEE0AA3C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F0A9-2420-4677-B92A-77173089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09A1D-39A2-4791-9C56-C060EF9B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79FCD-320D-4E6C-AF20-2D53934D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C8F1D-02A6-458A-AFED-EA939ADD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53B46-591F-430A-83B7-EE39EDC7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5A215-5972-4FAD-861F-36AE4298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F0EF6-EC53-4185-B3AD-0DCA850A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5846E-0894-46DD-94DB-12300D8F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808E7-E0ED-4C10-A39B-C2B7E134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4D0A5-A40D-4192-9015-A533467C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0E448-4EBC-4786-A24D-BB1E82D1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3686-2702-4905-99AB-ABC89B10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D4597-0A56-4DF0-98B5-15AC7D41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78A30-5393-49A6-9DE1-DFA4F935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19D5E-8646-4D17-A6D1-91470E4B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84602-5582-4702-811C-789D1464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F2CC5-3C0F-4BB4-B26C-100CEBB7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243C9-0B69-4CEF-9A7F-563F9987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368F4-B0F8-4EA9-A769-8EBE8630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1F02F-013A-4886-9779-5B96FCC7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CA2D8-24B1-4D50-B019-54AEE2F2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22B11-BC74-4A9B-AD1E-CDEE9E36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B7F5-08F7-4208-BD0E-59E55B62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8A3E1-9E29-4F7A-86C1-79A7A2CE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4F934-EBC3-46D5-8B46-F4464EB5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D5F2F-C634-4A3C-BDFB-BA2D62E5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70234-A42D-404A-8441-C996545D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8577C-6605-427C-A6E9-CE2D05F7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0B47E-0BB2-484C-BE57-2CDB84B5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9C19A-D3FD-4B95-8F99-93C438CB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D5CE1-1FB3-4EEC-8784-818E5429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021BA-A0D2-403F-9DE8-50462EF3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6F45F-F230-468F-AE88-E6EB8430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116D-1862-483E-8F01-4CDEC096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B7943-18F1-469E-A879-2FCBE28C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C027F-6124-4EEF-8753-FF472348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F7740-72BD-4C19-BA42-DE153B4C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E9CEE-685E-4CB0-9542-7602B08B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B4892-EE09-47A3-8A9B-9F3A0475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92C1A-DDCE-4294-91E9-F2CE0609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E4C56-4D1B-49F9-8A53-8624B701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989CA-C491-4332-A364-D388079F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0D76D-D663-4410-9C4D-D817B067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BDC5A-BCEC-4C4D-BD5C-01EA6AE3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0D7C-1D04-49C1-8D74-4B9EC4E1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E1AF6-A3EE-49B1-BC09-C4462F99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B8386-0847-45ED-A14E-ABEDBAF0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B6FB2-C3F3-4C88-A71B-F10FBD7A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EFBF7-51B9-4FBF-9F89-5AADA353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FE3A5-9248-4B93-B225-9CC71200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BE563-5EE9-4B62-A85F-83B2B252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1573F-F2FA-45B5-9AB3-42ECB251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4B570-B7BE-42CE-901A-DBC4AAC1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7C8DA-6167-4850-A7C4-908D215E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99518-4701-4CFC-A26B-AEEB1617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0DB6-D190-48EF-B741-5CFAEFC2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DA5F8-6585-4F6B-8A12-795F87B8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CE1F7-25A7-4B27-B573-E1BCD034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640BD-24E3-4A1F-9C20-294EE457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842FE-B941-4C9E-A0A7-9D93EB13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2E93A-7425-4BA1-ADC6-5E93D636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C7D12-94EE-490B-A73F-BD660A9D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5D371-65D8-48FF-AFB0-A65DBF9B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00FE4-11B3-471A-9E1B-2724CA26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FF2A8-266E-4F36-BB26-C2E32FAC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0BAB3-DBD0-4C9A-A7FD-495A6125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33E1-70A7-4880-977C-3F320CA8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94C8D-8568-42CF-A2E3-6C1354CE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738B7-A853-42DA-8D67-E8C8914C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E2439-3557-4816-BCD7-2432EA95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1AFC1-56FF-4BB2-BB20-080F6641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5FF24-804D-4971-B68F-E0DF9AA3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ADB94-361A-4F36-B65D-8FCD0783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CC21E-5DE4-4D11-A87A-1E6D3E26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F37E3-F62B-4451-940F-D24AA58B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816E9-548E-4310-B5C2-1D47734C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67B2B-A36B-44E2-B1B4-87901395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CCED-6F32-4E6B-AFCC-A49609F49470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C6EE-6EA6-48B9-BF33-F7E0761EC2C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81A0-88F2-4693-BCF9-1BFCC8C58E9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50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3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544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7DE2-0520-4107-B29F-A921B6A3B6E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7481-6F3A-4293-85BA-5ABBAF01664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9568-1AFC-456F-B490-1329822B268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BC71-9284-410C-AEA3-6E79A599359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5951-4D6B-43FC-A4DE-548E50E410B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C6D1-D9A3-4D53-A31A-9BCC3D9B9C8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3721-B700-4433-8DD9-D12D48EDCA5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F06C-695E-4599-85CA-6FD8C4C3A1B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s://klops.ru/news/.obschestvo/107444-nazad-v-45-yveterany-vspominayut-kak-shturmovali-kenigsberg" TargetMode="External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3"/>
          <p:cNvSpPr/>
          <p:nvPr/>
        </p:nvSpPr>
        <p:spPr>
          <a:xfrm>
            <a:off x="3281400" y="245520"/>
            <a:ext cx="5443560" cy="600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080" bIns="50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419d7"/>
                </a:solidFill>
                <a:latin typeface="Montserrat"/>
              </a:rPr>
              <a:t>Сюрприз от немцев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tserrat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Montserrat"/>
              </a:rPr>
              <a:t>Вспоминает Борис Георгиевич Петров, матрос-краснофлотец, радист: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tserrat"/>
              </a:rPr>
              <a:t>В Кенигсберг мы вошли на спецмашине. Я поддерживал связь между 11-й армией и флотом. Нужно было забраться на высотное здание. Мы выбрали элеватор. Он был заминирован и мог взорваться в любой момент, но разве молодых это остановит? Когда наши войска готовились брать Кенигсберг, создали Юго-Западный морской оборонительный район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tserrat"/>
              </a:rPr>
              <a:t>На эту базу я попал радистом. Помню, на катерах мы подошли к косе Фрише Нерунг (сейчас - Балтийская коса). Здесь скопилось множество немцев, которые бежали в Польшу. Как только наш катер подошел к косе, один солдат прыгнул в воду. И сразу утонул: на спине висела тяжелая подставка для миномета. Тогда начали искать мель, а потом пошли в атаку. За тот бой меня наградили медалью "За боевые заслуги"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tserrat"/>
              </a:rPr>
              <a:t>Целый день сидел вверху и докладывал: "Взрыв в таком-то квадрате". Внизу - сплошной огонь и дым. Был для нас на складе и "сюрприз": огромные восьмикилограммовые банки с яблочным вареньем. Столько сладкого я в жизни не ел!"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tserrat"/>
              </a:rPr>
              <a:t>Борису Георгиевичу довелось воевать бок о бок и с американцами. Сопровождали транспортные суда. Вспоминает, когда начиналась бомбежка, при сигнале "боевая тревога" они тут же надевали спасательный пояс, и - за борт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tserrat"/>
              </a:rPr>
              <a:t>"Мы смеялись над ними. Спрашиваем: "Чего вы в воду прыгаете?" А они: "У нас кораблей много, главное - жизнь!". Наших же жизней в войну никто не считал. Не жалели людей. В такой мясорубке живым остаться </a:t>
            </a:r>
            <a:r>
              <a:rPr b="0" lang="ru-RU" sz="12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Montserrat"/>
              </a:rPr>
              <a:t> чудо"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4" name="Picture 4" descr="http://static1.repo.aif.ru/1/ad/369179/c/7269fad5c135d8b764c4f500c9a4026a.jpg"/>
          <p:cNvPicPr/>
          <p:nvPr/>
        </p:nvPicPr>
        <p:blipFill>
          <a:blip r:embed="rId1"/>
          <a:stretch/>
        </p:blipFill>
        <p:spPr>
          <a:xfrm>
            <a:off x="325440" y="1954080"/>
            <a:ext cx="2800440" cy="4048200"/>
          </a:xfrm>
          <a:prstGeom prst="rect">
            <a:avLst/>
          </a:prstGeom>
          <a:ln w="0">
            <a:noFill/>
          </a:ln>
        </p:spPr>
      </p:pic>
      <p:sp>
        <p:nvSpPr>
          <p:cNvPr id="585" name="Прямоугольник 6"/>
          <p:cNvSpPr/>
          <p:nvPr/>
        </p:nvSpPr>
        <p:spPr>
          <a:xfrm>
            <a:off x="219240" y="754200"/>
            <a:ext cx="2896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a2b5c"/>
                </a:solidFill>
                <a:uFillTx/>
                <a:latin typeface="Gill Sans MT"/>
                <a:hlinkClick r:id="rId2"/>
              </a:rPr>
              <a:t>https://klops.ru/news/.obschestvo/107444-nazad-v-45-yveterany-vspominayut-kak-shturmovali-kenigsber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Прямоугольник 7"/>
          <p:cNvSpPr/>
          <p:nvPr/>
        </p:nvSpPr>
        <p:spPr>
          <a:xfrm>
            <a:off x="219240" y="85680"/>
            <a:ext cx="2896920" cy="641520"/>
          </a:xfrm>
          <a:prstGeom prst="rect">
            <a:avLst/>
          </a:prstGeom>
          <a:noFill/>
          <a:ln w="9360">
            <a:solidFill>
              <a:srgbClr val="795f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5faf"/>
                </a:solidFill>
                <a:latin typeface="Gill Sans MT"/>
              </a:rPr>
              <a:t>Инфо из интернетресурсов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4:40:04Z</dcterms:created>
  <dc:creator>User</dc:creator>
  <dc:description/>
  <dc:language>en-US</dc:language>
  <cp:lastModifiedBy>Пивоварова Анжела Анатольевна</cp:lastModifiedBy>
  <dcterms:modified xsi:type="dcterms:W3CDTF">2019-04-22T16:33:33Z</dcterms:modified>
  <cp:revision>173</cp:revision>
  <dc:subject/>
  <dc:title>Технология темперной живопис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2</vt:r8>
  </property>
</Properties>
</file>