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57BF-D86E-49ED-A104-5F57808FB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523A-B234-4A7C-B166-8BD0E2A7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F0D09-BEF2-4A96-A46C-9A25D375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6B8B4-2447-4F2C-96A3-6E40F79D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03B34-E39D-4D82-970B-141DDBD4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E8BD1-4506-4519-A8F5-A0E0D7C3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5B64A-CFA0-42D6-AB64-34BAF008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96B07-8B4D-4811-83C4-0BC9AE3C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D5F2A-0868-487C-AFF6-1E387F5C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EC8B9-21BD-4D4F-9A97-4A556451C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31316-BC2A-40A8-AEE7-5963A90AC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472EB-C7DD-4402-9694-8FDD6274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4322-DBFC-4492-A38A-CEDB6D30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349A57-A60D-427C-AC45-007DF398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2C2AF-F51C-4340-BBFA-C8A1E557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FD139-7CD9-43FC-88DE-E42A26FE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F2AA59-381E-4583-B8EA-ADEBA0C9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F5D4E-14FB-4419-8228-8955CD6A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C7223-7D2C-4D6A-BAED-75B3CC70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29CA4-C19C-4179-854A-77472DC1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A53F7-9D69-4C99-A209-50DDCA37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3B9417-0CB1-4FAB-AD58-B41FC776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A85BF-CF85-4A65-9E98-FD0A689B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D098-73E9-4646-9B13-AC140176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24020-1715-4EBC-A37B-D48FE61F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3453F-890E-493A-9BE5-A90953F65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27B10-804C-4B1A-A520-6A08919F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7A5FF-B616-42CD-856A-09C91D65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6B486-9459-4186-A939-754909BE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D8FC7-6909-48BA-870B-C437FC40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242C9-7293-4C20-AFFB-19E7BD20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0A1F3-F832-487B-8BF0-B0717C01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D70AA-C10D-45B9-A161-7FFF56B7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2257C-9335-4EB5-81B7-D24D3900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1196-CA16-4E6C-AB03-35C89A71D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7F89F-7B2B-486F-A4CF-417D7CFC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5148F-CCF4-4899-AE8F-F3753BCEE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84458-3096-4D85-B38C-7BEF79C4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C3BB-0CC1-4EDE-9DC8-71EF48BD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1902-A934-45AD-B138-08B1DF97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DE56-04B1-4C59-A3D1-9CD0300B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C760-1E28-4DF8-B966-F19E64A5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33D9-2F27-40E3-BC8C-DB197756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EAA5-742C-442E-87D9-3C5F17BA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F7DD-B467-4261-8F61-CD27BD5B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EE19-3AF9-410C-AC5C-236B5C52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9E7C-9F5A-4F20-B00F-1AC50578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E434-E17E-4A64-BF2B-6A6506C9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1EF6-1910-488A-BF34-B6E1E99A1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9F2C-E26A-4AD9-A11A-ED5A69779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009F8-98C5-42FB-82C9-3321BF06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105CF-25EA-4219-8A62-EA517C6E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DCEA2-6D96-40B9-81D2-DF9C5986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598C7-C4AD-40D3-B15C-3D9EC457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46755-2D28-4B7E-86CD-1DCFEBC0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D35F-0827-405C-A959-0A6AE82F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E6DA8-7864-4B38-BEEF-370E14A8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CD7D3-B4EA-40B6-A797-A2CD1F2A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9C656-825F-40CB-90B6-897EF6A0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D93AC-157C-4F69-B6C7-2BD16904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C74FE-C563-4F87-9896-0B7B2EA2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13016-05CD-45BE-9234-816FDB38E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1C695-F123-4AB9-BF52-D20D64F61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C8470-5CB5-47E0-B1A3-383FE967F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DC666-350E-45A3-807D-A4D7D6B3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C48F7-0F09-49BA-8DB6-3EC995AA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CD41-A53A-44BD-8D73-92233BA8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43FC7-CFBF-4F29-96B0-03551A26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DF23D-F379-4758-A2AD-B5AD49A9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73FEF-CBE5-49AA-84A3-CC554463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7A923-47F8-454C-AB3D-3AA882FD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5129F-C27A-49D9-9CFB-77C144A1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A5830-3E43-4727-8452-5539EAEB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72167-E50A-4C06-A1DF-75B23D1D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9B91B-F995-47C6-A560-0FF80CDE9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7DEB6-4479-4C37-986E-8C01A842E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472E2-FBC4-4DC2-BF9A-20E1429C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431E-41C3-4FA7-B344-0CFB34C5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0413C-2D9F-4E2B-819F-33C73A16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92EA7-47A2-40B4-8FD2-257A3D61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CFB1F-23D5-41EA-A1C8-7FDC6346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FF687-788A-4E91-B4A2-9F26D5C0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35711-1CF0-4BED-B1C6-0DA63217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06EA3-D21C-40A9-B2FD-6077DB03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CB13B-DAAD-415B-99D8-421054FB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FEF13-F17C-4894-883B-87F27BD3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CB15F-273F-401E-87D2-AF2BA7CC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58DA1-3F9E-4604-938E-C758463B5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DCFE-C6AE-4615-8A74-AAAE397C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4935C-C16E-428C-9816-C70A9E1F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0C905-B984-41F1-8FDE-2206384A1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C4B10-FA45-4BF8-9905-A727DEDE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D88D4-8350-4E8B-B4EA-0E636CB2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0C956-0455-4B62-B366-57A6A063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D2FFD-9D5B-42CC-A9D8-23AFA631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F30FF-2082-4484-81EF-B5990354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E901F-070F-45ED-8A9A-FA75860A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6EC5E-13CE-4472-938F-CBC752AE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94FD7-29AA-4FCB-8CC2-3438F6D2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51FC-1A76-45FD-BC4A-394E4024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3BC5B-4D57-4AE0-B38B-E02F2E91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7321C-F053-4E52-8DCF-E3E3F3102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DFC7C-E9A3-4CDF-AC85-A3555889A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0A888-8D81-4F55-A15F-6E5520260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B2FF2-A1AE-44E5-BD84-8234D8B4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3BDEE-3C45-47CD-A4FC-2D9DD9AE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A63B7-2B02-423E-AC24-E2B66A13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1E3EB-17F0-4BA5-BA06-D80AE104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3A811-29FE-4627-9238-E8524D15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1DE47-9297-4817-8A13-3548B9FE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EA17-3710-474B-9612-8364AC3A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1924C-17EE-4B7A-A066-519234BC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AD68F-A30D-45C3-814E-DF855224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0D130-29CB-44A4-A3A3-9CD585F5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F6876-AF55-4630-AA56-8442F119C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851F7-C9CA-42AD-B509-EE7EC2341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AB275-88F2-42AD-8CFB-CDBC75A9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14E6E-E3A0-482F-9551-1669C3DD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E3910-9A28-45D9-A457-4A2A9FAC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10CB7-8979-4C21-81D2-B69D9DE7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FA90C-3119-4C93-A00B-C270998D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9286-BC97-4C02-98EE-A014B7E9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C48C3-1D32-4004-BF78-2887F991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388C1-5993-4645-8509-B009C7A6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D7A38-29BE-4F11-970F-B8733CF3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08697-D361-49B2-9C3D-940C354C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B2208-14E2-4617-B3C8-41788B92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8DD24-E510-4CD8-AF6A-72F294F6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355D2-29D9-45AD-BC06-7D7907041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B9AF6-15EE-44B0-BB1C-9F3375F85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62554-E0A6-4C9D-B8B2-F437505D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9395F-280B-48B4-BC53-7723481C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9FAE-66A7-477F-8265-BCAE4F1AEF8F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C5E9-A7AB-497D-8AD0-869E21AD45AA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6B0E-FFC5-4CEF-9975-430E5C1A9F14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50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3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544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76B8-2CBF-48C2-BB8A-1C476A34FFEC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C42B-2DBD-4648-87E3-A310A9C50E6C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1A86-9308-4751-B70C-F65B89C89512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E0C8-F16F-42A4-BFC1-DC123758929E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A5DE-9D40-460A-BF1F-5189CBB2F1AD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05ED-5134-4145-8AFF-2D55C2E34E94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2D8C-9C60-49A4-8D78-9BA816C279D9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FB2C-E092-4142-92B8-4A3ECB507606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s://klops.ru/news/.obschestvo/107444-nazad-v-45-yveterany-vspominayut-kak-shturmovali-kenigsberg" TargetMode="External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3"/>
          <p:cNvSpPr/>
          <p:nvPr/>
        </p:nvSpPr>
        <p:spPr>
          <a:xfrm>
            <a:off x="3281400" y="245520"/>
            <a:ext cx="5443560" cy="600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080" bIns="50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419d7"/>
                </a:solidFill>
                <a:latin typeface="Montserrat"/>
              </a:rPr>
              <a:t>Сюрприз от немцев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tserrat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Montserrat"/>
              </a:rPr>
              <a:t>Вспоминает Борис Георгиевич Петров, матрос-краснофлотец, радист: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Montserrat"/>
              </a:rPr>
              <a:t>В Кенигсберг мы вошли на спецмашине. Я поддерживал связь между 11-й армией и флотом. Нужно было забраться на высотное здание. Мы выбрали элеватор. Он был заминирован и мог взорваться в любой момент, но разве молодых это остановит? Когда наши войска готовились брать Кенигсберг, создали Юго-Западный морской оборонительный район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tserrat"/>
              </a:rPr>
              <a:t>На эту базу я попал радистом. Помню, на катерах мы подошли к косе Фрише Нерунг (сейчас - Балтийская коса). Здесь скопилось множество немцев, которые бежали в Польшу. Как только наш катер подошел к косе, один солдат прыгнул в воду. И сразу утонул: на спине висела тяжелая подставка для миномета. Тогда начали искать мель, а потом пошли в атаку. За тот бой меня наградили медалью "За боевые заслуги"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tserrat"/>
              </a:rPr>
              <a:t>Целый день сидел вверху и докладывал: "Взрыв в таком-то квадрате". Внизу - сплошной огонь и дым. Был для нас на складе и "сюрприз": огромные восьмикилограммовые банки с яблочным вареньем. Столько сладкого я в жизни не ел!"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tserrat"/>
              </a:rPr>
              <a:t>Борису Георгиевичу довелось воевать бок о бок и с американцами. Сопровождали транспортные суда. Вспоминает, когда начиналась бомбежка, при сигнале "боевая тревога" они тут же надевали спасательный пояс, и - за борт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tserrat"/>
              </a:rPr>
              <a:t>"Мы смеялись над ними. Спрашиваем: "Чего вы в воду прыгаете?" А они: "У нас кораблей много, главное - жизнь!". Наших же жизней в войну никто не считал. Не жалели людей. В такой мясорубке живым остаться </a:t>
            </a:r>
            <a:r>
              <a:rPr b="0" lang="ru-RU" sz="1200" spc="-1" strike="noStrike">
                <a:solidFill>
                  <a:srgbClr val="000000"/>
                </a:solidFill>
                <a:latin typeface="Gill Sans MT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Montserrat"/>
              </a:rPr>
              <a:t> чудо"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84" name="Picture 4" descr="http://static1.repo.aif.ru/1/ad/369179/c/7269fad5c135d8b764c4f500c9a4026a.jpg"/>
          <p:cNvPicPr/>
          <p:nvPr/>
        </p:nvPicPr>
        <p:blipFill>
          <a:blip r:embed="rId1"/>
          <a:stretch/>
        </p:blipFill>
        <p:spPr>
          <a:xfrm>
            <a:off x="325440" y="1954080"/>
            <a:ext cx="2800440" cy="4048200"/>
          </a:xfrm>
          <a:prstGeom prst="rect">
            <a:avLst/>
          </a:prstGeom>
          <a:ln w="0">
            <a:noFill/>
          </a:ln>
        </p:spPr>
      </p:pic>
      <p:sp>
        <p:nvSpPr>
          <p:cNvPr id="585" name="Прямоугольник 6"/>
          <p:cNvSpPr/>
          <p:nvPr/>
        </p:nvSpPr>
        <p:spPr>
          <a:xfrm>
            <a:off x="219240" y="754200"/>
            <a:ext cx="2896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a2b5c"/>
                </a:solidFill>
                <a:uFillTx/>
                <a:latin typeface="Gill Sans MT"/>
                <a:hlinkClick r:id="rId2"/>
              </a:rPr>
              <a:t>https://klops.ru/news/.obschestvo/107444-nazad-v-45-yveterany-vspominayut-kak-shturmovali-kenigsberg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Прямоугольник 7"/>
          <p:cNvSpPr/>
          <p:nvPr/>
        </p:nvSpPr>
        <p:spPr>
          <a:xfrm>
            <a:off x="219240" y="85680"/>
            <a:ext cx="2896920" cy="641520"/>
          </a:xfrm>
          <a:prstGeom prst="rect">
            <a:avLst/>
          </a:prstGeom>
          <a:noFill/>
          <a:ln w="9360">
            <a:solidFill>
              <a:srgbClr val="795f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5faf"/>
                </a:solidFill>
                <a:latin typeface="Gill Sans MT"/>
              </a:rPr>
              <a:t>Инфо из интернетресурсов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4:40:04Z</dcterms:created>
  <dc:creator>User</dc:creator>
  <dc:description/>
  <dc:language>en-US</dc:language>
  <cp:lastModifiedBy>Пивоварова Анжела Анатольевна</cp:lastModifiedBy>
  <dcterms:modified xsi:type="dcterms:W3CDTF">2019-04-22T16:33:33Z</dcterms:modified>
  <cp:revision>173</cp:revision>
  <dc:subject/>
  <dc:title>Технология темперной живопис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12</vt:r8>
  </property>
</Properties>
</file>