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9D1-B550-4F01-B362-49985E7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872-4128-4264-AF4D-436F7CF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80ACD-7EA0-415A-A63D-501830CD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F3269-06BA-409F-BB6E-7B4006C2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795E-559C-4F2E-8E9B-0588176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EB9D-61DA-4950-AD2A-89078A9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F0D62-5B72-476F-AB2D-50F9465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8AEEB-4486-46CE-9188-C52F04B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B762-6F5B-41CD-BA3F-19BBDA0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E67C-2AE5-4E4D-904E-AE83D990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522F2-550E-4201-96B1-EB9F98B6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F597F-FA7C-41FA-8032-BB57B8FE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7D1-6A77-4061-8D96-45B5D0B4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1C8E2-4386-4534-8223-8C1D528C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1337E-5A64-4ECD-B462-37B0696B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3D52-61BA-4ABD-8C48-AD9FE3F0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E2E0-1795-459E-A601-A8B1117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B6ADC-3EED-4D7A-ACD6-DB098F1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A4416-EEF1-4027-92D4-D148320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C1491-EA02-4000-ADCA-71E6035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D082A-14AB-41BC-9FB1-7037BFF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0C3A7-D3FF-4BF4-ADBE-A1D686F9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D2E06-839B-48F7-999D-A9CB473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7D9-BEA3-4C83-B239-5976CEAC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B1957-401A-4FB0-A8C9-09634D18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B5424-CFE4-443D-BCBB-59CD84D3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BDDC5-45B5-4BE7-BDBA-E5AADF5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A3F9D-AC8B-47C4-AA3E-F87A563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5D34-1859-464B-B968-F0C1B04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720BD-09A7-4094-8859-3B302443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E6AA-2189-48F7-92AB-6850CF3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73CDF-DDD4-4A29-BDEB-3FA55E6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88F46-72F2-415D-94F3-C306F91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750FF-6C7A-4F72-9AA0-F4E3C4B4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D79-B7FE-4BD2-BC8A-C7E59C7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90AE6-1417-48BA-AD9D-52126650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20B7-D59B-46F2-9D1A-51091C15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7240-EA17-4D4B-BEDD-CE4F91DB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894-14DF-4208-924E-73E0BAC5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FC10-3D93-4E47-A728-50BB4050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E3E-A90F-48DD-B989-58568F1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789-C89E-4361-AA1A-039225AF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17A-5536-4EF8-B14E-9E60E35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883-C276-477A-BD12-F758239A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407-A032-42F4-9B9A-B7F86813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5EC-9B17-479E-9F84-59982C2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4864-DF8D-4D35-B2DD-B162B8F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EEBD-F71E-4813-A54B-6728DAE3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7EF-5882-451E-A91C-6F73D363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F0D2-66AA-4B6E-B548-076A98C9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ED1F-118E-4BC1-9B0C-874562FA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7FFC-1028-4E1C-BB3A-D23BDC8E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C6A4-8927-42D6-B0D4-03005A3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510B-5361-4533-9212-DFA70B31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BD65-3BE0-4BB4-8417-FDC0E01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DCF-EAD9-4431-948A-69BFA1D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FBD4-7FB4-4102-8310-C875820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8FA5-F439-412D-BD00-A697145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B2E9-1E5D-4267-9454-BB27BE3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F33E-C6DE-4EE9-9B47-49AE0EE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7C57-AC28-479B-B423-3E28DC0B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48E1-4542-4024-B87D-64A8AE95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E886-D70A-42B0-90E7-B86091B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7FA4-DAA1-4120-9704-4A66B0B8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4828-2CF8-4BD2-9121-825D09C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CCCA-2119-45FF-A13D-72980932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F01-2A3A-4428-9E5F-DA4E58FE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B8CC-6B66-4873-B0B8-5206C00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935E-0B0C-4064-8F8D-DE36435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686D-A1C1-426A-88A6-BC7FBB4E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5E56-8100-4F93-B5E3-835FB1E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7995-64F9-49AC-AE6D-C3DBD32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09EB-C762-4EC0-811C-E8E9E84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B460-C351-471E-82C6-96B416FC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FA8F-711E-4801-A32C-D97F92F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30E6-C47D-4433-B186-43307C48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94A0-7BF3-4C96-A84B-7230C0B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D8E-B39A-40C1-8415-EF39632F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82C45-CD66-4994-B94D-292BAFF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1A69-0D39-45C1-BC30-03AFCAB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905C-EF7F-42B6-8838-A9B24F4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34BA-BCC8-4DED-8641-7A3F47E3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1BAF-D69B-4281-9365-3F0B784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D755-5D9D-4F41-96BA-6089701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551F-C8B2-476B-97AC-96179A0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3DBB-DBC8-4069-B9BF-6E3A341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A381-C5AC-4780-A23D-02A019D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421C-54F5-44C5-B5DE-4AED3C9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6AE-6567-4317-8252-3255698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0D7B-77A1-4CED-83D6-A33B4E78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FCF2-4C04-475A-8F43-3C7F0A8A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DB82-9BD9-4EE6-9991-7B4099D5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B1A4-0880-48D8-926A-A8ECF8C7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A1697-FC2F-4151-B6C4-3CAFC95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A1EF-3B5E-40F5-A6F6-12720456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59C3-1E1B-4E5B-A1A6-C759CDDE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27CE0-4CCA-472A-9DC3-47D898C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2C09-2074-4B32-921A-4A20DDE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F2C03-9C66-4223-971D-147046C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FF0-62BA-47AD-BA55-589551F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DA21-E499-4CFD-A7F0-E1B01C5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F1632-D7D0-4B85-810F-496D5979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6029-79EA-4864-BEDA-C89B47CF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2D11A-E88A-4748-8BBF-AAAB32A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3F62-9013-4CE8-A317-153CF18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1C9D-1885-4B17-9BCA-888FEB6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91860-A999-494C-97C1-ADF0F2B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66E04-E341-44B1-BE49-0F1BCD80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76E7-48F3-4267-A678-BB08029B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DCEE-38A2-453E-B411-FDB0878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C77-9494-45FB-A1D0-29CA3EC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C615-F5F0-4969-A020-B05D6FC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E4C17-228F-4D1B-BDD3-722B290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FCC05-EAEE-44F2-8ECD-C7D1266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CF7A-F69B-4E04-8CC9-DF8E8E78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1842-AF96-4670-8887-90BC3F78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C765-F52A-4A91-AAA5-E7F3B04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D0A4-64C5-4213-9B19-0B1750E9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EA52-080A-489F-BCD9-D672872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2CD23-1C3D-4715-A432-8C2FC7F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BAD5-DD33-4F1A-B5A8-6F978B22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AC0-DB0A-46E6-9618-C2F34BD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E23EE-EBC4-46E1-81EB-A5D778B6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714C-BE3D-4946-AAE3-3844B50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48E1-1930-4AFC-846E-AC413EC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60E1-FF37-4CEA-A75B-5A6615E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48BB-36EB-4A31-A8D5-078C6ED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575B7-FD4F-4A3A-BDAA-44B5A49C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3AD28-0BA3-4186-BF74-9AB23723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1A3EA-B8C0-46A6-9E2D-9378735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A5D42-8559-4C20-9D09-D55C682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0C15-1FDD-46D0-B4FA-6E36E03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6F3D-7535-46D5-AF5F-C95B103C6334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22D2-49FB-49CB-81C9-8A4DE0EA369B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98B3-F8D1-4BC6-87C5-FBA702B316A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77B-C2AD-45E0-83DF-3B83666B7911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1786-D412-4684-B470-6D4472118DC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5DF-8206-4B48-85EB-1E8D6A6C340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FD9A-CB0D-4D4B-9E40-944603F4F870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E6E7-3742-4479-AC8B-389EF259527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2E5-6709-46AE-9FBE-09293D54812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2D3B-0AF6-457C-B180-3B975A9CEA8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5CA-D7C3-413F-AEF1-8D7E98740CD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7" descr=""/>
          <p:cNvPicPr/>
          <p:nvPr/>
        </p:nvPicPr>
        <p:blipFill>
          <a:blip r:embed="rId1"/>
          <a:srcRect l="0" t="20472" r="15109" b="0"/>
          <a:stretch/>
        </p:blipFill>
        <p:spPr>
          <a:xfrm>
            <a:off x="115920" y="565200"/>
            <a:ext cx="2495520" cy="141912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4" descr=""/>
          <p:cNvPicPr/>
          <p:nvPr/>
        </p:nvPicPr>
        <p:blipFill>
          <a:blip r:embed="rId2"/>
          <a:srcRect l="-158" t="4812" r="1152" b="17654"/>
          <a:stretch/>
        </p:blipFill>
        <p:spPr>
          <a:xfrm>
            <a:off x="650880" y="3543480"/>
            <a:ext cx="2941560" cy="167940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8"/>
          <p:cNvSpPr/>
          <p:nvPr/>
        </p:nvSpPr>
        <p:spPr>
          <a:xfrm>
            <a:off x="217440" y="2417760"/>
            <a:ext cx="2156040" cy="30312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ий флот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Рисунок 9" descr=""/>
          <p:cNvPicPr/>
          <p:nvPr/>
        </p:nvPicPr>
        <p:blipFill>
          <a:blip r:embed="rId3"/>
          <a:srcRect l="0" t="0" r="50016" b="85"/>
          <a:stretch/>
        </p:blipFill>
        <p:spPr>
          <a:xfrm>
            <a:off x="5000760" y="2871720"/>
            <a:ext cx="1122120" cy="168588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10"/>
          <p:cNvSpPr/>
          <p:nvPr/>
        </p:nvSpPr>
        <p:spPr>
          <a:xfrm>
            <a:off x="4548240" y="4813200"/>
            <a:ext cx="4262400" cy="49860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упление в комитете Ветеранов войны и военной службы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Прямоугольник 1"/>
          <p:cNvSpPr/>
          <p:nvPr/>
        </p:nvSpPr>
        <p:spPr>
          <a:xfrm>
            <a:off x="6359400" y="1292400"/>
            <a:ext cx="2521080" cy="2252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ле войны он служил на Балтийском флоте (обучал матросов). А после того, как ушёл в отставку долго работал в комитете ветеранов войны и военной службы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8" name="Рисунок 6" descr=""/>
          <p:cNvPicPr/>
          <p:nvPr/>
        </p:nvPicPr>
        <p:blipFill>
          <a:blip r:embed="rId4"/>
          <a:srcRect l="16268" t="5492" r="6595" b="6543"/>
          <a:stretch/>
        </p:blipFill>
        <p:spPr>
          <a:xfrm>
            <a:off x="4624560" y="270000"/>
            <a:ext cx="12110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6:17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