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333-E93C-4FCE-B6B1-8F4D7049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CF8-7CA2-4F29-9AE9-A34F0B41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219F0-627E-4F0A-9F5F-D3494E3F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98915-BF57-4142-8FE4-198CB71B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AC307-C2DA-4F05-B503-108824D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6A160-E74A-4267-9D80-3D63762E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F390D-125C-4EA7-93F1-A9B96AC3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7F2AF-9826-4893-9923-30E08DB4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A4BD3-1BFD-4A59-8C51-3A3A5C75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49274-34D1-450E-862F-F54CBD41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DFDC3-49EE-449B-A242-A16ADFF9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3ACE9-6F63-40CA-834E-8F60143C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8FF-0ED4-4CDF-9A22-F7588656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8DC02-E2DE-415C-BE70-BBDD92B5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52ADE-1D80-4D92-B5D5-EBC1DB28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07DBA-78D9-4903-B9F5-C95C0397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9E080-B67F-4688-A69F-E82C5B4F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B2FB2-D2B0-4891-ADAE-C0F363EB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A7026-EE02-43C0-972F-A8999E93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5C8CB-4457-4641-8EEF-86BC600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3EF93-9CB5-4C60-9E17-396586A8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1F8DC-0B6D-4102-B8AB-7B358128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EB71B-AE1A-4432-937E-1F34D60A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92A-255E-4F89-B24B-FBCC685E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9381D-8E9C-4960-9566-ADEF31D2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1443E-EDC1-4F08-BEC3-96E8DE7C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16B80-13A8-4270-93F0-1EF9D055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6FB52-DF44-41E7-BDD9-9466D87D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60D31-49FB-4A35-A765-D467A326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FB7EE-9E14-47FC-BF32-0452403F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A096A-F5EC-4282-8C5B-4DA74071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FE604-B5D2-47D1-9B57-13569133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92C5B-1DDD-451F-AD51-531E9522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E8C9F-82E9-4E61-AE5C-38162EEC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2FFF-929E-4D8E-8FCD-921C25D6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AB6CD-FF9E-42FF-8CD0-76628720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001E7-06D0-4690-B0F3-C57A5F99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49CE8-DC60-4930-B08F-6EB3EBCD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2003-651F-4F6A-92BF-62FEC8C5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967F-B347-41A2-BB86-FB9C9646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C0A5-2954-444E-ADE7-245E45F9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1CC5-995B-411C-96F8-43AEF52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A179-FF56-4D25-85B7-C8B0121E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969E-D184-4091-AD5A-12427670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41D-9153-4B64-A602-ECD34F94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4B5C-4142-4C6F-8B5A-6CAA386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FB00-05DE-4E65-A8D9-75D12B47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28F6-CD7C-47A0-BAC0-890770EC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B655-F186-4A0A-A4E7-665C3A1C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B094-D98A-4FD7-863E-E0605CCF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A5F3-1C84-461E-A0DD-7ACB9394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DA0C2-FCFE-4E15-AD85-9C0E9149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1AE70-EE88-47F4-9394-C7BA0788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E54F-62EA-420B-AAC6-0D227DCD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8813F-66C2-410C-A3CC-B2A1B7EF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B2CC-ACE5-4AE2-808B-ADCBB7BF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11A94-C6F3-4E35-AA44-85F81BF2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471F7-18DD-41FD-9FC4-0AA99BD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CA1C-8CEB-4F60-A16B-DB865EB6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7FB4-BDFD-4B23-BA67-46E62D6D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77C9-38F0-47CB-9969-49BA88B3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8760-8C00-45A3-A3BB-7B35B22A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5D12D-1A18-4F39-831A-2550DC9A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13AFF-98C4-49CA-9BD5-923A81FF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E6586-C9AB-4FC5-B337-1501162F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F806-45B4-4763-AB27-B91DB10D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479-37AA-476B-8859-608920A4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FA4EF-C32F-4D37-8FB5-7BA5D0EF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9B379-2453-4939-BADC-391525E6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CBA81-DE11-47BD-94C1-90E412EB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D9A6-4378-4B65-8BDD-3F85A16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274F-C976-433A-A715-499CC3E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B762-3CD9-4DAD-837F-E4A024CC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E5B4-D71F-46D6-B749-FB4BD7FA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EACD-CFE0-40C9-B3BC-3BDF7E4E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7B35-4620-4ADF-A94D-970ABF4C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A34A9-594B-4D7A-88EA-8D0682E1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137-38DC-474E-9418-0EF65FCD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A724-F30E-4A7E-8374-A3797090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995E3-2BDF-4D01-90CE-C66B48CF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6D08F-8C23-4140-911E-0AAB2A79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22FBE-C27C-4B98-B9FD-8E104493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BF8A-D371-47A7-A1B7-2D0870AE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6B7B0-2FB1-45A8-BC99-482DFAA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8DA33-03EB-4C7A-8F1C-F003D634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A5416-3FD9-4319-8B34-ED2C9D18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3BBB-AE85-4E80-A88B-90DE6941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BFD64-16B0-40D4-8BE7-7AA85B20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040-4193-40C9-9321-1B81BDDA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BC829-A6CB-4042-9E94-7C636B41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9E760-19B4-431D-879D-DE6E918F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36483-3458-47D1-97D5-2568C7AA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7AE59-09C0-40E6-A0A2-1B3FBF04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350F7-C2ED-42FE-AEF1-81FE8CB7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64519-308A-44EB-9C69-8A0FA298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74A84-8856-489D-988E-E681A6DB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A96DF-C55D-40C5-913E-35099816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98CBF-C2E8-449D-BC8F-2FB8672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3518F-4383-48EB-B7C4-B0ABD726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242-545A-408B-8EDB-72679375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FB38F-5C36-4C2F-83BA-F1630196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D2C6-94B3-4E78-B221-F6F68B5F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367A2-B675-46EC-93C7-67B05F92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C3371-AA24-4399-9686-249EE0E6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3AFA0-6946-4D99-8CC2-A5A5CC43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307A8-A828-4400-AC68-7EFD2895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E1100-14EC-4F91-96BE-DEC80E37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12652-D378-47E4-A029-8A0E0E04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C2BD5-4BC6-4D98-8792-C1D9A423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8B77C-8B4E-4D55-9730-A612DA6E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BE2-CDF4-4518-8A63-3A39D4C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ACF02-5220-42DC-AA6F-7BF6394B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06BB8-BE88-4EFF-A554-8EBFCB1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9B27-6CAB-426D-A1E3-D3FC09B7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4E021-62B0-40C0-8AEC-EB64EB73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4294F-B38A-4DFD-BF28-61F34D23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95DC5-67BA-4E13-B545-6FA8FF16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FF756-7932-416B-9A1A-A2DB1A9E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7ECE1-6308-4C63-925C-296CAFD0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DB40F-5AF5-49F1-8D31-80A9D06F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2176-C062-40B0-9510-F491F6BB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C73-4DFC-4E3E-9902-C0498283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2ACB9-1053-4634-835E-D7CB8991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8D46F-4298-47AB-B791-723E6D10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A31EC-E931-49D1-BBCB-4FE7248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9E731-E3EF-4453-9FDE-D20B1559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5DE51-00BD-4803-948C-D86C359B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598CC-B04E-4FD5-94DC-E3A13036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75EA0-DB64-4AA1-A510-9A9D8F50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8A462-548A-4A1A-95E3-D8422198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0D69F-E20C-45D0-B7FE-28CE5396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4A32D-5484-4895-BE0F-A4CBDFBC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CFEE-611F-45A8-B13B-A2E7D942CBDE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92FC-3408-4FDD-9851-6617FD7DB853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A5F9-EF6B-4D14-98B9-AA98629323E9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6589-2D2B-4A32-8F57-02BC133BC7E6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DBF9-1601-4A82-BC89-B90A2D8A3B5D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57BF-538C-4CD8-A08D-312F1483E7AD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ED7C-6F86-42A4-9E46-2618AE36FE03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8665-BD3D-4100-80F4-28E2FE683853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9B28-20EB-4FCD-AEEE-37729F2A0995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ACF0-F571-4D06-8334-6C14173292A1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8D5C-8240-48D6-A09F-3254D6CD2DC8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Рисунок 7" descr=""/>
          <p:cNvPicPr/>
          <p:nvPr/>
        </p:nvPicPr>
        <p:blipFill>
          <a:blip r:embed="rId1"/>
          <a:srcRect l="0" t="20472" r="15109" b="0"/>
          <a:stretch/>
        </p:blipFill>
        <p:spPr>
          <a:xfrm>
            <a:off x="115920" y="565200"/>
            <a:ext cx="2495520" cy="1419120"/>
          </a:xfrm>
          <a:prstGeom prst="rect">
            <a:avLst/>
          </a:prstGeom>
          <a:ln w="0">
            <a:noFill/>
          </a:ln>
        </p:spPr>
      </p:pic>
      <p:pic>
        <p:nvPicPr>
          <p:cNvPr id="543" name="Рисунок 4" descr=""/>
          <p:cNvPicPr/>
          <p:nvPr/>
        </p:nvPicPr>
        <p:blipFill>
          <a:blip r:embed="rId2"/>
          <a:srcRect l="-158" t="4812" r="1152" b="17654"/>
          <a:stretch/>
        </p:blipFill>
        <p:spPr>
          <a:xfrm>
            <a:off x="650880" y="3543480"/>
            <a:ext cx="2941560" cy="167940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8"/>
          <p:cNvSpPr/>
          <p:nvPr/>
        </p:nvSpPr>
        <p:spPr>
          <a:xfrm>
            <a:off x="217440" y="2417760"/>
            <a:ext cx="2156040" cy="303120"/>
          </a:xfrm>
          <a:prstGeom prst="rect">
            <a:avLst/>
          </a:prstGeom>
          <a:gradFill rotWithShape="0">
            <a:gsLst>
              <a:gs pos="0">
                <a:srgbClr val="d6d9e5"/>
              </a:gs>
              <a:gs pos="100000">
                <a:srgbClr val="929dc0">
                  <a:alpha val="92156"/>
                </a:srgbClr>
              </a:gs>
            </a:gsLst>
            <a:lin ang="5400000"/>
          </a:gradFill>
          <a:ln w="9360">
            <a:solidFill>
              <a:srgbClr val="586e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тийский флот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5" name="Рисунок 9" descr=""/>
          <p:cNvPicPr/>
          <p:nvPr/>
        </p:nvPicPr>
        <p:blipFill>
          <a:blip r:embed="rId3"/>
          <a:srcRect l="0" t="0" r="50016" b="85"/>
          <a:stretch/>
        </p:blipFill>
        <p:spPr>
          <a:xfrm>
            <a:off x="5000760" y="2871720"/>
            <a:ext cx="1122120" cy="168588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10"/>
          <p:cNvSpPr/>
          <p:nvPr/>
        </p:nvSpPr>
        <p:spPr>
          <a:xfrm>
            <a:off x="4548240" y="4813200"/>
            <a:ext cx="4262400" cy="498600"/>
          </a:xfrm>
          <a:prstGeom prst="rect">
            <a:avLst/>
          </a:prstGeom>
          <a:gradFill rotWithShape="0">
            <a:gsLst>
              <a:gs pos="0">
                <a:srgbClr val="d6d9e5"/>
              </a:gs>
              <a:gs pos="100000">
                <a:srgbClr val="929dc0">
                  <a:alpha val="92156"/>
                </a:srgbClr>
              </a:gs>
            </a:gsLst>
            <a:lin ang="5400000"/>
          </a:gradFill>
          <a:ln w="9360">
            <a:solidFill>
              <a:srgbClr val="586e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тупление в комитете Ветеранов войны и военной службы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Прямоугольник 1"/>
          <p:cNvSpPr/>
          <p:nvPr/>
        </p:nvSpPr>
        <p:spPr>
          <a:xfrm>
            <a:off x="6359400" y="1292400"/>
            <a:ext cx="2521080" cy="2252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сле войны он служил на Балтийском флоте (обучал матросов). А после того, как ушёл в отставку долго работал в комитете ветеранов войны и военной службы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8" name="Рисунок 6" descr=""/>
          <p:cNvPicPr/>
          <p:nvPr/>
        </p:nvPicPr>
        <p:blipFill>
          <a:blip r:embed="rId4"/>
          <a:srcRect l="16268" t="5492" r="6595" b="6543"/>
          <a:stretch/>
        </p:blipFill>
        <p:spPr>
          <a:xfrm>
            <a:off x="4624560" y="270000"/>
            <a:ext cx="12110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04Z</dcterms:created>
  <dc:creator>User</dc:creator>
  <dc:description/>
  <dc:language>en-US</dc:language>
  <cp:lastModifiedBy>Пивоварова Анжела Анатольевна</cp:lastModifiedBy>
  <dcterms:modified xsi:type="dcterms:W3CDTF">2019-04-22T16:36:17Z</dcterms:modified>
  <cp:revision>176</cp:revision>
  <dc:subject/>
  <dc:title>Технология темперной живопи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2</vt:r8>
  </property>
</Properties>
</file>