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4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5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36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6E8C-49C0-4163-A019-3A60951780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D91-1669-4C40-8BC3-48749391A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791-DB86-4B8F-B235-24E04523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E1F-6288-49C6-9342-52B39816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9B21F-05A9-48E2-852A-D0BEFBA6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F03DD-DDD4-4235-871A-1B466DC6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C14EC-4A1F-4746-A981-CF4EBCF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B4981-ACB1-4E97-B610-F7529D63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DF971-6816-40DF-85EF-E41FCAA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214D9-1173-48BE-9DEE-0CC78D0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7FDE5-97E6-4583-9D37-BB61837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FDC0F-1B55-4F4A-933F-E743DB5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E34A-CBDF-4E65-B7D4-185B58B3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100E3-C746-45F5-992C-6DCF01C6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5B8-E4D8-45D9-81C6-38DCDCAB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85CF9-C1C2-4396-AAEA-4B004A74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4F819-C812-41A2-8846-293BE285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E6902-5DC9-4430-9D0B-75F22509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B84FB-B260-471F-A96D-A7F0F937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B119F-BB97-4A8F-967E-225440A5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4911A-AB8C-4BA5-88DE-97955F6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9862D-0474-41DD-B624-55262212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AA44C-AB96-4908-B64A-0727BCB3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F8F44-FDF3-41A2-A808-AE66E2D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2E541-6FD4-44DD-AE28-12C990AD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EAE-3291-46E6-9395-B46702B8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20114-688B-4374-8F59-493A92C3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040B7-9342-46FB-92E9-571B636F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D03D4-5CCE-44AF-B1EA-C53D7844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E6F3A-3D0C-4F0B-BF0D-7DED295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B4F93-0841-465D-B508-E874BF3A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589F-C2EB-46E5-A65D-B6670D5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0938D-E9D0-49FC-996C-828B3D4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F8A03-1937-4801-8448-6B72C462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DF61-8ADD-46F5-8DBD-6FD91C6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7FBF8-45A4-4821-A953-2D5688A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AAFB-B523-4C55-B69E-ECC7C353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681CD-E5A9-4875-90FC-AC737E5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BE232-B643-48EC-AB2A-1C9E36AC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7163-369A-4F14-BCF7-B4CEA56A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F0F-F226-4833-952F-191F6F8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3697-A70E-43EE-A6F0-7947FEDE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D88-AFB8-4B0A-A656-607B2D7C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DCB2-36B7-4345-B185-86DCD056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FE30-DAF6-4724-B4D4-3AC00027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3D4-7DE0-4F15-A5B1-9FC4E63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6BD-FD1B-434A-864C-D1FD3A30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AA7-E38C-42A6-A1EF-02D7EAB0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FC23-6210-40D2-9A37-8D24C90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B13-B188-4556-B462-D484BB35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9ED-FE78-410A-A101-C90E0E73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6D51-E199-4498-8870-E3936F01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B5D2-7844-4EA2-B891-4094E830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FBEF-5AE0-4C85-B3AE-7788CDA5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7C04-DED6-4D93-8A4D-220C5746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B903-76CF-4380-B8FB-3005C82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25D0-E5F9-477A-B6BE-D15E79A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121-7AAD-410A-9110-D7727F4D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C955-0514-4418-8AD2-15679EC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CE81-4CDA-47B4-9035-442BF87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A058-45A8-4243-8027-26993B5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126D-1EC6-4F5D-927E-AA01CB7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5D99-540B-4393-A896-F206FE2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BF2D-430B-492D-94FD-975869DF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9D64-2B1F-4E4B-9F17-E2F0E536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6942-5355-44CA-BC8B-98F85E79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3690-A495-41E4-94BD-A4BB86E8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6F7E-D9E8-4497-BCC1-3AEF4434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F92-F08F-42C5-AE70-2173F30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7E52-210F-4ADA-8484-CA3C6A6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5CDB-EEBB-4C46-8218-E5D8978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13AF-DAE7-483D-86A5-04F20D5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AE89-60AF-419E-8C37-01FCF0D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9638C-28A4-47A3-B398-41F2C4E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4EE8-3EED-410E-9D1A-243D8E1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4231-2F3A-42FC-A19C-4C5B9A3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3931-4942-4611-998F-55F2A4E7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2851-8501-4EFF-B093-8D4FA4E3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84BC-1553-490B-8F5D-81BF4E5E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951-FC90-42CA-83DA-B385BEA7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6B38-6A17-4915-84A7-D9448C4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7CFA-282A-48E6-AD64-10AF928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AB195-11D1-47F2-815E-3C7BBBCC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FC9C-0DEE-47EA-B3FA-7C06719C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1FD4-A27D-4CF3-AC11-D4D05EC9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5B50-840E-44F8-A238-58929E2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75B3-90B1-4504-95CC-EB2ACFC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DECA-659E-47AF-8FB5-FB9CB6F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D1ED6-3216-4739-A96A-F1E4B720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2F5D-A5A8-463C-897F-EE9F392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C0B-FDE8-40EC-8DE0-9D1D4B20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09DCD-33BF-4251-8143-9CD9FAE9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33F6-C234-447F-9B0A-DE59EF2C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0E5A-37F2-4924-88BF-99FB85ED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108C8-9E48-400D-9566-9D6ADB5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9E10-D3E8-4C8E-8FC7-EE73A097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E6CA6-EE49-44B1-A5D0-F94F3189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6FDB9-1F69-4089-9D79-8FB3E805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ADF4-24C8-4AF5-8D68-0B5246B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11B0-A8F5-4FC2-9AB7-C5BADC7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5660-AB4B-4591-AAD2-DFDC4BA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B4-6CD0-4923-A03B-35E9DFB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FA1A-AAF7-4B65-80A3-863AEC2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538E-66BF-4C7B-A134-C3DAD214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C5F7-6105-43CB-B0E6-9E15563D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B744-FA2C-4FC5-A17E-332FF11E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45B8-4130-456B-84FD-92E48440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7DFA0-8F15-4CCC-9576-A1E0916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858DB-5AEF-4154-B76C-695045FA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B75B-FA62-4424-9957-ADBB5B4E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6D06-F571-4ADA-B9AF-A95E6D5C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51CE-5DE1-45F8-A7C6-224C6A9B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D43-B890-4B76-AF35-FF2E3E96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05EF-E569-4A65-9B70-1340BD10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A64E-F260-4AE7-B9B1-9C9BFE0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F217-7920-4C77-9A99-5767907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73BA-611A-4EDF-9C38-6641E6EA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2B019-A5BF-4532-BF91-0A31EE62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B3AC1-FA5A-432D-B547-09FC5521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C975E-46B5-4382-B907-A5B4ACB1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3D384-5B04-4FE7-B193-38A420C0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1D39-6D4F-4D99-B2A7-6D8E189C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93E70-F61A-48D9-8EE4-D1B1B78C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C71-40DC-473E-BCC1-3DF5783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3377A-4245-4256-B11B-B29794BF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DC92F-9139-48AA-996B-A7DB3DF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6C640-F5F0-46EC-9330-326DBBC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B434D-884B-4CE8-97F5-DF61CFC4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4BAC3-0B0F-497F-8DEF-CB648C4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0A235-77C7-4238-88A1-0773A5DD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DFAC6-4140-4E77-864C-70BD3FBA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87825-6935-4378-86B5-B95278BA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8215-3FF3-4190-8ADE-73DE0C0D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5B741-5621-4E01-8008-6553B69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B9C1-7217-4CBB-AE5C-041A4C789E72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AA1B-67A4-48B9-B87F-5EF0B5F32DA0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0FA8-5A87-4FFF-9E3E-837B5C0BE0E8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61E-9945-4DE9-82BE-98245F472C1A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47E6-1210-4CB1-AA9F-64D0CA1C489A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EBC-84B7-4961-BB28-F8C3411C731D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0514-9258-4144-84A8-1B5FE13CDF84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2245-013D-49AB-8233-66E246B8E9B0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BB8-9B1C-4334-8921-A64EF227F4C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709E-9098-4A7E-BD81-09AA4A26BDA8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92F-5709-405D-A0E9-13747A4BE3EE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1" descr=""/>
          <p:cNvPicPr/>
          <p:nvPr/>
        </p:nvPicPr>
        <p:blipFill>
          <a:blip r:embed="rId1"/>
          <a:srcRect l="0" t="29689" r="2570" b="4036"/>
          <a:stretch/>
        </p:blipFill>
        <p:spPr>
          <a:xfrm>
            <a:off x="785880" y="1179360"/>
            <a:ext cx="4668840" cy="423396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10" descr=""/>
          <p:cNvPicPr/>
          <p:nvPr/>
        </p:nvPicPr>
        <p:blipFill>
          <a:blip r:embed="rId2"/>
          <a:stretch/>
        </p:blipFill>
        <p:spPr>
          <a:xfrm>
            <a:off x="6291360" y="287280"/>
            <a:ext cx="2127240" cy="5238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2103480" y="5156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лининград, 2015 г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Прямоугольник 3"/>
          <p:cNvSpPr/>
          <p:nvPr/>
        </p:nvSpPr>
        <p:spPr>
          <a:xfrm>
            <a:off x="5256360" y="1179360"/>
            <a:ext cx="368928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 70-летие Великой победы (2015 год) мы прилетали к дедушке, чтобы его поздрави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3" name="Рисунок 4" descr=""/>
          <p:cNvPicPr/>
          <p:nvPr/>
        </p:nvPicPr>
        <p:blipFill>
          <a:blip r:embed="rId3"/>
          <a:srcRect l="0" t="18901" r="0" b="20736"/>
          <a:stretch/>
        </p:blipFill>
        <p:spPr>
          <a:xfrm>
            <a:off x="6275520" y="3402000"/>
            <a:ext cx="21430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30:23Z</dcterms:modified>
  <cp:revision>177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