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dt" idx="34"/>
          </p:nvPr>
        </p:nvSpPr>
        <p:spPr>
          <a:xfrm>
            <a:off x="4281480" y="0"/>
            <a:ext cx="3276720" cy="5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 type="sldImg"/>
          </p:nvPr>
        </p:nvSpPr>
        <p:spPr>
          <a:xfrm>
            <a:off x="1374480" y="1336320"/>
            <a:ext cx="4809960" cy="360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 type="body"/>
          </p:nvPr>
        </p:nvSpPr>
        <p:spPr>
          <a:xfrm>
            <a:off x="755280" y="5145120"/>
            <a:ext cx="604836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 type="ftr" idx="35"/>
          </p:nvPr>
        </p:nvSpPr>
        <p:spPr>
          <a:xfrm>
            <a:off x="0" y="10155240"/>
            <a:ext cx="3276720" cy="5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8" name="PlaceHolder 6"/>
          <p:cNvSpPr>
            <a:spLocks noGrp="1"/>
          </p:cNvSpPr>
          <p:nvPr>
            <p:ph type="sldNum" idx="36"/>
          </p:nvPr>
        </p:nvSpPr>
        <p:spPr>
          <a:xfrm>
            <a:off x="4281480" y="10155240"/>
            <a:ext cx="3276720" cy="5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368A9-3492-4103-BDAA-B346075D393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374840" y="1336680"/>
            <a:ext cx="4809960" cy="360828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755280" y="5145120"/>
            <a:ext cx="6048360" cy="42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Номер слайда 3"/>
          <p:cNvSpPr/>
          <p:nvPr/>
        </p:nvSpPr>
        <p:spPr>
          <a:xfrm>
            <a:off x="4281480" y="10155240"/>
            <a:ext cx="327672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DD069-39C8-4E30-B4FB-1F7D58CA3B8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FFB4-D6D1-4F81-8A17-D6B686699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2019-AC0F-4EAE-A4DE-0B812C7CE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8F8309-386B-42C1-82C1-958763445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FC8888-F0AD-48CD-80D5-7BCFDECCD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5CDE64-2F05-4561-8483-04EFD8446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06FA9E-1991-48F5-9E05-93A3931CF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99DC4C-EEEA-49AB-B86A-4CFF42149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07437E-ADD1-4C6B-97C7-B8D393F57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19D4CF-CCFB-473E-8782-AAD9462A6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76C50C-5394-4431-A009-3DCFD6857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7205A9-193B-4308-BCFF-76AA2FD81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683AF4-C00E-46FD-9E88-DFC6CB96E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96DA-20E8-427B-A00C-07EC36896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5C432B-A8A6-4F1E-8177-4CD92C333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DC52AC-1543-4503-86A4-FE4B2C489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71A72B-BCA7-48DE-BBE1-FE5FDA24C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27D5CA-93F6-43D1-BF40-DA56A3772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FA2EB4-DEBE-46FE-8E99-4FEDEA664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A792C2-06C0-43D6-8928-4F6970F2F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505D43-171B-4913-8980-9C0BCEBD4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853061-326E-489A-8230-747B4C560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FADC55-3964-4BFF-B6F2-D96B9856B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8DA2EC-28D7-4DD7-AA00-2B9FE2383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B1C3-3CA3-43B0-9021-BF0483D20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CFCDFD-5F82-4B1F-9F71-CB99A0CE3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3189B0-0FF5-4D77-BE45-87246D279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604EE6-D3E1-4F5E-B68F-B635D4562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A0FB8D-AA2A-42C2-8E9C-8269C0CAD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947B7A-43A7-444E-8314-BF466CB6C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2F1343-50E4-47A7-89AD-BBE3BAD07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792E10-4F06-471B-B0A8-4A51B1326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AA9063-8744-443E-BBB6-0DBB8E2B5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D2C0FA-632C-4385-B5DE-16AC0C624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1C43CD-0B35-4403-AF02-ECF1D7060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F48B0-7731-493C-A1E5-D14A662F2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5D9A61-2EFD-45DF-81E9-6681CE68F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0D6A13-5983-4323-8EB4-0047BE31B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506D29-F1BC-41C0-97CE-B8838FE5B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96203-B600-4EAB-9B1D-C565DB7BB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FB15B-8213-4198-BE34-6109EE23D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242A0-DE5C-407E-886C-D4E19387A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36CCE-744C-49E6-B881-99AB33E6B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F5A00-C3AF-4111-B818-4E01C5FC3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7E359-A504-4853-8576-877A50D5C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8201-F712-4608-A76E-1DD648208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0064F-415B-47EB-AAA5-9A025276A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1EBD9-E055-4BAF-BBA5-FB86F352F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603BF-F7FB-4D4A-86BF-2FC76C48C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4D375-E86A-4A5C-9F3B-E0E4CA7F5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8524B-C3A4-4645-BF55-EC96AAE3F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7C6989-D64C-47A3-B91A-4E430171C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4BDC6E-BFF4-4E71-86F1-8FDFF8013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B68B6C-05A2-4FF2-A987-838821608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EEDAE5-78D5-45FA-945E-EFDCDE21E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F858E7-041E-47E0-B241-CDD30AF45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36B1-0B3E-45B6-B002-C05486075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FF2E68-D8C7-4575-90B4-8B348B07A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D6A987-5F48-490E-B6FE-D86415E06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F754BB-11C1-4556-9081-6FE533C2C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EF0624-B0F9-41CB-A07F-3CD5ADDF7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8A49C9-E90E-493A-80F1-D5DFE831E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7D2EEE-40AD-4A27-81B8-E91DCF4FA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B41642-22CF-445B-9858-FE936FC9B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0CC520-8270-4EC5-A738-DFE875342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82ABF7-3A83-4D50-8188-EEF318DF9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64D665-9A01-429A-B776-5B174BCE8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B2FA-D909-4255-9153-E5DCE58AD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5C6F95-BE04-4DE7-B7CF-A031EE909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D2FC4C-4390-4E37-B1F9-AE597AAB6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02C560-8FC2-4F4A-916D-2037C29C4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6D59B4-1A11-42AB-9C43-7DF94D865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53ADED-2216-44F6-960C-D85EBE811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D219B3-46B3-4252-BB10-E62EF2540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E01878-706B-4503-8810-F24400E1C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6160A5-3160-4C6B-99F3-7B5418628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9DC49E-AB90-4349-A6D5-8D898EA60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5637BA-7CE0-49A4-B64E-48271AF23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4870-1182-40AF-AF52-8DE4B0B61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40D4DD-B669-41FA-84EA-A4C457754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F3557A-6BC3-4250-BFB3-848566F88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5A5E04-FFD7-48CA-9B40-33AFDCE85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8D5A9C-165C-4676-94B7-9DF4CA366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C687C8-98AD-429D-BF7D-565FDE632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16147D-7B4F-4AB9-82E7-416BD0A81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05A432-0F37-4868-9E5F-C265F628D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D1374E-0EC8-4BA8-9A18-C8F9789C7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FA39CD-E364-4C73-B3B5-8F6A437E8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C46B85-2880-40B7-B174-241AB082C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7DA2-4BCB-4393-BD62-D46BDAB2A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70DD0E-624B-4A2D-A261-FF2E8D1E4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BD9DA6-A43B-4120-A401-F7EBC211D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9B1F8B-CE29-48D6-88CF-A9D1C9522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ECAF71-37EF-40DF-B646-2ED7AB6D2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D8DB83-455A-4B16-B08D-5B8C5E57B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0E29DA-E647-47A0-9A19-08EE26B0B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313382-8838-4A53-BE13-6C3E7FBC6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981993-227D-4F6E-92DE-F1BF29334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716F4C-6AF8-4F40-BFD0-9BA218F1A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58F42A-B7F8-4AF5-95D8-2AB183881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8755-7008-484E-A9C5-31F0B5F65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9F43E6-5EEE-4498-8A0E-CB2925876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ABDAB8-E242-47E8-9E08-65ADFDF09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3DD24E-FE46-4B32-A9E4-C6C8D415B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1A3C5C-F2F3-44FC-ADB8-85D24DD7E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08D059-42F5-47B8-864A-50CD8E7A3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E1B182-81BF-4713-BC05-8C755C839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11CFC4-4EE5-44EF-BC3A-7C5DAF6E8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57307C-ADA7-43B1-97F8-3069FE295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E73020-D5C5-4CFA-A710-A7BEF3A7C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610925-74C5-4DEC-B045-43C43D6CC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8D9F-BC90-4BE5-B0CD-06F5357C9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CF1350-245C-445C-9118-2F23ED349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815B04-6736-41F7-9796-D53FB5D4F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4E20AA-CA57-4032-AB39-6BF9E0AEE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8C4A2A-3ADA-472D-B7B0-E308B6E3E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9B5404-AD23-4094-80CD-4348249EE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53DC64-0710-4038-9E89-6C7C0AA14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A3EF19-4DD8-4134-99FF-3AE2428FE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FB4673-D5FA-4F1B-9CC7-5AD867F69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6E3EE4-B187-426F-85C8-8C38314BF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2AD4C0-FA53-44A1-93A6-FE48DCEB9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3081-7A7D-4A75-97B6-286DC5FE2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A8B3DD-1B72-4DD4-B4BB-E678490B0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AF3A79-A1D5-4A85-B673-0735F9C03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C0A019-7BD6-4B5D-8771-407D6511E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2A1F6C-46D0-4137-BBF9-59E4BDBC1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37AE81-29B4-4B47-A2B1-E9BE77861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131E2D-ED4E-40AE-960E-44BD2FA22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138E81-2329-4A12-8D2B-4BDE309F9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CE30EE-91E7-44D7-B083-1D783235B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635F51-4D19-4ED8-95E2-C7F05EC41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FD383A-A963-402E-9199-1C12EA5B8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2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Gill Sans MT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b71e42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2DB35-FD22-4333-ABAB-76A8B034F8CE}" type="slidenum">
              <a:rPr b="0" lang="en-US" sz="2800" spc="-1" strike="noStrike">
                <a:solidFill>
                  <a:srgbClr val="b71e42"/>
                </a:solidFill>
                <a:latin typeface="Gill Sans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12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413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4" name="Straight Connector 32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8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Gill Sans MT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ftr" idx="29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 type="sldNum" idx="30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b71e42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2C845-C690-41EE-8B35-D5F7529DC115}" type="slidenum">
              <a:rPr b="0" lang="en-US" sz="2800" spc="-1" strike="noStrike">
                <a:solidFill>
                  <a:srgbClr val="b71e42"/>
                </a:solidFill>
                <a:latin typeface="Gill Sans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57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458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9" name="Straight Connector 14"/>
          <p:cNvSpPr/>
          <p:nvPr/>
        </p:nvSpPr>
        <p:spPr>
          <a:xfrm>
            <a:off x="6918480" y="798480"/>
            <a:ext cx="0" cy="466092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dt" idx="31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Gill Sans MT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ftr" idx="32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 type="sldNum" idx="33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b71e42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A86D3-1823-4470-AAF1-2D27D3125E2C}" type="slidenum">
              <a:rPr b="0" lang="en-US" sz="2800" spc="-1" strike="noStrike">
                <a:solidFill>
                  <a:srgbClr val="b71e42"/>
                </a:solidFill>
                <a:latin typeface="Gill Sans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02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503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4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Straight Connector 14"/>
          <p:cNvSpPr/>
          <p:nvPr/>
        </p:nvSpPr>
        <p:spPr>
          <a:xfrm>
            <a:off x="2395440" y="3529080"/>
            <a:ext cx="561996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Gill Sans MT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395080" y="328680"/>
            <a:ext cx="30877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434600" y="798480"/>
            <a:ext cx="80172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b71e42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E0895-CB96-4809-88FA-DC0556D26326}" type="slidenum">
              <a:rPr b="0" lang="en-US" sz="2800" spc="-1" strike="noStrike">
                <a:solidFill>
                  <a:srgbClr val="b71e42"/>
                </a:solidFill>
                <a:latin typeface="Gill Sans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9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9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Straight Connector 32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Gill Sans MT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b71e42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9C23B-44BC-4EBD-B8D0-942BE854B516}" type="slidenum">
              <a:rPr b="0" lang="en-US" sz="2800" spc="-1" strike="noStrike">
                <a:solidFill>
                  <a:srgbClr val="b71e42"/>
                </a:solidFill>
                <a:latin typeface="Gill Sans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3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13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Straight Connector 14"/>
          <p:cNvSpPr/>
          <p:nvPr/>
        </p:nvSpPr>
        <p:spPr>
          <a:xfrm>
            <a:off x="1442880" y="3805200"/>
            <a:ext cx="561816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Gill Sans MT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b71e42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70780-6CB9-44BC-8826-E681EBFF6FC5}" type="slidenum">
              <a:rPr b="0" lang="en-US" sz="2800" spc="-1" strike="noStrike">
                <a:solidFill>
                  <a:srgbClr val="b71e42"/>
                </a:solidFill>
                <a:latin typeface="Gill Sans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8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18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Straight Connector 32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Gill Sans MT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b71e42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EFC9C-0152-430C-9074-AC36919CD18C}" type="slidenum">
              <a:rPr b="0" lang="en-US" sz="2800" spc="-1" strike="noStrike">
                <a:solidFill>
                  <a:srgbClr val="b71e42"/>
                </a:solidFill>
                <a:latin typeface="Gill Sans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22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Straight Connector 35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16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Gill Sans MT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ftr" idx="17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sldNum" idx="18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b71e42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4DF8F-570B-457E-A389-A101006A5D94}" type="slidenum">
              <a:rPr b="0" lang="en-US" sz="2800" spc="-1" strike="noStrike">
                <a:solidFill>
                  <a:srgbClr val="b71e42"/>
                </a:solidFill>
                <a:latin typeface="Gill Sans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7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27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2" name="Straight Connector 31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9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Gill Sans MT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20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21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b71e42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3743E-F5C7-4124-8535-E681A39364AC}" type="slidenum">
              <a:rPr b="0" lang="en-US" sz="2800" spc="-1" strike="noStrike">
                <a:solidFill>
                  <a:srgbClr val="b71e42"/>
                </a:solidFill>
                <a:latin typeface="Gill Sans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1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31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Straight Connector 16"/>
          <p:cNvSpPr/>
          <p:nvPr/>
        </p:nvSpPr>
        <p:spPr>
          <a:xfrm>
            <a:off x="1441440" y="3205080"/>
            <a:ext cx="242424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dt" idx="22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Gill Sans MT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ftr" idx="23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 type="sldNum" idx="24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b71e42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81543-3F34-42FC-ADFD-CB9E1FDD2B77}" type="slidenum">
              <a:rPr b="0" lang="en-US" sz="2800" spc="-1" strike="noStrike">
                <a:solidFill>
                  <a:srgbClr val="b71e42"/>
                </a:solidFill>
                <a:latin typeface="Gill Sans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36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62" name="Group 12"/>
          <p:cNvGrpSpPr/>
          <p:nvPr/>
        </p:nvGrpSpPr>
        <p:grpSpPr>
          <a:xfrm>
            <a:off x="4995720" y="482760"/>
            <a:ext cx="3511800" cy="5148000"/>
            <a:chOff x="4995720" y="482760"/>
            <a:chExt cx="3511800" cy="5148000"/>
          </a:xfrm>
        </p:grpSpPr>
        <p:grpSp>
          <p:nvGrpSpPr>
            <p:cNvPr id="363" name="Rectangle 13"/>
            <p:cNvGrpSpPr/>
            <p:nvPr/>
          </p:nvGrpSpPr>
          <p:grpSpPr>
            <a:xfrm>
              <a:off x="4995720" y="482760"/>
              <a:ext cx="3511800" cy="5148000"/>
              <a:chOff x="4995720" y="482760"/>
              <a:chExt cx="3511800" cy="5148000"/>
            </a:xfrm>
          </p:grpSpPr>
          <p:pic>
            <p:nvPicPr>
              <p:cNvPr id="364" name="Rectangle 13" descr=""/>
              <p:cNvPicPr/>
              <p:nvPr/>
            </p:nvPicPr>
            <p:blipFill>
              <a:blip r:embed="rId4"/>
              <a:stretch/>
            </p:blipFill>
            <p:spPr>
              <a:xfrm>
                <a:off x="4995720" y="482760"/>
                <a:ext cx="3511800" cy="51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5" name=""/>
              <p:cNvSpPr/>
              <p:nvPr/>
            </p:nvSpPr>
            <p:spPr>
              <a:xfrm>
                <a:off x="5084640" y="495000"/>
                <a:ext cx="3310920" cy="488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366" name="Rectangle 14"/>
            <p:cNvGrpSpPr/>
            <p:nvPr/>
          </p:nvGrpSpPr>
          <p:grpSpPr>
            <a:xfrm>
              <a:off x="5346360" y="771840"/>
              <a:ext cx="2793600" cy="4326840"/>
              <a:chOff x="5346360" y="771840"/>
              <a:chExt cx="2793600" cy="4326840"/>
            </a:xfrm>
          </p:grpSpPr>
          <p:pic>
            <p:nvPicPr>
              <p:cNvPr id="367" name="Rectangle 14" descr=""/>
              <p:cNvPicPr/>
              <p:nvPr/>
            </p:nvPicPr>
            <p:blipFill>
              <a:blip r:embed="rId5"/>
              <a:stretch/>
            </p:blipFill>
            <p:spPr>
              <a:xfrm>
                <a:off x="5346360" y="771840"/>
                <a:ext cx="2793600" cy="4326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8" name=""/>
              <p:cNvSpPr/>
              <p:nvPr/>
            </p:nvSpPr>
            <p:spPr>
              <a:xfrm>
                <a:off x="5382360" y="808200"/>
                <a:ext cx="2718720" cy="4250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</p:grpSp>
      <p:sp>
        <p:nvSpPr>
          <p:cNvPr id="369" name="Straight Connector 30"/>
          <p:cNvSpPr/>
          <p:nvPr/>
        </p:nvSpPr>
        <p:spPr>
          <a:xfrm>
            <a:off x="1441440" y="3143160"/>
            <a:ext cx="324180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5"/>
          </p:nvPr>
        </p:nvSpPr>
        <p:spPr>
          <a:xfrm>
            <a:off x="1436400" y="5470560"/>
            <a:ext cx="325260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Gill Sans M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Gill Sans MT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6"/>
          </p:nvPr>
        </p:nvSpPr>
        <p:spPr>
          <a:xfrm>
            <a:off x="1437840" y="318600"/>
            <a:ext cx="32511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27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b71e42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E5AB5-77A6-40EA-BF88-B7EFEE876BB7}" type="slidenum">
              <a:rPr b="0" lang="en-US" sz="2800" spc="-1" strike="noStrike">
                <a:solidFill>
                  <a:srgbClr val="b71e42"/>
                </a:solidFill>
                <a:latin typeface="Gill Sans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Рисунок 1" descr=""/>
          <p:cNvPicPr/>
          <p:nvPr/>
        </p:nvPicPr>
        <p:blipFill>
          <a:blip r:embed="rId1"/>
          <a:srcRect l="0" t="29689" r="2570" b="4036"/>
          <a:stretch/>
        </p:blipFill>
        <p:spPr>
          <a:xfrm>
            <a:off x="785880" y="1179360"/>
            <a:ext cx="4668840" cy="4233960"/>
          </a:xfrm>
          <a:prstGeom prst="rect">
            <a:avLst/>
          </a:prstGeom>
          <a:ln w="0">
            <a:noFill/>
          </a:ln>
        </p:spPr>
      </p:pic>
      <p:pic>
        <p:nvPicPr>
          <p:cNvPr id="550" name="Рисунок 10" descr=""/>
          <p:cNvPicPr/>
          <p:nvPr/>
        </p:nvPicPr>
        <p:blipFill>
          <a:blip r:embed="rId2"/>
          <a:stretch/>
        </p:blipFill>
        <p:spPr>
          <a:xfrm>
            <a:off x="6291360" y="287280"/>
            <a:ext cx="2127240" cy="523800"/>
          </a:xfrm>
          <a:prstGeom prst="rect">
            <a:avLst/>
          </a:prstGeom>
          <a:ln w="0">
            <a:noFill/>
          </a:ln>
        </p:spPr>
      </p:pic>
      <p:sp>
        <p:nvSpPr>
          <p:cNvPr id="551" name="TextBox 3"/>
          <p:cNvSpPr/>
          <p:nvPr/>
        </p:nvSpPr>
        <p:spPr>
          <a:xfrm>
            <a:off x="2103480" y="5156280"/>
            <a:ext cx="276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Калининград, 2015 г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2" name="Прямоугольник 3"/>
          <p:cNvSpPr/>
          <p:nvPr/>
        </p:nvSpPr>
        <p:spPr>
          <a:xfrm>
            <a:off x="5256360" y="1179360"/>
            <a:ext cx="3689280" cy="914400"/>
          </a:xfrm>
          <a:prstGeom prst="rect">
            <a:avLst/>
          </a:prstGeom>
          <a:solidFill>
            <a:srgbClr val="ffffff"/>
          </a:solidFill>
          <a:ln w="15840">
            <a:solidFill>
              <a:srgbClr val="586e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На 70-летие Великой победы (2015 год) мы прилетали к дедушке, чтобы его поздравить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53" name="Рисунок 4" descr=""/>
          <p:cNvPicPr/>
          <p:nvPr/>
        </p:nvPicPr>
        <p:blipFill>
          <a:blip r:embed="rId3"/>
          <a:srcRect l="0" t="18901" r="0" b="20736"/>
          <a:stretch/>
        </p:blipFill>
        <p:spPr>
          <a:xfrm>
            <a:off x="6275520" y="3402000"/>
            <a:ext cx="2143080" cy="19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8T14:40:04Z</dcterms:created>
  <dc:creator>User</dc:creator>
  <dc:description/>
  <dc:language>en-US</dc:language>
  <cp:lastModifiedBy>Пивоварова Анжела Анатольевна</cp:lastModifiedBy>
  <dcterms:modified xsi:type="dcterms:W3CDTF">2019-04-22T16:30:23Z</dcterms:modified>
  <cp:revision>177</cp:revision>
  <dc:subject/>
  <dc:title>Технология темперной живопис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HiddenSlides">
    <vt:r8>0</vt:r8>
  </property>
  <property fmtid="{D5CDD505-2E9C-101B-9397-08002B2CF9AE}" pid="3" name="HyperlinksChanged">
    <vt:bool>0</vt:bool>
  </property>
  <property fmtid="{D5CDD505-2E9C-101B-9397-08002B2CF9AE}" pid="4" name="LinksUpToDate">
    <vt:bool>0</vt:bool>
  </property>
  <property fmtid="{D5CDD505-2E9C-101B-9397-08002B2CF9AE}" pid="5" name="MMClips">
    <vt:r8>0</vt:r8>
  </property>
  <property fmtid="{D5CDD505-2E9C-101B-9397-08002B2CF9AE}" pid="6" name="Notes">
    <vt:r8>0</vt:r8>
  </property>
  <property fmtid="{D5CDD505-2E9C-101B-9397-08002B2CF9AE}" pid="7" name="PresentationFormat">
    <vt:lpwstr>Экран (4:3)</vt:lpwstr>
  </property>
  <property fmtid="{D5CDD505-2E9C-101B-9397-08002B2CF9AE}" pid="8" name="ScaleCrop">
    <vt:bool>0</vt:bool>
  </property>
  <property fmtid="{D5CDD505-2E9C-101B-9397-08002B2CF9AE}" pid="9" name="ShareDoc">
    <vt:bool>0</vt:bool>
  </property>
  <property fmtid="{D5CDD505-2E9C-101B-9397-08002B2CF9AE}" pid="10" name="Slides">
    <vt:r8>12</vt:r8>
  </property>
</Properties>
</file>