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0DF-A2A0-4CB2-B5AF-9A79F2EC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B0A-5BE2-4B00-AFF5-981486D3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AACA7-548D-4E96-98E3-1B6C37DB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AE7A2-4A4E-470C-AD32-CF3D8655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4D73E-4161-4BF4-A07F-1D4278AA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DBC64-32A2-4B2B-B530-6691A78C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3A1E0-1926-4054-AB68-D5122B4B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D9698-EC05-430D-8326-2A2FA016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BBCDB-AC44-4CED-8B0D-E755F192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32FE5-3314-4AEC-A811-6EBAA823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5C70A-057A-45DD-857C-5B28FBEB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07F0A-0ED6-483C-8EB2-9F5B49F3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FE7-C7AA-49BC-A72E-4ADF0228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E3499-4973-4A6E-A478-308B8A8A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98E8D-7F8D-46FD-AF14-501A8F8F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900A5-ECFB-4481-B2A6-79E56018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CEB87-9CB0-42EE-AABC-2204DAA5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616B6-FE02-4308-BE53-9A43BA39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367A7-16B4-4DF8-82AC-BC25B941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399A0-6788-490B-B59D-7E82A65B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71490-CA9B-4D4D-AA37-4760D41E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E6434-DCE6-4DD7-8A3F-3EBE1B03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677F5-2C4B-4758-B0B8-BFC2020F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CFF-61BF-4E81-A362-E67F7C16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44D97-BAAC-4F75-A4DB-E88E657A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D283E-D2D3-4EFE-A329-F79D812A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17D44-C9EF-4023-9ED9-8301363D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67706-9537-4B01-AB87-6B774686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1FDBA-1830-429A-90F9-2FE987AC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68764-5EF3-4A21-8D35-04030F29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CCC51-5555-4F0B-B3CA-E9C17435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B3119-0646-414C-AE2E-ED6120EE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FDE00-7FA6-46FB-AEF3-FC4E632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E679D-7D15-4F2A-8B50-BE7295A9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0D77-919B-4B7C-BF24-C6FD7D4E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96B28-4349-4C93-A81C-B2A010BA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BE083-5174-4ABD-82B0-BE8CB343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CF439-0582-45E9-8897-2430C058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D84E-5C1E-4DC4-98B3-3FE5820A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CB8F-C8BF-4B3C-B6C3-6BE7706C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AC6C-8150-4DEE-9B91-DAA063FC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DC51-9354-457D-B6F4-35792288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2920-9AAA-41B1-A347-18677280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F44C-A103-4015-95EC-51FAFCD3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0DB-0C2D-4706-9B5C-C7E86B2F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BDB7-BF28-464C-8FE1-671023AB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B7B2-63E2-4818-933C-950E0E90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393A-04DD-47FC-AED3-FB654A0E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E3E9-9E8D-4222-B015-DECEAF07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1535-F665-4B6E-8838-FC0D4661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626B-3C69-4468-BCA1-1D2E61D1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8318A-CF04-4193-BF50-0F38E139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9437E-7806-43A1-AE35-A3DCAE00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0B3CC-F69A-4BE0-A454-E3B306FB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CE35-BC38-4763-88DD-6ACBFFC6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23E-656C-4D80-9158-EAC0E065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C5C5B-26B0-4125-95EB-94D33A64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B5F7-B39A-4394-83A4-55C2E8B5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3A9DB-6413-4868-96CB-31B4F3F2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A2D51-6501-469F-98A6-DB8F75F3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FD15C-5132-47BB-B862-220C2FC9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E2088-6206-48AF-A86C-9173CFBB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C280-4D50-4A78-846F-69A24257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D1A6F-FE99-4194-94A4-C70B1CF7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02D97-0F27-4AEB-B204-7F053C64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763F6-298F-4D75-8736-7C1C0F33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D2A-89A3-4D4A-B40D-A6ABFAFF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4A8B0-350E-4596-BB17-3DC94F45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E0FB8-572F-4153-BAF8-61779768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7E42C-4ED2-4628-9EEA-0C1731EF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A14BE-5E1D-43CF-B364-6AEC7C06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37BDB-D754-48A0-8421-3FF7EDF4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8397-416B-4F7A-9292-C2EAC534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76D3E-C694-40E5-AC82-7D7D988A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FF278-2196-4B7C-AC02-2BE5F500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08021-D0A4-4B6F-8D6B-76C09C73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E28DB-80F9-481B-8055-353E3F27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A75-6B32-4CC9-8D0F-3E019314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DE52A-620B-4FDC-B1CE-B940AEAE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0EEDD-C548-4B57-A2D9-BC7CAA82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071E6-37B8-42B6-B4C9-0DAFD927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C06BB-0CAC-4256-B18D-88891318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47E4E-896B-4FF6-9461-4A7B87F4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E05F3-C3A0-4C8B-9170-3032666A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87443-F69E-45AB-8136-DA660B8F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C1411-51A1-4BE6-964D-CE937559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1F5A8-60BC-41C4-A455-D6B84FD9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6B931-FD80-42C0-B4A3-A038AA37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FB9-D024-4460-A067-EE620359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D3808-DCD0-4860-B37B-197B0068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0C007-4405-46CF-B3B2-A8B97C9B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79735-77E0-4E5C-9904-421CB3E0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1DD3E-118E-4D72-9461-E4250D38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B867A-0AC1-41AC-87BB-53E2C3E5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DEA0D-2500-4D6F-8939-37C16E12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44D8D-1E8C-4F5B-982D-FE11856E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37A1C-0225-4443-9588-C5C013FA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8BC3E-0F2D-471C-9A75-FC87AF7F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9502F-C4D6-41E3-80C2-C1B3A6CA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CF2-8E7F-4F3B-9205-D03B4D15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6FC92-27DC-4C5E-B033-B2DFC8AC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5FBA6-A353-426B-A198-7ACDD289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CFBBD-C3C4-4C94-A204-ED1791A7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AF9C6-B9A8-4FB5-B541-779B349B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21A74-7A72-4918-ACAF-91DD8E94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66155-6D6C-4B7A-87DD-B689EC38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AE874-F3C3-4547-8CC4-9F2583A4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40407-3CC0-4DBD-A5F5-AE59D567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8523E-818D-46EE-9F5F-86D24746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9AFD0-C80A-4B59-94E4-58845EA7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A35-317E-45D2-A5F6-406CF4A5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88883-55BA-4EEB-9164-D0C6092D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E0885-0BC2-4732-AB17-FCFF38F1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D3CE7-C473-4129-B3DE-5A903CC2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B48F2-A42F-414E-9161-3339CED2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6F3A9-C65E-47BA-B4E0-9438A4F4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08761-405B-4C21-9E94-61DFC5DB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C6934-CC7F-41EA-8092-88DF36EA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2C4B6-2ECC-4A0A-B7C3-C32336A7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8D595-91E0-4D06-93B5-0023BDD3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C9B3F-8244-4252-966E-373BABD1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8C0-9554-4279-9922-CE7C4AC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807EF-35A0-4235-8D85-6A9727B4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502CF-FC97-4F2A-9244-874C7270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96C2D-D360-4D35-986E-F9267275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FF942-D12A-40B6-A4CE-81CA0296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25EE9-A522-4083-B23D-81E91147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07B78-5354-4E7C-8F63-A3D6DCB1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922A3-E984-4AC1-AA2A-AF3D1929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C8B0C-97D3-4095-9B7E-722C1EC3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04911-F55C-4085-86EC-292462E7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2818B-E16E-4C8A-A9D8-D54DE511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5871-BC11-4903-9DBB-46725402773A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877B-DBBF-480A-A42A-8D2ECE2C2583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BE7D-82B7-4B11-9E8D-7B8201EB07F1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0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D870-7057-4B3C-B95B-1952044A23A4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9CBE-FC84-4ABA-B3FE-462653142533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7A9D-9B95-4E1C-84CB-92C59557EA35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DAA0-446F-4D39-AB2D-FFAE9D9B275F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336C-9A74-4D6C-BA30-47AD7CA8E158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45F6-3A1A-4D16-8CF4-B945788D704F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0046-7D32-4C1E-A468-9AFDB0B836C2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4918-E99C-44C5-932D-ED775CA4C8BB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klops.ru/news/.obschestvo/107444-nazad-v-45-yveterany-vspominayut-kak-shturmovali-kenigsber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Объект 6" descr=""/>
          <p:cNvPicPr/>
          <p:nvPr/>
        </p:nvPicPr>
        <p:blipFill>
          <a:blip r:embed="rId1"/>
          <a:stretch/>
        </p:blipFill>
        <p:spPr>
          <a:xfrm>
            <a:off x="1616040" y="1609560"/>
            <a:ext cx="1940040" cy="2757600"/>
          </a:xfrm>
          <a:prstGeom prst="rect">
            <a:avLst/>
          </a:prstGeom>
          <a:ln w="0">
            <a:noFill/>
          </a:ln>
        </p:spPr>
      </p:pic>
      <p:pic>
        <p:nvPicPr>
          <p:cNvPr id="543" name="Объект 7" descr=""/>
          <p:cNvPicPr/>
          <p:nvPr/>
        </p:nvPicPr>
        <p:blipFill>
          <a:blip r:embed="rId2"/>
          <a:stretch/>
        </p:blipFill>
        <p:spPr>
          <a:xfrm>
            <a:off x="5697360" y="1844640"/>
            <a:ext cx="2000520" cy="275112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8"/>
          <p:cNvSpPr/>
          <p:nvPr/>
        </p:nvSpPr>
        <p:spPr>
          <a:xfrm>
            <a:off x="1335240" y="0"/>
            <a:ext cx="6310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Прямоугольник 9"/>
          <p:cNvSpPr/>
          <p:nvPr/>
        </p:nvSpPr>
        <p:spPr>
          <a:xfrm>
            <a:off x="295200" y="4929120"/>
            <a:ext cx="3706920" cy="304920"/>
          </a:xfrm>
          <a:prstGeom prst="rect">
            <a:avLst/>
          </a:prstGeom>
          <a:gradFill rotWithShape="0">
            <a:gsLst>
              <a:gs pos="0">
                <a:srgbClr val="d6d9e5"/>
              </a:gs>
              <a:gs pos="100000">
                <a:srgbClr val="929dc0">
                  <a:alpha val="92156"/>
                </a:srgbClr>
              </a:gs>
            </a:gsLst>
            <a:lin ang="5400000"/>
          </a:gradFill>
          <a:ln w="9360">
            <a:solidFill>
              <a:srgbClr val="586e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 мама, Сходня 2018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Прямоугольник 11"/>
          <p:cNvSpPr/>
          <p:nvPr/>
        </p:nvSpPr>
        <p:spPr>
          <a:xfrm>
            <a:off x="5076720" y="4764240"/>
            <a:ext cx="3573720" cy="469800"/>
          </a:xfrm>
          <a:prstGeom prst="rect">
            <a:avLst/>
          </a:prstGeom>
          <a:gradFill rotWithShape="0">
            <a:gsLst>
              <a:gs pos="0">
                <a:srgbClr val="d6d9e5"/>
              </a:gs>
              <a:gs pos="100000">
                <a:srgbClr val="929dc0">
                  <a:alpha val="92156"/>
                </a:srgbClr>
              </a:gs>
            </a:gsLst>
            <a:lin ang="5400000"/>
          </a:gradFill>
          <a:ln w="9360">
            <a:solidFill>
              <a:srgbClr val="586e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ётя Тоня и сёстры: Марина, Ира, Лена. Красная площадь 2018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Прямоугольник 1"/>
          <p:cNvSpPr/>
          <p:nvPr/>
        </p:nvSpPr>
        <p:spPr>
          <a:xfrm>
            <a:off x="403200" y="98280"/>
            <a:ext cx="81882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Прямоугольник 2"/>
          <p:cNvSpPr/>
          <p:nvPr/>
        </p:nvSpPr>
        <p:spPr>
          <a:xfrm>
            <a:off x="979560" y="465120"/>
            <a:ext cx="7421400" cy="7160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Традиция - возлагать цветы к памятнику погибших воинов и участвовать в акции «Бессмертный полк» – это традиции нашей семьи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00040" y="312840"/>
            <a:ext cx="61531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Список использованных источников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Прямоугольник 5"/>
          <p:cNvSpPr/>
          <p:nvPr/>
        </p:nvSpPr>
        <p:spPr>
          <a:xfrm>
            <a:off x="15840" y="1074600"/>
            <a:ext cx="753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нига памяти и славы. 1941 — 1945 гг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Памяти и славы достойны. Очерки с воспоминаниями калининградцев -участников штурма Кенигсберга/К.А.Абрамов и др.; авт. Сост. В.С. Геманов; предисл. А.Г. Ярошук; Калининград. Гор. Совет ветеранов войны , труда и вооруж. Сил и правоох. Органов — Калининград: Страж Балтики, 2013 — 248с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Архивные материалы семьи Петровых: фотографии, медали, пресс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2b5c"/>
                </a:solidFill>
                <a:uFillTx/>
                <a:latin typeface="Times New Roman"/>
                <a:ea typeface="DejaVu Sans"/>
                <a:hlinkClick r:id="rId1"/>
              </a:rPr>
              <a:t>https://klops.ru/news/.obschestvo/107444-nazad-v-45-yveterany-vspominayut-kak-shturmovali-kenigsber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https://www.Kaliningrad.kp.ru/daily/26057.4/2967388/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40:04Z</dcterms:created>
  <dc:creator>User</dc:creator>
  <dc:description/>
  <dc:language>en-US</dc:language>
  <cp:lastModifiedBy>Пивоварова Анжела Анатольевна</cp:lastModifiedBy>
  <dcterms:modified xsi:type="dcterms:W3CDTF">2019-04-22T16:23:46Z</dcterms:modified>
  <cp:revision>176</cp:revision>
  <dc:subject/>
  <dc:title>Технология темперной живопи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2</vt:r8>
  </property>
</Properties>
</file>