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CED-F4ED-4ACD-A478-031CEA5D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E9A-7F0C-4AE2-931D-CCCD130B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EB855-6815-4099-AAC1-D46CDEF0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C37EB-E67A-4802-959E-9F77DCCF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2FEC5-51F2-45EC-8E25-3FC9A822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054E5-227F-4F71-9E76-57F9F78F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1BCE1-985C-4659-BC58-B02ECE2E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053FB-2ECA-4B97-8275-833B024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26420-36F6-4A33-99DE-AF605936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6977D-0931-41D4-A1E2-EB95CFAB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1C94C-0B37-4B2E-8583-5BB50CA2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B0382-7322-4133-BDC5-82B346BE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CCF-3784-4A23-AA5D-FCE4262B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FE3B2-6561-42D9-9470-A291E5EA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0CC88-1C32-4FDB-8983-FE470D5E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0979E-788B-4965-A1C7-03567101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71980-9A2F-46BE-AC21-F78D19BB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E1588-E7F3-47C1-98F9-1EDAD6FA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FC9EC-E84F-4D10-B25A-641528E3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04C7B-33AF-4C20-8B2D-FAF93D16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9B826-5206-4D40-821D-6CC6B668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56131-A50A-48E4-9084-F7F53187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4E068-3222-49B4-A873-AF3215BD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726-16B0-489B-9944-F74B2B23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D2066-10E6-45F1-9DCD-107D1C34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1F78D-74D6-4684-8D8C-D54C6D14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E1AE8-0DDD-4B78-B665-B66617C1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FBE42-3538-4D5A-A669-FE2033F6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CBBF6-498B-4959-B9E6-A9230FE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EE6F7-187C-46A7-915F-77741C91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C7D4A-4C36-4B77-A0D7-A82BEEA4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14690-F434-4A26-9441-932FBEF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E4DB6-AE3D-4164-A1B8-67735D00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A06E3-04E1-46D2-BDF9-5AB1C562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C616-F040-47CE-BC7C-A6FA689F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C4AF8-59B9-4F7E-B556-505B32D7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20977-5B80-4B13-9CFF-3D8B3858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33E97-903E-4EA6-9662-0528E49D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B5D9-62D6-42CD-9F42-0BC72DD5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CB56-BEA1-44FE-A7E7-EC485E1D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C6D0-31F0-4F7B-A6D2-4AB9DB8C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0773-6E85-4AB0-A98E-FA350E59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A627-0C09-468D-97C1-8AC7AEBF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4E9E-FBB0-463B-86FB-99C8486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EAF-7737-41F1-9DB5-BFD717A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D492-FE77-4C7C-963E-162D502C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F26-B64B-4F8C-81F4-41D9715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A3D9-8182-417F-A0D3-3579F410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EEBE-C6F9-4214-B26E-BA3062DE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7338-BB1A-44B9-85F1-91BA18CF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1BAD-0ED9-4018-A695-78F94CAA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3137-D515-4CF4-8E2B-58C5D44C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F4D3-AB4A-40AA-8158-137D3C44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E819-AB96-44A1-9B74-551EFD2E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BEFE-4F41-446B-91F0-474AC5FA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B81-C02F-4158-99BC-6C567F1E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582BA-8DA3-43ED-A587-4338A634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E61D-F143-407B-B4D0-6FFBA24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ADBF-AE27-440B-BA5C-D9460EDB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D489-05A2-483B-A15C-F54DA9E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91FA-3D7A-4711-87F8-C0DE35D2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88AC-BE92-44F3-A539-27510648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2909-B79A-4EDC-B715-0488B04D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1BD9-DE00-4126-BAFE-4C84C1DE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C1DD6-8C45-46BB-A1C2-3A81F35E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5F0D-9B3A-461E-A5FD-C3BDBFE6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8A6-D9A5-4635-98CE-D936F1CA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960F-9078-41EE-8F3A-1029F38A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5614-69B5-4D0C-9580-B0033D6F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8522D-5E22-42D4-BD33-589899BE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916E-D601-4099-B3EC-A7A475A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9870-9A14-4C42-8A5D-02351EE7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1DE5-2E56-48DA-A81F-6B8D8A88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54C8-193A-4E59-8B82-F10FCF1D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BAF06-3E86-4648-A5A5-06A394F6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25E8-C0BF-49FE-9D87-3D91A36E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CEE1C-A774-4873-A621-9D138DFE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F28-5B04-48C4-9F02-B5BE7BF6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8C07-0AA7-4E85-9757-20EDE2CF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5E9E-61BB-433C-AEBA-0BECAFAF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5B1CD-F287-4A2C-831E-C126BD7E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FEBE0-822C-4D1C-A308-C1374BF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DE070-FAD3-4F52-9E37-E2D55033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4737A-6F6A-40FB-86A3-89B7AA09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5E541-41EF-454F-9090-7E396432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7EED-F2F7-4293-B59D-91E4C589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12269-5FB5-4498-BF1C-032DB182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9A8E-0B98-4700-A4EE-4A46EA6C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30C-7A3D-4927-8405-A10503CE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3B683-12BD-4DD9-8761-D6CD5E7E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32CB4-3AB0-462A-90D6-FCBDAC38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9A88-1541-4549-A702-9491FE65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EA38-B4B1-487F-B454-87662622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9D168-CAE0-48C9-BF6E-71DCAA9D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D7919-15B0-457D-B9BA-3C7131FA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BD69-9728-4D5E-9D67-6615EEED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FD9D-0295-4772-8BC8-6992617F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F9431-1A9A-43EF-AFA0-E06DEACF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84871-0FDA-4A3A-80BD-9C8AE1C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024-13BD-4736-B500-4C1C642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14E9-1AED-4517-AE9E-8BF243B9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D6076-A6F1-4E8D-BA8A-C520814D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EC008-DAED-4E5D-A3FB-CD46B013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E2E46-0847-411D-8FA5-C8B582D4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7504-098F-41A3-B6B8-4872E66E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6E8E5-8EA0-4784-A3E9-DA84DD4D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92C0-63F7-4ED4-B65F-3A7CFCB3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D23E7-546A-4B4C-90E5-82DA6300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AF74-1CB1-4E84-BD88-B3575595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3700-5A96-4D52-BCA9-92B6A33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148-F69D-44D4-B139-5E1DAC71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2BF48-7F0B-4818-AD94-4B8641DA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6CBA6-1DFF-4DBF-971C-A0BE9E3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91781-0ACD-49B9-A693-4C20A69E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9AE17-A344-48F7-BF6E-0AC4EDFA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695B-9471-451F-A9A6-B2DE8012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5CCB6-5BD8-4FC9-B417-049708F5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CA64A-8FA9-4A5C-8428-E715B7DF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ED0C-8296-41B8-97D3-8F38774E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D040-4377-4651-89C1-3E64FC44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52CCE-419E-4641-9EE8-E8CF8644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087-275B-498C-B4A3-2B50E0D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3918B-2099-4B26-956A-2B89E7B8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DB3F7-A7DC-4197-8F1E-11659EA2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666C3-17ED-47AF-9922-1E928A1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E79B-3767-4723-AD81-EAE7779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CFA2A-CBCD-40FE-AD0C-9EA1E23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1C3DA-5136-4204-A09A-33610F78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77C9F-125A-4139-9210-2F60194B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CE644-BA4E-4201-8230-4698D964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9F07E-1ACF-4D70-8574-5A09C2B4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6B782-B37D-4E86-8D27-AC9D9887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6922-EB81-4FCF-8812-95BDC04C9DF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9F5B-4FFA-47FC-A8F5-9201EE6AA9F9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589B-04E5-4A57-B0ED-31920C5AA049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0D51-C7C0-4BCF-B45A-1C40866C94FF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E788-85AB-4C73-A0FA-41A6F7B66736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1097-2DD5-4F6E-B2E4-846D2272EC4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63A8-8BE4-43FA-9E55-20684B3C8388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E962-594C-4614-8BA5-3AF8FAD939FA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BFF3-83A7-4EAC-A927-F166D8680CE7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E7C3-7624-4A93-AA00-26710AD17BB5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FAFE-8415-4363-8CD9-4DAD9AF6DC86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klops.ru/news/.obschestvo/107444-nazad-v-45-yveterany-vspominayut-kak-shturmovali-kenigsber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Объект 6" descr=""/>
          <p:cNvPicPr/>
          <p:nvPr/>
        </p:nvPicPr>
        <p:blipFill>
          <a:blip r:embed="rId1"/>
          <a:stretch/>
        </p:blipFill>
        <p:spPr>
          <a:xfrm>
            <a:off x="1616040" y="1609560"/>
            <a:ext cx="1940040" cy="2757600"/>
          </a:xfrm>
          <a:prstGeom prst="rect">
            <a:avLst/>
          </a:prstGeom>
          <a:ln w="0">
            <a:noFill/>
          </a:ln>
        </p:spPr>
      </p:pic>
      <p:pic>
        <p:nvPicPr>
          <p:cNvPr id="543" name="Объект 7" descr=""/>
          <p:cNvPicPr/>
          <p:nvPr/>
        </p:nvPicPr>
        <p:blipFill>
          <a:blip r:embed="rId2"/>
          <a:stretch/>
        </p:blipFill>
        <p:spPr>
          <a:xfrm>
            <a:off x="5697360" y="1844640"/>
            <a:ext cx="2000520" cy="275112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8"/>
          <p:cNvSpPr/>
          <p:nvPr/>
        </p:nvSpPr>
        <p:spPr>
          <a:xfrm>
            <a:off x="1335240" y="0"/>
            <a:ext cx="6310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Прямоугольник 9"/>
          <p:cNvSpPr/>
          <p:nvPr/>
        </p:nvSpPr>
        <p:spPr>
          <a:xfrm>
            <a:off x="295200" y="4929120"/>
            <a:ext cx="3706920" cy="304920"/>
          </a:xfrm>
          <a:prstGeom prst="rect">
            <a:avLst/>
          </a:prstGeom>
          <a:gradFill rotWithShape="0">
            <a:gsLst>
              <a:gs pos="0">
                <a:srgbClr val="d6d9e5"/>
              </a:gs>
              <a:gs pos="100000">
                <a:srgbClr val="929dc0">
                  <a:alpha val="92156"/>
                </a:srgbClr>
              </a:gs>
            </a:gsLst>
            <a:lin ang="5400000"/>
          </a:gradFill>
          <a:ln w="936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мама, Сходня 201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Прямоугольник 11"/>
          <p:cNvSpPr/>
          <p:nvPr/>
        </p:nvSpPr>
        <p:spPr>
          <a:xfrm>
            <a:off x="5076720" y="4764240"/>
            <a:ext cx="3573720" cy="469800"/>
          </a:xfrm>
          <a:prstGeom prst="rect">
            <a:avLst/>
          </a:prstGeom>
          <a:gradFill rotWithShape="0">
            <a:gsLst>
              <a:gs pos="0">
                <a:srgbClr val="d6d9e5"/>
              </a:gs>
              <a:gs pos="100000">
                <a:srgbClr val="929dc0">
                  <a:alpha val="92156"/>
                </a:srgbClr>
              </a:gs>
            </a:gsLst>
            <a:lin ang="5400000"/>
          </a:gradFill>
          <a:ln w="936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ётя Тоня и сёстры: Марина, Ира, Лена. Красная площадь 201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Прямоугольник 1"/>
          <p:cNvSpPr/>
          <p:nvPr/>
        </p:nvSpPr>
        <p:spPr>
          <a:xfrm>
            <a:off x="403200" y="98280"/>
            <a:ext cx="8188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Прямоугольник 2"/>
          <p:cNvSpPr/>
          <p:nvPr/>
        </p:nvSpPr>
        <p:spPr>
          <a:xfrm>
            <a:off x="979560" y="465120"/>
            <a:ext cx="7421400" cy="716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Традиция - возлагать цветы к памятнику погибших воинов и участвовать в акции «Бессмертный полк» – это традиции нашей семь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00040" y="312840"/>
            <a:ext cx="61531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писок использованных источников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Прямоугольник 5"/>
          <p:cNvSpPr/>
          <p:nvPr/>
        </p:nvSpPr>
        <p:spPr>
          <a:xfrm>
            <a:off x="15840" y="1074600"/>
            <a:ext cx="753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нига памяти и славы. 1941 — 1945 гг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амяти и славы достойны. Очерки с воспоминаниями калининградцев -участников штурма Кенигсберга/К.А.Абрамов и др.; авт. Сост. В.С. Геманов; предисл. А.Г. Ярошук; Калининград. Гор. Совет ветеранов войны , труда и вооруж. Сил и правоох. Органов — Калининград: Страж Балтики, 2013 — 248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Архивные материалы семьи Петровых: фотографии, медали, пресс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2b5c"/>
                </a:solidFill>
                <a:uFillTx/>
                <a:latin typeface="Times New Roman"/>
                <a:ea typeface="DejaVu Sans"/>
                <a:hlinkClick r:id="rId1"/>
              </a:rPr>
              <a:t>https://klops.ru/news/.obschestvo/107444-nazad-v-45-yveterany-vspominayut-kak-shturmovali-kenigsber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https://www.Kaliningrad.kp.ru/daily/26057.4/2967388/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23:46Z</dcterms:modified>
  <cp:revision>176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