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DCBF-CB3D-42CA-B230-4453DDF6EE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0439-25AD-4234-A7CD-6C4E64C496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1075-FAD3-4479-9F47-0A771F8854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C532-3B97-4BDE-A712-BD76F19434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4680-1796-41D4-867F-B2BC27C169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1E7E-F4F0-4B65-AA67-1FD3FA6424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6280-86FF-459B-AA80-A6CE6F695A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ADDE-69A4-4569-BC7B-D718B3932B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F6BE-B9B7-4425-A4E4-C4DE59502B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0A43-055D-4D65-94E0-9484215C09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CC96-B986-476B-81FA-45300FB38D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BF4A-9EE7-4125-A324-ACE9324FA0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D4E7-FF3B-48D5-A78E-33D6784A14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CE75-677A-4DD6-BB76-3FDEF9AD9E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45A4-1BA7-4EBC-8592-8A3A7E450C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9880-BAE5-42A2-9CDD-9B3FCD8BEB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F106-287E-4423-B309-7D82A15591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7177-02DB-42DA-AF1A-E7337C034D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CAE9-166A-4E3A-884D-4BE3002711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39BD-92BE-46BE-B072-915F428AD6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D3F4-0FF4-4D00-A23B-D523B3FDB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64BE-4DD6-46E1-A16E-05A85364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54F6-107A-49A3-AA84-2D17411D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EB91-9489-4848-A589-415E0C8D4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97E2-3594-42FB-98D6-3C55AE181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B936-DB95-4BC5-A6C1-84DB2BB3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FBFA-4645-4601-932A-4F0555A2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3FBA-0C32-4D8E-998A-57922F35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A7F2-C66E-47B7-990C-049C9EAC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11C0-DE9D-4B2A-8DD8-75267FA1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70C8-E2B9-4FEF-8276-44A1BED8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AFE3-E84F-4EFD-8703-7A8A7592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80B6-D98F-4EBB-8FCB-932ECF45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1D77-0E49-49CD-B939-73EE3741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111F-4C20-4643-B3FE-4E464AE3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1635-DEBA-4315-BC1C-36C735E2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21F9-26D3-451B-902A-64A0C2CC2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C80F-13D3-4ED1-98D2-1E064A2D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0C81-32FD-4AF9-98D1-4DE4D5EA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DC8C-C991-4531-8061-8BDDE4F5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6BA8-B0C0-42A8-B99D-7C99C7AC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C1EA-2B0D-45D8-976E-E3005D2F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0096-2E22-456C-A461-F735FA7A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E58F-685C-471C-9E3B-AEFD9FC4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D1F4-DB4C-4202-B26D-3C0C54D56E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4370-EE42-4C76-900D-6ACDC0E919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Arial Black"/>
              </a:rPr>
              <a:t>Устный журнал</a:t>
            </a:r>
            <a:br>
              <a:rPr sz="7200"/>
            </a:br>
            <a:r>
              <a:rPr b="0" i="1" lang="ru-RU" sz="7200" spc="-1" strike="noStrike">
                <a:solidFill>
                  <a:srgbClr val="000000"/>
                </a:solidFill>
                <a:latin typeface="Arial Black"/>
              </a:rPr>
              <a:t>«Скажем </a:t>
            </a: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НЕТ пиву!!!»</a:t>
            </a:r>
            <a:br>
              <a:rPr sz="6000"/>
            </a:b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Picture 6" descr="ED00172_"/>
          <p:cNvPicPr/>
          <p:nvPr/>
        </p:nvPicPr>
        <p:blipFill>
          <a:blip r:embed="rId1"/>
          <a:stretch/>
        </p:blipFill>
        <p:spPr>
          <a:xfrm>
            <a:off x="2916360" y="3573360"/>
            <a:ext cx="4392360" cy="3146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 почками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Picture 5" descr="ПОЧКИ"/>
          <p:cNvPicPr/>
          <p:nvPr/>
        </p:nvPicPr>
        <p:blipFill>
          <a:blip r:embed="rId1"/>
          <a:stretch/>
        </p:blipFill>
        <p:spPr>
          <a:xfrm>
            <a:off x="1258920" y="1628640"/>
            <a:ext cx="7200720" cy="4700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акие изменения наблюдаются в желудке?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8" name="Picture 5" descr="ЖЕЛУДОК"/>
          <p:cNvPicPr/>
          <p:nvPr/>
        </p:nvPicPr>
        <p:blipFill>
          <a:blip r:embed="rId1"/>
          <a:stretch/>
        </p:blipFill>
        <p:spPr>
          <a:xfrm>
            <a:off x="539640" y="1916280"/>
            <a:ext cx="5183280" cy="4657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-ая страниц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Мифы и реальность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0" name="Picture 6" descr="32"/>
          <p:cNvPicPr/>
          <p:nvPr/>
        </p:nvPicPr>
        <p:blipFill>
          <a:blip r:embed="rId1"/>
          <a:stretch/>
        </p:blipFill>
        <p:spPr>
          <a:xfrm>
            <a:off x="4932360" y="2825640"/>
            <a:ext cx="4211640" cy="3541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37"/>
          <p:cNvPicPr/>
          <p:nvPr/>
        </p:nvPicPr>
        <p:blipFill>
          <a:blip r:embed="rId2"/>
          <a:stretch/>
        </p:blipFill>
        <p:spPr>
          <a:xfrm>
            <a:off x="0" y="2924280"/>
            <a:ext cx="4643280" cy="3457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15"/>
          <p:cNvPicPr/>
          <p:nvPr/>
        </p:nvPicPr>
        <p:blipFill>
          <a:blip r:embed="rId1"/>
          <a:stretch/>
        </p:blipFill>
        <p:spPr>
          <a:xfrm>
            <a:off x="0" y="0"/>
            <a:ext cx="2736720" cy="3284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36"/>
          <p:cNvPicPr/>
          <p:nvPr/>
        </p:nvPicPr>
        <p:blipFill>
          <a:blip r:embed="rId2"/>
          <a:stretch/>
        </p:blipFill>
        <p:spPr>
          <a:xfrm>
            <a:off x="6084720" y="0"/>
            <a:ext cx="3059280" cy="3284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21"/>
          <p:cNvPicPr/>
          <p:nvPr/>
        </p:nvPicPr>
        <p:blipFill>
          <a:blip r:embed="rId3"/>
          <a:stretch/>
        </p:blipFill>
        <p:spPr>
          <a:xfrm>
            <a:off x="4572000" y="3284640"/>
            <a:ext cx="4572000" cy="3573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29"/>
          <p:cNvPicPr/>
          <p:nvPr/>
        </p:nvPicPr>
        <p:blipFill>
          <a:blip r:embed="rId4"/>
          <a:stretch/>
        </p:blipFill>
        <p:spPr>
          <a:xfrm>
            <a:off x="0" y="3255840"/>
            <a:ext cx="4427640" cy="3602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51"/>
          <p:cNvPicPr/>
          <p:nvPr/>
        </p:nvPicPr>
        <p:blipFill>
          <a:blip r:embed="rId5"/>
          <a:stretch/>
        </p:blipFill>
        <p:spPr>
          <a:xfrm>
            <a:off x="2411280" y="0"/>
            <a:ext cx="3745080" cy="3292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479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-ая страниц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4400"/>
            </a:br>
            <a:br>
              <a:rPr sz="4400"/>
            </a:b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Скажи «НЕТ» пиву!</a:t>
            </a:r>
            <a:br>
              <a:rPr sz="4800"/>
            </a:b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Picture 5" descr="11"/>
          <p:cNvPicPr/>
          <p:nvPr/>
        </p:nvPicPr>
        <p:blipFill>
          <a:blip r:embed="rId1"/>
          <a:stretch/>
        </p:blipFill>
        <p:spPr>
          <a:xfrm>
            <a:off x="0" y="2565360"/>
            <a:ext cx="3201840" cy="4292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46"/>
          <p:cNvPicPr/>
          <p:nvPr/>
        </p:nvPicPr>
        <p:blipFill>
          <a:blip r:embed="rId2"/>
          <a:stretch/>
        </p:blipFill>
        <p:spPr>
          <a:xfrm>
            <a:off x="4643280" y="2708280"/>
            <a:ext cx="4500720" cy="4149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613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ричины употребления пива в компаниях:</a:t>
            </a: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) казаться старше;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б) повеселиться;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г)понравиться окружающим, выглядеть своим человеком.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20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итуация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спользуйте любую формулу отказа.</a:t>
            </a:r>
            <a:br>
              <a:rPr sz="32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 собрались на дискотеку. Вам кажется, что девчонки начнут хихикать над тобой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рузья вам предлагают выпить немного вина или пива – просто, чтобы расслабиться, чтобы нипочём были все насмешливые взгляды девчонок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вы сможете отказаться от предложения друзей?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20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Рекомендации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1.Держись с теми, кто не пьёт и не курит, особенно в ситуации, когда могут предложить сигареты или алкоголь.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48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2. Держись подальше от тех мест, где продают сигареты или алкогольные напитки.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70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Благодарю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всех  участников нашего занятия!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Желаю всем здоровья, чтобы Ваша жизнь никогда не омрачалась алкоголем!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44080"/>
            <a:ext cx="8518320" cy="628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иво- алкоголь, алкоголь – это яд.</a:t>
            </a:r>
            <a:br>
              <a:rPr sz="48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ловарные слов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ф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альность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прессия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8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Picture 5" descr="2"/>
          <p:cNvPicPr/>
          <p:nvPr/>
        </p:nvPicPr>
        <p:blipFill>
          <a:blip r:embed="rId1"/>
          <a:stretch/>
        </p:blipFill>
        <p:spPr>
          <a:xfrm>
            <a:off x="0" y="3860640"/>
            <a:ext cx="4103640" cy="26830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539640" y="476280"/>
            <a:ext cx="82803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-ая страниц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Алкогол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оисхождение и развит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34"/>
          <p:cNvPicPr/>
          <p:nvPr/>
        </p:nvPicPr>
        <p:blipFill>
          <a:blip r:embed="rId2"/>
          <a:stretch/>
        </p:blipFill>
        <p:spPr>
          <a:xfrm>
            <a:off x="4500720" y="3860640"/>
            <a:ext cx="4643280" cy="2648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20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 Black"/>
              </a:rPr>
              <a:t>Анализ анкет</a:t>
            </a:r>
            <a:br>
              <a:rPr sz="28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 ответили, что пиво – это алкоголь, что в нём находится много ядовитых веществ.  Оно вредит здоровью, убивает организм. В пиве содержится спирт. Ребята нашего класса написали, что от употребления   пива погибло  много людей, что оно ухудшается память, что человек становится ленивым,  не контролирует свои поступки.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244440"/>
            <a:ext cx="8447040" cy="4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539640" y="333360"/>
            <a:ext cx="8209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-ая страниц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ред алкогол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а организм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5"/>
          <p:cNvPicPr/>
          <p:nvPr/>
        </p:nvPicPr>
        <p:blipFill>
          <a:blip r:embed="rId1"/>
          <a:stretch/>
        </p:blipFill>
        <p:spPr>
          <a:xfrm>
            <a:off x="611280" y="2565360"/>
            <a:ext cx="3127320" cy="3672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13"/>
          <p:cNvPicPr/>
          <p:nvPr/>
        </p:nvPicPr>
        <p:blipFill>
          <a:blip r:embed="rId2"/>
          <a:stretch/>
        </p:blipFill>
        <p:spPr>
          <a:xfrm>
            <a:off x="4284720" y="2492280"/>
            <a:ext cx="3816360" cy="396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21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ак действует алкоголь на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лёгкие?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8" name="Picture 6" descr="дыхание"/>
          <p:cNvPicPr/>
          <p:nvPr/>
        </p:nvPicPr>
        <p:blipFill>
          <a:blip r:embed="rId1"/>
          <a:stretch/>
        </p:blipFill>
        <p:spPr>
          <a:xfrm>
            <a:off x="1979640" y="1989000"/>
            <a:ext cx="4968720" cy="4575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на головной мозг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Picture 5" descr="Изображение 004"/>
          <p:cNvPicPr/>
          <p:nvPr/>
        </p:nvPicPr>
        <p:blipFill>
          <a:blip r:embed="rId1"/>
          <a:stretch/>
        </p:blipFill>
        <p:spPr>
          <a:xfrm>
            <a:off x="1692360" y="1413000"/>
            <a:ext cx="5327640" cy="5163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На сердце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Picture 5" descr="Изображение 005"/>
          <p:cNvPicPr/>
          <p:nvPr/>
        </p:nvPicPr>
        <p:blipFill>
          <a:blip r:embed="rId1"/>
          <a:stretch/>
        </p:blipFill>
        <p:spPr>
          <a:xfrm>
            <a:off x="1835280" y="1628640"/>
            <a:ext cx="5473440" cy="511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Что происходит с печенью.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4" name="Picture 7" descr="печень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3909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03:13:09Z</dcterms:created>
  <dc:creator>1</dc:creator>
  <dc:description/>
  <dc:language>en-US</dc:language>
  <cp:lastModifiedBy>Пользователь Windows</cp:lastModifiedBy>
  <dcterms:modified xsi:type="dcterms:W3CDTF">2018-11-02T09:45:00Z</dcterms:modified>
  <cp:revision>32</cp:revision>
  <dc:subject/>
  <dc:title>Устный журнал  Пивной алкоголизм</dc:title>
</cp:coreProperties>
</file>