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85D1-439F-4B40-8EE8-CB38CB10A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CE9A-19D6-4F19-B1A3-0DD8FA39C2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E872-CCE5-4068-B9D1-AE8785FE3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605-B2F7-4409-9E90-6B6B3FA92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CAB-D45B-4637-B408-737356562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CEFA-51E3-4955-B54B-DBBC530AB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E8E6-94F2-428F-AA8C-C04ED492C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D7E-5B37-4B21-9193-1F3358997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9F15-2E7D-4C7D-9A6D-64F81A149C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D30D-BE32-4CF7-9E2D-DCBBBC510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20C1-2AB9-43FD-A5F1-CB3A69D8D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E53C-B3BB-426D-8C3D-E64D9B5BE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B3A0-9BCD-492A-887C-D8A590F80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03F4-42B5-43AF-9C5E-9108D1CAA1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FBB5-30DD-497B-9895-7FD2BB6E4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400E-2C0A-4939-AC45-24E17534DD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5B14-329C-4E14-95F2-0C5B976FFF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9DB9-ADAC-4FF7-B885-30CD12C0C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388D-B45C-48C1-8056-5CFD3B54EB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33D2-8AB3-4D93-8B51-CC2FF1EDF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FCD-1060-44E3-AC02-2538CC58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22A-34D8-4C9E-B880-8BE7D16B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EE2-7736-4CE3-AACB-2A65F4CE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BC2-B252-412B-A3C2-F5010275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18CD-D7D0-429A-ADCB-7AF2D379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2BFE-199E-42EA-B950-29C4C7BF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3189-EDC9-463B-A7C7-DE7049D0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ADFE-44EA-4CA0-9D95-B9196C4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0E30-41A4-4420-9889-C3442386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2A0A-8493-4713-8CEA-C5193789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86F8-5E37-4AA2-A568-FABEBFB3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1B4-6507-4996-ABFC-A0D5AA6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E4A5-6602-4F96-B944-CC2EFBA5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D493-EEC2-45C9-B310-ED5A6B4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0DFE-B290-4C35-9170-6120BD9F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0B73-8C33-4855-A7DF-3B7B257A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80D6-E345-4FE8-A2A0-AD801CC3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AB3-16B5-401C-8C72-0BEE8B52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89F-F62E-4AC9-9001-6800EF14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D09-42E1-4610-A1C8-50A43D1C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6009-778A-4041-8985-8F1B3D6A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369-4A44-48C8-9B7C-AB830B4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5F6-FC45-44B0-B8E0-B9CFEB1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C76-C137-4717-AB52-8076497D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6458-C1E5-4182-AF3A-DDC1956BE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B017-D505-4630-99A7-46B2B7141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 Black"/>
              </a:rPr>
              <a:t>Устный журнал</a:t>
            </a:r>
            <a:br>
              <a:rPr sz="7200"/>
            </a:br>
            <a:r>
              <a:rPr b="0" i="1" lang="ru-RU" sz="7200" spc="-1" strike="noStrike">
                <a:solidFill>
                  <a:srgbClr val="000000"/>
                </a:solidFill>
                <a:latin typeface="Arial Black"/>
              </a:rPr>
              <a:t>«Скажем </a:t>
            </a: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НЕТ пиву!!!»</a:t>
            </a: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6" descr="ED00172_"/>
          <p:cNvPicPr/>
          <p:nvPr/>
        </p:nvPicPr>
        <p:blipFill>
          <a:blip r:embed="rId1"/>
          <a:stretch/>
        </p:blipFill>
        <p:spPr>
          <a:xfrm>
            <a:off x="2916360" y="3573360"/>
            <a:ext cx="4392360" cy="314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 почкам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5" descr="ПОЧКИ"/>
          <p:cNvPicPr/>
          <p:nvPr/>
        </p:nvPicPr>
        <p:blipFill>
          <a:blip r:embed="rId1"/>
          <a:stretch/>
        </p:blipFill>
        <p:spPr>
          <a:xfrm>
            <a:off x="1258920" y="1628640"/>
            <a:ext cx="7200720" cy="470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акие изменения наблюдаются в желудке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8" name="Picture 5" descr="ЖЕЛУДОК"/>
          <p:cNvPicPr/>
          <p:nvPr/>
        </p:nvPicPr>
        <p:blipFill>
          <a:blip r:embed="rId1"/>
          <a:stretch/>
        </p:blipFill>
        <p:spPr>
          <a:xfrm>
            <a:off x="539640" y="1916280"/>
            <a:ext cx="5183280" cy="46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ая страниц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ифы и реальность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32"/>
          <p:cNvPicPr/>
          <p:nvPr/>
        </p:nvPicPr>
        <p:blipFill>
          <a:blip r:embed="rId1"/>
          <a:stretch/>
        </p:blipFill>
        <p:spPr>
          <a:xfrm>
            <a:off x="4932360" y="2825640"/>
            <a:ext cx="4211640" cy="3541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37"/>
          <p:cNvPicPr/>
          <p:nvPr/>
        </p:nvPicPr>
        <p:blipFill>
          <a:blip r:embed="rId2"/>
          <a:stretch/>
        </p:blipFill>
        <p:spPr>
          <a:xfrm>
            <a:off x="0" y="2924280"/>
            <a:ext cx="4643280" cy="345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"/>
          <p:cNvPicPr/>
          <p:nvPr/>
        </p:nvPicPr>
        <p:blipFill>
          <a:blip r:embed="rId1"/>
          <a:stretch/>
        </p:blipFill>
        <p:spPr>
          <a:xfrm>
            <a:off x="0" y="0"/>
            <a:ext cx="2736720" cy="3284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36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1"/>
          <p:cNvPicPr/>
          <p:nvPr/>
        </p:nvPicPr>
        <p:blipFill>
          <a:blip r:embed="rId3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29"/>
          <p:cNvPicPr/>
          <p:nvPr/>
        </p:nvPicPr>
        <p:blipFill>
          <a:blip r:embed="rId4"/>
          <a:stretch/>
        </p:blipFill>
        <p:spPr>
          <a:xfrm>
            <a:off x="0" y="3255840"/>
            <a:ext cx="4427640" cy="360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51"/>
          <p:cNvPicPr/>
          <p:nvPr/>
        </p:nvPicPr>
        <p:blipFill>
          <a:blip r:embed="rId5"/>
          <a:stretch/>
        </p:blipFill>
        <p:spPr>
          <a:xfrm>
            <a:off x="2411280" y="0"/>
            <a:ext cx="3745080" cy="329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ая страниц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br>
              <a:rPr sz="4400"/>
            </a:b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кажи «НЕТ» пиву!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5" descr="11"/>
          <p:cNvPicPr/>
          <p:nvPr/>
        </p:nvPicPr>
        <p:blipFill>
          <a:blip r:embed="rId1"/>
          <a:stretch/>
        </p:blipFill>
        <p:spPr>
          <a:xfrm>
            <a:off x="0" y="2565360"/>
            <a:ext cx="3201840" cy="4292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46"/>
          <p:cNvPicPr/>
          <p:nvPr/>
        </p:nvPicPr>
        <p:blipFill>
          <a:blip r:embed="rId2"/>
          <a:stretch/>
        </p:blipFill>
        <p:spPr>
          <a:xfrm>
            <a:off x="4643280" y="2708280"/>
            <a:ext cx="4500720" cy="4149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3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ичины употребления пива в компаниях: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) казаться старше;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б) повеселиться;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)понравиться окружающим, выглядеть своим человеком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туаци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пользуйте любую формулу отказа.</a:t>
            </a: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собрались на дискотеку. Вам кажется, что девчонки начнут хихикать над тобой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зья вам предлагают выпить немного вина или пива – просто, чтобы расслабиться, чтобы нипочём были все насмешливые взгляды девчоно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 сможете отказаться от предложения друзей?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Рекомендации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1.Держись с теми, кто не пьёт и не курит, особенно в ситуации, когда могут предложить сигареты или алкоголь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8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2. Держись подальше от тех мест, где продают сигареты или алкогольные напитки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70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Благодарю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всех  участников нашего занятия!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Желаю всем здоровья, чтобы Ваша жизнь никогда не омрачалась алкоголем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628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иво- алкоголь, алкоголь – это яд.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ловарные слов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ф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пресси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8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2"/>
          <p:cNvPicPr/>
          <p:nvPr/>
        </p:nvPicPr>
        <p:blipFill>
          <a:blip r:embed="rId1"/>
          <a:stretch/>
        </p:blipFill>
        <p:spPr>
          <a:xfrm>
            <a:off x="0" y="3860640"/>
            <a:ext cx="4103640" cy="2683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539640" y="47628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-ая страниц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когол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исхождение и разви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34"/>
          <p:cNvPicPr/>
          <p:nvPr/>
        </p:nvPicPr>
        <p:blipFill>
          <a:blip r:embed="rId2"/>
          <a:stretch/>
        </p:blipFill>
        <p:spPr>
          <a:xfrm>
            <a:off x="4500720" y="3860640"/>
            <a:ext cx="4643280" cy="2648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0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Анализ анкет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 ответили, что пиво – это алкоголь, что в нём находится много ядовитых веществ.  Оно вредит здоровью, убивает организм. В пиве содержится спирт. Ребята нашего класса написали, что от употребления   пива погибло  много людей, что оно ухудшается память, что человек становится ленивым,  не контролирует свои поступки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39640" y="333360"/>
            <a:ext cx="820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ая страниц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ред алкого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 организм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5"/>
          <p:cNvPicPr/>
          <p:nvPr/>
        </p:nvPicPr>
        <p:blipFill>
          <a:blip r:embed="rId1"/>
          <a:stretch/>
        </p:blipFill>
        <p:spPr>
          <a:xfrm>
            <a:off x="611280" y="2565360"/>
            <a:ext cx="3127320" cy="367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13"/>
          <p:cNvPicPr/>
          <p:nvPr/>
        </p:nvPicPr>
        <p:blipFill>
          <a:blip r:embed="rId2"/>
          <a:stretch/>
        </p:blipFill>
        <p:spPr>
          <a:xfrm>
            <a:off x="4284720" y="2492280"/>
            <a:ext cx="3816360" cy="396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21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ак действует алкоголь н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ёгкие?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6" descr="дыхание"/>
          <p:cNvPicPr/>
          <p:nvPr/>
        </p:nvPicPr>
        <p:blipFill>
          <a:blip r:embed="rId1"/>
          <a:stretch/>
        </p:blipFill>
        <p:spPr>
          <a:xfrm>
            <a:off x="1979640" y="1989000"/>
            <a:ext cx="4968720" cy="457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 головной мозг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5" descr="Изображение 004"/>
          <p:cNvPicPr/>
          <p:nvPr/>
        </p:nvPicPr>
        <p:blipFill>
          <a:blip r:embed="rId1"/>
          <a:stretch/>
        </p:blipFill>
        <p:spPr>
          <a:xfrm>
            <a:off x="1692360" y="1413000"/>
            <a:ext cx="5327640" cy="516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 сердц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5" descr="Изображение 005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511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 происходит с печенью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7" descr="печень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909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3:13:09Z</dcterms:created>
  <dc:creator>1</dc:creator>
  <dc:description/>
  <dc:language>en-US</dc:language>
  <cp:lastModifiedBy>Пользователь Windows</cp:lastModifiedBy>
  <dcterms:modified xsi:type="dcterms:W3CDTF">2018-11-02T09:45:00Z</dcterms:modified>
  <cp:revision>32</cp:revision>
  <dc:subject/>
  <dc:title>Устный журнал  Пивной алкоголизм</dc:title>
</cp:coreProperties>
</file>