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690-8E57-4D93-BB9B-650B9BB4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3D8-712E-4073-BD74-09303ADA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CFFD-A87D-46AF-A02A-53FB33F9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620-6BB3-4CFD-BDFB-FF0D7CEA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8627-A374-43E3-AD0C-5CE63379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67A0-1D7A-4D83-9FED-690F4347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463-204A-4769-B2D6-0EAA8EDB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82DC-6929-4E64-83DE-02C81CF4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2835-53A8-45A3-A93E-5E7FE048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8D6-F29C-4B56-995A-9C58C4C2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298E-9271-4961-9743-2522F146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0A80-2A90-4C14-ACF9-2A998ECF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e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75C6-FEEB-4367-9507-36F7AF7671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Documents and Settings\User\Рабочий стол\вселенная.jpg"/>
          <p:cNvPicPr/>
          <p:nvPr/>
        </p:nvPicPr>
        <p:blipFill>
          <a:blip r:embed="rId1"/>
          <a:stretch/>
        </p:blipFill>
        <p:spPr>
          <a:xfrm>
            <a:off x="0" y="108000"/>
            <a:ext cx="9210600" cy="6643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57400" y="5572080"/>
            <a:ext cx="514332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ставила Кашкарова С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БДОУ ЦРР Д/С № 2 г.Са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уна светит потому, что ее освещает Солнце. С Земли мы видим ее то круглой, то в виде серпа, иногда ее совсем не видно. Мы видим только ту часть, на которую падают солнечные лу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00320" y="4214520"/>
            <a:ext cx="3143160" cy="1214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C:\Documents and Settings\User\Рабочий стол\луна.jpg"/>
          <p:cNvPicPr/>
          <p:nvPr/>
        </p:nvPicPr>
        <p:blipFill>
          <a:blip r:embed="rId2"/>
          <a:stretch/>
        </p:blipFill>
        <p:spPr>
          <a:xfrm>
            <a:off x="0" y="1276200"/>
            <a:ext cx="914400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43400" y="-360"/>
            <a:ext cx="285732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 – ведь Солнце очень горячее. Если приблизиться к нему слишком близко – то можно сгоре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лнце  - это звезда, хотя и не очень большая.  Есть звезды больше Солнца. Без Солнца не было бы жизни на нашей планете. А еще с Солнцем связана смена дня и ночи, времен г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000320" y="3857400"/>
            <a:ext cx="185724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://h6.img.mediacache.rugion.ru/_i/forum/files/88/85/80/8885809_2s308_1308241732.gif"/>
          <p:cNvPicPr/>
          <p:nvPr/>
        </p:nvPicPr>
        <p:blipFill>
          <a:blip r:embed="rId1"/>
          <a:stretch/>
        </p:blipFill>
        <p:spPr>
          <a:xfrm>
            <a:off x="0" y="500040"/>
            <a:ext cx="614376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это другие звезды, которые мы видим с Земли. Они находятся так далеко от нас, что кажутся всего лишь маленькими сверкающими точечками. На самом деле – это раскаленные газовые шары, похожие на Солнце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28680" y="2428920"/>
            <a:ext cx="335772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http://www.spacetelescope.org/static/archives/images/wallpaper2/heic0603c.jpg"/>
          <p:cNvPicPr/>
          <p:nvPr/>
        </p:nvPicPr>
        <p:blipFill>
          <a:blip r:embed="rId1"/>
          <a:stretch/>
        </p:blipFill>
        <p:spPr>
          <a:xfrm>
            <a:off x="71280" y="1079640"/>
            <a:ext cx="90093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этой картинке – все планеты, которые вращаются вокруг Солнца. Это Солнечная система.  А Солнце больше всех остальных планет, вместе взятых! Наша планета Земля – третья от Солнца, совсем небольшая по сравнению с другими планетами. На тех планетах, которые очень близко к Солнцу  очень жарко. А на самых дальних планетах, наоборот, очень холодно, потому что солнечные лучи туда плохо долетаю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714400" y="2642760"/>
            <a:ext cx="3857400" cy="3483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photojournal.jpl.nasa.gov/jpegMod/PIA06890_modest.jpg"/>
          <p:cNvPicPr/>
          <p:nvPr/>
        </p:nvPicPr>
        <p:blipFill>
          <a:blip r:embed="rId2"/>
          <a:stretch/>
        </p:blipFill>
        <p:spPr>
          <a:xfrm>
            <a:off x="1143000" y="1571760"/>
            <a:ext cx="70167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ая от Солнца планета – Меркурий. Она в 20 раз меньше Земли. Это безжизненный каменный шар с горами, глубокими оврагами и голыми, унылыми камнями. Меркурий как и луна, светит отраженным солнечным светом. Жизнь там невозможна из-за невыносимой для живых существ температуры, и потому, что там нечем дыш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14480" y="3429000"/>
            <a:ext cx="2428920" cy="228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User\Рабочий стол\Mercury.jpg"/>
          <p:cNvPicPr/>
          <p:nvPr/>
        </p:nvPicPr>
        <p:blipFill>
          <a:blip r:embed="rId2"/>
          <a:stretch/>
        </p:blipFill>
        <p:spPr>
          <a:xfrm>
            <a:off x="928800" y="1392120"/>
            <a:ext cx="728640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нера– вторая от Солнца планета. Горячие солнечные лучи  раскаляют ее поверхность до +500 градусов. В таком пекле не может жить ни одно живое существо. Воздух на этой планете ужасно ядовитый и тяжелый. На Венере свистят и завывают ураганы, носятся тучи поднятой ветром пыли, тянутся каменистые пустыни, скалы, кругом раскаленный песок. Над Венерой так много облаков, что она кажется укутанной в белую вату. Сквозь плотные облака не пробивается солнечный свет, поэтому на планете вечная ноч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71760" y="4786200"/>
            <a:ext cx="5357520" cy="1339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" descr="C:\Documents and Settings\User\Рабочий стол\венера.jpg"/>
          <p:cNvPicPr/>
          <p:nvPr/>
        </p:nvPicPr>
        <p:blipFill>
          <a:blip r:embed="rId2"/>
          <a:stretch/>
        </p:blipFill>
        <p:spPr>
          <a:xfrm>
            <a:off x="571680" y="1814400"/>
            <a:ext cx="80722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емля – третья планета солнечной системы, на ней существует жизнь благодаря плотной атмосфере, в которой есть кислород.  Большую часть занимают моря и океаны, поэтому в космосе она голубого цвета. Земля – единственная планета, на которой есть суша и в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500280" y="3285720"/>
            <a:ext cx="2286000" cy="2428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Documents and Settings\User\Рабочий стол\земля.jpg"/>
          <p:cNvPicPr/>
          <p:nvPr/>
        </p:nvPicPr>
        <p:blipFill>
          <a:blip r:embed="rId2"/>
          <a:stretch/>
        </p:blipFill>
        <p:spPr>
          <a:xfrm>
            <a:off x="1857240" y="985680"/>
            <a:ext cx="557244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6320" y="0"/>
            <a:ext cx="285732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с – четвертая планета от Солнца.  Это безжизненный  и холодный мир.  На планете Марс – самые высокие горы в солнечной системе. Высота потухшего вулкана – 27 км. Он в три раза выше Эвереста – самой высокой горы на Земл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357600" y="3857760"/>
            <a:ext cx="27860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о тьм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ря багровым светом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глуби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смического льд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отрит Марс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злюдная планет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мурая  багровая звезда. (С.Золотцев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" descr="C:\Documents and Settings\User\Рабочий стол\vfhc.jpg"/>
          <p:cNvPicPr/>
          <p:nvPr/>
        </p:nvPicPr>
        <p:blipFill>
          <a:blip r:embed="rId1"/>
          <a:stretch/>
        </p:blipFill>
        <p:spPr>
          <a:xfrm>
            <a:off x="214200" y="142920"/>
            <a:ext cx="6143760" cy="64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Юпитер – пятая, самая большая планета в Солнечной системе, она в 10 раз больше Земли. У него есть 50 спутников. Пятна на поверхности планеты – это ужасные бури и грозы. Большое красное пятно  -  это самый мощный ураган в Солнечной системе. Он бушует уже больше 300 лет.  Это самая беспокойная и грозная плане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" descr="C:\Documents and Settings\User\Рабочий стол\юпитер.jpg"/>
          <p:cNvPicPr/>
          <p:nvPr/>
        </p:nvPicPr>
        <p:blipFill>
          <a:blip r:embed="rId2"/>
          <a:stretch/>
        </p:blipFill>
        <p:spPr>
          <a:xfrm>
            <a:off x="0" y="1212840"/>
            <a:ext cx="914400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турн – шестая, гигантская планета, которая почти полностью состоит из газа. Здесь дуют самые сильные ветры, царит вечный холод. У этой планеты очень много спут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550080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каждой планеты есть что-то свое, Что ярче всего отличает 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турн непременно узнаешь в лицо – Его окружает большое кольц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о не сплошное,  из разных полос. Ученые вот как решили вопрос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-то давно там замерзла вода, И кольца Сатурна из камня и льда.(Р.Алдонин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" descr="C:\Documents and Settings\User\Рабочий стол\сатурн.jpg"/>
          <p:cNvPicPr/>
          <p:nvPr/>
        </p:nvPicPr>
        <p:blipFill>
          <a:blip r:embed="rId1"/>
          <a:stretch/>
        </p:blipFill>
        <p:spPr>
          <a:xfrm>
            <a:off x="928800" y="785880"/>
            <a:ext cx="742932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14292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те на этих  люд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643120" y="2999880"/>
            <a:ext cx="450072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C:\Documents and Settings\User\Рабочий стол\люди смотрят в небо.jpg"/>
          <p:cNvPicPr/>
          <p:nvPr/>
        </p:nvPicPr>
        <p:blipFill>
          <a:blip r:embed="rId1"/>
          <a:stretch/>
        </p:blipFill>
        <p:spPr>
          <a:xfrm>
            <a:off x="357120" y="928800"/>
            <a:ext cx="85089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ан, седьмая планета – это ледяной гигант из камня и льда. Как Сатурн, имеет кольца, которые состоят из пыли и больших камней.  У него 27 спутни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1680" y="2571840"/>
            <a:ext cx="1500120" cy="3000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C:\Documents and Settings\User\Рабочий стол\уран.jpg"/>
          <p:cNvPicPr/>
          <p:nvPr/>
        </p:nvPicPr>
        <p:blipFill>
          <a:blip r:embed="rId2"/>
          <a:stretch/>
        </p:blipFill>
        <p:spPr>
          <a:xfrm>
            <a:off x="285840" y="857160"/>
            <a:ext cx="85262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ьмая планета называется Нептун –  это самый маленький из четырех газовых гигантов в Солнечной системе. Здесь постоянно дуют сильные ветры. Ученые обнаружили вокруг планеты шесть колец и 8 спут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57240" y="3071520"/>
            <a:ext cx="4572000" cy="2500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" descr="C:\Documents and Settings\User\Рабочий стол\neptun_02.jpg"/>
          <p:cNvPicPr/>
          <p:nvPr/>
        </p:nvPicPr>
        <p:blipFill>
          <a:blip r:embed="rId2"/>
          <a:stretch/>
        </p:blipFill>
        <p:spPr>
          <a:xfrm>
            <a:off x="1785960" y="1071720"/>
            <a:ext cx="56437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девятом месте от Солнца находится Плутон – карликовая планета, размером меньше Луны, имеет 4 спутника. Поэтому многие ученые считают, что это не планета вообще. Плутон очень далеко, поэтому сегодня мало что известно об этой планете и его спутник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357720" y="2285640"/>
            <a:ext cx="242856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" descr="C:\Documents and Settings\User\Рабочий стол\Plyton.jpg"/>
          <p:cNvPicPr/>
          <p:nvPr/>
        </p:nvPicPr>
        <p:blipFill>
          <a:blip r:embed="rId2"/>
          <a:stretch/>
        </p:blipFill>
        <p:spPr>
          <a:xfrm>
            <a:off x="144360" y="1000080"/>
            <a:ext cx="88362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имо планет и их спутников, звезд разной величины, в космосе можно встретить небесные тела – астероиды. Они меньше планет, и тоже вращаются вокруг Солнц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29000" y="2499840"/>
            <a:ext cx="2214720" cy="235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ocuments and Settings\User\Рабочий стол\asteroid01_1600.jpg"/>
          <p:cNvPicPr/>
          <p:nvPr/>
        </p:nvPicPr>
        <p:blipFill>
          <a:blip r:embed="rId2"/>
          <a:stretch/>
        </p:blipFill>
        <p:spPr>
          <a:xfrm>
            <a:off x="642960" y="803160"/>
            <a:ext cx="807228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еты с длинными горящими хвостами – небесные путешественники. Это огромные каменные глыбы, покрытые толстым слоем льда. Чем ближе комета к Солнцу, тем выше поднимается температура, лед начинает испаряться. За кометой вырастает огромный хвост, который тянется на миллионы километ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00280" y="292896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" descr="C:\Documents and Settings\User\Рабочий стол\комета.jpg"/>
          <p:cNvPicPr/>
          <p:nvPr/>
        </p:nvPicPr>
        <p:blipFill>
          <a:blip r:embed="rId2"/>
          <a:stretch/>
        </p:blipFill>
        <p:spPr>
          <a:xfrm>
            <a:off x="0" y="1511280"/>
            <a:ext cx="9188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бы изучать космос, люди придумали разные приспособления. Например, космические спутн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714840" y="300024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C:\Documents and Settings\User\Рабочий стол\спутник.jpg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 космические стан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99840" y="2142720"/>
            <a:ext cx="3643560" cy="2786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C:\Documents and Settings\User\Рабочий стол\станция.jpg"/>
          <p:cNvPicPr/>
          <p:nvPr/>
        </p:nvPicPr>
        <p:blipFill>
          <a:blip r:embed="rId2"/>
          <a:stretch/>
        </p:blipFill>
        <p:spPr>
          <a:xfrm>
            <a:off x="714240" y="685800"/>
            <a:ext cx="7715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осмических станциях живут люди - космонавты. Они изучают космическое пространство. Внутри корабля все находится в невесомости – плавает в воздухе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рыба в во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14440" y="3214440"/>
            <a:ext cx="2428920" cy="1500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" descr="C:\Documents and Settings\User\Рабочий стол\ytdtcjvjcnm.jpg"/>
          <p:cNvPicPr/>
          <p:nvPr/>
        </p:nvPicPr>
        <p:blipFill>
          <a:blip r:embed="rId2"/>
          <a:stretch/>
        </p:blipFill>
        <p:spPr>
          <a:xfrm>
            <a:off x="71280" y="1143000"/>
            <a:ext cx="90172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околад, бульон, рыба, чай и другие продукты хранятся в специальных тюбиках. Из них  космонавты еду выдавливают прямо в рот. Чтобы не улетел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56920" y="2643120"/>
            <a:ext cx="3000600" cy="2857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" descr="C:\Documents and Settings\User\Рабочий стол\еда.jpg"/>
          <p:cNvPicPr/>
          <p:nvPr/>
        </p:nvPicPr>
        <p:blipFill>
          <a:blip r:embed="rId2"/>
          <a:stretch/>
        </p:blipFill>
        <p:spPr>
          <a:xfrm>
            <a:off x="0" y="1000080"/>
            <a:ext cx="91123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смонавты могут выходить в открытый космос. Но в космосе очень холодно. Если выйти в космос без специального костюма – можно моментально замерзнуть и превратиться в ледышку. А еще в космосе очень мало воздуха и обычный человек там не сможет дышать. Поэтому на космонавта одевают вот такой скафандр. Он очень теплый и защищает космонавта от холода. Кроме того ,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14320" y="2857320"/>
            <a:ext cx="4143240" cy="3268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http://www.yeniresim.com/data/media/353/www.yeniresim.com_-_Uzay_Resimleri_-_Astronot.jpg"/>
          <p:cNvPicPr/>
          <p:nvPr/>
        </p:nvPicPr>
        <p:blipFill>
          <a:blip r:embed="rId2"/>
          <a:stretch/>
        </p:blipFill>
        <p:spPr>
          <a:xfrm>
            <a:off x="1071720" y="1571760"/>
            <a:ext cx="70466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вот однажды люди решили полететь к звездам! А первыми отправились в космическое пространство собаки Белка и Стрелка. Но собаки же не могли рассказать о том, что они увидели 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informdetox.com.s3-eu-central-1.amazonaws.com/wp-content/uploads/2015/06/44340839_1234856948_03.jpg"/>
          <p:cNvPicPr/>
          <p:nvPr/>
        </p:nvPicPr>
        <p:blipFill>
          <a:blip r:embed="rId1"/>
          <a:stretch/>
        </p:blipFill>
        <p:spPr>
          <a:xfrm>
            <a:off x="357120" y="1143000"/>
            <a:ext cx="828684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чего состоит скафандр? Это многослойный комбинезон с о специальными ботинками и перчатками. К нему крепятся баллоны с кислородом.  А на голову надевается гермошлем, чтобы можно было дышать в открытом  космос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71480" y="3071520"/>
            <a:ext cx="1785960" cy="1500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" descr="C:\Documents and Settings\User\Рабочий стол\скафандр.jpg"/>
          <p:cNvPicPr/>
          <p:nvPr/>
        </p:nvPicPr>
        <p:blipFill>
          <a:blip r:embed="rId2"/>
          <a:stretch/>
        </p:blipFill>
        <p:spPr>
          <a:xfrm>
            <a:off x="1571760" y="1143000"/>
            <a:ext cx="5786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годня вы узнали о космосе много нового и интересного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теперь проверьте свои знания.</a:t>
            </a:r>
            <a:br>
              <a:rPr sz="18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гадайте загад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 пера, ни крыла, а быстрее орла. Только выпустит хвост, понесется до звезд. (атемо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лые цветы вечером распускаются, а утром увядают (ыдзевз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д домами у дорожки висит кусок лепешки (ану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д бабушкиной избушкой висит хлеба краюшка. Собака лает, а достать не может. (цясе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у-ка, кто из вас ответит: не огонь, а больно жжет, не фонарь, а ярко светит, и не пекарь, а печет? (ецнло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ловек сидит в ракете. Смело в небо он летит и на нас в своем скафандре он из космоса глядит. (тваномсо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космосе всегда мороз, лета не бывает. Космонавт, проверив трос, что-то надевает. Та одежда припасет и тепло, и кислород. (рднафак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называется праздник, который отмечают в апрел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то первым отправился в космос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зовут первого человека-космонавт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называется космический аппарат для полетов в космос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космонавты и все, что находится в ракете, как будто плавают в воде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ови самую большую звезду в нашей Солнечной сист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днем мы не видим звезд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называется планета, на которой мы живе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аком месте от Солнца находится планета Земл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какой планеты есть кольц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называется планета-карлик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на других планетах жить невозможн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, кроме планет, можно еще увидеть в космос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0720" y="-214200"/>
            <a:ext cx="464328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бы изучать звезды и планеты, а также наблюдать за Землей из космоса, люди  построили космическую ракету. Внутрь посадили космонавта – 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143080"/>
            <a:ext cx="282888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214200" y="285840"/>
            <a:ext cx="4429080" cy="5904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Documents and Settings\User\Рабочий стол\гагарин.jpg"/>
          <p:cNvPicPr/>
          <p:nvPr/>
        </p:nvPicPr>
        <p:blipFill>
          <a:blip r:embed="rId2"/>
          <a:stretch/>
        </p:blipFill>
        <p:spPr>
          <a:xfrm>
            <a:off x="4857840" y="2071800"/>
            <a:ext cx="38574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43578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го полет длился всего 108 минут. Произошло это 12 апреля 1961 год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жегодно в этот день отмечается праздник – день космонавти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86240" y="1600200"/>
            <a:ext cx="3400560" cy="447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0" y="2000160"/>
            <a:ext cx="5021280" cy="464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img15.nnm.ru/d/1/3/d/7/8ea0d6170de703f736c4aabff39_prev.jpg"/>
          <p:cNvPicPr/>
          <p:nvPr/>
        </p:nvPicPr>
        <p:blipFill>
          <a:blip r:embed="rId3"/>
          <a:stretch/>
        </p:blipFill>
        <p:spPr>
          <a:xfrm>
            <a:off x="4643280" y="214200"/>
            <a:ext cx="4357800" cy="639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адится в ракету, идет обратный отсчет: «Пять, четыре, три, два, один, ПУСК!». Ракета отрывается от земли, из ее хвоста рвется огонь – так сильно работает ее двигатель. И ракета летит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714920" y="2857320"/>
            <a:ext cx="32860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C:\Documents and Settings\User\Рабочий стол\cnfhn.jpg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кета  в открытом космосе! Что  увидели космонавты? Конечно же, нашу планету , которая называется Земл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00080" y="3285720"/>
            <a:ext cx="64296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C:\Documents and Settings\User\Рабочий стол\ракета в космосе.jpg"/>
          <p:cNvPicPr/>
          <p:nvPr/>
        </p:nvPicPr>
        <p:blipFill>
          <a:blip r:embed="rId1"/>
          <a:stretch/>
        </p:blipFill>
        <p:spPr>
          <a:xfrm>
            <a:off x="500040" y="714240"/>
            <a:ext cx="81993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планете Земля мы живем. Синие пятна на нашей планете - это вода , моря и океаны. Зеленые пятнышки – это зеленые леса и луга. Коричневые  – это горы. Она очень красивая, наша планета! А этот небольшой шарик в уголке – это  спутник планеты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999800"/>
            <a:ext cx="69724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0" y="1141560"/>
            <a:ext cx="91440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7640" y="-360"/>
            <a:ext cx="1839960" cy="67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 как выглядит Луна, если к ней подлететь поближе.  Там нет ни воды, ни воздуха. Днем жара + 120 градусов, ночью – мороз – 17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99880" y="2143080"/>
            <a:ext cx="2643480" cy="3983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www.yapfiles.ru/files/392806/moonnew.jpg"/>
          <p:cNvPicPr/>
          <p:nvPr/>
        </p:nvPicPr>
        <p:blipFill>
          <a:blip r:embed="rId2"/>
          <a:stretch/>
        </p:blipFill>
        <p:spPr>
          <a:xfrm>
            <a:off x="214200" y="642960"/>
            <a:ext cx="64533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Светлана</cp:lastModifiedBy>
  <dcterms:modified xsi:type="dcterms:W3CDTF">2019-04-22T14:11:52Z</dcterms:modified>
  <cp:revision>33</cp:revision>
  <dc:subject/>
  <dc:title>Слайд 1</dc:title>
</cp:coreProperties>
</file>