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513-EC72-4FC6-9CCA-5CF1D0D8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62F-925A-43A3-8237-479A85D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C73-E5F1-4194-89D9-97D6DE27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661-112D-4083-85AA-3DE4F9BD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599-77A7-4176-BBA7-065926E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7A9-9084-4012-A7EE-F1EAEE2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744-95EB-4180-9474-CA9A04D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ED7-C30A-4467-ACBA-43703ADD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2DA-10A9-4FCE-8A13-C212CA13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B77-7CC0-41D9-A50E-F1D8953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85A-E34B-4F97-8EC7-C53C142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0C3-8C0B-41FF-8D0B-BA497CC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e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D9FF-6EE6-42FC-A691-25A29FDA9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User\Рабочий стол\вселенная.jpg"/>
          <p:cNvPicPr/>
          <p:nvPr/>
        </p:nvPicPr>
        <p:blipFill>
          <a:blip r:embed="rId1"/>
          <a:stretch/>
        </p:blipFill>
        <p:spPr>
          <a:xfrm>
            <a:off x="0" y="108000"/>
            <a:ext cx="9210600" cy="6643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7400" y="5572080"/>
            <a:ext cx="51433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тавила Кашкарова С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БДОУ ЦРР Д/С № 2 г.Са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уна светит потому, что ее освещает Солнце. С Земли мы видим ее то круглой, то в виде серпа, иногда ее совсем не видно. Мы видим только ту часть, на которую падают солнечные лу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00320" y="4214520"/>
            <a:ext cx="3143160" cy="121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C:\Documents and Settings\User\Рабочий стол\луна.jpg"/>
          <p:cNvPicPr/>
          <p:nvPr/>
        </p:nvPicPr>
        <p:blipFill>
          <a:blip r:embed="rId2"/>
          <a:stretch/>
        </p:blipFill>
        <p:spPr>
          <a:xfrm>
            <a:off x="0" y="127620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43400" y="-360"/>
            <a:ext cx="285732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горячее. Если приблизиться к нему слишком близко – то можно сгоре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нце  - это звезда, хотя и не очень большая.  Есть звезды больше Солнца. Без Солнца не было бы жизни на нашей планете. А еще с Солнцем связана смена дня и ночи, времен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000320" y="3857400"/>
            <a:ext cx="185724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0" y="500040"/>
            <a:ext cx="61437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это другие звезды, которые мы видим с Земли. Они находятся так далеко от нас, что кажутся всего лишь маленькими сверкающими точечками. На самом деле – это раскаленные газовые шары, похожие на Солнц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28680" y="2428920"/>
            <a:ext cx="33577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71280" y="1079640"/>
            <a:ext cx="90093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– все планеты, которые вращаются вокруг Солнца. Это Солнечная система.  А Солнце больше всех остальных планет, вместе взятых! Наша планета Земля – третья от Солнца, совсем небольшая по сравнению с другими планетами. На тех планетах, которые очень близко к Солнцу  очень жарко. А на самых дальних планетах, наоборот,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14400" y="2642760"/>
            <a:ext cx="3857400" cy="34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43000" y="1571760"/>
            <a:ext cx="7016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ая от Солнца планета – Меркурий. Она в 20 раз меньше Земли. Это безжизненный каменный шар с горами, глубокими оврагами и голыми, унылыми камнями. Меркурий как и луна, светит отраженным солнечным светом. Жизнь там невозможна из-за невыносимой для живых существ температуры, и потому, что там нечем ды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14480" y="342900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User\Рабочий стол\Mercury.jpg"/>
          <p:cNvPicPr/>
          <p:nvPr/>
        </p:nvPicPr>
        <p:blipFill>
          <a:blip r:embed="rId2"/>
          <a:stretch/>
        </p:blipFill>
        <p:spPr>
          <a:xfrm>
            <a:off x="928800" y="139212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нера– вторая от Солнца планета. Горячие солнечные лучи  раскаляют ее поверхность до +500 градусов. В таком пекле не может жить ни одно живое существо. Воздух на этой планете ужасно ядовитый и тяжелый. На Венере свистят и завывают ураганы, носятся тучи поднятой ветром пыли, тянутся каменистые пустыни, скалы, кругом раскаленный песок. Над Венерой так много облаков, что она кажется укутанной в белую вату. Сквозь плотные облака не пробивается солнечный свет, поэтому на планете вечная ноч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71760" y="4786200"/>
            <a:ext cx="5357520" cy="133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C:\Documents and Settings\User\Рабочий стол\венера.jpg"/>
          <p:cNvPicPr/>
          <p:nvPr/>
        </p:nvPicPr>
        <p:blipFill>
          <a:blip r:embed="rId2"/>
          <a:stretch/>
        </p:blipFill>
        <p:spPr>
          <a:xfrm>
            <a:off x="571680" y="1814400"/>
            <a:ext cx="80722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мля – третья планета солнечной системы, на ней существует жизнь благодаря плотной атмосфере, в которой есть кислород.  Большую часть занимают моря и океаны, поэтому в космосе она голубого цвета. Земля – единственная планета, на которой есть суша и в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00280" y="3285720"/>
            <a:ext cx="2286000" cy="242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User\Рабочий стол\земля.jpg"/>
          <p:cNvPicPr/>
          <p:nvPr/>
        </p:nvPicPr>
        <p:blipFill>
          <a:blip r:embed="rId2"/>
          <a:stretch/>
        </p:blipFill>
        <p:spPr>
          <a:xfrm>
            <a:off x="1857240" y="985680"/>
            <a:ext cx="557244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6320" y="0"/>
            <a:ext cx="285732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с – четвертая планета от Солнца.  Это безжизненный  и холодный мир.  На планете Марс – самые высокие горы в солнечной системе. Высота потухшего вулкана – 27 км. Он в три раза выше Эвереста – самой высокой горы на Зем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57600" y="3857760"/>
            <a:ext cx="2786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 тьм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я багровым свет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глуби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смического ль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отрит Марс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людная планет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мурая  багровая звезда. (С.Золотце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C:\Documents and Settings\User\Рабочий стол\vfhc.jpg"/>
          <p:cNvPicPr/>
          <p:nvPr/>
        </p:nvPicPr>
        <p:blipFill>
          <a:blip r:embed="rId1"/>
          <a:stretch/>
        </p:blipFill>
        <p:spPr>
          <a:xfrm>
            <a:off x="214200" y="142920"/>
            <a:ext cx="614376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питер – пятая, самая большая планета в Солнечной системе, она в 10 раз больше Земли. У него есть 50 спутников. Пятна на поверхности планеты – это ужасные бури и грозы. Большое красное пятно  -  это самый мощный ураган в Солнечной системе. Он бушует уже больше 300 лет.  Это самая беспокойная и грозная план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:\Documents and Settings\User\Рабочий стол\юпитер.jpg"/>
          <p:cNvPicPr/>
          <p:nvPr/>
        </p:nvPicPr>
        <p:blipFill>
          <a:blip r:embed="rId2"/>
          <a:stretch/>
        </p:blipFill>
        <p:spPr>
          <a:xfrm>
            <a:off x="0" y="121284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турн – шестая, гигантская планета, которая почти полностью состоит из газа. Здесь дуют самые сильные ветры, царит вечный холод. У этой планеты очень много спу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ждой планеты есть что-то свое, Что ярче всего отличает 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турн непременно узнаешь в лицо – Его окружает большое кольц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о не сплошное,  из разных полос. Ученые вот как решили вопрос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-то давно там замерзла вода, И кольца Сатурна из камня и льда.(Р.Алдони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Documents and Settings\User\Рабочий стол\сатурн.jpg"/>
          <p:cNvPicPr/>
          <p:nvPr/>
        </p:nvPicPr>
        <p:blipFill>
          <a:blip r:embed="rId1"/>
          <a:stretch/>
        </p:blipFill>
        <p:spPr>
          <a:xfrm>
            <a:off x="928800" y="785880"/>
            <a:ext cx="74293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этих  люд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43120" y="2999880"/>
            <a:ext cx="45007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Documents and Settings\User\Рабочий стол\люди смотрят в небо.jpg"/>
          <p:cNvPicPr/>
          <p:nvPr/>
        </p:nvPicPr>
        <p:blipFill>
          <a:blip r:embed="rId1"/>
          <a:stretch/>
        </p:blipFill>
        <p:spPr>
          <a:xfrm>
            <a:off x="357120" y="928800"/>
            <a:ext cx="85089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ан, седьмая планета – это ледяной гигант из камня и льда. Как Сатурн, имеет кольца, которые состоят из пыли и больших камней.  У него 27 спутни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1680" y="2571840"/>
            <a:ext cx="1500120" cy="300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Documents and Settings\User\Рабочий стол\уран.jpg"/>
          <p:cNvPicPr/>
          <p:nvPr/>
        </p:nvPicPr>
        <p:blipFill>
          <a:blip r:embed="rId2"/>
          <a:stretch/>
        </p:blipFill>
        <p:spPr>
          <a:xfrm>
            <a:off x="285840" y="857160"/>
            <a:ext cx="85262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ьмая планета называется Нептун –  это самый маленький из четырех газовых гигантов в Солнечной системе. Здесь постоянно дуют сильные ветры. Ученые обнаружили вокруг планеты шесть колец и 8 спу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57240" y="3071520"/>
            <a:ext cx="4572000" cy="25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Documents and Settings\User\Рабочий стол\neptun_02.jpg"/>
          <p:cNvPicPr/>
          <p:nvPr/>
        </p:nvPicPr>
        <p:blipFill>
          <a:blip r:embed="rId2"/>
          <a:stretch/>
        </p:blipFill>
        <p:spPr>
          <a:xfrm>
            <a:off x="1785960" y="1071720"/>
            <a:ext cx="5643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евятом месте от Солнца находится Плутон – карликовая планета, размером меньше Луны, имеет 4 спутника. Поэтому многие ученые считают, что это не планета вообще. Плутон очень далеко, поэтому сегодня мало что известно об этой планете и его спутни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7720" y="2285640"/>
            <a:ext cx="24285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C:\Documents and Settings\User\Рабочий стол\Plyton.jpg"/>
          <p:cNvPicPr/>
          <p:nvPr/>
        </p:nvPicPr>
        <p:blipFill>
          <a:blip r:embed="rId2"/>
          <a:stretch/>
        </p:blipFill>
        <p:spPr>
          <a:xfrm>
            <a:off x="144360" y="1000080"/>
            <a:ext cx="8836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планет и их спутников, звезд разной величины, в космосе можно встретить небесные тела – астероиды. Они меньше планет, и тоже вращаются вокруг Солн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249984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User\Рабочий стол\asteroid01_1600.jpg"/>
          <p:cNvPicPr/>
          <p:nvPr/>
        </p:nvPicPr>
        <p:blipFill>
          <a:blip r:embed="rId2"/>
          <a:stretch/>
        </p:blipFill>
        <p:spPr>
          <a:xfrm>
            <a:off x="642960" y="803160"/>
            <a:ext cx="807228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еты с длинными горящими хвостами – небесные путешественники. Это огромные каменные глыбы, покрытые толстым слоем льда. Чем ближе комета к Солнцу, тем выше поднимается температура, лед начинает испаряться. За кометой вырастает огромный хвост, который тянется на миллионы километ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0280" y="292896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C:\Documents and Settings\User\Рабочий стол\комета.jpg"/>
          <p:cNvPicPr/>
          <p:nvPr/>
        </p:nvPicPr>
        <p:blipFill>
          <a:blip r:embed="rId2"/>
          <a:stretch/>
        </p:blipFill>
        <p:spPr>
          <a:xfrm>
            <a:off x="0" y="1511280"/>
            <a:ext cx="91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изучать космос, люди придумали разные приспособления. Например, космические спутн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14840" y="30002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C:\Documents and Settings\User\Рабочий стол\спутник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космические ста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99840" y="2142720"/>
            <a:ext cx="3643560" cy="2786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C:\Documents and Settings\User\Рабочий стол\станция.jpg"/>
          <p:cNvPicPr/>
          <p:nvPr/>
        </p:nvPicPr>
        <p:blipFill>
          <a:blip r:embed="rId2"/>
          <a:stretch/>
        </p:blipFill>
        <p:spPr>
          <a:xfrm>
            <a:off x="714240" y="685800"/>
            <a:ext cx="7715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смических станциях живут люди - космонавты. Они изучают космическое пространство. Внутри корабля все находится в невесомости – плавает в воздухе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рыба в в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440" y="321444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C:\Documents and Settings\User\Рабочий стол\ytdtcjvjcnm.jpg"/>
          <p:cNvPicPr/>
          <p:nvPr/>
        </p:nvPicPr>
        <p:blipFill>
          <a:blip r:embed="rId2"/>
          <a:stretch/>
        </p:blipFill>
        <p:spPr>
          <a:xfrm>
            <a:off x="71280" y="1143000"/>
            <a:ext cx="9017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околад, бульон, рыба, чай и другие продукты хранятся в специальных тюбиках. Из них  космонавты еду выдавливают прямо в рот. Чтобы не уле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56920" y="2643120"/>
            <a:ext cx="3000600" cy="285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C:\Documents and Settings\User\Рабочий стол\еда.jpg"/>
          <p:cNvPicPr/>
          <p:nvPr/>
        </p:nvPicPr>
        <p:blipFill>
          <a:blip r:embed="rId2"/>
          <a:stretch/>
        </p:blipFill>
        <p:spPr>
          <a:xfrm>
            <a:off x="0" y="1000080"/>
            <a:ext cx="911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смонавты могут выходить в открытый космос. Но в космосе очень холодно. Если выйти в космос без специального костюма – можно моментально замерзнуть и превратиться в ледышку. А еще в космосе очень мало воздуха и обычный человек там не сможет дышать. Поэтому на космонавта одевают вот такой скафандр. Он очень теплый и защищает космонавта от холода. Кроме того ,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14320" y="2857320"/>
            <a:ext cx="4143240" cy="32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1071720" y="1571760"/>
            <a:ext cx="7046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от однажды люди решили полететь к звездам! А первыми отправились в космическое пространство собаки Белка и Стрелка. Но собаки же не могли рассказать о том, что они увидели 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informdetox.com.s3-eu-central-1.amazonaws.com/wp-content/uploads/2015/06/44340839_1234856948_03.jpg"/>
          <p:cNvPicPr/>
          <p:nvPr/>
        </p:nvPicPr>
        <p:blipFill>
          <a:blip r:embed="rId1"/>
          <a:stretch/>
        </p:blipFill>
        <p:spPr>
          <a:xfrm>
            <a:off x="357120" y="1143000"/>
            <a:ext cx="82868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чего состоит скафандр? Это многослойный комбинезон с о специальными ботинками и перчатками. К нему крепятся баллоны с кислородом.  А на голову надевается гермошлем, чтобы можно было дышать в открытом  космо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71480" y="307152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C:\Documents and Settings\User\Рабочий стол\скафандр.jpg"/>
          <p:cNvPicPr/>
          <p:nvPr/>
        </p:nvPicPr>
        <p:blipFill>
          <a:blip r:embed="rId2"/>
          <a:stretch/>
        </p:blipFill>
        <p:spPr>
          <a:xfrm>
            <a:off x="1571760" y="1143000"/>
            <a:ext cx="5786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вы узнали о космосе много нового и интересног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еперь проверьте свои знания.</a:t>
            </a:r>
            <a:br>
              <a:rPr sz="1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 пера, ни крыла, а быстрее орла. Только выпустит хвост, понесется до звезд. (атем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ые цветы вечером распускаются, а утром увядают (ыдзевз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 домами у дорожки висит кусок лепешки (ану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 бабушкиной избушкой висит хлеба краюшка. Собака лает, а достать не может. (цясе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-ка, кто из вас ответит: не огонь, а больно жжет, не фонарь, а ярко светит, и не пекарь, а печет? (ецнл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 сидит в ракете. Смело в небо он летит и на нас в своем скафандре он из космоса глядит. (тваномс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осмосе всегда мороз, лета не бывает. Космонавт, проверив трос, что-то надевает. Та одежда припасет и тепло, и кислород. (рднафа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праздник, который отмечают в апрел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первым отправился в космос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зовут первого человека-космонав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космический аппарат для полетов в космос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космонавты и все, что находится в ракете, как будто плавают в вод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 самую большую звезду в нашей Солнечной сис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днем мы не видим звезд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планета, на которой мы живе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ком месте от Солнца находится планета Земл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кой планеты есть кольц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планета-карли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на других планетах жить невозмож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, кроме планет, можно еще увидеть в космос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720" y="-214200"/>
            <a:ext cx="46432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изучать звезды и планеты, а также наблюдать за Землей из космоса, люди  построили космическую ракету. Внутрь посадили космонавта – 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143080"/>
            <a:ext cx="28288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214200" y="285840"/>
            <a:ext cx="4429080" cy="590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User\Рабочий стол\гагарин.jpg"/>
          <p:cNvPicPr/>
          <p:nvPr/>
        </p:nvPicPr>
        <p:blipFill>
          <a:blip r:embed="rId2"/>
          <a:stretch/>
        </p:blipFill>
        <p:spPr>
          <a:xfrm>
            <a:off x="4857840" y="2071800"/>
            <a:ext cx="38574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4357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полет длился всего 108 минут. Произошло это 12 апреля 1961 год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в этот день отмечается праздник – день космонав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86240" y="1600200"/>
            <a:ext cx="3400560" cy="447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2000160"/>
            <a:ext cx="5021280" cy="464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4643280" y="214200"/>
            <a:ext cx="435780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адится в ракету, идет обратный отсчет: «Пять, четыре, три, два, один, ПУСК!». Ракета отрывается от земли, из ее хвоста рвется огонь – так сильно работает ее двигатель. И ракета летит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14920" y="2857320"/>
            <a:ext cx="32860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User\Рабочий стол\cnfhn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кета  в открытом космосе! Что  увидели космонавты? Конечно же, нашу планету , которая называется Зем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00080" y="3285720"/>
            <a:ext cx="64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C:\Documents and Settings\User\Рабочий стол\ракета в космосе.jpg"/>
          <p:cNvPicPr/>
          <p:nvPr/>
        </p:nvPicPr>
        <p:blipFill>
          <a:blip r:embed="rId1"/>
          <a:stretch/>
        </p:blipFill>
        <p:spPr>
          <a:xfrm>
            <a:off x="500040" y="714240"/>
            <a:ext cx="81993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ланете Земля мы живем. Синие пятна на нашей планете - это вода , моря и океаны. Зеленые пятнышки – это зеленые леса и луга. Коричневые  – это горы. Она очень красивая, наша планета! А этот небольшой шарик в уголке – это  спутник планеты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99800"/>
            <a:ext cx="6972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7640" y="-360"/>
            <a:ext cx="183996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как выглядит Луна, если к ней подлететь поближе.  Там нет ни воды, ни воздуха. Днем жара + 120 градусов, ночью – мороз – 17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99880" y="2143080"/>
            <a:ext cx="2643480" cy="398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214200" y="642960"/>
            <a:ext cx="6453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Светлана</cp:lastModifiedBy>
  <dcterms:modified xsi:type="dcterms:W3CDTF">2019-04-22T14:11:52Z</dcterms:modified>
  <cp:revision>33</cp:revision>
  <dc:subject/>
  <dc:title>Слайд 1</dc:title>
</cp:coreProperties>
</file>