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427-955E-41FD-9F84-B7A51033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9E3-6D3D-44EF-AB31-470A56B2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A85-0C5A-4185-A779-E5D3658E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C69-C276-497F-9463-6AA1998C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1E0-5734-4611-B5D2-115EB2D1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D7A-51D3-4D04-B6CB-29D5C70E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623-B687-43FA-B38E-2B60F611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F2E-D196-4894-B88F-54E448A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DBA-8E3F-4D90-B911-22E4D2E5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5A9-E011-46BB-B389-FE94F5C1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EA7-F662-4B66-85A9-770E65CB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45E-FF25-414B-9DC2-451B4B64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701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38AD-8C8E-4831-988C-A0A7623AEC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ожарный – профессия героическая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Picture 10" descr="757"/>
          <p:cNvPicPr/>
          <p:nvPr/>
        </p:nvPicPr>
        <p:blipFill>
          <a:blip r:embed="rId1"/>
          <a:stretch/>
        </p:blipFill>
        <p:spPr>
          <a:xfrm>
            <a:off x="2627280" y="2852640"/>
            <a:ext cx="373536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95280" y="333360"/>
            <a:ext cx="8424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Monotype Corsiva"/>
              </a:rPr>
              <a:t>Муниципальное бюджетное дошкольное образовательное учреждение детский сад общеразвивающего вида с приоритетным осуществлением деятельности по физическому развитию детей №8 «Зоряночка»</a:t>
            </a:r>
            <a:endParaRPr b="0" lang="en-US" sz="14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Monotype Corsiva"/>
              </a:rPr>
              <a:t> </a:t>
            </a:r>
            <a:endParaRPr b="0" lang="en-US" sz="14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 </a:t>
            </a:r>
            <a:endParaRPr b="0" lang="en-US" sz="18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 </a:t>
            </a:r>
            <a:endParaRPr b="0" lang="en-US" sz="18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643800" y="5857920"/>
            <a:ext cx="237636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ель: в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Monotype Corsiva"/>
              </a:rPr>
              <a:t>оспитатель высшей квалификационной категории</a:t>
            </a:r>
            <a:endParaRPr b="0" lang="en-US" sz="14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Monotype Corsiva"/>
              </a:rPr>
              <a:t>Закалина Т.Э.</a:t>
            </a:r>
            <a:endParaRPr b="0" lang="en-US" sz="14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</p:spTree>
  </p:cSld>
  <p:transition spd="slow" advTm="5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Когда огнем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Охвачен дом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Опасно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Находиться в нем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Чтобы дом поджечь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Не надобно ума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Вот почему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Горят у нас дом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омни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ожар обнаружив в квартире: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Наши пожарные —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Лучшие в мир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9" descr="CA9PYHRP"/>
          <p:cNvPicPr/>
          <p:nvPr/>
        </p:nvPicPr>
        <p:blipFill>
          <a:blip r:embed="rId1"/>
          <a:stretch/>
        </p:blipFill>
        <p:spPr>
          <a:xfrm>
            <a:off x="5724360" y="404640"/>
            <a:ext cx="2973600" cy="446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Снаряжение пожарных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Picture 2" descr="_vyrn_22pb-fIRE"/>
          <p:cNvPicPr/>
          <p:nvPr/>
        </p:nvPicPr>
        <p:blipFill>
          <a:blip r:embed="rId1"/>
          <a:stretch/>
        </p:blipFill>
        <p:spPr>
          <a:xfrm>
            <a:off x="395280" y="1268280"/>
            <a:ext cx="2554200" cy="19195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592200" y="324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жарны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шлем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66" name="Picture 3" descr="7d1a594b2ce66ad3d7aa1067e287d073"/>
          <p:cNvPicPr/>
          <p:nvPr/>
        </p:nvPicPr>
        <p:blipFill>
          <a:blip r:embed="rId2"/>
          <a:stretch/>
        </p:blipFill>
        <p:spPr>
          <a:xfrm>
            <a:off x="3433680" y="1289160"/>
            <a:ext cx="2387520" cy="1919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4080600" y="326556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апоги 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68" name="Picture 4" descr="7fb76ea7-63e9-11df-b398-001cc011426b"/>
          <p:cNvPicPr/>
          <p:nvPr/>
        </p:nvPicPr>
        <p:blipFill>
          <a:blip r:embed="rId3"/>
          <a:stretch/>
        </p:blipFill>
        <p:spPr>
          <a:xfrm>
            <a:off x="6300720" y="1309680"/>
            <a:ext cx="2448000" cy="1878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6615360" y="3265560"/>
            <a:ext cx="21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ас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жарная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70" name="Picture 5" descr="77ee22782ec280769e420cbcff98c5e7"/>
          <p:cNvPicPr/>
          <p:nvPr/>
        </p:nvPicPr>
        <p:blipFill>
          <a:blip r:embed="rId4"/>
          <a:stretch/>
        </p:blipFill>
        <p:spPr>
          <a:xfrm>
            <a:off x="793800" y="3665520"/>
            <a:ext cx="1757160" cy="2604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257760" y="6319800"/>
            <a:ext cx="31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оева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дежд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жарного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72" name="Picture 6" descr="post-221-1292574069"/>
          <p:cNvPicPr/>
          <p:nvPr/>
        </p:nvPicPr>
        <p:blipFill>
          <a:blip r:embed="rId5"/>
          <a:stretch/>
        </p:blipFill>
        <p:spPr>
          <a:xfrm>
            <a:off x="2759040" y="4013280"/>
            <a:ext cx="1844640" cy="1557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2998080" y="580716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укавицы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74" name="Picture 7" descr="37deb7e06623da921f63f41421a810be"/>
          <p:cNvPicPr/>
          <p:nvPr/>
        </p:nvPicPr>
        <p:blipFill>
          <a:blip r:embed="rId6"/>
          <a:stretch/>
        </p:blipFill>
        <p:spPr>
          <a:xfrm>
            <a:off x="4775040" y="4046400"/>
            <a:ext cx="1622520" cy="155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31733"/>
          <p:cNvPicPr/>
          <p:nvPr/>
        </p:nvPicPr>
        <p:blipFill>
          <a:blip r:embed="rId7"/>
          <a:stretch/>
        </p:blipFill>
        <p:spPr>
          <a:xfrm>
            <a:off x="6613560" y="4046400"/>
            <a:ext cx="2349360" cy="17607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7"/>
          <p:cNvSpPr/>
          <p:nvPr/>
        </p:nvSpPr>
        <p:spPr>
          <a:xfrm>
            <a:off x="6461640" y="6207120"/>
            <a:ext cx="24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ас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отивогаз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060160" y="58165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емень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</p:spTree>
  </p:cSld>
  <p:transition spd="slow" advTm="1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Оборудование для тушения пожар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Picture 2" descr="1"/>
          <p:cNvPicPr/>
          <p:nvPr/>
        </p:nvPicPr>
        <p:blipFill>
          <a:blip r:embed="rId1"/>
          <a:stretch/>
        </p:blipFill>
        <p:spPr>
          <a:xfrm>
            <a:off x="328680" y="1557360"/>
            <a:ext cx="2403360" cy="1603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430920" y="32288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жарный рукав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1" name="Picture 3" descr="26d923a5b2d26c0974eee579c8bd4e99"/>
          <p:cNvPicPr/>
          <p:nvPr/>
        </p:nvPicPr>
        <p:blipFill>
          <a:blip r:embed="rId2"/>
          <a:stretch/>
        </p:blipFill>
        <p:spPr>
          <a:xfrm>
            <a:off x="3419640" y="1601640"/>
            <a:ext cx="2376360" cy="1627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3490920" y="32288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жарный ствол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3" name="Picture 4" descr="11758600279469"/>
          <p:cNvPicPr/>
          <p:nvPr/>
        </p:nvPicPr>
        <p:blipFill>
          <a:blip r:embed="rId3"/>
          <a:stretch/>
        </p:blipFill>
        <p:spPr>
          <a:xfrm>
            <a:off x="369720" y="3666960"/>
            <a:ext cx="2471760" cy="23259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581760" y="61657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гнетушители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5" name="Picture 5" descr="3-vx-6rb"/>
          <p:cNvPicPr/>
          <p:nvPr/>
        </p:nvPicPr>
        <p:blipFill>
          <a:blip r:embed="rId4"/>
          <a:stretch/>
        </p:blipFill>
        <p:spPr>
          <a:xfrm>
            <a:off x="3517920" y="3673440"/>
            <a:ext cx="1243080" cy="23274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853720" y="61657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ция пожарного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7" name="Picture 6" descr="25371e033765"/>
          <p:cNvPicPr/>
          <p:nvPr/>
        </p:nvPicPr>
        <p:blipFill>
          <a:blip r:embed="rId5"/>
          <a:stretch/>
        </p:blipFill>
        <p:spPr>
          <a:xfrm>
            <a:off x="6227640" y="1557360"/>
            <a:ext cx="2521080" cy="1898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6275880" y="347328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жарная машина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9" name="Picture 7" descr="be200_01"/>
          <p:cNvPicPr/>
          <p:nvPr/>
        </p:nvPicPr>
        <p:blipFill>
          <a:blip r:embed="rId6"/>
          <a:stretch/>
        </p:blipFill>
        <p:spPr>
          <a:xfrm>
            <a:off x="5189400" y="3873600"/>
            <a:ext cx="3557880" cy="1979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5148360" y="601200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олет для тушения пожаров в лесу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</p:spTree>
  </p:cSld>
  <p:transition spd="slow" advTm="10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ожарные спасают людей из огня, 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будем им благодарны всегда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2" name="Picture 6" descr="pz_i3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5099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8360" y="476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Бригадами ударными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аботают пожарны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ни на совесть трудятся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 спят ни день, ни ночь.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в ночь, и в утро мглистое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гда готовы, быстры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трелой лететь по улиц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беде скорей помочь.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Бригады очень слажены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аботают, отважны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х не пугает огненный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рою ураган.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Красивые, свободны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пасут добро народно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укротится огненный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ед ними океан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australija%20reyters"/>
          <p:cNvPicPr/>
          <p:nvPr/>
        </p:nvPicPr>
        <p:blipFill>
          <a:blip r:embed="rId1"/>
          <a:stretch/>
        </p:blipFill>
        <p:spPr>
          <a:xfrm>
            <a:off x="611280" y="1052640"/>
            <a:ext cx="8208720" cy="4927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 пусть пожары каждый день, но мы всегда на страж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Не позволяем себе лень и расслабляться да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 чтобы сильным быть всегда и не терять сноровк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ы на учениях своих проводим трениров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75380"/>
          <p:cNvPicPr/>
          <p:nvPr/>
        </p:nvPicPr>
        <p:blipFill>
          <a:blip r:embed="rId1"/>
          <a:stretch/>
        </p:blipFill>
        <p:spPr>
          <a:xfrm>
            <a:off x="1042920" y="2133720"/>
            <a:ext cx="7250040" cy="441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Чтоб пострадавших выносить, вести борьбу с огн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И сам пожарный должен быть надежно защищ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Готовой к бою быть должна всегда экипиров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Ведь называется не зря она еще «боёв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219698790"/>
          <p:cNvPicPr/>
          <p:nvPr/>
        </p:nvPicPr>
        <p:blipFill>
          <a:blip r:embed="rId1"/>
          <a:stretch/>
        </p:blipFill>
        <p:spPr>
          <a:xfrm>
            <a:off x="2916360" y="2133720"/>
            <a:ext cx="3333600" cy="441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жарные и день, и ночь на страже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ишь 01 – и вот они спешат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 всей души пожарному мы скажем: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можно меньше вызовов, солдат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0" name="Picture 4" descr="40302950"/>
          <p:cNvPicPr/>
          <p:nvPr/>
        </p:nvPicPr>
        <p:blipFill>
          <a:blip r:embed="rId1"/>
          <a:stretch/>
        </p:blipFill>
        <p:spPr>
          <a:xfrm>
            <a:off x="1476360" y="2239920"/>
            <a:ext cx="6480360" cy="437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огда беда, он входит в дом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н с детства каждому знаком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н не писатель, не поэт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Зато смелей на свете нет!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Его повсюду узнают,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кажите, как его зовут?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-жар-ны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н носит шлем на голове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 не горит совсем в огне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н смел, умен, хорош собой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у, разве это не герой?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Его повсюду узнают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кажите, как его зовут?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-жар-ный!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716360" y="2276640"/>
            <a:ext cx="388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076720" y="1628640"/>
            <a:ext cx="280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48" name="Picture 16" descr="boevaya_odejda_pojarnogo_bop-_2_(tkan_verxa_brezent)"/>
          <p:cNvPicPr/>
          <p:nvPr/>
        </p:nvPicPr>
        <p:blipFill>
          <a:blip r:embed="rId1"/>
          <a:stretch/>
        </p:blipFill>
        <p:spPr>
          <a:xfrm>
            <a:off x="4140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нем ли, ночью, утром рано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Если что – то загорится,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То пожарная охрана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а подмогу быстро мчится!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репко помните, друзья,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Что с огнем шутить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ЕЛЬЗЯ!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Picture 4" descr="D:\Работа по детсаду\Безопасность\post-7089-1257164594.jpg"/>
          <p:cNvPicPr/>
          <p:nvPr/>
        </p:nvPicPr>
        <p:blipFill>
          <a:blip r:embed="rId1"/>
          <a:stretch/>
        </p:blipFill>
        <p:spPr>
          <a:xfrm>
            <a:off x="179280" y="4437000"/>
            <a:ext cx="2239920" cy="22352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304085103_0095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20000"/>
                </a:solidFill>
                <a:latin typeface="Times New Roman"/>
              </a:rPr>
              <a:t>Огонь и дым со всех сторон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20000"/>
                </a:solidFill>
                <a:latin typeface="Times New Roman"/>
              </a:rPr>
              <a:t>Нам срочно нужен телефо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20000"/>
                </a:solidFill>
                <a:latin typeface="Times New Roman"/>
              </a:rPr>
              <a:t>Простые цифры набира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20000"/>
                </a:solidFill>
                <a:latin typeface="Times New Roman"/>
              </a:rPr>
              <a:t>И адрес точный называ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012"/>
          <p:cNvPicPr/>
          <p:nvPr/>
        </p:nvPicPr>
        <p:blipFill>
          <a:blip r:embed="rId1"/>
          <a:stretch/>
        </p:blipFill>
        <p:spPr>
          <a:xfrm>
            <a:off x="2916360" y="3645000"/>
            <a:ext cx="3284280" cy="2989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8000" y="691920"/>
            <a:ext cx="4535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машине ярко-крас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чимся мы вперё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руд тяжёлый и опас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с, пожарных, ждё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ой пронзительной сир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жет оглуши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удем и водой, и пе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ы пожар туш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 в беду попавшим люд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можем мы помоч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дь с огнём бороться бу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мело день и ноч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219640" y="1844640"/>
            <a:ext cx="345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56" name="Picture 9" descr="sluzhba_01_720x480"/>
          <p:cNvPicPr/>
          <p:nvPr/>
        </p:nvPicPr>
        <p:blipFill>
          <a:blip r:embed="rId1"/>
          <a:stretch/>
        </p:blipFill>
        <p:spPr>
          <a:xfrm>
            <a:off x="4716360" y="2085840"/>
            <a:ext cx="4176720" cy="2781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 сутками сутки и ночью, и днем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отовы пожарные к битве с огнем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 нету на службе секунды для сн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екунды - у них дорогая цен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Едва о беде сообщит телефон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мчится на выручку дивизи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о мало отважными, смелыми быть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тоб злой и коварный огонь победить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 следует много знать и уметь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тоб четко и быстро огонь одолеть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егда осторожными будьте с огнем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ем скажут пожарные строго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усть реже и реже для нас с каждым днем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овёт на пожар  к вам тревога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0020-029-Kogda-sluchaetsja-pozhar-na-pomosch-prikhodjat-pozharnye"/>
          <p:cNvPicPr/>
          <p:nvPr/>
        </p:nvPicPr>
        <p:blipFill>
          <a:blip r:embed="rId1"/>
          <a:stretch/>
        </p:blipFill>
        <p:spPr>
          <a:xfrm>
            <a:off x="457200" y="458640"/>
            <a:ext cx="8229600" cy="599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Мы расскажем Вам о тех,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Кто людей спасает,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И по зову на пожар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ервым приезжает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ламя злое затушить –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Это их забота.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Жар бесстрашно погасить –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Вот у них работ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Эти люди лучше всех!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Сильные и смелые,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Не боятся ничего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Мастера умелы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8" descr="0022-037-Pravila-rebenka"/>
          <p:cNvPicPr/>
          <p:nvPr/>
        </p:nvPicPr>
        <p:blipFill>
          <a:blip r:embed="rId1"/>
          <a:stretch/>
        </p:blipFill>
        <p:spPr>
          <a:xfrm>
            <a:off x="5364000" y="1125360"/>
            <a:ext cx="3608640" cy="4883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35:16Z</dcterms:created>
  <dc:creator>User</dc:creator>
  <dc:description/>
  <dc:language>en-US</dc:language>
  <cp:lastModifiedBy>Zak</cp:lastModifiedBy>
  <dcterms:modified xsi:type="dcterms:W3CDTF">2019-02-20T17:00:53Z</dcterms:modified>
  <cp:revision>77</cp:revision>
  <dc:subject/>
  <dc:title>Слайд 1</dc:title>
</cp:coreProperties>
</file>