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0F5-0E23-4A8A-BA11-049B54D0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E0B-A3C2-49E6-9A73-C2C64C0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76B-660D-4A7A-8D47-996AFEFB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95B-D93A-499E-8D80-04945262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1D8-798A-4495-9F11-7B4A4315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5B2-79AC-4F6D-90CB-48283BA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6AA-171C-4F2A-B7CC-D15E9A7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65A-A79E-4F34-A04E-ED97B1F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FCA-EDB8-4E78-91CF-F011D34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193-8225-486F-A10C-55561CB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0C1-7906-4FFE-AB9A-4467D15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879-BCD8-48D6-B45A-6B804A1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01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931-CE2E-498C-BF6F-D42F4C7CD7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Пожарный – профессия героическая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Picture 10" descr="757"/>
          <p:cNvPicPr/>
          <p:nvPr/>
        </p:nvPicPr>
        <p:blipFill>
          <a:blip r:embed="rId1"/>
          <a:stretch/>
        </p:blipFill>
        <p:spPr>
          <a:xfrm>
            <a:off x="2627280" y="2852640"/>
            <a:ext cx="3735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95280" y="333360"/>
            <a:ext cx="8424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Monotype Corsiva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физическому развитию детей №8 «Зоряночка»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Monotype Corsiva"/>
              </a:rPr>
              <a:t> 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Monotype Corsiva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643800" y="5857920"/>
            <a:ext cx="237636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ель: в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Monotype Corsiva"/>
              </a:rPr>
              <a:t>оспитатель высшей квалификационной категории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Monotype Corsiva"/>
              </a:rPr>
              <a:t>Закалина Т.Э.</a:t>
            </a:r>
            <a:endParaRPr b="0" lang="en-US" sz="14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 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5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Когда огнем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хвачен дом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Опасно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ходиться в не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Чтобы дом поджечь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е надобно ума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Вот почему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Горят у нас дом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омни,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Пожар обнаружив в квартире: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Наши пожарные —</a:t>
            </a:r>
            <a:br>
              <a:rPr sz="28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</a:rPr>
              <a:t>Лучшие в мир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9" descr="CA9PYHRP"/>
          <p:cNvPicPr/>
          <p:nvPr/>
        </p:nvPicPr>
        <p:blipFill>
          <a:blip r:embed="rId1"/>
          <a:stretch/>
        </p:blipFill>
        <p:spPr>
          <a:xfrm>
            <a:off x="5724360" y="404640"/>
            <a:ext cx="2973600" cy="4465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Снаряжение пожарных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Picture 2" descr="_vyrn_22pb-fIRE"/>
          <p:cNvPicPr/>
          <p:nvPr/>
        </p:nvPicPr>
        <p:blipFill>
          <a:blip r:embed="rId1"/>
          <a:stretch/>
        </p:blipFill>
        <p:spPr>
          <a:xfrm>
            <a:off x="395280" y="1268280"/>
            <a:ext cx="2554200" cy="19195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592200" y="324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ы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шлем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66" name="Picture 3" descr="7d1a594b2ce66ad3d7aa1067e287d073"/>
          <p:cNvPicPr/>
          <p:nvPr/>
        </p:nvPicPr>
        <p:blipFill>
          <a:blip r:embed="rId2"/>
          <a:stretch/>
        </p:blipFill>
        <p:spPr>
          <a:xfrm>
            <a:off x="3433680" y="1289160"/>
            <a:ext cx="2387520" cy="1919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4080600" y="326556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апоги 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68" name="Picture 4" descr="7fb76ea7-63e9-11df-b398-001cc011426b"/>
          <p:cNvPicPr/>
          <p:nvPr/>
        </p:nvPicPr>
        <p:blipFill>
          <a:blip r:embed="rId3"/>
          <a:stretch/>
        </p:blipFill>
        <p:spPr>
          <a:xfrm>
            <a:off x="6300720" y="1309680"/>
            <a:ext cx="2448000" cy="18781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6615360" y="3265560"/>
            <a:ext cx="214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ая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0" name="Picture 5" descr="77ee22782ec280769e420cbcff98c5e7"/>
          <p:cNvPicPr/>
          <p:nvPr/>
        </p:nvPicPr>
        <p:blipFill>
          <a:blip r:embed="rId4"/>
          <a:stretch/>
        </p:blipFill>
        <p:spPr>
          <a:xfrm>
            <a:off x="793800" y="3665520"/>
            <a:ext cx="1757160" cy="26049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257760" y="6319800"/>
            <a:ext cx="317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оева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дежд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ожарного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2" name="Picture 6" descr="post-221-1292574069"/>
          <p:cNvPicPr/>
          <p:nvPr/>
        </p:nvPicPr>
        <p:blipFill>
          <a:blip r:embed="rId5"/>
          <a:stretch/>
        </p:blipFill>
        <p:spPr>
          <a:xfrm>
            <a:off x="2759040" y="4013280"/>
            <a:ext cx="1844640" cy="15573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2998080" y="58071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укавицы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74" name="Picture 7" descr="37deb7e06623da921f63f41421a810be"/>
          <p:cNvPicPr/>
          <p:nvPr/>
        </p:nvPicPr>
        <p:blipFill>
          <a:blip r:embed="rId6"/>
          <a:stretch/>
        </p:blipFill>
        <p:spPr>
          <a:xfrm>
            <a:off x="4775040" y="4046400"/>
            <a:ext cx="1622520" cy="155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31733"/>
          <p:cNvPicPr/>
          <p:nvPr/>
        </p:nvPicPr>
        <p:blipFill>
          <a:blip r:embed="rId7"/>
          <a:stretch/>
        </p:blipFill>
        <p:spPr>
          <a:xfrm>
            <a:off x="6613560" y="4046400"/>
            <a:ext cx="2349360" cy="1760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7"/>
          <p:cNvSpPr/>
          <p:nvPr/>
        </p:nvSpPr>
        <p:spPr>
          <a:xfrm>
            <a:off x="6461640" y="6207120"/>
            <a:ext cx="24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ас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тивогаз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060160" y="58165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мень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Оборудование для тушения пожар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9" name="Picture 2" descr="1"/>
          <p:cNvPicPr/>
          <p:nvPr/>
        </p:nvPicPr>
        <p:blipFill>
          <a:blip r:embed="rId1"/>
          <a:stretch/>
        </p:blipFill>
        <p:spPr>
          <a:xfrm>
            <a:off x="328680" y="1557360"/>
            <a:ext cx="2403360" cy="1603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30920" y="32288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ый рукав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1" name="Picture 3" descr="26d923a5b2d26c0974eee579c8bd4e99"/>
          <p:cNvPicPr/>
          <p:nvPr/>
        </p:nvPicPr>
        <p:blipFill>
          <a:blip r:embed="rId2"/>
          <a:stretch/>
        </p:blipFill>
        <p:spPr>
          <a:xfrm>
            <a:off x="3419640" y="1601640"/>
            <a:ext cx="2376360" cy="16272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3490920" y="32288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ый ствол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3" name="Picture 4" descr="11758600279469"/>
          <p:cNvPicPr/>
          <p:nvPr/>
        </p:nvPicPr>
        <p:blipFill>
          <a:blip r:embed="rId3"/>
          <a:stretch/>
        </p:blipFill>
        <p:spPr>
          <a:xfrm>
            <a:off x="369720" y="3666960"/>
            <a:ext cx="2471760" cy="23259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581760" y="61657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гнетушители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5" name="Picture 5" descr="3-vx-6rb"/>
          <p:cNvPicPr/>
          <p:nvPr/>
        </p:nvPicPr>
        <p:blipFill>
          <a:blip r:embed="rId4"/>
          <a:stretch/>
        </p:blipFill>
        <p:spPr>
          <a:xfrm>
            <a:off x="3517920" y="3673440"/>
            <a:ext cx="1243080" cy="23274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2853720" y="61657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ция пожарного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7" name="Picture 6" descr="25371e033765"/>
          <p:cNvPicPr/>
          <p:nvPr/>
        </p:nvPicPr>
        <p:blipFill>
          <a:blip r:embed="rId5"/>
          <a:stretch/>
        </p:blipFill>
        <p:spPr>
          <a:xfrm>
            <a:off x="6227640" y="1557360"/>
            <a:ext cx="2521080" cy="1898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6275880" y="3473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жарная машина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89" name="Picture 7" descr="be200_01"/>
          <p:cNvPicPr/>
          <p:nvPr/>
        </p:nvPicPr>
        <p:blipFill>
          <a:blip r:embed="rId6"/>
          <a:stretch/>
        </p:blipFill>
        <p:spPr>
          <a:xfrm>
            <a:off x="5189400" y="3873600"/>
            <a:ext cx="3557880" cy="1979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5148360" y="601200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олет для тушения пожаров в лесу</a:t>
            </a: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</p:spTree>
  </p:cSld>
  <p:transition spd="slow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Пожарные спасают людей из огня, </a:t>
            </a:r>
            <a:br>
              <a:rPr sz="3200"/>
            </a:br>
            <a:r>
              <a:rPr b="1" lang="ru-RU" sz="3200" spc="-1" strike="noStrike">
                <a:solidFill>
                  <a:srgbClr val="6600cc"/>
                </a:solidFill>
                <a:latin typeface="Times New Roman"/>
              </a:rPr>
              <a:t>будем им благодарны всегда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2" name="Picture 6" descr="pz_i3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5099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476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ригадами ударным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ботают пожар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ни на совесть трудятся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 спят ни день, ни ночь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в ночь, и в утро мглистое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гда готовы, быстр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релой лететь по улиц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беде скорей помочь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Бригады очень слажены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ботают, отваж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х не пугает огненный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рою ураган.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Красивые, свободны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пасут добро народное,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И укротится огненный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ед ними океан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australija%20reyters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4927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 пусть пожары каждый день, но мы всегда на страж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Не позволяем себе лень и расслабляться даж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 чтобы сильным быть всегда и не терять сноровк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ы на учениях своих проводим трениров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75380"/>
          <p:cNvPicPr/>
          <p:nvPr/>
        </p:nvPicPr>
        <p:blipFill>
          <a:blip r:embed="rId1"/>
          <a:stretch/>
        </p:blipFill>
        <p:spPr>
          <a:xfrm>
            <a:off x="1042920" y="2133720"/>
            <a:ext cx="7250040" cy="441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Чтоб пострадавших выносить, вести борьбу с огн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И сам пожарный должен быть надежно защище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Готовой к бою быть должна всегда экипиров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Ведь называется не зря она еще «боёвк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6" descr="219698790"/>
          <p:cNvPicPr/>
          <p:nvPr/>
        </p:nvPicPr>
        <p:blipFill>
          <a:blip r:embed="rId1"/>
          <a:stretch/>
        </p:blipFill>
        <p:spPr>
          <a:xfrm>
            <a:off x="2916360" y="2133720"/>
            <a:ext cx="3333600" cy="441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жарные и день, и ночь на страже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ишь 01 – и вот они спешат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 всей души пожарному мы скажем: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ак можно меньше вызовов, солдат!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0" name="Picture 4" descr="40302950"/>
          <p:cNvPicPr/>
          <p:nvPr/>
        </p:nvPicPr>
        <p:blipFill>
          <a:blip r:embed="rId1"/>
          <a:stretch/>
        </p:blipFill>
        <p:spPr>
          <a:xfrm>
            <a:off x="1476360" y="2239920"/>
            <a:ext cx="6480360" cy="4371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гда беда, он входит в дом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с детства каждому знаком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не писатель, не поэт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то смелей на свете нет!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Его повсюду узнают,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жите, как его зовут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-жар-ны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носит шлем на голове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 не горит совсем в огне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н смел, умен, хорош собой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у, разве это не герой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Его повсюду узнают.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жите, как его зовут?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-жар-ный!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4716360" y="2276640"/>
            <a:ext cx="388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076720" y="1628640"/>
            <a:ext cx="280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48" name="Picture 16" descr="boevaya_odejda_pojarnogo_bop-_2_(tkan_verxa_brezent)"/>
          <p:cNvPicPr/>
          <p:nvPr/>
        </p:nvPicPr>
        <p:blipFill>
          <a:blip r:embed="rId1"/>
          <a:stretch/>
        </p:blipFill>
        <p:spPr>
          <a:xfrm>
            <a:off x="4140360" y="148428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Днем ли, ночью, утром рано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Если что – то загорится,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То пожарная охрана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а подмогу быстро мчится!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репко помните, друзья,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Что с огнем шутить</a:t>
            </a:r>
            <a:br>
              <a:rPr sz="3600"/>
            </a:b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НЕЛЬЗЯ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Picture 4" descr="D:\Работа по детсаду\Безопасность\post-7089-1257164594.jpg"/>
          <p:cNvPicPr/>
          <p:nvPr/>
        </p:nvPicPr>
        <p:blipFill>
          <a:blip r:embed="rId1"/>
          <a:stretch/>
        </p:blipFill>
        <p:spPr>
          <a:xfrm>
            <a:off x="179280" y="4437000"/>
            <a:ext cx="2239920" cy="22352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1304085103_0095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048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Огонь и дым со всех сторо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Нам срочно нужен телефо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Простые цифры набира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20000"/>
                </a:solidFill>
                <a:latin typeface="Times New Roman"/>
              </a:rPr>
              <a:t>И адрес точный называ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7" descr="012"/>
          <p:cNvPicPr/>
          <p:nvPr/>
        </p:nvPicPr>
        <p:blipFill>
          <a:blip r:embed="rId1"/>
          <a:stretch/>
        </p:blipFill>
        <p:spPr>
          <a:xfrm>
            <a:off x="2916360" y="3645000"/>
            <a:ext cx="3284280" cy="2989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000" y="691920"/>
            <a:ext cx="4535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машине ярко-крас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чимся мы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уд тяжёлый и опас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с, пожарных, жд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ой пронзительной си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жет оглуши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удем и водой, и пе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ы пожар туш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в беду попавшим люд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можем мы помоч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едь с огнём бороться бу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мело день и ноч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19640" y="1844640"/>
            <a:ext cx="345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Monotype Corsiva"/>
            </a:endParaRPr>
          </a:p>
        </p:txBody>
      </p:sp>
      <p:pic>
        <p:nvPicPr>
          <p:cNvPr id="56" name="Picture 9" descr="sluzhba_01_720x480"/>
          <p:cNvPicPr/>
          <p:nvPr/>
        </p:nvPicPr>
        <p:blipFill>
          <a:blip r:embed="rId1"/>
          <a:stretch/>
        </p:blipFill>
        <p:spPr>
          <a:xfrm>
            <a:off x="4716360" y="20858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 сутками сутки и ночью, и днем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отовы пожарные к битве с огнем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 нету на службе секунды для сна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екунды - у них дорогая це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Едва о беде сообщит телефон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мчится на выручку дивизи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о мало отважными, смелыми быть,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тоб злой и коварный огонь победить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 следует много знать и уметь,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Чтоб четко и быстро огонь одолеть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егда осторожными будьте с огнем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ем скажут пожарные строго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усть реже и реже для нас с каждым днем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овёт на пожар  к вам тревога.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0020-029-Kogda-sluchaetsja-pozhar-na-pomosch-prikhodjat-pozharnye"/>
          <p:cNvPicPr/>
          <p:nvPr/>
        </p:nvPicPr>
        <p:blipFill>
          <a:blip r:embed="rId1"/>
          <a:stretch/>
        </p:blipFill>
        <p:spPr>
          <a:xfrm>
            <a:off x="457200" y="458640"/>
            <a:ext cx="8229600" cy="5994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Мы расскажем Вам о тех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Кто людей спасает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И по зову на пожар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ервым приезжа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Пламя злое затушить –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Это их забота.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Жар бесстрашно погасить –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Вот у них работ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Эти люди лучше всех!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Сильные и смелые,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Не боятся ничего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Мастера умелы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8" descr="0022-037-Pravila-rebenka"/>
          <p:cNvPicPr/>
          <p:nvPr/>
        </p:nvPicPr>
        <p:blipFill>
          <a:blip r:embed="rId1"/>
          <a:stretch/>
        </p:blipFill>
        <p:spPr>
          <a:xfrm>
            <a:off x="5364000" y="1125360"/>
            <a:ext cx="3608640" cy="4883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35:16Z</dcterms:created>
  <dc:creator>User</dc:creator>
  <dc:description/>
  <dc:language>en-US</dc:language>
  <cp:lastModifiedBy>Zak</cp:lastModifiedBy>
  <dcterms:modified xsi:type="dcterms:W3CDTF">2019-02-20T17:00:53Z</dcterms:modified>
  <cp:revision>77</cp:revision>
  <dc:subject/>
  <dc:title>Слайд 1</dc:title>
</cp:coreProperties>
</file>