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6631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7C5-E050-4D09-9A60-2235D19B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AA39-9A30-44D9-AC34-28DDBBF7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6D81-E266-4C15-9EC2-74AA161C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44AB-5935-4283-9447-F18CDD3B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C16-1332-425F-9DDD-52A760F5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D131-0A65-40E8-B7DA-121A5752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BCFC-85D5-420F-B656-EAA608A7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8C2-C476-48DB-8251-CBE139DF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83B1-8C40-4312-9C20-6AC043AA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9BF0-8413-4576-AD75-79BF51AA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D907-1A88-463E-BF6F-2C741384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1E8-D133-466B-B807-B2A8F287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FA9B-306B-4EB9-A704-45E5F397FB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2d050"/>
                </a:solidFill>
                <a:latin typeface="Calibri"/>
              </a:rPr>
              <a:t>Весна</a:t>
            </a:r>
            <a:r>
              <a:rPr b="1" lang="ru-RU" sz="8000" spc="-1" strike="noStrike">
                <a:solidFill>
                  <a:srgbClr val="92d050"/>
                </a:solidFill>
                <a:latin typeface="Calibri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Calibri"/>
              </a:rPr>
              <a:t>(для детей младшего дошкольного возрас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http://rzhunimogu.do.am/_ph/4/480949385.jpg"/>
          <p:cNvPicPr/>
          <p:nvPr/>
        </p:nvPicPr>
        <p:blipFill>
          <a:blip r:embed="rId1"/>
          <a:stretch/>
        </p:blipFill>
        <p:spPr>
          <a:xfrm>
            <a:off x="395280" y="2276640"/>
            <a:ext cx="5184720" cy="4076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5855040" y="4653000"/>
            <a:ext cx="275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ДОАУ ЦРР «Фантаз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оспитатель: З.Х.Ахметзян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ям нравится пускать весной кораблик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Ð£ Ð½ÐµÐºÐ¾ÑÐ¾ÑÑÑ Ð¸Ð·Ð¼ÐµÐ½ÑÐµÑÑÑ Ð¾ÐºÑÐ°ÑÐºÐ° ÑÐµÑÑÑÐ¸, ÑÑÐ¾Ð±Ñ Ð±ÑÑÑ Ð¼ÐµÐ½ÐµÐµ Ð·Ð°Ð¼ÐµÑÐ½ÑÐ¼Ð¸ Ð¿Ð¾ÑÐ»Ðµ ÑÐ°ÑÐ½Ð¸Ñ Ð·Ð¸Ð¼Ð½ÐµÐ³Ð¾ ÑÐ½ÐµÐ³Ð°. "/>
          <p:cNvPicPr/>
          <p:nvPr/>
        </p:nvPicPr>
        <p:blipFill>
          <a:blip r:embed="rId1"/>
          <a:stretch/>
        </p:blipFill>
        <p:spPr>
          <a:xfrm>
            <a:off x="108000" y="0"/>
            <a:ext cx="871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ям нравится пускать весной кораблик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         ÐÐµÐ»ÐºÐ° ÑÐ¾Ð¶Ðµ Ð¼ÐµÐ½ÑÐµÑ ÑÐ²ÐµÑ Ð¼ÐµÑÐ°  "/>
          <p:cNvPicPr/>
          <p:nvPr/>
        </p:nvPicPr>
        <p:blipFill>
          <a:blip r:embed="rId1"/>
          <a:stretch/>
        </p:blipFill>
        <p:spPr>
          <a:xfrm>
            <a:off x="395280" y="0"/>
            <a:ext cx="8424720" cy="65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ÐÐ°ÑÑÐ¸Ð½ÐºÐ¸ Ð¿Ð¾ Ð·Ð°Ð¿ÑÐ¾ÑÑ Ð¿ÑÐµÐ·ÐµÐ½ÑÐ°ÑÐ¸Ñ Ð¶Ð¸Ð²Ð¾ÑÐ½ÑÐµ Ð²ÐµÑÐ½Ð¾Ð¹ Ð´Ð»Ñ Ð´ÐµÑÐµÐ¹ Ð¼Ð».Ð³Ñ"/>
          <p:cNvPicPr/>
          <p:nvPr/>
        </p:nvPicPr>
        <p:blipFill>
          <a:blip r:embed="rId1"/>
          <a:stretch/>
        </p:blipFill>
        <p:spPr>
          <a:xfrm>
            <a:off x="395280" y="260280"/>
            <a:ext cx="8605800" cy="64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ям нравится пускать весной кораблик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ÐÐ°ÑÑÐ¸Ð½ÐºÐ¸ Ð¿Ð¾ Ð·Ð°Ð¿ÑÐ¾ÑÑ Ð¿ÑÐµÐ·ÐµÐ½ÑÐ°ÑÐ¸Ñ Ð¶Ð¸Ð²Ð¾ÑÐ½ÑÐµ Ð²ÐµÑÐ½Ð¾Ð¹ Ð´Ð»Ñ Ð´ÐµÑÐµÐ¹ Ð¼Ð».Ð³Ñ"/>
          <p:cNvPicPr/>
          <p:nvPr/>
        </p:nvPicPr>
        <p:blipFill>
          <a:blip r:embed="rId1"/>
          <a:stretch/>
        </p:blipFill>
        <p:spPr>
          <a:xfrm>
            <a:off x="316080" y="260280"/>
            <a:ext cx="8605800" cy="64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сной природа оживает от зимнего сна! Появляются первая травка и цве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7" descr="http://img-fotki.yandex.ru/get/5805/ladyo2004.e8/0_522ab_a1edb015_XL.jpg"/>
          <p:cNvPicPr/>
          <p:nvPr/>
        </p:nvPicPr>
        <p:blipFill>
          <a:blip r:embed="rId1"/>
          <a:stretch/>
        </p:blipFill>
        <p:spPr>
          <a:xfrm>
            <a:off x="4643280" y="1700280"/>
            <a:ext cx="5569200" cy="3960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http://www.stihi.ru/pics/2011/04/16/8075.jpg"/>
          <p:cNvPicPr/>
          <p:nvPr/>
        </p:nvPicPr>
        <p:blipFill>
          <a:blip r:embed="rId2"/>
          <a:stretch/>
        </p:blipFill>
        <p:spPr>
          <a:xfrm>
            <a:off x="0" y="3860640"/>
            <a:ext cx="4606920" cy="321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http://www.anypics.ru/large/201210/22052.jpg"/>
          <p:cNvPicPr/>
          <p:nvPr/>
        </p:nvPicPr>
        <p:blipFill>
          <a:blip r:embed="rId3"/>
          <a:stretch/>
        </p:blipFill>
        <p:spPr>
          <a:xfrm>
            <a:off x="-252360" y="1052640"/>
            <a:ext cx="485928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и цветы называются подснежники. Они появляются ранней весной, как только начинает таять снег. Иногда кажется, что они проросли прямо из-под снега. Поэтому их и называют – подснежник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http://www.bankoboev.ru/images/Mjg4MjA=/Bankoboev.Ru_podsnezhniki.jpg"/>
          <p:cNvPicPr/>
          <p:nvPr/>
        </p:nvPicPr>
        <p:blipFill>
          <a:blip r:embed="rId1"/>
          <a:stretch/>
        </p:blipFill>
        <p:spPr>
          <a:xfrm>
            <a:off x="826920" y="1052640"/>
            <a:ext cx="749016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сной просыпаются и деревья! Сначала на их ветках набухают почк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http://canon-fan.com/sites/default/files/IMG_0096.jpg"/>
          <p:cNvPicPr/>
          <p:nvPr/>
        </p:nvPicPr>
        <p:blipFill>
          <a:blip r:embed="rId1"/>
          <a:stretch/>
        </p:blipFill>
        <p:spPr>
          <a:xfrm>
            <a:off x="-546120" y="1557360"/>
            <a:ext cx="6342120" cy="4755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http://www.nikblo.ru/PAS/pas0102.jpg"/>
          <p:cNvPicPr/>
          <p:nvPr/>
        </p:nvPicPr>
        <p:blipFill>
          <a:blip r:embed="rId2"/>
          <a:srcRect l="18056" t="0" r="22950" b="0"/>
          <a:stretch/>
        </p:blipFill>
        <p:spPr>
          <a:xfrm>
            <a:off x="5148360" y="1550880"/>
            <a:ext cx="3816360" cy="48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том из почек распускаются первые листики… Сначала они совсем маленьки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http://grandwallpapers.net/photo/vesna-pervie-listya-1280x1024.jpg"/>
          <p:cNvPicPr/>
          <p:nvPr/>
        </p:nvPicPr>
        <p:blipFill>
          <a:blip r:embed="rId1"/>
          <a:srcRect l="29029" t="0" r="24282" b="0"/>
          <a:stretch/>
        </p:blipFill>
        <p:spPr>
          <a:xfrm>
            <a:off x="971640" y="1413000"/>
            <a:ext cx="2736720" cy="4687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g-fotki.yandex.ru/get/5603/oko7.18/0_6121e_fafbd8b6_XXL.jpg"/>
          <p:cNvPicPr/>
          <p:nvPr/>
        </p:nvPicPr>
        <p:blipFill>
          <a:blip r:embed="rId2"/>
          <a:srcRect l="10269" t="0" r="19012" b="0"/>
          <a:stretch/>
        </p:blipFill>
        <p:spPr>
          <a:xfrm>
            <a:off x="3995640" y="1413000"/>
            <a:ext cx="446400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листочки растут очень быстро, и скоро все деревья становятся зелеными и красив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http://crazy.werd.ru/uploads/posts/2007-03-02/1172843942_tree_field.jpg"/>
          <p:cNvPicPr/>
          <p:nvPr/>
        </p:nvPicPr>
        <p:blipFill>
          <a:blip r:embed="rId1"/>
          <a:stretch/>
        </p:blipFill>
        <p:spPr>
          <a:xfrm>
            <a:off x="1116000" y="1268280"/>
            <a:ext cx="7020000" cy="53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сной на многих деревьях распускаются красивые цветы! Смотри, какие они красивы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http://img2.vetton.ru/upl/1000/23/vetton_ru_japanesenature39-2560x1600.jpg"/>
          <p:cNvPicPr/>
          <p:nvPr/>
        </p:nvPicPr>
        <p:blipFill>
          <a:blip r:embed="rId1"/>
          <a:srcRect l="0" t="0" r="0" b="3031"/>
          <a:stretch/>
        </p:blipFill>
        <p:spPr>
          <a:xfrm>
            <a:off x="-181080" y="1268280"/>
            <a:ext cx="7115400" cy="4897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://www.xa-xa.org/uploads/posts/2011-04/1303200559_0085acd27a13.jpg"/>
          <p:cNvPicPr/>
          <p:nvPr/>
        </p:nvPicPr>
        <p:blipFill>
          <a:blip r:embed="rId2"/>
          <a:stretch/>
        </p:blipFill>
        <p:spPr>
          <a:xfrm>
            <a:off x="6227640" y="1268280"/>
            <a:ext cx="2781360" cy="201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ttp://dongurman.ru/foto/pr150.jpg"/>
          <p:cNvPicPr/>
          <p:nvPr/>
        </p:nvPicPr>
        <p:blipFill>
          <a:blip r:embed="rId3"/>
          <a:srcRect l="0" t="0" r="5495" b="0"/>
          <a:stretch/>
        </p:blipFill>
        <p:spPr>
          <a:xfrm>
            <a:off x="6407280" y="4005360"/>
            <a:ext cx="2736720" cy="214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ще недавно все вокруг было белым-бе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img1.liveinternet.ru/images/foto/b/3/908/3228908/f_18063871.jpg"/>
          <p:cNvPicPr/>
          <p:nvPr/>
        </p:nvPicPr>
        <p:blipFill>
          <a:blip r:embed="rId1"/>
          <a:stretch/>
        </p:blipFill>
        <p:spPr>
          <a:xfrm>
            <a:off x="826920" y="9079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сной у людей много работы в садах, полях и огородах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C:\Users\Samsung\AppData\Local\Temp\Rar$DR79.50768\8.jpg"/>
          <p:cNvPicPr/>
          <p:nvPr/>
        </p:nvPicPr>
        <p:blipFill>
          <a:blip r:embed="rId1"/>
          <a:stretch/>
        </p:blipFill>
        <p:spPr>
          <a:xfrm>
            <a:off x="179280" y="836640"/>
            <a:ext cx="4046760" cy="572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img0.liveinternet.ru/images/attach/c/5/85/967/85967972_4408052__.jpg"/>
          <p:cNvPicPr/>
          <p:nvPr/>
        </p:nvPicPr>
        <p:blipFill>
          <a:blip r:embed="rId2"/>
          <a:stretch/>
        </p:blipFill>
        <p:spPr>
          <a:xfrm>
            <a:off x="4211640" y="836640"/>
            <a:ext cx="4560840" cy="56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ужно успеть посеять семена, посадить овощи и ягод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7" descr="http://www.avtorespekt.ru/images/stories/plodorodnaya-zemlya-kupit.jpg"/>
          <p:cNvPicPr/>
          <p:nvPr/>
        </p:nvPicPr>
        <p:blipFill>
          <a:blip r:embed="rId1"/>
          <a:stretch/>
        </p:blipFill>
        <p:spPr>
          <a:xfrm>
            <a:off x="4211640" y="1268280"/>
            <a:ext cx="3805200" cy="3057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http://shymkent.otyrar.kz/wp-content/uploads/2012/04/%D0%A4%D0%BE%D1%82%D0%BE-%D1%81-%D1%81%D0%B0%D0%B9%D1%82%D0%B0-ecology.md_.jpeg"/>
          <p:cNvPicPr/>
          <p:nvPr/>
        </p:nvPicPr>
        <p:blipFill>
          <a:blip r:embed="rId2"/>
          <a:stretch/>
        </p:blipFill>
        <p:spPr>
          <a:xfrm>
            <a:off x="4284720" y="3952800"/>
            <a:ext cx="4352760" cy="2905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C:\Documents and Settings\Admin\Local Settings\Temporary Internet Files\Content.IE5\W0VVFCOO\MP900438735[1].jpg"/>
          <p:cNvPicPr/>
          <p:nvPr/>
        </p:nvPicPr>
        <p:blipFill>
          <a:blip r:embed="rId3"/>
          <a:stretch/>
        </p:blipFill>
        <p:spPr>
          <a:xfrm>
            <a:off x="755640" y="1628640"/>
            <a:ext cx="2879640" cy="43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http://sadoved.com/uploads/posts/2012-01/1326799094_pobelka.jpg"/>
          <p:cNvPicPr/>
          <p:nvPr/>
        </p:nvPicPr>
        <p:blipFill>
          <a:blip r:embed="rId1"/>
          <a:stretch/>
        </p:blipFill>
        <p:spPr>
          <a:xfrm>
            <a:off x="4327560" y="321300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ести в порядок дере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http://img0.liveinternet.ru/images/attach/c/6/92/330/92330660_pobelka_derevev.jpg"/>
          <p:cNvPicPr/>
          <p:nvPr/>
        </p:nvPicPr>
        <p:blipFill>
          <a:blip r:embed="rId2"/>
          <a:srcRect l="0" t="0" r="-14633" b="-16822"/>
          <a:stretch/>
        </p:blipFill>
        <p:spPr>
          <a:xfrm>
            <a:off x="4716360" y="873000"/>
            <a:ext cx="3854520" cy="2881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C:\Documents and Settings\Admin\Local Settings\Temporary Internet Files\Content.IE5\81ZVE996\MP900185200[1].jpg"/>
          <p:cNvPicPr/>
          <p:nvPr/>
        </p:nvPicPr>
        <p:blipFill>
          <a:blip r:embed="rId3"/>
          <a:stretch/>
        </p:blipFill>
        <p:spPr>
          <a:xfrm>
            <a:off x="669960" y="907920"/>
            <a:ext cx="36576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хорошо весно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http://st.gdefon.ru/wallpapers_original/wallpapers/240518_vesna_dorozhka_reka_derevya_cvetushhaya_1920x1200_(www.GdeFon.ru).jpg"/>
          <p:cNvPicPr/>
          <p:nvPr/>
        </p:nvPicPr>
        <p:blipFill>
          <a:blip r:embed="rId1"/>
          <a:stretch/>
        </p:blipFill>
        <p:spPr>
          <a:xfrm>
            <a:off x="324000" y="1052640"/>
            <a:ext cx="8453160" cy="52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4df41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вдруг! Что такое? Снег начинает таять… Видишь, его становится все меньш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bankoboev.ru/images/NDA0MTA3/Bankoboev.Ru_taet_sneg_v_lesu.jpg"/>
          <p:cNvPicPr/>
          <p:nvPr/>
        </p:nvPicPr>
        <p:blipFill>
          <a:blip r:embed="rId1"/>
          <a:srcRect l="0" t="0" r="0" b="5403"/>
          <a:stretch/>
        </p:blipFill>
        <p:spPr>
          <a:xfrm>
            <a:off x="611280" y="1197000"/>
            <a:ext cx="79963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ярче светит солнышко… Все понятно! Наступает вес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moreletonebesa.ru/wp-content/uploads/2012/03/977.jpg"/>
          <p:cNvPicPr/>
          <p:nvPr/>
        </p:nvPicPr>
        <p:blipFill>
          <a:blip r:embed="rId1"/>
          <a:srcRect l="0" t="0" r="0" b="1667"/>
          <a:stretch/>
        </p:blipFill>
        <p:spPr>
          <a:xfrm>
            <a:off x="971640" y="981000"/>
            <a:ext cx="741996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сной начинает сильней пригревать солнышко. И с каждым днем становится все теп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junktale.com/upload/iblock/7bf/Unknown.jpg"/>
          <p:cNvPicPr/>
          <p:nvPr/>
        </p:nvPicPr>
        <p:blipFill>
          <a:blip r:embed="rId1"/>
          <a:stretch/>
        </p:blipFill>
        <p:spPr>
          <a:xfrm>
            <a:off x="468360" y="981000"/>
            <a:ext cx="8310600" cy="556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тепла снег начинает тая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nevseoboi.com.ua/uploads/posts/2010-10/1288292805_0010.jpg"/>
          <p:cNvPicPr/>
          <p:nvPr/>
        </p:nvPicPr>
        <p:blipFill>
          <a:blip r:embed="rId1"/>
          <a:srcRect l="0" t="0" r="0" b="4109"/>
          <a:stretch/>
        </p:blipFill>
        <p:spPr>
          <a:xfrm>
            <a:off x="250920" y="1052640"/>
            <a:ext cx="86788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таявший снег превращается в воду, маленькие веселые ручейки журчат на каждом шаг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i037.radikal.ru/1002/28/5fb96a455abb.jpg"/>
          <p:cNvPicPr/>
          <p:nvPr/>
        </p:nvPicPr>
        <p:blipFill>
          <a:blip r:embed="rId1"/>
          <a:srcRect l="10067" t="0" r="0" b="0"/>
          <a:stretch/>
        </p:blipFill>
        <p:spPr>
          <a:xfrm>
            <a:off x="324000" y="1484280"/>
            <a:ext cx="5616360" cy="4995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en-15.ucoz.ru/picture/spring42.jpg"/>
          <p:cNvPicPr/>
          <p:nvPr/>
        </p:nvPicPr>
        <p:blipFill>
          <a:blip r:embed="rId2"/>
          <a:srcRect l="6468" t="3354" r="5188" b="4351"/>
          <a:stretch/>
        </p:blipFill>
        <p:spPr>
          <a:xfrm>
            <a:off x="5940360" y="1197000"/>
            <a:ext cx="3203640" cy="52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ям нравится пускать весной кораблик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http://kiberfon.ucoz.ru/_ph/22/310214800.jpg"/>
          <p:cNvPicPr/>
          <p:nvPr/>
        </p:nvPicPr>
        <p:blipFill>
          <a:blip r:embed="rId1"/>
          <a:stretch/>
        </p:blipFill>
        <p:spPr>
          <a:xfrm>
            <a:off x="3405240" y="3630600"/>
            <a:ext cx="5738760" cy="322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ttp://cs410126.userapi.com/v410126918/1160/bW9C5DL0Icg.jpg"/>
          <p:cNvPicPr/>
          <p:nvPr/>
        </p:nvPicPr>
        <p:blipFill>
          <a:blip r:embed="rId2"/>
          <a:srcRect l="0" t="0" r="0" b="11839"/>
          <a:stretch/>
        </p:blipFill>
        <p:spPr>
          <a:xfrm>
            <a:off x="4932360" y="1052640"/>
            <a:ext cx="4211640" cy="247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www.stihi.ru/pics/2012/10/12/2626.jpg"/>
          <p:cNvPicPr/>
          <p:nvPr/>
        </p:nvPicPr>
        <p:blipFill>
          <a:blip r:embed="rId3"/>
          <a:stretch/>
        </p:blipFill>
        <p:spPr>
          <a:xfrm>
            <a:off x="-252360" y="1413000"/>
            <a:ext cx="4797360" cy="38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ям нравится пускать весной кораблик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ÐÐ°ÑÑÐ¸Ð½ÐºÐ¸ Ð¿Ð¾ Ð·Ð°Ð¿ÑÐ¾ÑÑ Ð¿ÑÐµÐ·ÐµÐ½ÑÐ°ÑÐ¸Ñ Ð¶Ð¸Ð²Ð¾ÑÐ½ÑÐµ Ð²ÐµÑÐ½Ð¾Ð¹ Ð´Ð»Ñ Ð´ÐµÑÐµÐ¹ Ð¼Ð».Ð³Ñ"/>
          <p:cNvPicPr/>
          <p:nvPr/>
        </p:nvPicPr>
        <p:blipFill>
          <a:blip r:embed="rId1"/>
          <a:srcRect l="0" t="0" r="0" b="4691"/>
          <a:stretch/>
        </p:blipFill>
        <p:spPr>
          <a:xfrm>
            <a:off x="25560" y="141120"/>
            <a:ext cx="8794440" cy="645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8:41:12Z</dcterms:created>
  <dc:creator>Samsung</dc:creator>
  <dc:description/>
  <dc:language>en-US</dc:language>
  <cp:lastModifiedBy>Nik</cp:lastModifiedBy>
  <cp:lastPrinted>2014-04-14T18:09:10Z</cp:lastPrinted>
  <dcterms:modified xsi:type="dcterms:W3CDTF">2019-04-22T16:33:43Z</dcterms:modified>
  <cp:revision>39</cp:revision>
  <dc:subject/>
  <dc:title>Слайд 1</dc:title>
</cp:coreProperties>
</file>