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image26.gif" ContentType="image/gif"/>
  <Override PartName="/ppt/media/image4.jpeg" ContentType="image/jpeg"/>
  <Override PartName="/ppt/media/image2.png" ContentType="image/png"/>
  <Override PartName="/ppt/media/image25.png" ContentType="image/png"/>
  <Override PartName="/ppt/media/image23.jpeg" ContentType="image/jpe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8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7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1AE3-4774-4CBE-B915-B6C95DE47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2EA5-FF05-415E-A64F-7BEC5AC0A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56A3-B94B-40C0-AB26-1E62F2E7D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6DC7-6C2D-4F1F-8904-DC0C65B19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5CF92-C88E-427A-BC08-FD42C32D3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A479A-63E0-48A0-B2FE-F782E1CC1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943DD-94EA-43E5-A4D7-029BAF956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C9116-B5A6-440A-A8FD-89A4C65E0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10369-F200-468F-9722-39DD51AB5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D7385-4F95-40C0-B746-F3FF32DC2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C2A9F-EA65-4D5D-A4FB-E62108FD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A8E9-C7B2-446B-BD40-0D1FF4719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8DCA4-10B5-489C-B4DE-53FEA8DE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3F36A-D2AE-43A9-B9E3-B58D4197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78B99-67D9-470E-A33F-D84A96F5A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FD032-FCD3-4259-9187-786A3497D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93E1C-AD81-4168-83DB-95058B84E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C4AFF-557D-4459-AC36-709AAD923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76BA4-2189-4C4C-A7AA-BF4DD2F33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BC736-3116-4B5E-A513-5F25687C7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01724-51AE-49D7-9272-D970D1613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9C587-CDEB-42B5-8F83-2CC3C41E9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180B-5FF4-4CC8-AB4E-8AC1FE582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70117-4729-45C3-A343-304119870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45F55-27A0-40D1-89FE-60C77308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90DFB-C753-4612-B7C9-9D637945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D80E8-0B4A-4C1A-BC20-1E687EBD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EFBA3-088A-47B3-8059-75494410E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B7E7C-8495-4CAC-A733-D1D880EF6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E0BE3-BA88-4C61-ADAA-FED6EE4F4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EABE2-7EF4-42FE-ABBF-03389C3B9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1066D-1E71-4055-8934-2B0A272C5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CC9D8-DE45-4D31-B232-549D9BDEC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1507-764E-4131-B618-95E1D6A3A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34CBD-798E-4CFB-B043-C0AFA089B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5FE1F-A207-4767-8089-4BA765F18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DA2D7-E704-4B46-A27F-E659FCF3F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D0D25-95B8-4BD2-B68F-666A11A8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7F2E7-6956-4110-B0CC-C8E37A32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B2088-D699-45BA-87B6-D5124BF4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67809-0C80-4066-98CF-BDE7688A9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F508A-1A29-4F95-B940-E2ED2C8CC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0BF73-5704-4931-9534-12DEB32EF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5C1D-F154-4499-861E-A0B1BCC8A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2CE3-99EB-442A-8CA2-FDE1BCD16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0A66-7B0C-44F7-8486-D7564F7C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4CB6-EA9E-4E61-8233-40DFCD4E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4AA9-1371-40ED-8457-70F64139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A101B-1AFF-4F87-884F-5A0BE00A3160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9F4D7-C205-4321-8CDF-95A6325B9E7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0BA81-B1BE-4C98-9C62-D3E57274767A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42ECF-B6E7-45AA-8BDD-365B62855D12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1841400"/>
            <a:ext cx="8405640" cy="15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Rectangle 2" descr=""/>
          <p:cNvPicPr/>
          <p:nvPr/>
        </p:nvPicPr>
        <p:blipFill>
          <a:blip r:embed="rId1"/>
          <a:stretch/>
        </p:blipFill>
        <p:spPr>
          <a:xfrm>
            <a:off x="463680" y="-6480"/>
            <a:ext cx="8557920" cy="12067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7" descr="img3"/>
          <p:cNvPicPr/>
          <p:nvPr/>
        </p:nvPicPr>
        <p:blipFill>
          <a:blip r:embed="rId2"/>
          <a:stretch/>
        </p:blipFill>
        <p:spPr>
          <a:xfrm>
            <a:off x="684360" y="1628640"/>
            <a:ext cx="2592360" cy="434988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4" descr="111.jpg"/>
          <p:cNvPicPr/>
          <p:nvPr/>
        </p:nvPicPr>
        <p:blipFill>
          <a:blip r:embed="rId3"/>
          <a:stretch/>
        </p:blipFill>
        <p:spPr>
          <a:xfrm>
            <a:off x="3995640" y="1643040"/>
            <a:ext cx="4611960" cy="40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Автоматическая поилка для птиц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2" name="Picture 8" descr=""/>
          <p:cNvPicPr/>
          <p:nvPr/>
        </p:nvPicPr>
        <p:blipFill>
          <a:blip r:embed="rId1"/>
          <a:srcRect l="67327" t="16399" r="4327" b="10100"/>
          <a:stretch/>
        </p:blipFill>
        <p:spPr>
          <a:xfrm>
            <a:off x="249120" y="1341360"/>
            <a:ext cx="2667240" cy="518328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6"/>
          <p:cNvSpPr/>
          <p:nvPr/>
        </p:nvSpPr>
        <p:spPr>
          <a:xfrm>
            <a:off x="3132000" y="1487520"/>
            <a:ext cx="5761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инцип работ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ан на действии атмосферного давления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да не выливается из бутылки потому, что давление внутри бутылки меньше атмосферного, которое действует снизу на воду в бутылке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уровень воды в корытце понизится и горлышко выйдет из воды, часть воды выльется, потому что давление внутри бутылки станет больше атмосферн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Arial"/>
              </a:rPr>
              <a:t>Как мы пьем?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5" name="Picture 6" descr="http://im3-tub-ru.yandex.net/i?id=363228637-54-72&amp;n=21"/>
          <p:cNvPicPr/>
          <p:nvPr/>
        </p:nvPicPr>
        <p:blipFill>
          <a:blip r:embed="rId1"/>
          <a:stretch/>
        </p:blipFill>
        <p:spPr>
          <a:xfrm>
            <a:off x="395280" y="1557360"/>
            <a:ext cx="3168720" cy="2376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8" descr="http://im0-tub-ru.yandex.net/i?id=488470284-36-72&amp;n=21"/>
          <p:cNvPicPr/>
          <p:nvPr/>
        </p:nvPicPr>
        <p:blipFill>
          <a:blip r:embed="rId2"/>
          <a:stretch/>
        </p:blipFill>
        <p:spPr>
          <a:xfrm>
            <a:off x="1116000" y="4068720"/>
            <a:ext cx="1800360" cy="2673360"/>
          </a:xfrm>
          <a:prstGeom prst="rect">
            <a:avLst/>
          </a:prstGeom>
          <a:ln w="0">
            <a:noFill/>
          </a:ln>
        </p:spPr>
      </p:pic>
      <p:sp>
        <p:nvSpPr>
          <p:cNvPr id="237" name="Прямоугольник 8"/>
          <p:cNvSpPr/>
          <p:nvPr/>
        </p:nvSpPr>
        <p:spPr>
          <a:xfrm>
            <a:off x="3851280" y="1773360"/>
            <a:ext cx="48974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ягивание ртом жидкости вызывает расширение грудной клетки и разрежение воздуха как в легких, так и во рт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ышенное по сравнению с внутренним наружное атмосферное давление «вгоняет» туда часть жидк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28760" y="2214360"/>
            <a:ext cx="82296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Фильм </a:t>
            </a: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«Атмосферное давление»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Arial"/>
              </a:rPr>
              <a:t>Домашнее задание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39640" y="13410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§40,41  упр 18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дготовить занимательный опыт на использование атмосферного давления (Занимательные опыты можно найти в книгах “Занимательная физика” Перельмана и других, можно из задания 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) или сообщение на тему «Атмосферное давление в живой природе»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WordArt 6"/>
          <p:cNvSpPr txBox="1"/>
          <p:nvPr/>
        </p:nvSpPr>
        <p:spPr>
          <a:xfrm>
            <a:off x="3132000" y="5013360"/>
            <a:ext cx="43196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43" name="Picture 8" descr="колобок"/>
          <p:cNvPicPr/>
          <p:nvPr/>
        </p:nvPicPr>
        <p:blipFill>
          <a:blip r:embed="rId3"/>
          <a:stretch/>
        </p:blipFill>
        <p:spPr>
          <a:xfrm>
            <a:off x="468360" y="479736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4"/>
          <p:cNvSpPr/>
          <p:nvPr/>
        </p:nvSpPr>
        <p:spPr>
          <a:xfrm>
            <a:off x="428760" y="117360"/>
            <a:ext cx="84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тмосфера- это газовая оболочка, окружающая Земл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1154160" y="1357200"/>
            <a:ext cx="763272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(греч.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тмос                       сф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ар )                          (шар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6"/>
          <p:cNvSpPr/>
          <p:nvPr/>
        </p:nvSpPr>
        <p:spPr>
          <a:xfrm flipH="1">
            <a:off x="3138480" y="1928880"/>
            <a:ext cx="790560" cy="577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7"/>
          <p:cNvSpPr/>
          <p:nvPr/>
        </p:nvSpPr>
        <p:spPr>
          <a:xfrm>
            <a:off x="5996160" y="2000160"/>
            <a:ext cx="647640" cy="6494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8" descr=""/>
          <p:cNvPicPr/>
          <p:nvPr/>
        </p:nvPicPr>
        <p:blipFill>
          <a:blip r:embed="rId1"/>
          <a:srcRect l="16115" t="8789" r="17968" b="6250"/>
          <a:stretch/>
        </p:blipFill>
        <p:spPr>
          <a:xfrm>
            <a:off x="3251160" y="3643200"/>
            <a:ext cx="31780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ЧТО ВХОДИТ В СОСТАВ ВОЗДУХА?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СТАВ ВОЗДУХА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ЗОТ -78%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ИСЛОРОД -21%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РГОН – 0,9%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ГЛЕКИСЛЫЙ ГАЗ – 0,03%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 ДРУГИЕ ГАЗ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Диаграмма 3" descr=""/>
          <p:cNvPicPr/>
          <p:nvPr/>
        </p:nvPicPr>
        <p:blipFill>
          <a:blip r:embed="rId1"/>
          <a:stretch/>
        </p:blipFill>
        <p:spPr>
          <a:xfrm>
            <a:off x="3267000" y="1981080"/>
            <a:ext cx="6451560" cy="464832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31"/>
          <p:cNvSpPr/>
          <p:nvPr/>
        </p:nvSpPr>
        <p:spPr>
          <a:xfrm>
            <a:off x="2857680" y="441360"/>
            <a:ext cx="535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став атмосфе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0" y="738360"/>
            <a:ext cx="4191120" cy="611964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4643280" y="580536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ропосфе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4643280" y="486900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тратосфе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4716360" y="342900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езосфе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4716360" y="170028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рмосфе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4788000" y="476280"/>
            <a:ext cx="29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экзосфе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0"/>
          <p:cNvSpPr/>
          <p:nvPr/>
        </p:nvSpPr>
        <p:spPr>
          <a:xfrm>
            <a:off x="4211640" y="515772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4211640" y="465300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2"/>
          <p:cNvSpPr/>
          <p:nvPr/>
        </p:nvSpPr>
        <p:spPr>
          <a:xfrm>
            <a:off x="4211640" y="40053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3"/>
          <p:cNvSpPr/>
          <p:nvPr/>
        </p:nvSpPr>
        <p:spPr>
          <a:xfrm>
            <a:off x="4211640" y="314172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4"/>
          <p:cNvSpPr/>
          <p:nvPr/>
        </p:nvSpPr>
        <p:spPr>
          <a:xfrm>
            <a:off x="4211640" y="981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7"/>
          <p:cNvSpPr/>
          <p:nvPr/>
        </p:nvSpPr>
        <p:spPr>
          <a:xfrm>
            <a:off x="760320" y="85680"/>
            <a:ext cx="31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троение атмосфе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Rectangle 2" descr=""/>
          <p:cNvPicPr/>
          <p:nvPr/>
        </p:nvPicPr>
        <p:blipFill>
          <a:blip r:embed="rId1"/>
          <a:stretch/>
        </p:blipFill>
        <p:spPr>
          <a:xfrm>
            <a:off x="536400" y="-6480"/>
            <a:ext cx="8558280" cy="120672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5" descr="1.jpg"/>
          <p:cNvPicPr/>
          <p:nvPr/>
        </p:nvPicPr>
        <p:blipFill>
          <a:blip r:embed="rId2"/>
          <a:stretch/>
        </p:blipFill>
        <p:spPr>
          <a:xfrm>
            <a:off x="412920" y="1413000"/>
            <a:ext cx="84070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Rectangle 2" descr=""/>
          <p:cNvPicPr/>
          <p:nvPr/>
        </p:nvPicPr>
        <p:blipFill>
          <a:blip r:embed="rId1"/>
          <a:stretch/>
        </p:blipFill>
        <p:spPr>
          <a:xfrm>
            <a:off x="536400" y="-115920"/>
            <a:ext cx="8242560" cy="13161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"/>
          <p:cNvPicPr/>
          <p:nvPr/>
        </p:nvPicPr>
        <p:blipFill>
          <a:blip r:embed="rId2"/>
          <a:srcRect l="22707" t="26368" r="23098" b="21875"/>
          <a:stretch/>
        </p:blipFill>
        <p:spPr>
          <a:xfrm>
            <a:off x="692280" y="1214280"/>
            <a:ext cx="788040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rcRect l="4396" t="5861" r="26025" b="1699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56760" y="999720"/>
            <a:ext cx="84978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ЧТО НАЗЫВАЕТСЯ АТМОСФЕРНЫМ ДАВЛЕНИЕМ?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ДАВЛЕНИЕ, ОКАЗЫВАЕМОЕ АТМОСФЕРОЙ ЗЕМЛИ НА ВСЕ НАХОДЯЩИЕСЯ В НЕЙ ПРЕДМЕТЫ, НАЗЫВАЕТСЯ АТМОСФЕРНЫМ ДАВЛЕНИЕМ.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ectangle 2" descr=""/>
          <p:cNvPicPr/>
          <p:nvPr/>
        </p:nvPicPr>
        <p:blipFill>
          <a:blip r:embed="rId1"/>
          <a:stretch/>
        </p:blipFill>
        <p:spPr>
          <a:xfrm>
            <a:off x="-6480" y="-6480"/>
            <a:ext cx="8560080" cy="12067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0009-005--Pochemu"/>
          <p:cNvPicPr/>
          <p:nvPr/>
        </p:nvPicPr>
        <p:blipFill>
          <a:blip r:embed="rId2"/>
          <a:stretch/>
        </p:blipFill>
        <p:spPr>
          <a:xfrm>
            <a:off x="468360" y="1197000"/>
            <a:ext cx="1871640" cy="50846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1111"/>
          <p:cNvPicPr/>
          <p:nvPr/>
        </p:nvPicPr>
        <p:blipFill>
          <a:blip r:embed="rId3"/>
          <a:stretch/>
        </p:blipFill>
        <p:spPr>
          <a:xfrm>
            <a:off x="2987640" y="1413000"/>
            <a:ext cx="2952720" cy="393696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1" descr="http://900igr.net/datas/fizika/Atmosfernoe-davlenie-vozdukha/0005-005-Primenenie-atmosfernogo-davlenija.jpg"/>
          <p:cNvPicPr/>
          <p:nvPr/>
        </p:nvPicPr>
        <p:blipFill>
          <a:blip r:embed="rId4"/>
          <a:srcRect l="4331" t="23255" r="79114" b="12614"/>
          <a:stretch/>
        </p:blipFill>
        <p:spPr>
          <a:xfrm>
            <a:off x="6594480" y="1197000"/>
            <a:ext cx="17938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9T05:52:09Z</dcterms:created>
  <dc:creator>Alla Acbar</dc:creator>
  <dc:description/>
  <dc:language>en-US</dc:language>
  <cp:lastModifiedBy>licey</cp:lastModifiedBy>
  <dcterms:modified xsi:type="dcterms:W3CDTF">2016-02-16T15:38:00Z</dcterms:modified>
  <cp:revision>51</cp:revision>
  <dc:subject/>
  <dc:title>Атмосферное давление</dc:title>
</cp:coreProperties>
</file>