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4D9-AE5C-469D-B111-0817777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0DD-BAEA-4308-8D5C-48CA8934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BCD-4255-439E-900D-B7003937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3C7-B7BC-4A05-A371-9EDE6B2F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7934-C272-437A-864E-443BF5E0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3388-68AF-4F8F-ABBA-3C54F43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8AC-7093-4C8F-831D-96382E3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601-6FCB-4D7C-A18E-C400840D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C195-E766-4916-BC74-FCCFE4A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818D-187B-48E0-BB11-0D395A59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266-07E8-4245-AC2A-04E232C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BB2-FB92-4A45-B757-FB886953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68C6-B251-411C-85B5-CE2E508C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212-5768-4B88-91BB-97FA218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852-ACA0-4E98-BEAF-102D4762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11B-0B62-47CE-A6F9-66E37AD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41D3-9888-4E0C-A35F-D3F720FA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96D6-D03C-4BE4-8CE3-D4AC6207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7EBC-3327-4032-BA95-6EBB2B2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0D45-04C5-48C6-A845-3E5D13C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CDCC-6CAF-47D1-B061-8A3C2CD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0080-A7DE-4971-B539-2458FB8F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48A-9659-4863-A31C-8900FE5B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703D-6B19-426B-8E07-B6C7DA9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3633-B413-4F95-8D06-E05A59B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4148-C94B-430F-8ED3-1131C33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C7DD-EA7B-4897-93C9-4137DDA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6AB8-7600-4C2B-8BFF-3ED96F3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8E43-41B3-453F-9CD5-79B5319B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D498-41D1-44F4-96A4-90C75FEB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4A05-EB52-4A1A-9E4A-79999473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B933-23A3-4F45-89DD-6CA772A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17336-3F5B-4AC3-8762-FD1C6E7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5DC-05A0-4A76-BE4F-D830FBB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AEC1-8866-47ED-BD9D-E9BC91B3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E3F5-82C2-48CC-9A7E-F8FE1572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F904-4F2D-4A7B-8E11-B6A799E6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5390-E294-4B88-BD8C-DDEAA0E8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BEAE-ADB4-461F-9504-A23C356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38ED-FC97-4ABB-A593-635F254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191F-140F-43F3-9428-7051E1F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AD0C-832A-4214-ABC4-CA2C5AA1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6897-B6F9-41CA-AD01-0C0EE3C3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2AC-F017-49E8-9F1E-2A42D29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632-B8CA-470F-A05B-3FAC3C5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55B-E1D5-4039-B469-6F7CB9B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65F-1861-4E98-986D-A2BFA1D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5CE-E0E5-457F-9676-4AC9DFE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ABA9-6DBC-4A0E-A15A-20AF23A1115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BF4A-D65A-4E62-AA60-DCB7AC94E6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C69-E820-4440-A997-8503D1B5CFE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B53-950A-45FA-A4F5-F181FD06C9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841400"/>
            <a:ext cx="84056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557920" cy="12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g3"/>
          <p:cNvPicPr/>
          <p:nvPr/>
        </p:nvPicPr>
        <p:blipFill>
          <a:blip r:embed="rId2"/>
          <a:stretch/>
        </p:blipFill>
        <p:spPr>
          <a:xfrm>
            <a:off x="684360" y="1628640"/>
            <a:ext cx="2592360" cy="43498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111.jpg"/>
          <p:cNvPicPr/>
          <p:nvPr/>
        </p:nvPicPr>
        <p:blipFill>
          <a:blip r:embed="rId3"/>
          <a:stretch/>
        </p:blipFill>
        <p:spPr>
          <a:xfrm>
            <a:off x="3995640" y="1643040"/>
            <a:ext cx="4611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Автоматическая поилка для птиц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1"/>
          <a:srcRect l="67327" t="16399" r="4327" b="10100"/>
          <a:stretch/>
        </p:blipFill>
        <p:spPr>
          <a:xfrm>
            <a:off x="249120" y="1341360"/>
            <a:ext cx="2667240" cy="5183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6"/>
          <p:cNvSpPr/>
          <p:nvPr/>
        </p:nvSpPr>
        <p:spPr>
          <a:xfrm>
            <a:off x="3132000" y="148752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ип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 на действии атмосферного давлени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 не выливается из бутылки потому, что давление внутри бутылки меньше атмосферного, которое действует снизу на воду в бутылке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ровень воды в корытце понизится и горлышко выйдет из воды, часть воды выльется, потому что давление внутри бутылки станет больше атмосфер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Как мы пьем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6" descr="http://im3-tub-ru.yandex.net/i?id=363228637-54-72&amp;n=21"/>
          <p:cNvPicPr/>
          <p:nvPr/>
        </p:nvPicPr>
        <p:blipFill>
          <a:blip r:embed="rId1"/>
          <a:stretch/>
        </p:blipFill>
        <p:spPr>
          <a:xfrm>
            <a:off x="39528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im0-tub-ru.yandex.net/i?id=488470284-36-72&amp;n=21"/>
          <p:cNvPicPr/>
          <p:nvPr/>
        </p:nvPicPr>
        <p:blipFill>
          <a:blip r:embed="rId2"/>
          <a:stretch/>
        </p:blipFill>
        <p:spPr>
          <a:xfrm>
            <a:off x="1116000" y="4068720"/>
            <a:ext cx="1800360" cy="26733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8"/>
          <p:cNvSpPr/>
          <p:nvPr/>
        </p:nvSpPr>
        <p:spPr>
          <a:xfrm>
            <a:off x="3851280" y="1773360"/>
            <a:ext cx="489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ягивание ртом жидкости вызывает расширение грудной клетки и разрежение воздуха как в легких, так и во 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ное по сравнению с внутренним наружное атмосферное давление «вгоняет» туда часть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ильм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Атмосферное давлени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40,41  упр 18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занимательный опыт на использование атмосферного давления (Занимательные опыты можно найти в книгах “Занимательная физика” Перельмана и других, можно из задания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ли сообщение на тему «Атмосферное давление в живой природ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3132000" y="5013360"/>
            <a:ext cx="431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Picture 8" descr="колобок"/>
          <p:cNvPicPr/>
          <p:nvPr/>
        </p:nvPicPr>
        <p:blipFill>
          <a:blip r:embed="rId3"/>
          <a:stretch/>
        </p:blipFill>
        <p:spPr>
          <a:xfrm>
            <a:off x="468360" y="4797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428760" y="117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мосфера- это газовая оболочка, окружающая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54160" y="135720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греч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тмос                       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 )                          (шар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 flipH="1">
            <a:off x="3138480" y="1928880"/>
            <a:ext cx="790560" cy="57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996160" y="2000160"/>
            <a:ext cx="647640" cy="649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rcRect l="16115" t="8789" r="17968" b="6250"/>
          <a:stretch/>
        </p:blipFill>
        <p:spPr>
          <a:xfrm>
            <a:off x="3251160" y="3643200"/>
            <a:ext cx="3178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ТО ВХОДИТ В СОСТАВ ВОЗДУХ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 ВОЗДУХ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ЗОТ -78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ИСЛОРОД -21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ГОН – 0,9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ЛЕКИСЛЫЙ ГАЗ – 0,0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УГИЕ ГАЗ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Диаграмма 3" descr=""/>
          <p:cNvPicPr/>
          <p:nvPr/>
        </p:nvPicPr>
        <p:blipFill>
          <a:blip r:embed="rId1"/>
          <a:stretch/>
        </p:blipFill>
        <p:spPr>
          <a:xfrm>
            <a:off x="3267000" y="1981080"/>
            <a:ext cx="6451560" cy="4648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1"/>
          <p:cNvSpPr/>
          <p:nvPr/>
        </p:nvSpPr>
        <p:spPr>
          <a:xfrm>
            <a:off x="2857680" y="441360"/>
            <a:ext cx="53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738360"/>
            <a:ext cx="41911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4643280" y="58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оп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43280" y="486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716360" y="342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з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71636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рм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788000" y="47628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з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21164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421164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4211640" y="400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211640" y="3141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21164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760320" y="8568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ение атмо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558280" cy="1206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1.jpg"/>
          <p:cNvPicPr/>
          <p:nvPr/>
        </p:nvPicPr>
        <p:blipFill>
          <a:blip r:embed="rId2"/>
          <a:stretch/>
        </p:blipFill>
        <p:spPr>
          <a:xfrm>
            <a:off x="412920" y="1413000"/>
            <a:ext cx="840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536400" y="-115920"/>
            <a:ext cx="8242560" cy="131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rcRect l="22707" t="26368" r="23098" b="21875"/>
          <a:stretch/>
        </p:blipFill>
        <p:spPr>
          <a:xfrm>
            <a:off x="692280" y="1214280"/>
            <a:ext cx="7880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4396" t="5861" r="26025" b="16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56760" y="999720"/>
            <a:ext cx="849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ЧТО НАЗЫВАЕТСЯ АТМОСФЕРНЫМ ДАВЛЕНИЕ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ВЛЕНИЕ, ОКАЗЫВАЕМОЕ АТМОСФЕРОЙ ЗЕМЛИ НА ВСЕ НАХОДЯЩИЕСЯ В НЕЙ ПРЕДМЕТЫ, НАЗЫВАЕТСЯ АТМОСФЕРНЫМ ДАВЛЕНИЕМ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560080" cy="120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0009-005--Pochemu"/>
          <p:cNvPicPr/>
          <p:nvPr/>
        </p:nvPicPr>
        <p:blipFill>
          <a:blip r:embed="rId2"/>
          <a:stretch/>
        </p:blipFill>
        <p:spPr>
          <a:xfrm>
            <a:off x="468360" y="1197000"/>
            <a:ext cx="1871640" cy="5084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1111"/>
          <p:cNvPicPr/>
          <p:nvPr/>
        </p:nvPicPr>
        <p:blipFill>
          <a:blip r:embed="rId3"/>
          <a:stretch/>
        </p:blipFill>
        <p:spPr>
          <a:xfrm>
            <a:off x="2987640" y="141300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http://900igr.net/datas/fizika/Atmosfernoe-davlenie-vozdukha/0005-005-Primenenie-atmosfernogo-davlenija.jpg"/>
          <p:cNvPicPr/>
          <p:nvPr/>
        </p:nvPicPr>
        <p:blipFill>
          <a:blip r:embed="rId4"/>
          <a:srcRect l="4331" t="23255" r="79114" b="12614"/>
          <a:stretch/>
        </p:blipFill>
        <p:spPr>
          <a:xfrm>
            <a:off x="6594480" y="1197000"/>
            <a:ext cx="1793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5:52:09Z</dcterms:created>
  <dc:creator>Alla Acbar</dc:creator>
  <dc:description/>
  <dc:language>en-US</dc:language>
  <cp:lastModifiedBy>licey</cp:lastModifiedBy>
  <dcterms:modified xsi:type="dcterms:W3CDTF">2016-02-16T15:38:00Z</dcterms:modified>
  <cp:revision>51</cp:revision>
  <dc:subject/>
  <dc:title>Атмосферное давление</dc:title>
</cp:coreProperties>
</file>