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0FB-0E71-488D-A72D-AACF4F14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7E8-3541-4AB7-9526-5E36841B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D34-6A3D-474E-BE0A-B26AFA4E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E1B-2875-450A-971B-DEA837EB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F60-B1D6-461D-8089-F5C85C7B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0F89-E679-4965-A41D-3C349646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914-A09E-4AAC-8B6A-60330AE5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CAF8-1BF5-4F72-B793-D49B46D4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BAF-E262-4D07-9FFD-3F0F257E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D9D-2236-44F3-8AF1-E698420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D6A-AD58-403B-8690-F47657E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846-F479-40F0-88AD-BB16EE0A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47F8-C98B-47DE-94F4-BC22C35D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D080-78C6-484C-83CD-5007C87C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4C40-9E80-469E-B3BD-75A6081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141-7280-4F5F-AEB0-E2BAFDA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A4A6-0024-477D-8E84-29C4EB99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7F5-F6AA-49FC-B1A0-27093DB2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5F1-F89B-43C4-9B48-73EE7FBE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36F-DACA-4B96-9EF8-1E86E146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881-CA14-4D53-B3D6-0AC44144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D48-5AB1-4EC6-810A-5E6194F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D4F-4FF6-4C20-BC0E-C72B8499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778-2CB1-47B1-8E3C-0E4E102D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6DA5-B1CF-439B-9B84-A6E0CCA5B6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AC68-9351-42B3-A70B-F5AE4C0D9C9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сновные фонды предприят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ы для актуализации знаний студентов по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сновные фонды предприят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мини-тест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азработала Львова Т.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ые фонды предприятия делятся н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 материальные и нематериа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финансовые и нефинансов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дешевые и дорог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ральный износ - э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изменение стоимости основных фондов в результате появления аналогичных, но более дешевых машин и оборуд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постепенная утрата основными фондами своей потребительской стоимости вследствие эксплуатации или бездейств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оначальная стоимость отраж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  действительную ценность основных средст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 фактические затраты на приобретение (создание) основных средст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 качественное состояние основных средст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ценка основных средств по остаточной  стоимости необходима потому, что о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 не меняют своей вещественной формы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) переносят свою стоимость на производимую продук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) используются в течение год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ые средства отличаются от основных фондов тем, ч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 состав основных фондов включают  основны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едства (материальные)  и нематериаль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ничем не отличаю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ка мини-те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82600" y="2060640"/>
          <a:ext cx="7350120" cy="2195280"/>
        </p:xfrm>
        <a:graphic>
          <a:graphicData uri="http://schemas.openxmlformats.org/drawingml/2006/table">
            <a:tbl>
              <a:tblPr/>
              <a:tblGrid>
                <a:gridCol w="1836720"/>
                <a:gridCol w="1838520"/>
                <a:gridCol w="1836720"/>
                <a:gridCol w="1838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3:02:23Z</dcterms:created>
  <dc:creator>Lesha&amp;Tania</dc:creator>
  <dc:description/>
  <dc:language>en-US</dc:language>
  <cp:lastModifiedBy>Татьяна</cp:lastModifiedBy>
  <dcterms:modified xsi:type="dcterms:W3CDTF">2019-04-22T13:27:39Z</dcterms:modified>
  <cp:revision>9</cp:revision>
  <dc:subject/>
  <dc:title>Основные средства предприя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