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8D1-74C2-4216-97FE-55141DB8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BF7-20FB-43B0-A16B-5BAEE7C8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0C0-94BF-4AF6-AED4-81444B0E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9A6-81D0-4653-9BCD-C64AFA5B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66FB-33EE-47D8-8B98-6C06A09F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4276-E763-46BC-895A-9E381174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4310-18FD-45B6-B8BB-A03F347B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826E-B045-4355-8E49-32191CE5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3D77-9542-478B-B6A2-422FB3A7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CEE2-6109-4DCE-8A14-8EB363B2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53EE-538F-494E-B5CF-F2A3114C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6C0-83F7-4079-ADDC-578BD50C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C5A7-931E-4549-BA2A-1201C5F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668A-B89B-463F-B27C-A036022A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0857-740A-4997-BC99-7451114A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1242-8A01-44BB-8411-9FDCBD74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B9B5-8864-46C1-A45D-D78581DC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5FE-F170-447E-A2DF-3474B1D9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43F-93BB-4763-AC62-E4E2BD25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656-19FE-45A8-9E1D-FB786FEF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70B-2E27-4953-A171-9CAB7794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EEA-5BFE-476F-B766-3FCAC5F9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51F-011A-441C-B3E6-FDFE0BCC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993-A77A-4911-B83B-648384EE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9818-A026-4E53-A76D-B40C86CA36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2D6E-D97D-457F-8EB1-33CF54AFC1C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сновные фонды предприя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териалы для актуализации знаний студентов по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сновные фонды предприят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мини-тест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Разработала Львова Т.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ые фонды предприятия делятся н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 материальные и нематериаль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финансовые и нефинансов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дешевые и дорог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ральный износ - э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изменение стоимости основных фондов в результате появления аналогичных, но более дешевых машин и оборуд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постепенная утрата основными фондами своей потребительской стоимости вследствие эксплуатации или бездейств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3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оначальная стоимость отраж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 действительную ценность основных средств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фактические затраты на приобретение (создание) основных средств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) качественное состояние основных средст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4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ка основных средств по остаточной  стоимости необходима потому, что о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 не меняют своей вещественной форм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переносят свою стоимость на производимую продукци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используются в течение год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5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ые средства отличаются от основных фондов тем, чт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в состав основных фондов включают  основны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едства (материальные)  и нематериаль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ничем не отличаю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ка мини-те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2600" y="2060640"/>
          <a:ext cx="7350120" cy="2195280"/>
        </p:xfrm>
        <a:graphic>
          <a:graphicData uri="http://schemas.openxmlformats.org/drawingml/2006/table">
            <a:tbl>
              <a:tblPr/>
              <a:tblGrid>
                <a:gridCol w="1836720"/>
                <a:gridCol w="1838520"/>
                <a:gridCol w="1836720"/>
                <a:gridCol w="1838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3:02:23Z</dcterms:created>
  <dc:creator>Lesha&amp;Tania</dc:creator>
  <dc:description/>
  <dc:language>en-US</dc:language>
  <cp:lastModifiedBy>Татьяна</cp:lastModifiedBy>
  <dcterms:modified xsi:type="dcterms:W3CDTF">2019-04-22T13:27:39Z</dcterms:modified>
  <cp:revision>9</cp:revision>
  <dc:subject/>
  <dc:title>Основные средства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