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DC582-6D75-4C6B-B828-268A64891B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7A695-124D-4E9D-BA8B-3FEF3BDE1C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86F22-1872-4A06-B7FF-190C73DAE9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7C7CC-CC38-4D53-A4CE-07C9C91C27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7A626-30ED-4330-9C4A-E2FA22FAAB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C0838-05A3-442C-AA06-6CEB7C0DBA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2359A-12B8-4800-AEC5-3CC1C57612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DDC88-0582-4CC7-B9E3-6CE70B7A29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44B45-5B36-4469-BFFB-AB0169E6ED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EFD1C-472A-4181-BD45-441E9975BC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643BE-A66A-4356-982F-018508767D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91FDA-714C-4FC5-8512-894A8FF8B4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78645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3923640"/>
            <a:ext cx="78645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90A5E-51CB-4E34-8D37-E2B03048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4648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39236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9236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86A44-B53F-441F-B0E8-8574361A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2532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5520" y="1464840"/>
            <a:ext cx="2532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4840" y="1464840"/>
            <a:ext cx="2532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3923640"/>
            <a:ext cx="2532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5520" y="3923640"/>
            <a:ext cx="2532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4840" y="3923640"/>
            <a:ext cx="2532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F2629-2D92-4934-B183-0B31B2A952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EDC9C-35D5-4A74-82D4-081E06B523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46200" y="1464840"/>
            <a:ext cx="786456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2E405-E27A-49EF-95EC-DDF15E6C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78645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DD8A9-751A-468F-B145-EB8F8EB5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3837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040" y="1464840"/>
            <a:ext cx="3837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88631-74CE-40F4-962B-F46D0B37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E10BE-0E08-40C6-80DD-71479880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58800" y="118800"/>
            <a:ext cx="783432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A0786-4109-4D3E-A96A-64B3E810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1464840"/>
            <a:ext cx="3837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6200" y="39236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1073C-7D52-4CB2-8AA9-6A7B78AE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1464840"/>
            <a:ext cx="786456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16D0C-E9EB-4E0D-98B8-23794E4F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3837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040" y="14648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040" y="39236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49808-66F8-4515-88A8-B04009D6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4648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6200" y="3923640"/>
            <a:ext cx="78645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30B62-1047-4505-8DF7-82653C32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78645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46200" y="3923640"/>
            <a:ext cx="78645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1D7CC-6593-421F-9873-7D800501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040" y="14648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6200" y="39236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040" y="39236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F52E0-4423-44CE-8BD6-53A2DA15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2532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5520" y="1464840"/>
            <a:ext cx="2532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4840" y="1464840"/>
            <a:ext cx="2532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46200" y="3923640"/>
            <a:ext cx="2532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5520" y="3923640"/>
            <a:ext cx="2532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4840" y="3923640"/>
            <a:ext cx="2532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307CA-4B4E-476B-81B1-BAEA393F15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78645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45C2A-155D-4318-B953-1629BBBC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3837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1464840"/>
            <a:ext cx="3837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3125D-2F76-4446-ABAC-408DE206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D4A2F-B904-4419-AB61-2B742624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8800" y="118800"/>
            <a:ext cx="783432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176C6-5F8F-4127-951E-B33ED0E7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464840"/>
            <a:ext cx="3837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39236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C4EB8-887A-4738-B73F-A50FC69B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3837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4648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9236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35F24-54D8-447C-80DE-E75FA2B4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4648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3923640"/>
            <a:ext cx="78645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787D9-8B92-4605-B4D2-4C55CA2D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122120"/>
            <a:ext cx="776772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28560" y="6356160"/>
            <a:ext cx="2052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458040" y="6356160"/>
            <a:ext cx="2052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0DFF1-84C7-424C-A20E-2512F5C8CCE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46200" y="1464840"/>
            <a:ext cx="78645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28560" y="6356160"/>
            <a:ext cx="2052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4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458040" y="6356160"/>
            <a:ext cx="2052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8E1CF9D-C23C-4AD4-B6AB-BE7F886A4D58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144360" y="0"/>
            <a:ext cx="928836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426960" y="3403440"/>
            <a:ext cx="8356680" cy="23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Роль семьи в профилактике правонарушений среди несовершеннолетних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6610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2"/>
          <p:cNvSpPr/>
          <p:nvPr/>
        </p:nvSpPr>
        <p:spPr>
          <a:xfrm>
            <a:off x="1619280" y="4459320"/>
            <a:ext cx="6002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1511280" y="501480"/>
            <a:ext cx="61912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дии отклоняющегося повед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44360" y="1887480"/>
            <a:ext cx="88678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неодобряемое поведение – поведение, эпизодически наблюдаемое у большинства детей и подростков, связанное с шалостями, озорством, непослушанием, непоседливостью, упрямство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порицаемое поведение - (эпизодические нарушения дисциплины, случаи драчливости, грубости, дерзости, нечестности), вызывающее осуждение у педагогов, родителе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девиантное поведение - нравственно отрицательные действия и поступки, принявшие характер систематических или привычных (лживость, притворство, лицемерие, эгоизм, конфликтность, агрессивность воровство и т. д.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71280" y="2122560"/>
            <a:ext cx="9125280" cy="40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предпреступное поведение - поведение, несущее в себе зачатки криминального и деструктивного поведения (эпизодические умышленные нарушения норм требований, регулирующих поведение и взаимоотношения людей в обществе, хулиганство, избиения, вымогательство, распитие спиртных напитков, злостные нарушения дисциплины и общепринятых правил поведения и т. д.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противоправное или преступное поведение - поведение, связанное с различными правонарушениями и преступления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1944720" y="287280"/>
            <a:ext cx="547200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благоприятные условия семейного воспит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558720" y="1800360"/>
            <a:ext cx="6640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3366"/>
                </a:solidFill>
                <a:latin typeface="Arial"/>
              </a:rPr>
              <a:t>Асоциальное поведение родите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5440" y="2349360"/>
            <a:ext cx="858384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ждый третий несовершеннолетний правонарушитель воспитывался в такой семье, где он постоянно сталкивался с резко отрицательными аспектами поведения родите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473040" y="3743280"/>
            <a:ext cx="787896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Недостаточное внимание и любовь со стороны родителе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04840" y="4680000"/>
            <a:ext cx="872316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хоженный, вовремя накормленный и модно одетый ребенок может быть внутренне одиноким, психологически безнадзорным, поскольку до его настроения, интересов и переживаний никому нет дел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830160" y="1511280"/>
            <a:ext cx="2552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Гиперопе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1944720" y="287280"/>
            <a:ext cx="547200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благоприятные условия семейного воспит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4360" y="1914480"/>
            <a:ext cx="856800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ослаблении контроля старших ребенок оказывается дезориентированным в своем поведен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47640" y="2592360"/>
            <a:ext cx="74152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80099"/>
                </a:solidFill>
                <a:latin typeface="Arial"/>
              </a:rPr>
              <a:t>Чрезмерное удовлетворение потребностей ребенк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60360" y="3311640"/>
            <a:ext cx="835200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редко «слепая» родительская защита детей порождает у них уверенность в полнейшей своей безнаказан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90480" y="4100400"/>
            <a:ext cx="70851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Чрезмерная требовательность  родите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76360" y="4457880"/>
            <a:ext cx="799128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злишняя суровость родителей, чрезмерное использование всевозможных ограничений, разрушают атмосферу довер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1152360" y="22212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веты родителям по профилактике правонарушений и преступлений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2"/>
          <p:cNvGrpSpPr/>
          <p:nvPr/>
        </p:nvGrpSpPr>
        <p:grpSpPr>
          <a:xfrm>
            <a:off x="939960" y="1295280"/>
            <a:ext cx="7916760" cy="1000080"/>
            <a:chOff x="939960" y="1295280"/>
            <a:chExt cx="7916760" cy="1000080"/>
          </a:xfrm>
        </p:grpSpPr>
        <p:sp>
          <p:nvSpPr>
            <p:cNvPr id="113" name="AutoShape 3"/>
            <p:cNvSpPr/>
            <p:nvPr/>
          </p:nvSpPr>
          <p:spPr>
            <a:xfrm>
              <a:off x="1319040" y="1295280"/>
              <a:ext cx="7537680" cy="1000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574640" y="1434960"/>
              <a:ext cx="652788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939960" y="1379520"/>
              <a:ext cx="653760" cy="892080"/>
              <a:chOff x="939960" y="1379520"/>
              <a:chExt cx="653760" cy="892080"/>
            </a:xfrm>
          </p:grpSpPr>
          <p:grpSp>
            <p:nvGrpSpPr>
              <p:cNvPr id="116" name="Group 6"/>
              <p:cNvGrpSpPr/>
              <p:nvPr/>
            </p:nvGrpSpPr>
            <p:grpSpPr>
              <a:xfrm>
                <a:off x="939960" y="1379520"/>
                <a:ext cx="653760" cy="892080"/>
                <a:chOff x="939960" y="1379520"/>
                <a:chExt cx="653760" cy="892080"/>
              </a:xfrm>
            </p:grpSpPr>
            <p:pic>
              <p:nvPicPr>
                <p:cNvPr id="117" name="Picture 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87480" y="2117880"/>
                  <a:ext cx="565200" cy="153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Oval 8"/>
                <p:cNvSpPr/>
                <p:nvPr/>
              </p:nvSpPr>
              <p:spPr>
                <a:xfrm>
                  <a:off x="939960" y="1379520"/>
                  <a:ext cx="653760" cy="79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9257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Oval 9"/>
                <p:cNvSpPr/>
                <p:nvPr/>
              </p:nvSpPr>
              <p:spPr>
                <a:xfrm>
                  <a:off x="957240" y="1398600"/>
                  <a:ext cx="623880" cy="75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a161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20" name="Picture 1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139760" y="1386000"/>
                  <a:ext cx="426960" cy="517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1" name="Rectangle 11"/>
              <p:cNvSpPr/>
              <p:nvPr/>
            </p:nvSpPr>
            <p:spPr>
              <a:xfrm>
                <a:off x="1005480" y="1428840"/>
                <a:ext cx="307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Group 12"/>
          <p:cNvGrpSpPr/>
          <p:nvPr/>
        </p:nvGrpSpPr>
        <p:grpSpPr>
          <a:xfrm>
            <a:off x="966960" y="2444760"/>
            <a:ext cx="7845120" cy="1103400"/>
            <a:chOff x="966960" y="2444760"/>
            <a:chExt cx="7845120" cy="1103400"/>
          </a:xfrm>
        </p:grpSpPr>
        <p:sp>
          <p:nvSpPr>
            <p:cNvPr id="123" name="AutoShape 13"/>
            <p:cNvSpPr/>
            <p:nvPr/>
          </p:nvSpPr>
          <p:spPr>
            <a:xfrm>
              <a:off x="1339920" y="2444760"/>
              <a:ext cx="7472160" cy="1068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4"/>
            <p:cNvSpPr/>
            <p:nvPr/>
          </p:nvSpPr>
          <p:spPr>
            <a:xfrm>
              <a:off x="1593720" y="2598840"/>
              <a:ext cx="6470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Group 15"/>
            <p:cNvGrpSpPr/>
            <p:nvPr/>
          </p:nvGrpSpPr>
          <p:grpSpPr>
            <a:xfrm>
              <a:off x="966960" y="2597040"/>
              <a:ext cx="649080" cy="951120"/>
              <a:chOff x="966960" y="2597040"/>
              <a:chExt cx="649080" cy="951120"/>
            </a:xfrm>
          </p:grpSpPr>
          <p:sp>
            <p:nvSpPr>
              <p:cNvPr id="126" name="Rectangle 16"/>
              <p:cNvSpPr/>
              <p:nvPr/>
            </p:nvSpPr>
            <p:spPr>
              <a:xfrm>
                <a:off x="1014840" y="2664000"/>
                <a:ext cx="307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" name="Group 17"/>
              <p:cNvGrpSpPr/>
              <p:nvPr/>
            </p:nvGrpSpPr>
            <p:grpSpPr>
              <a:xfrm>
                <a:off x="966960" y="2597040"/>
                <a:ext cx="649080" cy="951120"/>
                <a:chOff x="966960" y="2597040"/>
                <a:chExt cx="649080" cy="951120"/>
              </a:xfrm>
            </p:grpSpPr>
            <p:pic>
              <p:nvPicPr>
                <p:cNvPr id="128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14480" y="3384720"/>
                  <a:ext cx="560160" cy="163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" name="Oval 19"/>
                <p:cNvSpPr/>
                <p:nvPr/>
              </p:nvSpPr>
              <p:spPr>
                <a:xfrm>
                  <a:off x="966960" y="2597040"/>
                  <a:ext cx="649080" cy="84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0e470"/>
                    </a:gs>
                    <a:gs pos="100000">
                      <a:srgbClr val="09824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Oval 20"/>
                <p:cNvSpPr/>
                <p:nvPr/>
              </p:nvSpPr>
              <p:spPr>
                <a:xfrm>
                  <a:off x="984240" y="2616120"/>
                  <a:ext cx="619200" cy="81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0e470"/>
                    </a:gs>
                    <a:gs pos="100000">
                      <a:srgbClr val="0a904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31" name="Picture 2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166760" y="2602080"/>
                  <a:ext cx="422280" cy="552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32" name="Rectangle 22"/>
              <p:cNvSpPr/>
              <p:nvPr/>
            </p:nvSpPr>
            <p:spPr>
              <a:xfrm>
                <a:off x="1032480" y="2647800"/>
                <a:ext cx="307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Group 23"/>
          <p:cNvGrpSpPr/>
          <p:nvPr/>
        </p:nvGrpSpPr>
        <p:grpSpPr>
          <a:xfrm>
            <a:off x="1031760" y="3594240"/>
            <a:ext cx="7783560" cy="996840"/>
            <a:chOff x="1031760" y="3594240"/>
            <a:chExt cx="7783560" cy="996840"/>
          </a:xfrm>
        </p:grpSpPr>
        <p:sp>
          <p:nvSpPr>
            <p:cNvPr id="134" name="AutoShape 24"/>
            <p:cNvSpPr/>
            <p:nvPr/>
          </p:nvSpPr>
          <p:spPr>
            <a:xfrm>
              <a:off x="1406520" y="3594240"/>
              <a:ext cx="7408800" cy="965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25"/>
            <p:cNvSpPr/>
            <p:nvPr/>
          </p:nvSpPr>
          <p:spPr>
            <a:xfrm>
              <a:off x="1657440" y="3733920"/>
              <a:ext cx="6414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" name="Group 26"/>
            <p:cNvGrpSpPr/>
            <p:nvPr/>
          </p:nvGrpSpPr>
          <p:grpSpPr>
            <a:xfrm>
              <a:off x="1031760" y="3730680"/>
              <a:ext cx="642960" cy="860400"/>
              <a:chOff x="1031760" y="3730680"/>
              <a:chExt cx="642960" cy="860400"/>
            </a:xfrm>
          </p:grpSpPr>
          <p:sp>
            <p:nvSpPr>
              <p:cNvPr id="137" name="Rectangle 27"/>
              <p:cNvSpPr/>
              <p:nvPr/>
            </p:nvSpPr>
            <p:spPr>
              <a:xfrm>
                <a:off x="1083240" y="3794040"/>
                <a:ext cx="307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8" name="Group 28"/>
              <p:cNvGrpSpPr/>
              <p:nvPr/>
            </p:nvGrpSpPr>
            <p:grpSpPr>
              <a:xfrm>
                <a:off x="1031760" y="3730680"/>
                <a:ext cx="642960" cy="860400"/>
                <a:chOff x="1031760" y="3730680"/>
                <a:chExt cx="642960" cy="860400"/>
              </a:xfrm>
            </p:grpSpPr>
            <p:pic>
              <p:nvPicPr>
                <p:cNvPr id="139" name="Picture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76400" y="4443480"/>
                  <a:ext cx="555480" cy="14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" name="Oval 30"/>
                <p:cNvSpPr/>
                <p:nvPr/>
              </p:nvSpPr>
              <p:spPr>
                <a:xfrm>
                  <a:off x="1031760" y="3730680"/>
                  <a:ext cx="64296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a55f9"/>
                    </a:gs>
                    <a:gs pos="100000">
                      <a:srgbClr val="73308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Oval 31"/>
                <p:cNvSpPr/>
                <p:nvPr/>
              </p:nvSpPr>
              <p:spPr>
                <a:xfrm>
                  <a:off x="1047600" y="3747960"/>
                  <a:ext cx="613080" cy="73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a55f9"/>
                    </a:gs>
                    <a:gs pos="100000">
                      <a:srgbClr val="80369e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42" name="Picture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228680" y="3735360"/>
                  <a:ext cx="419040" cy="50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43" name="Rectangle 33"/>
              <p:cNvSpPr/>
              <p:nvPr/>
            </p:nvSpPr>
            <p:spPr>
              <a:xfrm>
                <a:off x="1095840" y="3776760"/>
                <a:ext cx="307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34"/>
          <p:cNvGrpSpPr/>
          <p:nvPr/>
        </p:nvGrpSpPr>
        <p:grpSpPr>
          <a:xfrm>
            <a:off x="1077840" y="4821120"/>
            <a:ext cx="7777080" cy="1149480"/>
            <a:chOff x="1077840" y="4821120"/>
            <a:chExt cx="7777080" cy="1149480"/>
          </a:xfrm>
        </p:grpSpPr>
        <p:sp>
          <p:nvSpPr>
            <p:cNvPr id="145" name="AutoShape 35"/>
            <p:cNvSpPr/>
            <p:nvPr/>
          </p:nvSpPr>
          <p:spPr>
            <a:xfrm>
              <a:off x="1442880" y="4821120"/>
              <a:ext cx="7412040" cy="111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36"/>
            <p:cNvSpPr/>
            <p:nvPr/>
          </p:nvSpPr>
          <p:spPr>
            <a:xfrm>
              <a:off x="1693800" y="4981680"/>
              <a:ext cx="64198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Group 37"/>
            <p:cNvGrpSpPr/>
            <p:nvPr/>
          </p:nvGrpSpPr>
          <p:grpSpPr>
            <a:xfrm>
              <a:off x="1077840" y="4978440"/>
              <a:ext cx="644760" cy="992160"/>
              <a:chOff x="1077840" y="4978440"/>
              <a:chExt cx="644760" cy="992160"/>
            </a:xfrm>
          </p:grpSpPr>
          <p:grpSp>
            <p:nvGrpSpPr>
              <p:cNvPr id="148" name="Group 38"/>
              <p:cNvGrpSpPr/>
              <p:nvPr/>
            </p:nvGrpSpPr>
            <p:grpSpPr>
              <a:xfrm>
                <a:off x="1077840" y="4978440"/>
                <a:ext cx="644760" cy="992160"/>
                <a:chOff x="1077840" y="4978440"/>
                <a:chExt cx="644760" cy="992160"/>
              </a:xfrm>
            </p:grpSpPr>
            <p:pic>
              <p:nvPicPr>
                <p:cNvPr id="149" name="Picture 3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23920" y="5799240"/>
                  <a:ext cx="55728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" name="Oval 40"/>
                <p:cNvSpPr/>
                <p:nvPr/>
              </p:nvSpPr>
              <p:spPr>
                <a:xfrm>
                  <a:off x="1077840" y="4978440"/>
                  <a:ext cx="644760" cy="88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98e3"/>
                    </a:gs>
                    <a:gs pos="100000">
                      <a:srgbClr val="2c5781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Oval 41"/>
                <p:cNvSpPr/>
                <p:nvPr/>
              </p:nvSpPr>
              <p:spPr>
                <a:xfrm>
                  <a:off x="1093680" y="4997520"/>
                  <a:ext cx="614520" cy="84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98e3"/>
                    </a:gs>
                    <a:gs pos="100000">
                      <a:srgbClr val="30609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52" name="Picture 4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274760" y="4984920"/>
                  <a:ext cx="419040" cy="57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53" name="Rectangle 43"/>
              <p:cNvSpPr/>
              <p:nvPr/>
            </p:nvSpPr>
            <p:spPr>
              <a:xfrm>
                <a:off x="1141920" y="5030640"/>
                <a:ext cx="307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Text Box 44"/>
          <p:cNvSpPr/>
          <p:nvPr/>
        </p:nvSpPr>
        <p:spPr>
          <a:xfrm>
            <a:off x="1727280" y="1303200"/>
            <a:ext cx="698508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тарайтесь проводить больше времени со своим ребенком, интересуйтесь его успехами и неудача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45"/>
          <p:cNvSpPr/>
          <p:nvPr/>
        </p:nvSpPr>
        <p:spPr>
          <a:xfrm>
            <a:off x="1855800" y="2519280"/>
            <a:ext cx="685656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тарайтесь помочь ребенку в разрешении пробле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6"/>
          <p:cNvSpPr/>
          <p:nvPr/>
        </p:nvSpPr>
        <p:spPr>
          <a:xfrm>
            <a:off x="1728720" y="3594240"/>
            <a:ext cx="698364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ъясняйте ребенку правила поведения в школе, дома, на улице, в гостях, в общественных места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7"/>
          <p:cNvSpPr/>
          <p:nvPr/>
        </p:nvSpPr>
        <p:spPr>
          <a:xfrm>
            <a:off x="1851120" y="4981680"/>
            <a:ext cx="686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тересуйтесь, с кем и где ваш ребенок проводит врем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"/>
          <p:cNvGrpSpPr/>
          <p:nvPr/>
        </p:nvGrpSpPr>
        <p:grpSpPr>
          <a:xfrm>
            <a:off x="954000" y="1224000"/>
            <a:ext cx="7917120" cy="1000080"/>
            <a:chOff x="954000" y="1224000"/>
            <a:chExt cx="7917120" cy="1000080"/>
          </a:xfrm>
        </p:grpSpPr>
        <p:sp>
          <p:nvSpPr>
            <p:cNvPr id="159" name="AutoShape 2"/>
            <p:cNvSpPr/>
            <p:nvPr/>
          </p:nvSpPr>
          <p:spPr>
            <a:xfrm>
              <a:off x="1333440" y="1224000"/>
              <a:ext cx="7537680" cy="1000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3"/>
            <p:cNvSpPr/>
            <p:nvPr/>
          </p:nvSpPr>
          <p:spPr>
            <a:xfrm>
              <a:off x="1589040" y="1363680"/>
              <a:ext cx="652788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Group 4"/>
            <p:cNvGrpSpPr/>
            <p:nvPr/>
          </p:nvGrpSpPr>
          <p:grpSpPr>
            <a:xfrm>
              <a:off x="954000" y="1308240"/>
              <a:ext cx="654120" cy="892080"/>
              <a:chOff x="954000" y="1308240"/>
              <a:chExt cx="654120" cy="892080"/>
            </a:xfrm>
          </p:grpSpPr>
          <p:grpSp>
            <p:nvGrpSpPr>
              <p:cNvPr id="162" name="Group 5"/>
              <p:cNvGrpSpPr/>
              <p:nvPr/>
            </p:nvGrpSpPr>
            <p:grpSpPr>
              <a:xfrm>
                <a:off x="954000" y="1308240"/>
                <a:ext cx="654120" cy="892080"/>
                <a:chOff x="954000" y="1308240"/>
                <a:chExt cx="654120" cy="892080"/>
              </a:xfrm>
            </p:grpSpPr>
            <p:pic>
              <p:nvPicPr>
                <p:cNvPr id="163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001880" y="2046240"/>
                  <a:ext cx="564840" cy="15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Oval 7"/>
                <p:cNvSpPr/>
                <p:nvPr/>
              </p:nvSpPr>
              <p:spPr>
                <a:xfrm>
                  <a:off x="954000" y="1308240"/>
                  <a:ext cx="654120" cy="79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9257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Oval 8"/>
                <p:cNvSpPr/>
                <p:nvPr/>
              </p:nvSpPr>
              <p:spPr>
                <a:xfrm>
                  <a:off x="971640" y="1327320"/>
                  <a:ext cx="623880" cy="75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a161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6" name="Picture 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154160" y="1314360"/>
                  <a:ext cx="426960" cy="517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Rectangle 10"/>
              <p:cNvSpPr/>
              <p:nvPr/>
            </p:nvSpPr>
            <p:spPr>
              <a:xfrm>
                <a:off x="1019520" y="1357200"/>
                <a:ext cx="307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Group 11"/>
          <p:cNvGrpSpPr/>
          <p:nvPr/>
        </p:nvGrpSpPr>
        <p:grpSpPr>
          <a:xfrm>
            <a:off x="936720" y="2448000"/>
            <a:ext cx="7845480" cy="1103400"/>
            <a:chOff x="936720" y="2448000"/>
            <a:chExt cx="7845480" cy="1103400"/>
          </a:xfrm>
        </p:grpSpPr>
        <p:sp>
          <p:nvSpPr>
            <p:cNvPr id="169" name="AutoShape 12"/>
            <p:cNvSpPr/>
            <p:nvPr/>
          </p:nvSpPr>
          <p:spPr>
            <a:xfrm>
              <a:off x="1309680" y="2448000"/>
              <a:ext cx="7472520" cy="1068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3"/>
            <p:cNvSpPr/>
            <p:nvPr/>
          </p:nvSpPr>
          <p:spPr>
            <a:xfrm>
              <a:off x="1563840" y="2602080"/>
              <a:ext cx="6470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1" name="Group 14"/>
            <p:cNvGrpSpPr/>
            <p:nvPr/>
          </p:nvGrpSpPr>
          <p:grpSpPr>
            <a:xfrm>
              <a:off x="936720" y="2600280"/>
              <a:ext cx="649080" cy="951120"/>
              <a:chOff x="936720" y="2600280"/>
              <a:chExt cx="649080" cy="951120"/>
            </a:xfrm>
          </p:grpSpPr>
          <p:sp>
            <p:nvSpPr>
              <p:cNvPr id="172" name="Rectangle 15"/>
              <p:cNvSpPr/>
              <p:nvPr/>
            </p:nvSpPr>
            <p:spPr>
              <a:xfrm>
                <a:off x="983160" y="2666880"/>
                <a:ext cx="307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3" name="Group 16"/>
              <p:cNvGrpSpPr/>
              <p:nvPr/>
            </p:nvGrpSpPr>
            <p:grpSpPr>
              <a:xfrm>
                <a:off x="936720" y="2600280"/>
                <a:ext cx="649080" cy="951120"/>
                <a:chOff x="936720" y="2600280"/>
                <a:chExt cx="649080" cy="951120"/>
              </a:xfrm>
            </p:grpSpPr>
            <p:pic>
              <p:nvPicPr>
                <p:cNvPr id="174" name="Picture 1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84240" y="3387600"/>
                  <a:ext cx="560520" cy="16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5" name="Oval 18"/>
                <p:cNvSpPr/>
                <p:nvPr/>
              </p:nvSpPr>
              <p:spPr>
                <a:xfrm>
                  <a:off x="936720" y="2600280"/>
                  <a:ext cx="649080" cy="84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0e470"/>
                    </a:gs>
                    <a:gs pos="100000">
                      <a:srgbClr val="09824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Oval 19"/>
                <p:cNvSpPr/>
                <p:nvPr/>
              </p:nvSpPr>
              <p:spPr>
                <a:xfrm>
                  <a:off x="952560" y="2619360"/>
                  <a:ext cx="619200" cy="81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0e470"/>
                    </a:gs>
                    <a:gs pos="100000">
                      <a:srgbClr val="0a904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7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135080" y="2604960"/>
                  <a:ext cx="422280" cy="552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8" name="Rectangle 21"/>
              <p:cNvSpPr/>
              <p:nvPr/>
            </p:nvSpPr>
            <p:spPr>
              <a:xfrm>
                <a:off x="1002240" y="2651040"/>
                <a:ext cx="307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Text Box 22"/>
          <p:cNvSpPr/>
          <p:nvPr/>
        </p:nvSpPr>
        <p:spPr>
          <a:xfrm>
            <a:off x="1901880" y="1081080"/>
            <a:ext cx="66657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1631880" y="1400040"/>
            <a:ext cx="71517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пишите ребенка в спортивную секцию или кружок, займите его свободное врем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Group 24"/>
          <p:cNvGrpSpPr/>
          <p:nvPr/>
        </p:nvGrpSpPr>
        <p:grpSpPr>
          <a:xfrm>
            <a:off x="939960" y="2444760"/>
            <a:ext cx="7845120" cy="1103400"/>
            <a:chOff x="939960" y="2444760"/>
            <a:chExt cx="7845120" cy="1103400"/>
          </a:xfrm>
        </p:grpSpPr>
        <p:sp>
          <p:nvSpPr>
            <p:cNvPr id="182" name="AutoShape 25"/>
            <p:cNvSpPr/>
            <p:nvPr/>
          </p:nvSpPr>
          <p:spPr>
            <a:xfrm>
              <a:off x="1312920" y="2444760"/>
              <a:ext cx="7472160" cy="1068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26"/>
            <p:cNvSpPr/>
            <p:nvPr/>
          </p:nvSpPr>
          <p:spPr>
            <a:xfrm>
              <a:off x="1566720" y="2598840"/>
              <a:ext cx="6470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Group 27"/>
            <p:cNvGrpSpPr/>
            <p:nvPr/>
          </p:nvGrpSpPr>
          <p:grpSpPr>
            <a:xfrm>
              <a:off x="939960" y="2597040"/>
              <a:ext cx="649080" cy="951120"/>
              <a:chOff x="939960" y="2597040"/>
              <a:chExt cx="649080" cy="951120"/>
            </a:xfrm>
          </p:grpSpPr>
          <p:sp>
            <p:nvSpPr>
              <p:cNvPr id="185" name="Rectangle 28"/>
              <p:cNvSpPr/>
              <p:nvPr/>
            </p:nvSpPr>
            <p:spPr>
              <a:xfrm>
                <a:off x="987840" y="2664000"/>
                <a:ext cx="307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6" name="Group 29"/>
              <p:cNvGrpSpPr/>
              <p:nvPr/>
            </p:nvGrpSpPr>
            <p:grpSpPr>
              <a:xfrm>
                <a:off x="939960" y="2597040"/>
                <a:ext cx="649080" cy="951120"/>
                <a:chOff x="939960" y="2597040"/>
                <a:chExt cx="649080" cy="951120"/>
              </a:xfrm>
            </p:grpSpPr>
            <p:pic>
              <p:nvPicPr>
                <p:cNvPr id="187" name="Picture 3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87480" y="3384720"/>
                  <a:ext cx="560160" cy="163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Oval 31"/>
                <p:cNvSpPr/>
                <p:nvPr/>
              </p:nvSpPr>
              <p:spPr>
                <a:xfrm>
                  <a:off x="939960" y="2597040"/>
                  <a:ext cx="649080" cy="84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0e470"/>
                    </a:gs>
                    <a:gs pos="100000">
                      <a:srgbClr val="09824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Oval 32"/>
                <p:cNvSpPr/>
                <p:nvPr/>
              </p:nvSpPr>
              <p:spPr>
                <a:xfrm>
                  <a:off x="957240" y="2616120"/>
                  <a:ext cx="619200" cy="81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0e470"/>
                    </a:gs>
                    <a:gs pos="100000">
                      <a:srgbClr val="0a904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0" name="Picture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139760" y="2602080"/>
                  <a:ext cx="422280" cy="552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1" name="Rectangle 34"/>
              <p:cNvSpPr/>
              <p:nvPr/>
            </p:nvSpPr>
            <p:spPr>
              <a:xfrm>
                <a:off x="1005480" y="2647800"/>
                <a:ext cx="307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2" name="Group 35"/>
          <p:cNvGrpSpPr/>
          <p:nvPr/>
        </p:nvGrpSpPr>
        <p:grpSpPr>
          <a:xfrm>
            <a:off x="939960" y="2444760"/>
            <a:ext cx="7845120" cy="1103400"/>
            <a:chOff x="939960" y="2444760"/>
            <a:chExt cx="7845120" cy="1103400"/>
          </a:xfrm>
        </p:grpSpPr>
        <p:sp>
          <p:nvSpPr>
            <p:cNvPr id="193" name="AutoShape 36"/>
            <p:cNvSpPr/>
            <p:nvPr/>
          </p:nvSpPr>
          <p:spPr>
            <a:xfrm>
              <a:off x="1312920" y="2444760"/>
              <a:ext cx="7472160" cy="1068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37"/>
            <p:cNvSpPr/>
            <p:nvPr/>
          </p:nvSpPr>
          <p:spPr>
            <a:xfrm>
              <a:off x="1566720" y="2598840"/>
              <a:ext cx="6470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Group 38"/>
            <p:cNvGrpSpPr/>
            <p:nvPr/>
          </p:nvGrpSpPr>
          <p:grpSpPr>
            <a:xfrm>
              <a:off x="939960" y="2597040"/>
              <a:ext cx="649080" cy="951120"/>
              <a:chOff x="939960" y="2597040"/>
              <a:chExt cx="649080" cy="951120"/>
            </a:xfrm>
          </p:grpSpPr>
          <p:sp>
            <p:nvSpPr>
              <p:cNvPr id="196" name="Rectangle 39"/>
              <p:cNvSpPr/>
              <p:nvPr/>
            </p:nvSpPr>
            <p:spPr>
              <a:xfrm>
                <a:off x="987840" y="2664000"/>
                <a:ext cx="307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7" name="Group 40"/>
              <p:cNvGrpSpPr/>
              <p:nvPr/>
            </p:nvGrpSpPr>
            <p:grpSpPr>
              <a:xfrm>
                <a:off x="939960" y="2597040"/>
                <a:ext cx="649080" cy="951120"/>
                <a:chOff x="939960" y="2597040"/>
                <a:chExt cx="649080" cy="951120"/>
              </a:xfrm>
            </p:grpSpPr>
            <p:pic>
              <p:nvPicPr>
                <p:cNvPr id="198" name="Picture 4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87480" y="3384720"/>
                  <a:ext cx="560160" cy="163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9" name="Oval 42"/>
                <p:cNvSpPr/>
                <p:nvPr/>
              </p:nvSpPr>
              <p:spPr>
                <a:xfrm>
                  <a:off x="939960" y="2597040"/>
                  <a:ext cx="649080" cy="84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0e470"/>
                    </a:gs>
                    <a:gs pos="100000">
                      <a:srgbClr val="09824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Oval 43"/>
                <p:cNvSpPr/>
                <p:nvPr/>
              </p:nvSpPr>
              <p:spPr>
                <a:xfrm>
                  <a:off x="957240" y="2616120"/>
                  <a:ext cx="619200" cy="81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0e470"/>
                    </a:gs>
                    <a:gs pos="100000">
                      <a:srgbClr val="0a904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201" name="Picture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2602080"/>
                  <a:ext cx="422280" cy="552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02" name="Rectangle 45"/>
              <p:cNvSpPr/>
              <p:nvPr/>
            </p:nvSpPr>
            <p:spPr>
              <a:xfrm>
                <a:off x="1005480" y="2647800"/>
                <a:ext cx="307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Text Box 46"/>
          <p:cNvSpPr/>
          <p:nvPr/>
        </p:nvSpPr>
        <p:spPr>
          <a:xfrm>
            <a:off x="1549440" y="2490840"/>
            <a:ext cx="72738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 стесняйтесь обращаться за помощью в школу, к специалистам других учреждений и организац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47" descr=""/>
          <p:cNvPicPr/>
          <p:nvPr/>
        </p:nvPicPr>
        <p:blipFill>
          <a:blip r:embed="rId9"/>
          <a:stretch/>
        </p:blipFill>
        <p:spPr>
          <a:xfrm>
            <a:off x="4824360" y="3743280"/>
            <a:ext cx="4253040" cy="31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647640" y="71280"/>
            <a:ext cx="792000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ак что же делать родителям, если они узнали о том, что их ребенок попал в «группу риска»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792000" y="1728720"/>
            <a:ext cx="6767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.Сохраняйте спокойствие и достоинство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824040" y="2232000"/>
            <a:ext cx="6191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.Разберитесь в ситуац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936720" y="2735280"/>
            <a:ext cx="5975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.Сохраните доверие ребенка к себ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008000" y="3932280"/>
            <a:ext cx="6480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5.Не позволяйте собой манипулирова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936720" y="3168720"/>
            <a:ext cx="684036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4.Узнайте как можно больше о том, что происходит с вашим ребенк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008000" y="4363920"/>
            <a:ext cx="6696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6.Не исправляйте за ребенка его ошиб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1008000" y="4824360"/>
            <a:ext cx="6267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7.Не пускайте процесс на самоте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1008000" y="5227560"/>
            <a:ext cx="7632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8.Установите разумные границы контро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1008000" y="5645160"/>
            <a:ext cx="7415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9.Помогите ребенку измениться к лучшем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" descr=""/>
          <p:cNvPicPr/>
          <p:nvPr/>
        </p:nvPicPr>
        <p:blipFill>
          <a:blip r:embed="rId1"/>
          <a:stretch/>
        </p:blipFill>
        <p:spPr>
          <a:xfrm>
            <a:off x="61920" y="3376440"/>
            <a:ext cx="3610080" cy="33912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"/>
          <p:cNvSpPr/>
          <p:nvPr/>
        </p:nvSpPr>
        <p:spPr>
          <a:xfrm>
            <a:off x="3024360" y="1603440"/>
            <a:ext cx="5759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-800-2000-122 – единый номер телефона доверия (служб экстренной психологической помощи) для детей, подростков и их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ефон доверия действует круглосуточ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онок анонимный и бесплатный с любого телефон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9-02-18T09:23:41Z</dcterms:modified>
  <cp:revision>1</cp:revision>
  <dc:subject/>
  <dc:title>Презентация PowerPoint</dc:title>
</cp:coreProperties>
</file>