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AutoShape 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AutoShape 2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066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dt" idx="5"/>
          </p:nvPr>
        </p:nvSpPr>
        <p:spPr>
          <a:xfrm>
            <a:off x="4278240" y="-360"/>
            <a:ext cx="327672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6"/>
          </p:nvPr>
        </p:nvSpPr>
        <p:spPr>
          <a:xfrm>
            <a:off x="0" y="10156320"/>
            <a:ext cx="327672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7"/>
          </p:nvPr>
        </p:nvSpPr>
        <p:spPr>
          <a:xfrm>
            <a:off x="4278240" y="10156320"/>
            <a:ext cx="327672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BC123B-1E3A-41ED-A518-2F776EC4DC7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67D282-4873-4C7D-BB88-BC842BC5D4D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ABCB41-E908-4B36-AA31-2BF680FA2FB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7E4816-6E55-4CAD-93EF-79D321D0DF8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70E744-3304-430E-B5DA-52132599EA4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938085-C25E-4927-84ED-5ADD2D2620C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5F74D8-6B48-4BF8-B92B-53369F37C0E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EDD2DB-C4D6-4236-989D-C0A9BDF377E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4E3F16-9F88-40EC-9286-7E77E96ACDE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0E4BDE-B3F0-4BB0-885D-8EE37ED1E5F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3D54F5-8B0D-47D1-A5C3-B9B7979BE17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8212AB-AB75-4E1D-988B-BA8A34E885B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58800" y="118800"/>
            <a:ext cx="7834320" cy="9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46200" y="1464840"/>
            <a:ext cx="786456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46200" y="3923640"/>
            <a:ext cx="786456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70B88D-0B9A-48BF-8432-D343BD7BB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58800" y="118800"/>
            <a:ext cx="7834320" cy="9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46200" y="1464840"/>
            <a:ext cx="383760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6040" y="1464840"/>
            <a:ext cx="383760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46200" y="3923640"/>
            <a:ext cx="383760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6040" y="3923640"/>
            <a:ext cx="383760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1CB9FD-3A9E-45BB-B1CC-50E8AE83D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58800" y="118800"/>
            <a:ext cx="7834320" cy="9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46200" y="1464840"/>
            <a:ext cx="253224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5520" y="1464840"/>
            <a:ext cx="253224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64840" y="1464840"/>
            <a:ext cx="253224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46200" y="3923640"/>
            <a:ext cx="253224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5520" y="3923640"/>
            <a:ext cx="253224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64840" y="3923640"/>
            <a:ext cx="253224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5C4666-BE61-43CF-AD85-E0EED4EB3FF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3992BA-7EC1-46E6-A7FB-0AEB4D8BDFC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8800" y="118800"/>
            <a:ext cx="7834320" cy="9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46200" y="1464840"/>
            <a:ext cx="7864560" cy="470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5C0FEC-84DA-42A4-9FE7-3E22CBDD1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58800" y="118800"/>
            <a:ext cx="7834320" cy="9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46200" y="1464840"/>
            <a:ext cx="7864560" cy="470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632CC2-59B2-4723-8AFC-52B312728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58800" y="118800"/>
            <a:ext cx="7834320" cy="9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46200" y="1464840"/>
            <a:ext cx="3837600" cy="470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6040" y="1464840"/>
            <a:ext cx="3837600" cy="470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C1D175-E959-49F9-B6CA-0B70A42D9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58800" y="118800"/>
            <a:ext cx="7834320" cy="9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801F4D-02DE-46EA-AFD9-738B2D7A8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58800" y="118800"/>
            <a:ext cx="7834320" cy="45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57B0A2-BAD8-4920-B365-14EFFAAC5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58800" y="118800"/>
            <a:ext cx="7834320" cy="9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46200" y="1464840"/>
            <a:ext cx="383760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040" y="1464840"/>
            <a:ext cx="3837600" cy="470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6200" y="3923640"/>
            <a:ext cx="383760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C5687D-76BC-4B76-9C72-CC57555F9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58800" y="118800"/>
            <a:ext cx="7834320" cy="9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46200" y="1464840"/>
            <a:ext cx="7864560" cy="470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89FD40-5529-4F8A-BDC7-8FBF0AC40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58800" y="118800"/>
            <a:ext cx="7834320" cy="9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46200" y="1464840"/>
            <a:ext cx="3837600" cy="470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6040" y="1464840"/>
            <a:ext cx="383760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6040" y="3923640"/>
            <a:ext cx="383760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F7F0F8-3EA5-44E3-82B7-937DB633B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58800" y="118800"/>
            <a:ext cx="7834320" cy="9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46200" y="1464840"/>
            <a:ext cx="383760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6040" y="1464840"/>
            <a:ext cx="383760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46200" y="3923640"/>
            <a:ext cx="786456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E303E6-1328-4F01-871F-942353C8F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58800" y="118800"/>
            <a:ext cx="7834320" cy="9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46200" y="1464840"/>
            <a:ext cx="786456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46200" y="3923640"/>
            <a:ext cx="786456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3936FC-842F-41F2-93F1-F6E73EC1D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58800" y="118800"/>
            <a:ext cx="7834320" cy="9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46200" y="1464840"/>
            <a:ext cx="383760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6040" y="1464840"/>
            <a:ext cx="383760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46200" y="3923640"/>
            <a:ext cx="383760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6040" y="3923640"/>
            <a:ext cx="383760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A99054-6EE3-4AE5-A316-4BA9EE06E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58800" y="118800"/>
            <a:ext cx="7834320" cy="9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46200" y="1464840"/>
            <a:ext cx="253224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05520" y="1464840"/>
            <a:ext cx="253224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64840" y="1464840"/>
            <a:ext cx="253224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46200" y="3923640"/>
            <a:ext cx="253224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05520" y="3923640"/>
            <a:ext cx="253224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64840" y="3923640"/>
            <a:ext cx="253224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3B8DB1-32EC-4873-91C0-E1F20211B77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58800" y="118800"/>
            <a:ext cx="7834320" cy="9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46200" y="1464840"/>
            <a:ext cx="7864560" cy="470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2D15F0-92A0-4EEA-8A6E-426302DB2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58800" y="118800"/>
            <a:ext cx="7834320" cy="9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46200" y="1464840"/>
            <a:ext cx="3837600" cy="470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6040" y="1464840"/>
            <a:ext cx="3837600" cy="470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464BB3-432F-4CF9-8035-C3B3F824D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58800" y="118800"/>
            <a:ext cx="7834320" cy="9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2F1134-B2E2-4D09-BCC4-CE3C6DA36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58800" y="118800"/>
            <a:ext cx="7834320" cy="45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28835B-99B6-478B-BDD8-75E407612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58800" y="118800"/>
            <a:ext cx="7834320" cy="9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46200" y="1464840"/>
            <a:ext cx="383760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6040" y="1464840"/>
            <a:ext cx="3837600" cy="470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46200" y="3923640"/>
            <a:ext cx="383760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C24CE3-7EB7-4FA2-9E96-3B6E082A0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58800" y="118800"/>
            <a:ext cx="7834320" cy="9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46200" y="1464840"/>
            <a:ext cx="3837600" cy="470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6040" y="1464840"/>
            <a:ext cx="383760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6040" y="3923640"/>
            <a:ext cx="383760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89AF70-AF60-49A1-BC0B-5F7A03F75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58800" y="118800"/>
            <a:ext cx="7834320" cy="9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46200" y="1464840"/>
            <a:ext cx="383760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6040" y="1464840"/>
            <a:ext cx="383760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46200" y="3923640"/>
            <a:ext cx="786456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D61687-9CC7-4775-B2DD-45BE23970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122120"/>
            <a:ext cx="776772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628560" y="6356160"/>
            <a:ext cx="2052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9.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>
          <a:xfrm>
            <a:off x="6458040" y="6356160"/>
            <a:ext cx="2052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FDED9D-7EC0-4E05-BFB5-88BA3AA4A63F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body"/>
          </p:nvPr>
        </p:nvSpPr>
        <p:spPr>
          <a:xfrm>
            <a:off x="456840" y="160452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9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lnSpc>
                <a:spcPct val="9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lnSpc>
                <a:spcPct val="9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lnSpc>
                <a:spcPct val="9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lnSpc>
                <a:spcPct val="9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lnSpc>
                <a:spcPct val="9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58800" y="118800"/>
            <a:ext cx="7834320" cy="9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46200" y="1464840"/>
            <a:ext cx="7864560" cy="470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9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lnSpc>
                <a:spcPct val="9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lnSpc>
                <a:spcPct val="9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lnSpc>
                <a:spcPct val="9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lnSpc>
                <a:spcPct val="9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lnSpc>
                <a:spcPct val="9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3"/>
          </p:nvPr>
        </p:nvSpPr>
        <p:spPr>
          <a:xfrm>
            <a:off x="628560" y="6356160"/>
            <a:ext cx="2052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800" spc="-1" strike="noStrike">
                <a:solidFill>
                  <a:srgbClr val="000000"/>
                </a:solidFill>
                <a:latin typeface="Calibri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4.9.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5"/>
          <p:cNvSpPr/>
          <p:nvPr/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4"/>
          </p:nvPr>
        </p:nvSpPr>
        <p:spPr>
          <a:xfrm>
            <a:off x="6458040" y="6356160"/>
            <a:ext cx="2052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800" spc="-1" strike="noStrike">
                <a:solidFill>
                  <a:srgbClr val="000000"/>
                </a:solidFill>
                <a:latin typeface="Calibri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860D48CB-BD39-402C-AE4E-3E14DCACFA8E}" type="slidenum">
              <a:rPr b="0" lang="ru-RU" sz="1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3.wmf"/><Relationship Id="rId6" Type="http://schemas.openxmlformats.org/officeDocument/2006/relationships/image" Target="../media/image4.wmf"/><Relationship Id="rId7" Type="http://schemas.openxmlformats.org/officeDocument/2006/relationships/image" Target="../media/image3.wmf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3.wmf"/><Relationship Id="rId6" Type="http://schemas.openxmlformats.org/officeDocument/2006/relationships/image" Target="../media/image4.wmf"/><Relationship Id="rId7" Type="http://schemas.openxmlformats.org/officeDocument/2006/relationships/image" Target="../media/image3.wmf"/><Relationship Id="rId8" Type="http://schemas.openxmlformats.org/officeDocument/2006/relationships/image" Target="../media/image4.wmf"/><Relationship Id="rId9" Type="http://schemas.openxmlformats.org/officeDocument/2006/relationships/image" Target="../media/image5.jpeg"/><Relationship Id="rId10" Type="http://schemas.openxmlformats.org/officeDocument/2006/relationships/slideLayout" Target="../slideLayouts/slideLayout13.xml"/><Relationship Id="rId11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Picture 2" descr=""/>
          <p:cNvPicPr/>
          <p:nvPr/>
        </p:nvPicPr>
        <p:blipFill>
          <a:blip r:embed="rId1"/>
          <a:stretch/>
        </p:blipFill>
        <p:spPr>
          <a:xfrm>
            <a:off x="-144360" y="0"/>
            <a:ext cx="928836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Text Box 3"/>
          <p:cNvSpPr/>
          <p:nvPr/>
        </p:nvSpPr>
        <p:spPr>
          <a:xfrm>
            <a:off x="426960" y="3403440"/>
            <a:ext cx="8356680" cy="23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«Роль семьи в профилактике правонарушений среди несовершеннолетних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1" descr=""/>
          <p:cNvPicPr/>
          <p:nvPr/>
        </p:nvPicPr>
        <p:blipFill>
          <a:blip r:embed="rId1"/>
          <a:stretch/>
        </p:blipFill>
        <p:spPr>
          <a:xfrm>
            <a:off x="0" y="196920"/>
            <a:ext cx="9144000" cy="6661080"/>
          </a:xfrm>
          <a:prstGeom prst="rect">
            <a:avLst/>
          </a:prstGeom>
          <a:ln w="0">
            <a:noFill/>
          </a:ln>
        </p:spPr>
      </p:pic>
      <p:sp>
        <p:nvSpPr>
          <p:cNvPr id="218" name="Text Box 2"/>
          <p:cNvSpPr/>
          <p:nvPr/>
        </p:nvSpPr>
        <p:spPr>
          <a:xfrm>
            <a:off x="1619280" y="4459320"/>
            <a:ext cx="6002280" cy="7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Спасибо за внимание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1"/>
          <p:cNvSpPr/>
          <p:nvPr/>
        </p:nvSpPr>
        <p:spPr>
          <a:xfrm>
            <a:off x="1511280" y="501480"/>
            <a:ext cx="6191280" cy="13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тадии отклоняющегося поведения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Text Box 2"/>
          <p:cNvSpPr/>
          <p:nvPr/>
        </p:nvSpPr>
        <p:spPr>
          <a:xfrm>
            <a:off x="144360" y="1887480"/>
            <a:ext cx="8867880" cy="49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- неодобряемое поведение – поведение, эпизодически наблюдаемое у большинства детей и подростков, связанное с шалостями, озорством, непослушанием, непоседливостью, упрямством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- порицаемое поведение - (эпизодические нарушения дисциплины, случаи драчливости, грубости, дерзости, нечестности), вызывающее осуждение у педагогов, родителей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- девиантное поведение - нравственно отрицательные действия и поступки, принявшие характер систематических или привычных (лживость, притворство, лицемерие, эгоизм, конфликтность, агрессивность воровство и т. д.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1"/>
          <p:cNvSpPr/>
          <p:nvPr/>
        </p:nvSpPr>
        <p:spPr>
          <a:xfrm>
            <a:off x="71280" y="2122560"/>
            <a:ext cx="9125280" cy="40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-предпреступное поведение - поведение, несущее в себе зачатки криминального и деструктивного поведения (эпизодические умышленные нарушения норм требований, регулирующих поведение и взаимоотношения людей в обществе, хулиганство, избиения, вымогательство, распитие спиртных напитков, злостные нарушения дисциплины и общепринятых правил поведения и т. д.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- противоправное или преступное поведение - поведение, связанное с различными правонарушениями и преступлениями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1"/>
          <p:cNvSpPr/>
          <p:nvPr/>
        </p:nvSpPr>
        <p:spPr>
          <a:xfrm>
            <a:off x="1944720" y="287280"/>
            <a:ext cx="5472000" cy="13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еблагоприятные условия семейного воспита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2"/>
          <p:cNvSpPr/>
          <p:nvPr/>
        </p:nvSpPr>
        <p:spPr>
          <a:xfrm>
            <a:off x="558720" y="1800360"/>
            <a:ext cx="664056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ff3366"/>
                </a:solidFill>
                <a:latin typeface="Arial"/>
              </a:rPr>
              <a:t>Асоциальное поведение родителей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55440" y="2349360"/>
            <a:ext cx="8583840" cy="17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Каждый третий несовершеннолетний правонарушитель воспитывался в такой семье, где он постоянно сталкивался с резко отрицательными аспектами поведения родителей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473040" y="3743280"/>
            <a:ext cx="7878960" cy="13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ff"/>
                </a:solidFill>
                <a:latin typeface="Arial"/>
              </a:rPr>
              <a:t>Недостаточное внимание и любовь со стороны родителей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204840" y="4680000"/>
            <a:ext cx="8723160" cy="19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Ухоженный, вовремя накормленный и модно одетый ребенок может быть внутренне одиноким, психологически безнадзорным, поскольку до его настроения, интересов и переживаний никому нет дела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1"/>
          <p:cNvSpPr/>
          <p:nvPr/>
        </p:nvSpPr>
        <p:spPr>
          <a:xfrm>
            <a:off x="830160" y="1511280"/>
            <a:ext cx="25527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Arial"/>
              </a:rPr>
              <a:t>Гиперопека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2"/>
          <p:cNvSpPr/>
          <p:nvPr/>
        </p:nvSpPr>
        <p:spPr>
          <a:xfrm>
            <a:off x="1944720" y="287280"/>
            <a:ext cx="5472000" cy="13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еблагоприятные условия семейного воспита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3"/>
          <p:cNvSpPr/>
          <p:nvPr/>
        </p:nvSpPr>
        <p:spPr>
          <a:xfrm>
            <a:off x="144360" y="1914480"/>
            <a:ext cx="8568000" cy="13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При ослаблении контроля старших ребенок оказывается дезориентированным в своем поведении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647640" y="2592360"/>
            <a:ext cx="741528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280099"/>
                </a:solidFill>
                <a:latin typeface="Arial"/>
              </a:rPr>
              <a:t>Чрезмерное удовлетворение потребностей ребенка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360360" y="3311640"/>
            <a:ext cx="8352000" cy="13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Нередко «слепая» родительская защита детей порождает у них уверенность в полнейшей своей безнаказанности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Text Box 6"/>
          <p:cNvSpPr/>
          <p:nvPr/>
        </p:nvSpPr>
        <p:spPr>
          <a:xfrm>
            <a:off x="690480" y="4100400"/>
            <a:ext cx="708516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Arial"/>
              </a:rPr>
              <a:t>Чрезмерная требовательность  родителей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 Box 7"/>
          <p:cNvSpPr/>
          <p:nvPr/>
        </p:nvSpPr>
        <p:spPr>
          <a:xfrm>
            <a:off x="576360" y="4457880"/>
            <a:ext cx="7991280" cy="16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Излишняя суровость родителей, чрезмерное использование всевозможных ограничений, разрушают атмосферу доверия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1"/>
          <p:cNvSpPr/>
          <p:nvPr/>
        </p:nvSpPr>
        <p:spPr>
          <a:xfrm>
            <a:off x="1152360" y="222120"/>
            <a:ext cx="777240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Советы родителям по профилактике правонарушений и преступлений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2" name="Group 2"/>
          <p:cNvGrpSpPr/>
          <p:nvPr/>
        </p:nvGrpSpPr>
        <p:grpSpPr>
          <a:xfrm>
            <a:off x="939960" y="1295280"/>
            <a:ext cx="7916760" cy="1000080"/>
            <a:chOff x="939960" y="1295280"/>
            <a:chExt cx="7916760" cy="1000080"/>
          </a:xfrm>
        </p:grpSpPr>
        <p:sp>
          <p:nvSpPr>
            <p:cNvPr id="113" name="AutoShape 3"/>
            <p:cNvSpPr/>
            <p:nvPr/>
          </p:nvSpPr>
          <p:spPr>
            <a:xfrm>
              <a:off x="1319040" y="1295280"/>
              <a:ext cx="7537680" cy="10000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Rectangle 4"/>
            <p:cNvSpPr/>
            <p:nvPr/>
          </p:nvSpPr>
          <p:spPr>
            <a:xfrm>
              <a:off x="1574640" y="1434960"/>
              <a:ext cx="6527880" cy="74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5" name="Group 5"/>
            <p:cNvGrpSpPr/>
            <p:nvPr/>
          </p:nvGrpSpPr>
          <p:grpSpPr>
            <a:xfrm>
              <a:off x="939960" y="1379520"/>
              <a:ext cx="653760" cy="892080"/>
              <a:chOff x="939960" y="1379520"/>
              <a:chExt cx="653760" cy="892080"/>
            </a:xfrm>
          </p:grpSpPr>
          <p:grpSp>
            <p:nvGrpSpPr>
              <p:cNvPr id="116" name="Group 6"/>
              <p:cNvGrpSpPr/>
              <p:nvPr/>
            </p:nvGrpSpPr>
            <p:grpSpPr>
              <a:xfrm>
                <a:off x="939960" y="1379520"/>
                <a:ext cx="653760" cy="892080"/>
                <a:chOff x="939960" y="1379520"/>
                <a:chExt cx="653760" cy="892080"/>
              </a:xfrm>
            </p:grpSpPr>
            <p:pic>
              <p:nvPicPr>
                <p:cNvPr id="117" name="Picture 7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987480" y="2117880"/>
                  <a:ext cx="565200" cy="1537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" name="Oval 8"/>
                <p:cNvSpPr/>
                <p:nvPr/>
              </p:nvSpPr>
              <p:spPr>
                <a:xfrm>
                  <a:off x="939960" y="1379520"/>
                  <a:ext cx="653760" cy="79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9900"/>
                    </a:gs>
                    <a:gs pos="100000">
                      <a:srgbClr val="9257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9" name="Oval 9"/>
                <p:cNvSpPr/>
                <p:nvPr/>
              </p:nvSpPr>
              <p:spPr>
                <a:xfrm>
                  <a:off x="957240" y="1398600"/>
                  <a:ext cx="623880" cy="757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9900"/>
                    </a:gs>
                    <a:gs pos="100000">
                      <a:srgbClr val="a16100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pic>
              <p:nvPicPr>
                <p:cNvPr id="120" name="Picture 10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1139760" y="1386000"/>
                  <a:ext cx="426960" cy="5173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21" name="Rectangle 11"/>
              <p:cNvSpPr/>
              <p:nvPr/>
            </p:nvSpPr>
            <p:spPr>
              <a:xfrm>
                <a:off x="1005480" y="1428840"/>
                <a:ext cx="307080" cy="36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22" name="Group 12"/>
          <p:cNvGrpSpPr/>
          <p:nvPr/>
        </p:nvGrpSpPr>
        <p:grpSpPr>
          <a:xfrm>
            <a:off x="966960" y="2444760"/>
            <a:ext cx="7845120" cy="1103400"/>
            <a:chOff x="966960" y="2444760"/>
            <a:chExt cx="7845120" cy="1103400"/>
          </a:xfrm>
        </p:grpSpPr>
        <p:sp>
          <p:nvSpPr>
            <p:cNvPr id="123" name="AutoShape 13"/>
            <p:cNvSpPr/>
            <p:nvPr/>
          </p:nvSpPr>
          <p:spPr>
            <a:xfrm>
              <a:off x="1339920" y="2444760"/>
              <a:ext cx="7472160" cy="10684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Rectangle 14"/>
            <p:cNvSpPr/>
            <p:nvPr/>
          </p:nvSpPr>
          <p:spPr>
            <a:xfrm>
              <a:off x="1593720" y="2598840"/>
              <a:ext cx="6470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5" name="Group 15"/>
            <p:cNvGrpSpPr/>
            <p:nvPr/>
          </p:nvGrpSpPr>
          <p:grpSpPr>
            <a:xfrm>
              <a:off x="966960" y="2597040"/>
              <a:ext cx="649080" cy="951120"/>
              <a:chOff x="966960" y="2597040"/>
              <a:chExt cx="649080" cy="951120"/>
            </a:xfrm>
          </p:grpSpPr>
          <p:sp>
            <p:nvSpPr>
              <p:cNvPr id="126" name="Rectangle 16"/>
              <p:cNvSpPr/>
              <p:nvPr/>
            </p:nvSpPr>
            <p:spPr>
              <a:xfrm>
                <a:off x="1014840" y="2664000"/>
                <a:ext cx="307080" cy="36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lang="ru-RU" sz="1800" spc="-1" strike="noStrike">
                    <a:solidFill>
                      <a:srgbClr val="ffffff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27" name="Group 17"/>
              <p:cNvGrpSpPr/>
              <p:nvPr/>
            </p:nvGrpSpPr>
            <p:grpSpPr>
              <a:xfrm>
                <a:off x="966960" y="2597040"/>
                <a:ext cx="649080" cy="951120"/>
                <a:chOff x="966960" y="2597040"/>
                <a:chExt cx="649080" cy="951120"/>
              </a:xfrm>
            </p:grpSpPr>
            <p:pic>
              <p:nvPicPr>
                <p:cNvPr id="128" name="Picture 18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014480" y="3384720"/>
                  <a:ext cx="560160" cy="163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9" name="Oval 19"/>
                <p:cNvSpPr/>
                <p:nvPr/>
              </p:nvSpPr>
              <p:spPr>
                <a:xfrm>
                  <a:off x="966960" y="2597040"/>
                  <a:ext cx="649080" cy="849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10e470"/>
                    </a:gs>
                    <a:gs pos="100000">
                      <a:srgbClr val="09824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0" name="Oval 20"/>
                <p:cNvSpPr/>
                <p:nvPr/>
              </p:nvSpPr>
              <p:spPr>
                <a:xfrm>
                  <a:off x="984240" y="2616120"/>
                  <a:ext cx="619200" cy="812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10e470"/>
                    </a:gs>
                    <a:gs pos="100000">
                      <a:srgbClr val="0a9047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pic>
              <p:nvPicPr>
                <p:cNvPr id="131" name="Picture 21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166760" y="2602080"/>
                  <a:ext cx="422280" cy="5522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32" name="Rectangle 22"/>
              <p:cNvSpPr/>
              <p:nvPr/>
            </p:nvSpPr>
            <p:spPr>
              <a:xfrm>
                <a:off x="1032480" y="2647800"/>
                <a:ext cx="307080" cy="36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lang="ru-RU" sz="1800" spc="-1" strike="noStrike">
                    <a:solidFill>
                      <a:srgbClr val="ffffff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33" name="Group 23"/>
          <p:cNvGrpSpPr/>
          <p:nvPr/>
        </p:nvGrpSpPr>
        <p:grpSpPr>
          <a:xfrm>
            <a:off x="1031760" y="3594240"/>
            <a:ext cx="7783560" cy="996840"/>
            <a:chOff x="1031760" y="3594240"/>
            <a:chExt cx="7783560" cy="996840"/>
          </a:xfrm>
        </p:grpSpPr>
        <p:sp>
          <p:nvSpPr>
            <p:cNvPr id="134" name="AutoShape 24"/>
            <p:cNvSpPr/>
            <p:nvPr/>
          </p:nvSpPr>
          <p:spPr>
            <a:xfrm>
              <a:off x="1406520" y="3594240"/>
              <a:ext cx="7408800" cy="9651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Rectangle 25"/>
            <p:cNvSpPr/>
            <p:nvPr/>
          </p:nvSpPr>
          <p:spPr>
            <a:xfrm>
              <a:off x="1657440" y="3733920"/>
              <a:ext cx="641484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6" name="Group 26"/>
            <p:cNvGrpSpPr/>
            <p:nvPr/>
          </p:nvGrpSpPr>
          <p:grpSpPr>
            <a:xfrm>
              <a:off x="1031760" y="3730680"/>
              <a:ext cx="642960" cy="860400"/>
              <a:chOff x="1031760" y="3730680"/>
              <a:chExt cx="642960" cy="860400"/>
            </a:xfrm>
          </p:grpSpPr>
          <p:sp>
            <p:nvSpPr>
              <p:cNvPr id="137" name="Rectangle 27"/>
              <p:cNvSpPr/>
              <p:nvPr/>
            </p:nvSpPr>
            <p:spPr>
              <a:xfrm>
                <a:off x="1083240" y="3794040"/>
                <a:ext cx="307080" cy="36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lang="ru-RU" sz="1800" spc="-1" strike="noStrike">
                    <a:solidFill>
                      <a:srgbClr val="ffffff"/>
                    </a:solidFill>
                    <a:latin typeface="Arial"/>
                  </a:rPr>
                  <a:t>4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38" name="Group 28"/>
              <p:cNvGrpSpPr/>
              <p:nvPr/>
            </p:nvGrpSpPr>
            <p:grpSpPr>
              <a:xfrm>
                <a:off x="1031760" y="3730680"/>
                <a:ext cx="642960" cy="860400"/>
                <a:chOff x="1031760" y="3730680"/>
                <a:chExt cx="642960" cy="860400"/>
              </a:xfrm>
            </p:grpSpPr>
            <p:pic>
              <p:nvPicPr>
                <p:cNvPr id="139" name="Picture 29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076400" y="4443480"/>
                  <a:ext cx="555480" cy="147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0" name="Oval 30"/>
                <p:cNvSpPr/>
                <p:nvPr/>
              </p:nvSpPr>
              <p:spPr>
                <a:xfrm>
                  <a:off x="1031760" y="3730680"/>
                  <a:ext cx="64296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a55f9"/>
                    </a:gs>
                    <a:gs pos="100000">
                      <a:srgbClr val="73308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1" name="Oval 31"/>
                <p:cNvSpPr/>
                <p:nvPr/>
              </p:nvSpPr>
              <p:spPr>
                <a:xfrm>
                  <a:off x="1047600" y="3747960"/>
                  <a:ext cx="613080" cy="731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a55f9"/>
                    </a:gs>
                    <a:gs pos="100000">
                      <a:srgbClr val="80369e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pic>
              <p:nvPicPr>
                <p:cNvPr id="142" name="Picture 3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228680" y="3735360"/>
                  <a:ext cx="419040" cy="5000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43" name="Rectangle 33"/>
              <p:cNvSpPr/>
              <p:nvPr/>
            </p:nvSpPr>
            <p:spPr>
              <a:xfrm>
                <a:off x="1095840" y="3776760"/>
                <a:ext cx="307080" cy="36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lang="ru-RU" sz="1800" spc="-1" strike="noStrike">
                    <a:solidFill>
                      <a:srgbClr val="ffffff"/>
                    </a:solidFill>
                    <a:latin typeface="Arial"/>
                  </a:rPr>
                  <a:t>4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44" name="Group 34"/>
          <p:cNvGrpSpPr/>
          <p:nvPr/>
        </p:nvGrpSpPr>
        <p:grpSpPr>
          <a:xfrm>
            <a:off x="1077840" y="4821120"/>
            <a:ext cx="7777080" cy="1149480"/>
            <a:chOff x="1077840" y="4821120"/>
            <a:chExt cx="7777080" cy="1149480"/>
          </a:xfrm>
        </p:grpSpPr>
        <p:sp>
          <p:nvSpPr>
            <p:cNvPr id="145" name="AutoShape 35"/>
            <p:cNvSpPr/>
            <p:nvPr/>
          </p:nvSpPr>
          <p:spPr>
            <a:xfrm>
              <a:off x="1442880" y="4821120"/>
              <a:ext cx="7412040" cy="11113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Rectangle 36"/>
            <p:cNvSpPr/>
            <p:nvPr/>
          </p:nvSpPr>
          <p:spPr>
            <a:xfrm>
              <a:off x="1693800" y="4981680"/>
              <a:ext cx="641988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47" name="Group 37"/>
            <p:cNvGrpSpPr/>
            <p:nvPr/>
          </p:nvGrpSpPr>
          <p:grpSpPr>
            <a:xfrm>
              <a:off x="1077840" y="4978440"/>
              <a:ext cx="644760" cy="992160"/>
              <a:chOff x="1077840" y="4978440"/>
              <a:chExt cx="644760" cy="992160"/>
            </a:xfrm>
          </p:grpSpPr>
          <p:grpSp>
            <p:nvGrpSpPr>
              <p:cNvPr id="148" name="Group 38"/>
              <p:cNvGrpSpPr/>
              <p:nvPr/>
            </p:nvGrpSpPr>
            <p:grpSpPr>
              <a:xfrm>
                <a:off x="1077840" y="4978440"/>
                <a:ext cx="644760" cy="992160"/>
                <a:chOff x="1077840" y="4978440"/>
                <a:chExt cx="644760" cy="992160"/>
              </a:xfrm>
            </p:grpSpPr>
            <p:pic>
              <p:nvPicPr>
                <p:cNvPr id="149" name="Picture 39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123920" y="5799240"/>
                  <a:ext cx="557280" cy="171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0" name="Oval 40"/>
                <p:cNvSpPr/>
                <p:nvPr/>
              </p:nvSpPr>
              <p:spPr>
                <a:xfrm>
                  <a:off x="1077840" y="4978440"/>
                  <a:ext cx="644760" cy="88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98e3"/>
                    </a:gs>
                    <a:gs pos="100000">
                      <a:srgbClr val="2c5781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1" name="Oval 41"/>
                <p:cNvSpPr/>
                <p:nvPr/>
              </p:nvSpPr>
              <p:spPr>
                <a:xfrm>
                  <a:off x="1093680" y="4997520"/>
                  <a:ext cx="614520" cy="844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98e3"/>
                    </a:gs>
                    <a:gs pos="100000">
                      <a:srgbClr val="306090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pic>
              <p:nvPicPr>
                <p:cNvPr id="152" name="Picture 42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274760" y="4984920"/>
                  <a:ext cx="419040" cy="5760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53" name="Rectangle 43"/>
              <p:cNvSpPr/>
              <p:nvPr/>
            </p:nvSpPr>
            <p:spPr>
              <a:xfrm>
                <a:off x="1141920" y="5030640"/>
                <a:ext cx="307080" cy="36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lang="ru-RU" sz="1800" spc="-1" strike="noStrike">
                    <a:solidFill>
                      <a:srgbClr val="ffffff"/>
                    </a:solidFill>
                    <a:latin typeface="Arial"/>
                  </a:rPr>
                  <a:t>5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4" name="Text Box 44"/>
          <p:cNvSpPr/>
          <p:nvPr/>
        </p:nvSpPr>
        <p:spPr>
          <a:xfrm>
            <a:off x="1727280" y="1303200"/>
            <a:ext cx="6985080" cy="10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Старайтесь проводить больше времени со своим ребенком, интересуйтесь его успехами и неудачами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Text Box 45"/>
          <p:cNvSpPr/>
          <p:nvPr/>
        </p:nvSpPr>
        <p:spPr>
          <a:xfrm>
            <a:off x="1855800" y="2519280"/>
            <a:ext cx="6856560" cy="99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Старайтесь помочь ребенку в разрешении проблем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46"/>
          <p:cNvSpPr/>
          <p:nvPr/>
        </p:nvSpPr>
        <p:spPr>
          <a:xfrm>
            <a:off x="1728720" y="3594240"/>
            <a:ext cx="6983640" cy="10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Объясняйте ребенку правила поведения в школе, дома, на улице, в гостях, в общественных местах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47"/>
          <p:cNvSpPr/>
          <p:nvPr/>
        </p:nvSpPr>
        <p:spPr>
          <a:xfrm>
            <a:off x="1851120" y="4981680"/>
            <a:ext cx="68612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Интересуйтесь, с кем и где ваш ребенок проводит время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"/>
          <p:cNvGrpSpPr/>
          <p:nvPr/>
        </p:nvGrpSpPr>
        <p:grpSpPr>
          <a:xfrm>
            <a:off x="954000" y="1224000"/>
            <a:ext cx="7917120" cy="1000080"/>
            <a:chOff x="954000" y="1224000"/>
            <a:chExt cx="7917120" cy="1000080"/>
          </a:xfrm>
        </p:grpSpPr>
        <p:sp>
          <p:nvSpPr>
            <p:cNvPr id="159" name="AutoShape 2"/>
            <p:cNvSpPr/>
            <p:nvPr/>
          </p:nvSpPr>
          <p:spPr>
            <a:xfrm>
              <a:off x="1333440" y="1224000"/>
              <a:ext cx="7537680" cy="10000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Rectangle 3"/>
            <p:cNvSpPr/>
            <p:nvPr/>
          </p:nvSpPr>
          <p:spPr>
            <a:xfrm>
              <a:off x="1589040" y="1363680"/>
              <a:ext cx="6527880" cy="74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61" name="Group 4"/>
            <p:cNvGrpSpPr/>
            <p:nvPr/>
          </p:nvGrpSpPr>
          <p:grpSpPr>
            <a:xfrm>
              <a:off x="954000" y="1308240"/>
              <a:ext cx="654120" cy="892080"/>
              <a:chOff x="954000" y="1308240"/>
              <a:chExt cx="654120" cy="892080"/>
            </a:xfrm>
          </p:grpSpPr>
          <p:grpSp>
            <p:nvGrpSpPr>
              <p:cNvPr id="162" name="Group 5"/>
              <p:cNvGrpSpPr/>
              <p:nvPr/>
            </p:nvGrpSpPr>
            <p:grpSpPr>
              <a:xfrm>
                <a:off x="954000" y="1308240"/>
                <a:ext cx="654120" cy="892080"/>
                <a:chOff x="954000" y="1308240"/>
                <a:chExt cx="654120" cy="892080"/>
              </a:xfrm>
            </p:grpSpPr>
            <p:pic>
              <p:nvPicPr>
                <p:cNvPr id="163" name="Pictur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001880" y="2046240"/>
                  <a:ext cx="564840" cy="1540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4" name="Oval 7"/>
                <p:cNvSpPr/>
                <p:nvPr/>
              </p:nvSpPr>
              <p:spPr>
                <a:xfrm>
                  <a:off x="954000" y="1308240"/>
                  <a:ext cx="654120" cy="793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9900"/>
                    </a:gs>
                    <a:gs pos="100000">
                      <a:srgbClr val="9257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5" name="Oval 8"/>
                <p:cNvSpPr/>
                <p:nvPr/>
              </p:nvSpPr>
              <p:spPr>
                <a:xfrm>
                  <a:off x="971640" y="1327320"/>
                  <a:ext cx="623880" cy="757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9900"/>
                    </a:gs>
                    <a:gs pos="100000">
                      <a:srgbClr val="a16100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pic>
              <p:nvPicPr>
                <p:cNvPr id="166" name="Picture 9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1154160" y="1314360"/>
                  <a:ext cx="426960" cy="5176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67" name="Rectangle 10"/>
              <p:cNvSpPr/>
              <p:nvPr/>
            </p:nvSpPr>
            <p:spPr>
              <a:xfrm>
                <a:off x="1019520" y="1357200"/>
                <a:ext cx="307080" cy="36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lang="ru-RU" sz="18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68" name="Group 11"/>
          <p:cNvGrpSpPr/>
          <p:nvPr/>
        </p:nvGrpSpPr>
        <p:grpSpPr>
          <a:xfrm>
            <a:off x="936720" y="2448000"/>
            <a:ext cx="7845480" cy="1103400"/>
            <a:chOff x="936720" y="2448000"/>
            <a:chExt cx="7845480" cy="1103400"/>
          </a:xfrm>
        </p:grpSpPr>
        <p:sp>
          <p:nvSpPr>
            <p:cNvPr id="169" name="AutoShape 12"/>
            <p:cNvSpPr/>
            <p:nvPr/>
          </p:nvSpPr>
          <p:spPr>
            <a:xfrm>
              <a:off x="1309680" y="2448000"/>
              <a:ext cx="7472520" cy="10684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Rectangle 13"/>
            <p:cNvSpPr/>
            <p:nvPr/>
          </p:nvSpPr>
          <p:spPr>
            <a:xfrm>
              <a:off x="1563840" y="2602080"/>
              <a:ext cx="6470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71" name="Group 14"/>
            <p:cNvGrpSpPr/>
            <p:nvPr/>
          </p:nvGrpSpPr>
          <p:grpSpPr>
            <a:xfrm>
              <a:off x="936720" y="2600280"/>
              <a:ext cx="649080" cy="951120"/>
              <a:chOff x="936720" y="2600280"/>
              <a:chExt cx="649080" cy="951120"/>
            </a:xfrm>
          </p:grpSpPr>
          <p:sp>
            <p:nvSpPr>
              <p:cNvPr id="172" name="Rectangle 15"/>
              <p:cNvSpPr/>
              <p:nvPr/>
            </p:nvSpPr>
            <p:spPr>
              <a:xfrm>
                <a:off x="983160" y="2666880"/>
                <a:ext cx="307080" cy="36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lang="ru-RU" sz="1800" spc="-1" strike="noStrike">
                    <a:solidFill>
                      <a:srgbClr val="ffffff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73" name="Group 16"/>
              <p:cNvGrpSpPr/>
              <p:nvPr/>
            </p:nvGrpSpPr>
            <p:grpSpPr>
              <a:xfrm>
                <a:off x="936720" y="2600280"/>
                <a:ext cx="649080" cy="951120"/>
                <a:chOff x="936720" y="2600280"/>
                <a:chExt cx="649080" cy="951120"/>
              </a:xfrm>
            </p:grpSpPr>
            <p:pic>
              <p:nvPicPr>
                <p:cNvPr id="174" name="Picture 17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84240" y="3387600"/>
                  <a:ext cx="560520" cy="163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5" name="Oval 18"/>
                <p:cNvSpPr/>
                <p:nvPr/>
              </p:nvSpPr>
              <p:spPr>
                <a:xfrm>
                  <a:off x="936720" y="2600280"/>
                  <a:ext cx="649080" cy="849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10e470"/>
                    </a:gs>
                    <a:gs pos="100000">
                      <a:srgbClr val="09824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6" name="Oval 19"/>
                <p:cNvSpPr/>
                <p:nvPr/>
              </p:nvSpPr>
              <p:spPr>
                <a:xfrm>
                  <a:off x="952560" y="2619360"/>
                  <a:ext cx="619200" cy="812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10e470"/>
                    </a:gs>
                    <a:gs pos="100000">
                      <a:srgbClr val="0a9047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pic>
              <p:nvPicPr>
                <p:cNvPr id="177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135080" y="2604960"/>
                  <a:ext cx="422280" cy="5526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78" name="Rectangle 21"/>
              <p:cNvSpPr/>
              <p:nvPr/>
            </p:nvSpPr>
            <p:spPr>
              <a:xfrm>
                <a:off x="1002240" y="2651040"/>
                <a:ext cx="307080" cy="36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lang="ru-RU" sz="1800" spc="-1" strike="noStrike">
                    <a:solidFill>
                      <a:srgbClr val="ffffff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79" name="Text Box 22"/>
          <p:cNvSpPr/>
          <p:nvPr/>
        </p:nvSpPr>
        <p:spPr>
          <a:xfrm>
            <a:off x="1901880" y="1081080"/>
            <a:ext cx="666576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Text Box 23"/>
          <p:cNvSpPr/>
          <p:nvPr/>
        </p:nvSpPr>
        <p:spPr>
          <a:xfrm>
            <a:off x="1631880" y="1400040"/>
            <a:ext cx="715176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Запишите ребенка в спортивную секцию или кружок, займите его свободное время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1" name="Group 24"/>
          <p:cNvGrpSpPr/>
          <p:nvPr/>
        </p:nvGrpSpPr>
        <p:grpSpPr>
          <a:xfrm>
            <a:off x="939960" y="2444760"/>
            <a:ext cx="7845120" cy="1103400"/>
            <a:chOff x="939960" y="2444760"/>
            <a:chExt cx="7845120" cy="1103400"/>
          </a:xfrm>
        </p:grpSpPr>
        <p:sp>
          <p:nvSpPr>
            <p:cNvPr id="182" name="AutoShape 25"/>
            <p:cNvSpPr/>
            <p:nvPr/>
          </p:nvSpPr>
          <p:spPr>
            <a:xfrm>
              <a:off x="1312920" y="2444760"/>
              <a:ext cx="7472160" cy="10684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Rectangle 26"/>
            <p:cNvSpPr/>
            <p:nvPr/>
          </p:nvSpPr>
          <p:spPr>
            <a:xfrm>
              <a:off x="1566720" y="2598840"/>
              <a:ext cx="6470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84" name="Group 27"/>
            <p:cNvGrpSpPr/>
            <p:nvPr/>
          </p:nvGrpSpPr>
          <p:grpSpPr>
            <a:xfrm>
              <a:off x="939960" y="2597040"/>
              <a:ext cx="649080" cy="951120"/>
              <a:chOff x="939960" y="2597040"/>
              <a:chExt cx="649080" cy="951120"/>
            </a:xfrm>
          </p:grpSpPr>
          <p:sp>
            <p:nvSpPr>
              <p:cNvPr id="185" name="Rectangle 28"/>
              <p:cNvSpPr/>
              <p:nvPr/>
            </p:nvSpPr>
            <p:spPr>
              <a:xfrm>
                <a:off x="987840" y="2664000"/>
                <a:ext cx="307080" cy="36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lang="ru-RU" sz="1800" spc="-1" strike="noStrike">
                    <a:solidFill>
                      <a:srgbClr val="ffffff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86" name="Group 29"/>
              <p:cNvGrpSpPr/>
              <p:nvPr/>
            </p:nvGrpSpPr>
            <p:grpSpPr>
              <a:xfrm>
                <a:off x="939960" y="2597040"/>
                <a:ext cx="649080" cy="951120"/>
                <a:chOff x="939960" y="2597040"/>
                <a:chExt cx="649080" cy="951120"/>
              </a:xfrm>
            </p:grpSpPr>
            <p:pic>
              <p:nvPicPr>
                <p:cNvPr id="187" name="Picture 30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987480" y="3384720"/>
                  <a:ext cx="560160" cy="163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8" name="Oval 31"/>
                <p:cNvSpPr/>
                <p:nvPr/>
              </p:nvSpPr>
              <p:spPr>
                <a:xfrm>
                  <a:off x="939960" y="2597040"/>
                  <a:ext cx="649080" cy="849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10e470"/>
                    </a:gs>
                    <a:gs pos="100000">
                      <a:srgbClr val="09824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9" name="Oval 32"/>
                <p:cNvSpPr/>
                <p:nvPr/>
              </p:nvSpPr>
              <p:spPr>
                <a:xfrm>
                  <a:off x="957240" y="2616120"/>
                  <a:ext cx="619200" cy="812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10e470"/>
                    </a:gs>
                    <a:gs pos="100000">
                      <a:srgbClr val="0a9047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pic>
              <p:nvPicPr>
                <p:cNvPr id="190" name="Picture 33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139760" y="2602080"/>
                  <a:ext cx="422280" cy="5522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91" name="Rectangle 34"/>
              <p:cNvSpPr/>
              <p:nvPr/>
            </p:nvSpPr>
            <p:spPr>
              <a:xfrm>
                <a:off x="1005480" y="2647800"/>
                <a:ext cx="307080" cy="36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lang="ru-RU" sz="1800" spc="-1" strike="noStrike">
                    <a:solidFill>
                      <a:srgbClr val="ffffff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92" name="Group 35"/>
          <p:cNvGrpSpPr/>
          <p:nvPr/>
        </p:nvGrpSpPr>
        <p:grpSpPr>
          <a:xfrm>
            <a:off x="939960" y="2444760"/>
            <a:ext cx="7845120" cy="1103400"/>
            <a:chOff x="939960" y="2444760"/>
            <a:chExt cx="7845120" cy="1103400"/>
          </a:xfrm>
        </p:grpSpPr>
        <p:sp>
          <p:nvSpPr>
            <p:cNvPr id="193" name="AutoShape 36"/>
            <p:cNvSpPr/>
            <p:nvPr/>
          </p:nvSpPr>
          <p:spPr>
            <a:xfrm>
              <a:off x="1312920" y="2444760"/>
              <a:ext cx="7472160" cy="10684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Rectangle 37"/>
            <p:cNvSpPr/>
            <p:nvPr/>
          </p:nvSpPr>
          <p:spPr>
            <a:xfrm>
              <a:off x="1566720" y="2598840"/>
              <a:ext cx="6470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95" name="Group 38"/>
            <p:cNvGrpSpPr/>
            <p:nvPr/>
          </p:nvGrpSpPr>
          <p:grpSpPr>
            <a:xfrm>
              <a:off x="939960" y="2597040"/>
              <a:ext cx="649080" cy="951120"/>
              <a:chOff x="939960" y="2597040"/>
              <a:chExt cx="649080" cy="951120"/>
            </a:xfrm>
          </p:grpSpPr>
          <p:sp>
            <p:nvSpPr>
              <p:cNvPr id="196" name="Rectangle 39"/>
              <p:cNvSpPr/>
              <p:nvPr/>
            </p:nvSpPr>
            <p:spPr>
              <a:xfrm>
                <a:off x="987840" y="2664000"/>
                <a:ext cx="307080" cy="36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lang="ru-RU" sz="1800" spc="-1" strike="noStrike">
                    <a:solidFill>
                      <a:srgbClr val="ffffff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97" name="Group 40"/>
              <p:cNvGrpSpPr/>
              <p:nvPr/>
            </p:nvGrpSpPr>
            <p:grpSpPr>
              <a:xfrm>
                <a:off x="939960" y="2597040"/>
                <a:ext cx="649080" cy="951120"/>
                <a:chOff x="939960" y="2597040"/>
                <a:chExt cx="649080" cy="951120"/>
              </a:xfrm>
            </p:grpSpPr>
            <p:pic>
              <p:nvPicPr>
                <p:cNvPr id="198" name="Picture 4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987480" y="3384720"/>
                  <a:ext cx="560160" cy="163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99" name="Oval 42"/>
                <p:cNvSpPr/>
                <p:nvPr/>
              </p:nvSpPr>
              <p:spPr>
                <a:xfrm>
                  <a:off x="939960" y="2597040"/>
                  <a:ext cx="649080" cy="849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10e470"/>
                    </a:gs>
                    <a:gs pos="100000">
                      <a:srgbClr val="09824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" name="Oval 43"/>
                <p:cNvSpPr/>
                <p:nvPr/>
              </p:nvSpPr>
              <p:spPr>
                <a:xfrm>
                  <a:off x="957240" y="2616120"/>
                  <a:ext cx="619200" cy="812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10e470"/>
                    </a:gs>
                    <a:gs pos="100000">
                      <a:srgbClr val="0a9047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pic>
              <p:nvPicPr>
                <p:cNvPr id="201" name="Picture 4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139760" y="2602080"/>
                  <a:ext cx="422280" cy="5522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202" name="Rectangle 45"/>
              <p:cNvSpPr/>
              <p:nvPr/>
            </p:nvSpPr>
            <p:spPr>
              <a:xfrm>
                <a:off x="1005480" y="2647800"/>
                <a:ext cx="307080" cy="36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lang="ru-RU" sz="1800" spc="-1" strike="noStrike">
                    <a:solidFill>
                      <a:srgbClr val="ffffff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03" name="Text Box 46"/>
          <p:cNvSpPr/>
          <p:nvPr/>
        </p:nvSpPr>
        <p:spPr>
          <a:xfrm>
            <a:off x="1549440" y="2490840"/>
            <a:ext cx="727380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Не стесняйтесь обращаться за помощью в школу, к специалистам других учреждений и организаций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4" name="Picture 47" descr=""/>
          <p:cNvPicPr/>
          <p:nvPr/>
        </p:nvPicPr>
        <p:blipFill>
          <a:blip r:embed="rId9"/>
          <a:stretch/>
        </p:blipFill>
        <p:spPr>
          <a:xfrm>
            <a:off x="4824360" y="3743280"/>
            <a:ext cx="4253040" cy="3106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Text Box 1"/>
          <p:cNvSpPr/>
          <p:nvPr/>
        </p:nvSpPr>
        <p:spPr>
          <a:xfrm>
            <a:off x="647640" y="71280"/>
            <a:ext cx="7920000" cy="18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Так что же делать родителям, если они узнали о том, что их ребенок попал в «группу риска»?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Text Box 2"/>
          <p:cNvSpPr/>
          <p:nvPr/>
        </p:nvSpPr>
        <p:spPr>
          <a:xfrm>
            <a:off x="792000" y="1728720"/>
            <a:ext cx="676764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1.Сохраняйте спокойствие и достоинство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Text Box 3"/>
          <p:cNvSpPr/>
          <p:nvPr/>
        </p:nvSpPr>
        <p:spPr>
          <a:xfrm>
            <a:off x="824040" y="2232000"/>
            <a:ext cx="619128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2.Разберитесь в ситуации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Text Box 4"/>
          <p:cNvSpPr/>
          <p:nvPr/>
        </p:nvSpPr>
        <p:spPr>
          <a:xfrm>
            <a:off x="936720" y="2735280"/>
            <a:ext cx="59752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3.Сохраните доверие ребенка к себе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Text Box 5"/>
          <p:cNvSpPr/>
          <p:nvPr/>
        </p:nvSpPr>
        <p:spPr>
          <a:xfrm>
            <a:off x="1008000" y="3932280"/>
            <a:ext cx="648036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5.Не позволяйте собой манипулировать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Text Box 6"/>
          <p:cNvSpPr/>
          <p:nvPr/>
        </p:nvSpPr>
        <p:spPr>
          <a:xfrm>
            <a:off x="936720" y="3168720"/>
            <a:ext cx="6840360" cy="13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4.Узнайте как можно больше о том, что происходит с вашим ребенком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Text Box 7"/>
          <p:cNvSpPr/>
          <p:nvPr/>
        </p:nvSpPr>
        <p:spPr>
          <a:xfrm>
            <a:off x="1008000" y="4363920"/>
            <a:ext cx="669600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6.Не исправляйте за ребенка его ошибки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Text Box 8"/>
          <p:cNvSpPr/>
          <p:nvPr/>
        </p:nvSpPr>
        <p:spPr>
          <a:xfrm>
            <a:off x="1008000" y="4824360"/>
            <a:ext cx="626760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7.Не пускайте процесс на самотек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Text Box 9"/>
          <p:cNvSpPr/>
          <p:nvPr/>
        </p:nvSpPr>
        <p:spPr>
          <a:xfrm>
            <a:off x="1008000" y="5227560"/>
            <a:ext cx="763272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8.Установите разумные границы контроля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Text Box 10"/>
          <p:cNvSpPr/>
          <p:nvPr/>
        </p:nvSpPr>
        <p:spPr>
          <a:xfrm>
            <a:off x="1008000" y="5645160"/>
            <a:ext cx="741528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9.Помогите ребенку измениться к лучшему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1" descr=""/>
          <p:cNvPicPr/>
          <p:nvPr/>
        </p:nvPicPr>
        <p:blipFill>
          <a:blip r:embed="rId1"/>
          <a:stretch/>
        </p:blipFill>
        <p:spPr>
          <a:xfrm>
            <a:off x="61920" y="3376440"/>
            <a:ext cx="3610080" cy="3391200"/>
          </a:xfrm>
          <a:prstGeom prst="rect">
            <a:avLst/>
          </a:prstGeom>
          <a:ln w="0">
            <a:noFill/>
          </a:ln>
        </p:spPr>
      </p:pic>
      <p:sp>
        <p:nvSpPr>
          <p:cNvPr id="216" name="Text Box 2"/>
          <p:cNvSpPr/>
          <p:nvPr/>
        </p:nvSpPr>
        <p:spPr>
          <a:xfrm>
            <a:off x="3024360" y="1603440"/>
            <a:ext cx="575928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8-800-2000-122 – единый номер телефона доверия (служб экстренной психологической помощи) для детей, подростков и их родителе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лефон доверия действует круглосуточно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вонок анонимный и бесплатный с любого телефона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ользователь Windows</cp:lastModifiedBy>
  <dcterms:modified xsi:type="dcterms:W3CDTF">2019-02-18T09:23:41Z</dcterms:modified>
  <cp:revision>1</cp:revision>
  <dc:subject/>
  <dc:title>Презентация PowerPoint</dc:title>
</cp:coreProperties>
</file>