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F973-25C1-4ADD-B3ED-76E6812F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590-20CD-4996-8D75-D0E89C25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9009-95D7-46CA-9422-52132323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589-64F6-4A0C-AE03-A68DAC61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7106-7CD4-4774-AC39-BB25F2A9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0DFD-4F44-4D95-A71E-A45AE39E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7A78-DE15-4440-9449-C0BC73F0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58AA-77F4-4DBA-AB44-4C1FA6BB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9D59-E057-4B54-8C9E-12896361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7EED-EDB5-422D-9973-AF078B78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9A53-9419-4E1B-8C55-6F06F4D6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6C2-37B2-4370-BAE9-23E8A56A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292B-BF61-4C73-9121-9577E859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FE67-9FA7-450F-ABFB-7CA92D48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666E-1EED-4DD8-88D2-F94FCC84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38CF-49D4-4DB1-A2F4-C33DA91C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6EA8-4A94-4647-ACE0-53460D47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5BC6-EAB7-4A77-BAD0-E4996130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A48-4F62-4E94-B3D6-EB13A179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FD3-853B-4709-A1D4-2891A2A7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05B-EC99-46AF-81BC-BC1A9497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970E-DCC7-4DCE-824E-49BE787F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8105-67F5-4916-A867-50BB99E6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3718-76B5-4730-8A19-4062453E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464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59C9-99CD-485B-9AE6-03E8716664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464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76B7-A952-4DE1-9367-7D759AC713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32000" y="2133720"/>
            <a:ext cx="60120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724360" y="5229360"/>
            <a:ext cx="288144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Verdana"/>
              </a:rPr>
              <a:t>Подготовила: воспитатель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Verdana"/>
              </a:rPr>
              <a:t>МБДОУ Детский сад № 7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Verdana"/>
              </a:rPr>
              <a:t>Н.А. Солдато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0" y="549360"/>
            <a:ext cx="88581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ИРАЛЬНЫЕ МАШИНЫ.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ЧУДЕСНОГО ИЗОБРЕТЕНИЯ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10" descr="hello_html_m3e6ea948"/>
          <p:cNvPicPr/>
          <p:nvPr/>
        </p:nvPicPr>
        <p:blipFill>
          <a:blip r:embed="rId1"/>
          <a:stretch/>
        </p:blipFill>
        <p:spPr>
          <a:xfrm>
            <a:off x="900000" y="2205000"/>
            <a:ext cx="39592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5" descr="150404203543"/>
          <p:cNvPicPr/>
          <p:nvPr/>
        </p:nvPicPr>
        <p:blipFill>
          <a:blip r:embed="rId1"/>
          <a:stretch/>
        </p:blipFill>
        <p:spPr>
          <a:xfrm>
            <a:off x="324000" y="333360"/>
            <a:ext cx="3695400" cy="5759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150404203544"/>
          <p:cNvPicPr/>
          <p:nvPr/>
        </p:nvPicPr>
        <p:blipFill>
          <a:blip r:embed="rId2"/>
          <a:stretch/>
        </p:blipFill>
        <p:spPr>
          <a:xfrm>
            <a:off x="4572000" y="333360"/>
            <a:ext cx="39607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40000" y="188640"/>
            <a:ext cx="4546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рвые стиральные машины автома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вые автоматы появились в мире значительно раньше, в 1947-ом году. Они умели стирать по заданной программе, значительно облегчая труд домохозяек. Ещё через несколько лет автоматика стала заправлять всеми узлами, в том числе и отжимом. Начался самый настоящий рассвет автоматически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тиральных машин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5" descr="Первые стиральные машины автомат"/>
          <p:cNvPicPr/>
          <p:nvPr/>
        </p:nvPicPr>
        <p:blipFill>
          <a:blip r:embed="rId1"/>
          <a:stretch/>
        </p:blipFill>
        <p:spPr>
          <a:xfrm>
            <a:off x="324000" y="1125360"/>
            <a:ext cx="346212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Современные стиральные машин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5" descr="Современные стиральные машины"/>
          <p:cNvPicPr/>
          <p:nvPr/>
        </p:nvPicPr>
        <p:blipFill>
          <a:blip r:embed="rId1"/>
          <a:stretch/>
        </p:blipFill>
        <p:spPr>
          <a:xfrm>
            <a:off x="971640" y="1052640"/>
            <a:ext cx="6480000" cy="45370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324000" y="572292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инки появляются практически каждый месяц, в то время как устаревшие модели понемногу уходят в историю. 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1258920" y="2933640"/>
            <a:ext cx="608472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СПАСИБО ЗА ВНИМАНИЕ !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788000" y="0"/>
            <a:ext cx="4176720" cy="6524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Древней Греции люди выкапывали небольшие ямы в глинистой почве, наливали туда воду, затем прачки кидали в них кучу одежды и топтались по белью. После такой процедуры, бельё полоскали в чистой воде и сушили на берегу моря. Между прочим, и это не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учай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Прибой тёр одежду о гальку, что делало её ещё более чисто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50404172138"/>
          <p:cNvPicPr/>
          <p:nvPr/>
        </p:nvPicPr>
        <p:blipFill>
          <a:blip r:embed="rId1"/>
          <a:stretch/>
        </p:blipFill>
        <p:spPr>
          <a:xfrm>
            <a:off x="179280" y="404640"/>
            <a:ext cx="46706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4368960"/>
            <a:ext cx="8229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Руси (да и в некоторых других странах) для стирки часто использовали валёк — плоский деревянный брусок с короткой рукояткой. Мыльное бельё клали на ровную поверхность, на доски и били по нему вальком, проходя несколько раз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150404172138"/>
          <p:cNvPicPr/>
          <p:nvPr/>
        </p:nvPicPr>
        <p:blipFill>
          <a:blip r:embed="rId1"/>
          <a:stretch/>
        </p:blipFill>
        <p:spPr>
          <a:xfrm>
            <a:off x="108000" y="260280"/>
            <a:ext cx="3600360" cy="410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150404172138"/>
          <p:cNvPicPr/>
          <p:nvPr/>
        </p:nvPicPr>
        <p:blipFill>
          <a:blip r:embed="rId2"/>
          <a:stretch/>
        </p:blipFill>
        <p:spPr>
          <a:xfrm>
            <a:off x="4716360" y="260280"/>
            <a:ext cx="3600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797 год нас порадовал тем, что подарил нам доску для стирки. Этот бытовой предмет на долго прижился во многих домах и семья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5" descr="150404172139"/>
          <p:cNvPicPr/>
          <p:nvPr/>
        </p:nvPicPr>
        <p:blipFill>
          <a:blip r:embed="rId1"/>
          <a:stretch/>
        </p:blipFill>
        <p:spPr>
          <a:xfrm>
            <a:off x="179280" y="0"/>
            <a:ext cx="3856320" cy="5229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150405105234"/>
          <p:cNvPicPr/>
          <p:nvPr/>
        </p:nvPicPr>
        <p:blipFill>
          <a:blip r:embed="rId2"/>
          <a:stretch/>
        </p:blipFill>
        <p:spPr>
          <a:xfrm>
            <a:off x="4716360" y="0"/>
            <a:ext cx="41785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4292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те времена, когда стирка производилась вручную, людям приходилось использовать подручные средства, чтобы облегчить ее процесс. И дело не в том, что рационализаторство – удел ленивых. Качественная ручная стирка – это физический труд, отнимающий много времени и требующий достаточной доли терпения, в большинстве своем свойственном женщинам. 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5" descr="в далекие времена"/>
          <p:cNvPicPr/>
          <p:nvPr/>
        </p:nvPicPr>
        <p:blipFill>
          <a:blip r:embed="rId1"/>
          <a:stretch/>
        </p:blipFill>
        <p:spPr>
          <a:xfrm>
            <a:off x="4572000" y="260280"/>
            <a:ext cx="4248000" cy="403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18f843afaacb"/>
          <p:cNvPicPr/>
          <p:nvPr/>
        </p:nvPicPr>
        <p:blipFill>
          <a:blip r:embed="rId2"/>
          <a:stretch/>
        </p:blipFill>
        <p:spPr>
          <a:xfrm>
            <a:off x="179280" y="260280"/>
            <a:ext cx="42498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4437000"/>
            <a:ext cx="8686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редневековой Европе прачки сначала кипятили бельё в чанах, а потом несли к водоёму — полоскать. Стирка считалась очень тяжёлой работой, в прачки даже отправляли в наказание за различные провин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5" descr="150404203542"/>
          <p:cNvPicPr/>
          <p:nvPr/>
        </p:nvPicPr>
        <p:blipFill>
          <a:blip r:embed="rId1"/>
          <a:stretch/>
        </p:blipFill>
        <p:spPr>
          <a:xfrm>
            <a:off x="684360" y="115920"/>
            <a:ext cx="7920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435280" y="277560"/>
            <a:ext cx="3251160" cy="58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435280" y="1699920"/>
            <a:ext cx="32511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851 г. Американец Дж. Кинг запатентовал первую машину с вращающимся барабаном. Ее главная особенность – ручной привод, запускаемый специальной ручкой, как у мясорубки. Именно это изобретение стало первым прототипом современной С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5" descr="История создания стиральной машины"/>
          <p:cNvPicPr/>
          <p:nvPr/>
        </p:nvPicPr>
        <p:blipFill>
          <a:blip r:embed="rId1"/>
          <a:stretch/>
        </p:blipFill>
        <p:spPr>
          <a:xfrm>
            <a:off x="250920" y="333360"/>
            <a:ext cx="4967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5" descr="150404203542"/>
          <p:cNvPicPr/>
          <p:nvPr/>
        </p:nvPicPr>
        <p:blipFill>
          <a:blip r:embed="rId1"/>
          <a:stretch/>
        </p:blipFill>
        <p:spPr>
          <a:xfrm>
            <a:off x="539640" y="333360"/>
            <a:ext cx="7632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4436640"/>
            <a:ext cx="896472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 второй половине позапрошлого века были изобретены и валики, облегчающие отжим белья. Эти валики потом ещё очень долго, не менее 100 лет, были частью конструкции многих стиралок и ушли в прошлое только в эпоху автоматических стиральных машин с отжимо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Picture 5" descr="150404203542"/>
          <p:cNvPicPr/>
          <p:nvPr/>
        </p:nvPicPr>
        <p:blipFill>
          <a:blip r:embed="rId1"/>
          <a:stretch/>
        </p:blipFill>
        <p:spPr>
          <a:xfrm>
            <a:off x="539640" y="46080"/>
            <a:ext cx="7704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2T12:44:18Z</dcterms:created>
  <dc:creator>Microsoft Office</dc:creator>
  <dc:description/>
  <dc:language>en-US</dc:language>
  <cp:lastModifiedBy>босс</cp:lastModifiedBy>
  <dcterms:modified xsi:type="dcterms:W3CDTF">2019-04-22T09:01:42Z</dcterms:modified>
  <cp:revision>8</cp:revision>
  <dc:subject/>
  <dc:title>Слайд 1</dc:title>
</cp:coreProperties>
</file>