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606B-2074-413A-9DC8-D8010B59A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55DB-4AB1-44AF-9529-2FD3E04ED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516C-210B-48F1-9E33-5EEC91837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617F-AFB5-4A9E-AAAE-3E54D4633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8855B-C937-48AB-BAE8-3044C7A16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B8E0F-CD72-40E0-8C9C-A6CA9DA0F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090C9-6B2F-4151-AC3D-6DB4E3694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B713D-F34F-4693-92D7-D3397A01B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AD3F6-A106-4B5C-9F47-2E60737ED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A0D50-FF59-46F0-BEDD-D13D92132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719B2-134A-411B-9561-3692BC18F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D252-E2A7-4EA2-8FEE-CCD847706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42A7D-8B1D-4097-B256-49AF3DAE5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D95D7-75EB-4FE3-B40B-4602E631E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94CD4-A2CB-4C15-A2BA-28CEF87C3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7463B-FB16-4008-B716-514699619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AA63C-3E57-4C51-BAA1-41D43176D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F4FB-6EFE-44ED-80C2-B977C8FB3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7178-EE71-4263-B41C-069CE4D38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FC01-DAE4-4B48-AC41-3FA12B9AE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F714-FC94-4453-87D0-1CDC428E5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904C-C0BC-437E-8503-0128C8435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9E57-2A49-442F-8AD6-84E2CB7F3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C26C-778F-4343-9969-9AA8D0D0E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d"/>
            </a:gs>
            <a:gs pos="100000">
              <a:srgbClr val="64645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98977a"/>
                </a:gs>
                <a:gs pos="100000">
                  <a:srgbClr val="5c5c4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98977a"/>
                </a:gs>
                <a:gs pos="100000">
                  <a:srgbClr val="5c5c4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98977a"/>
                </a:gs>
                <a:gs pos="100000">
                  <a:srgbClr val="5c5c4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98977a"/>
                </a:gs>
                <a:gs pos="100000">
                  <a:srgbClr val="5c5c4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98977a"/>
                </a:gs>
                <a:gs pos="100000">
                  <a:srgbClr val="5c5c4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ffffdd"/>
                </a:gs>
                <a:gs pos="100000">
                  <a:srgbClr val="f0f0d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ffff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ffff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ffffdd"/>
                </a:gs>
                <a:gs pos="100000">
                  <a:srgbClr val="f0f0d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ffff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ffff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ffff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ffff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9897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ffff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ffff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ffff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ffff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ffff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9897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9897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62673-F10E-491D-B54F-E14E8CCF363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dd4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a0d06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cc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d"/>
            </a:gs>
            <a:gs pos="100000">
              <a:srgbClr val="64645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98977a"/>
                </a:gs>
                <a:gs pos="100000">
                  <a:srgbClr val="5c5c4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98977a"/>
                </a:gs>
                <a:gs pos="100000">
                  <a:srgbClr val="5c5c4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98977a"/>
                </a:gs>
                <a:gs pos="100000">
                  <a:srgbClr val="5c5c4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98977a"/>
                </a:gs>
                <a:gs pos="100000">
                  <a:srgbClr val="5c5c4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98977a"/>
                </a:gs>
                <a:gs pos="100000">
                  <a:srgbClr val="5c5c4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ffffdd"/>
                </a:gs>
                <a:gs pos="100000">
                  <a:srgbClr val="f0f0d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ffff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ffff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ffffdd"/>
                </a:gs>
                <a:gs pos="100000">
                  <a:srgbClr val="f0f0d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ffff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ffff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ffff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ffff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9897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ffff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ffff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ffff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ffff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ffff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9897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9897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dd4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a0d06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cc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6F79B-8731-404C-B4E2-B3F37430BF3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132000" y="2133720"/>
            <a:ext cx="6012000" cy="71280"/>
          </a:xfrm>
          <a:prstGeom prst="rect">
            <a:avLst/>
          </a:prstGeom>
          <a:noFill/>
          <a:ln w="0">
            <a:noFill/>
          </a:ln>
        </p:spPr>
        <p:txBody>
          <a:bodyPr tIns="25560" bIns="2556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5724360" y="5229360"/>
            <a:ext cx="2881440" cy="107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66"/>
                </a:solidFill>
                <a:latin typeface="Verdana"/>
              </a:rPr>
              <a:t>Подготовила: воспитатель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66"/>
                </a:solidFill>
                <a:latin typeface="Verdana"/>
              </a:rPr>
              <a:t>МБДОУ Детский сад № 74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66"/>
                </a:solidFill>
                <a:latin typeface="Verdana"/>
              </a:rPr>
              <a:t>Н.А. Солдатов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WordArt 7"/>
          <p:cNvSpPr txBox="1"/>
          <p:nvPr/>
        </p:nvSpPr>
        <p:spPr>
          <a:xfrm>
            <a:off x="0" y="549360"/>
            <a:ext cx="885816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ТИРАЛЬНЫЕ МАШИНЫ.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СТОРИЯ ЧУДЕСНОГО ИЗОБРЕТЕНИЯ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9" name="Picture 10" descr="hello_html_m3e6ea948"/>
          <p:cNvPicPr/>
          <p:nvPr/>
        </p:nvPicPr>
        <p:blipFill>
          <a:blip r:embed="rId1"/>
          <a:stretch/>
        </p:blipFill>
        <p:spPr>
          <a:xfrm>
            <a:off x="900000" y="2205000"/>
            <a:ext cx="395928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8" name="Picture 5" descr="150404203543"/>
          <p:cNvPicPr/>
          <p:nvPr/>
        </p:nvPicPr>
        <p:blipFill>
          <a:blip r:embed="rId1"/>
          <a:stretch/>
        </p:blipFill>
        <p:spPr>
          <a:xfrm>
            <a:off x="324000" y="333360"/>
            <a:ext cx="3695400" cy="57596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7" descr="150404203544"/>
          <p:cNvPicPr/>
          <p:nvPr/>
        </p:nvPicPr>
        <p:blipFill>
          <a:blip r:embed="rId2"/>
          <a:stretch/>
        </p:blipFill>
        <p:spPr>
          <a:xfrm>
            <a:off x="4572000" y="333360"/>
            <a:ext cx="3960720" cy="575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140000" y="188640"/>
            <a:ext cx="454644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ервые стиральные машины автомат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ервые автоматы появились в мире значительно раньше, в 1947-ом году. Они умели стирать по заданной программе, значительно облегчая труд домохозяек. Ещё через несколько лет автоматика стала заправлять всеми узлами, в том числе и отжимом. Начался самый настоящий рассвет автоматических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стиральных машин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2" name="Picture 5" descr="Первые стиральные машины автомат"/>
          <p:cNvPicPr/>
          <p:nvPr/>
        </p:nvPicPr>
        <p:blipFill>
          <a:blip r:embed="rId1"/>
          <a:stretch/>
        </p:blipFill>
        <p:spPr>
          <a:xfrm>
            <a:off x="324000" y="1125360"/>
            <a:ext cx="3462120" cy="46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Times New Roman"/>
              </a:rPr>
              <a:t>Современные стиральные машины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5" name="Picture 5" descr="Современные стиральные машины"/>
          <p:cNvPicPr/>
          <p:nvPr/>
        </p:nvPicPr>
        <p:blipFill>
          <a:blip r:embed="rId1"/>
          <a:stretch/>
        </p:blipFill>
        <p:spPr>
          <a:xfrm>
            <a:off x="971640" y="1052640"/>
            <a:ext cx="6480000" cy="453708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6"/>
          <p:cNvSpPr/>
          <p:nvPr/>
        </p:nvSpPr>
        <p:spPr>
          <a:xfrm>
            <a:off x="324000" y="5722920"/>
            <a:ext cx="8280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овинки появляются практически каждый месяц, в то время как устаревшие модели понемногу уходят в историю. 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WordArt 4"/>
          <p:cNvSpPr txBox="1"/>
          <p:nvPr/>
        </p:nvSpPr>
        <p:spPr>
          <a:xfrm>
            <a:off x="1258920" y="2933640"/>
            <a:ext cx="6084720" cy="63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Verdana"/>
              </a:rPr>
              <a:t>СПАСИБО ЗА ВНИМАНИЕ !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788000" y="0"/>
            <a:ext cx="4176720" cy="6524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Древней Греции люди выкапывали небольшие ямы в глинистой почве, наливали туда воду, затем прачки кидали в них кучу одежды и топтались по белью. После такой процедуры, бельё полоскали в чистой воде и сушили на берегу моря. Между прочим, и это не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лучайно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Прибой тёр одежду о гальку, что делало её ещё более чистой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4" descr="150404172138"/>
          <p:cNvPicPr/>
          <p:nvPr/>
        </p:nvPicPr>
        <p:blipFill>
          <a:blip r:embed="rId1"/>
          <a:stretch/>
        </p:blipFill>
        <p:spPr>
          <a:xfrm>
            <a:off x="179280" y="404640"/>
            <a:ext cx="4670640" cy="45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4368960"/>
            <a:ext cx="8229600" cy="176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add4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 Руси (да и в некоторых других странах) для стирки часто использовали валёк — плоский деревянный брусок с короткой рукояткой. Мыльное бельё клали на ровную поверхность, на доски и били по нему вальком, проходя несколько раз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4" name="Picture 5" descr="150404172138"/>
          <p:cNvPicPr/>
          <p:nvPr/>
        </p:nvPicPr>
        <p:blipFill>
          <a:blip r:embed="rId1"/>
          <a:stretch/>
        </p:blipFill>
        <p:spPr>
          <a:xfrm>
            <a:off x="108000" y="260280"/>
            <a:ext cx="3600360" cy="41036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150404172138"/>
          <p:cNvPicPr/>
          <p:nvPr/>
        </p:nvPicPr>
        <p:blipFill>
          <a:blip r:embed="rId2"/>
          <a:stretch/>
        </p:blipFill>
        <p:spPr>
          <a:xfrm>
            <a:off x="4716360" y="260280"/>
            <a:ext cx="360072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530028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1797 год нас порадовал тем, что подарил нам доску для стирки. Этот бытовой предмет на долго прижился во многих домах и семьях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8" name="Picture 5" descr="150404172139"/>
          <p:cNvPicPr/>
          <p:nvPr/>
        </p:nvPicPr>
        <p:blipFill>
          <a:blip r:embed="rId1"/>
          <a:stretch/>
        </p:blipFill>
        <p:spPr>
          <a:xfrm>
            <a:off x="179280" y="0"/>
            <a:ext cx="3856320" cy="52293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6" descr="150405105234"/>
          <p:cNvPicPr/>
          <p:nvPr/>
        </p:nvPicPr>
        <p:blipFill>
          <a:blip r:embed="rId2"/>
          <a:stretch/>
        </p:blipFill>
        <p:spPr>
          <a:xfrm>
            <a:off x="4716360" y="0"/>
            <a:ext cx="417852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0" y="4292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add4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 те времена, когда стирка производилась вручную, людям приходилось использовать подручные средства, чтобы облегчить ее процесс. И дело не в том, что рационализаторство – удел ленивых. Качественная ручная стирка – это физический труд, отнимающий много времени и требующий достаточной доли терпения, в большинстве своем свойственном женщинам. 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2" name="Picture 5" descr="в далекие времена"/>
          <p:cNvPicPr/>
          <p:nvPr/>
        </p:nvPicPr>
        <p:blipFill>
          <a:blip r:embed="rId1"/>
          <a:stretch/>
        </p:blipFill>
        <p:spPr>
          <a:xfrm>
            <a:off x="4572000" y="260280"/>
            <a:ext cx="4248000" cy="40323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7" descr="18f843afaacb"/>
          <p:cNvPicPr/>
          <p:nvPr/>
        </p:nvPicPr>
        <p:blipFill>
          <a:blip r:embed="rId2"/>
          <a:stretch/>
        </p:blipFill>
        <p:spPr>
          <a:xfrm>
            <a:off x="179280" y="260280"/>
            <a:ext cx="424980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0" y="4437000"/>
            <a:ext cx="868680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add4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средневековой Европе прачки сначала кипятили бельё в чанах, а потом несли к водоёму — полоскать. Стирка считалась очень тяжёлой работой, в прачки даже отправляли в наказание за различные провинности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6" name="Picture 5" descr="150404203542"/>
          <p:cNvPicPr/>
          <p:nvPr/>
        </p:nvPicPr>
        <p:blipFill>
          <a:blip r:embed="rId1"/>
          <a:stretch/>
        </p:blipFill>
        <p:spPr>
          <a:xfrm>
            <a:off x="684360" y="115920"/>
            <a:ext cx="7920000" cy="41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435280" y="277560"/>
            <a:ext cx="3251160" cy="58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435280" y="1699920"/>
            <a:ext cx="325116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1851 г. Американец Дж. Кинг запатентовал первую машину с вращающимся барабаном. Ее главная особенность – ручной привод, запускаемый специальной ручкой, как у мясорубки. Именно это изобретение стало первым прототипом современной СМ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9" name="Picture 5" descr="История создания стиральной машины"/>
          <p:cNvPicPr/>
          <p:nvPr/>
        </p:nvPicPr>
        <p:blipFill>
          <a:blip r:embed="rId1"/>
          <a:stretch/>
        </p:blipFill>
        <p:spPr>
          <a:xfrm>
            <a:off x="250920" y="333360"/>
            <a:ext cx="496728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2" name="Picture 5" descr="150404203542"/>
          <p:cNvPicPr/>
          <p:nvPr/>
        </p:nvPicPr>
        <p:blipFill>
          <a:blip r:embed="rId1"/>
          <a:stretch/>
        </p:blipFill>
        <p:spPr>
          <a:xfrm>
            <a:off x="539640" y="333360"/>
            <a:ext cx="763272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9280" y="4436640"/>
            <a:ext cx="8964720" cy="24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add4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 второй половине позапрошлого века были изобретены и валики, облегчающие отжим белья. Эти валики потом ещё очень долго, не менее 100 лет, были частью конструкции многих стиралок и ушли в прошлое только в эпоху автоматических стиральных машин с отжимом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5" name="Picture 5" descr="150404203542"/>
          <p:cNvPicPr/>
          <p:nvPr/>
        </p:nvPicPr>
        <p:blipFill>
          <a:blip r:embed="rId1"/>
          <a:stretch/>
        </p:blipFill>
        <p:spPr>
          <a:xfrm>
            <a:off x="539640" y="46080"/>
            <a:ext cx="770436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22T12:44:18Z</dcterms:created>
  <dc:creator>Microsoft Office</dc:creator>
  <dc:description/>
  <dc:language>en-US</dc:language>
  <cp:lastModifiedBy>босс</cp:lastModifiedBy>
  <dcterms:modified xsi:type="dcterms:W3CDTF">2019-04-22T09:01:42Z</dcterms:modified>
  <cp:revision>8</cp:revision>
  <dc:subject/>
  <dc:title>Слайд 1</dc:title>
</cp:coreProperties>
</file>