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E0F-329C-4170-BDED-CD5FF399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0FF-5C1E-4D60-B2EF-997F9462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3FE-881D-410D-A658-30FFC54E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623-DEE0-4DB3-B1A2-320726D6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92B-B744-405F-AEA1-A8EEC2AB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7D9-25DC-4AE0-A8F6-1A49FA9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8764-7638-4CE1-AB8C-1BFCB4B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8BDF-5156-41C1-A261-82C8180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8732-8669-493D-8351-5B5E3A0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04D4-C4F9-4FF8-992E-F00523C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90C7-8CD4-4EBB-B6F7-1A91454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DD5-F46C-41DE-B6D9-66C9D867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E7D0-E6C9-473B-AAC2-BBE1C14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2893-E7AA-4F5C-8F05-0D0EC5E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07C5-76CB-410E-AAB5-3F37380A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D35-3DDA-4F3C-B7F0-F651CE20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A5D9-854F-43BC-8CCD-2E3A1B58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D64-F7D8-4E47-8FBD-987BB475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9A8-AA73-49AB-BC2F-34E1DF3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2F0-F7B7-449E-9B11-E8EB4B7B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91E-2BCE-45F4-BE87-C72E4CF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3C3-2017-4B2A-B192-2F4317E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0FD-AAFB-4042-88DF-CE4F5C9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17D-766A-4015-92B8-ED45E78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15F5-8F6F-4C2B-AE99-049B4246C9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E6C-571B-4BD4-9102-683AA59FD6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ема урока-практикума: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Цель: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Научиться осуществлять первичную экспертизу продуктов питания, оценивать безопасность их использования по информации, находящейся на упаковке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58920" y="1700280"/>
            <a:ext cx="734544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Экспертиза продуктов питани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2735280" cy="21826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4797360"/>
            <a:ext cx="2881440" cy="18464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480" y="834120"/>
            <a:ext cx="4096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формационное поле на этикетке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3357360"/>
            <a:ext cx="76932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анные о свойствах продукта, причем на русском языке. Это наименование производителя и его адрес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наименование товара и его масс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остав, а при необходимости и химический состав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дата изготовления и срок годности или реализа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обозначение стандарта или ТУ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редупреждения об опасности и рекомендации по применению; - - наличие спецдобавок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48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изводство продуктов 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8520" y="2492280"/>
            <a:ext cx="46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вышение интенсивности производст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735280" cy="18226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360" y="3141720"/>
            <a:ext cx="2305080" cy="1728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24520" y="3376440"/>
            <a:ext cx="321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нижение качеств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дуктов.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нее качественного сырь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664000" cy="16509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987640" y="5013360"/>
            <a:ext cx="2822760" cy="16873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208200" y="4960800"/>
            <a:ext cx="28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менение добавок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лучшающих вку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дукта и маскирующи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лохое сырьё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тегории качества продуктов 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248" t="47827" r="7989" b="17704"/>
          <a:stretch/>
        </p:blipFill>
        <p:spPr>
          <a:xfrm>
            <a:off x="755640" y="2349360"/>
            <a:ext cx="3529080" cy="3384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572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2349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ВАРЫ ПЕРВОЙ КАТЕГОР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личество и типы спецдобавок строг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гламентирова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3284640"/>
            <a:ext cx="470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ачество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варов второй категори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контролируется менее строго. Они производятся с учётом требований страны-импортера. Так, например наличие знака РСТ означает соответствие российскому стандарту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8320" y="5300640"/>
            <a:ext cx="45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ТОВАРЫ ТРЕТЬЕЙ КАТЕГОРИИ н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спространяются многие ограниче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ебестоимость их гораздо ниже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 производство выгодне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8560" y="34560"/>
            <a:ext cx="8750880" cy="4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блица вредных пищевых добавок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620640"/>
          <a:ext cx="8640720" cy="6189840"/>
        </p:xfrm>
        <a:graphic>
          <a:graphicData uri="http://schemas.openxmlformats.org/drawingml/2006/table">
            <a:tbl>
              <a:tblPr/>
              <a:tblGrid>
                <a:gridCol w="1046160"/>
                <a:gridCol w="1225800"/>
                <a:gridCol w="1046160"/>
                <a:gridCol w="1226880"/>
                <a:gridCol w="1046160"/>
                <a:gridCol w="1225800"/>
                <a:gridCol w="1046160"/>
                <a:gridCol w="77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С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С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13 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20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5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5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559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О, 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5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0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2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4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5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, 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160720" cy="21603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2303280" cy="23032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43280" y="4437000"/>
            <a:ext cx="1800000" cy="21589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881440" cy="19306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8:04:57Z</dcterms:created>
  <dc:creator>Admin</dc:creator>
  <dc:description/>
  <dc:language>en-US</dc:language>
  <cp:lastModifiedBy>Admin</cp:lastModifiedBy>
  <dcterms:modified xsi:type="dcterms:W3CDTF">2012-11-21T17:46:15Z</dcterms:modified>
  <cp:revision>3</cp:revision>
  <dc:subject/>
  <dc:title>Тема урока-практикума: </dc:title>
</cp:coreProperties>
</file>