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DDE-D463-4AC6-841E-EE65789C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E1F-5F07-4495-A0F9-D02D874D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2F5-2AAF-4992-A07D-29FE564A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D1E-1818-4313-8F26-33073F50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7801-52F9-443B-B654-D2931DA7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4F93-C9D4-48B5-B609-5FD68DDD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B58E-E71F-4EF2-A0F9-5B777FDA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1757-ABF0-4584-A0F5-8C784B5C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056E-8756-4D1A-B682-1259C9CB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21EE-7A74-476A-9D7B-B51BF40A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E3A4-16D5-4E96-8828-B3A2B681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302-6DF7-4EE3-B8C2-2012FB25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9276-3A7E-471C-81F9-414E2421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715F-E960-450A-9E67-17F541F1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BA23-5BF1-4F1A-BBBE-BAAC8E0B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2F94-4EA5-4E55-81F6-70278A25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3E48-34BD-4D0B-BA6F-9DA4F9ED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C77-F221-4455-AD00-E88AAAF9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646-D691-4527-AE33-E96ABE36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A42-6821-486D-A420-BF5A0A2A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2BD-78C5-4308-84E5-0E550874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1F1-2B9C-4430-9F83-C24AF6E5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B05-CB8A-42BF-9238-5C9B5FA7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994-9E68-469B-A466-AC546EA1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C8C4-E9C1-4CFC-B824-CEAA32CBD6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5E23-5241-4441-BAB0-D652EE79A1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Тема урока-практикума: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66"/>
                </a:solidFill>
                <a:uFillTx/>
                <a:latin typeface="Arial"/>
              </a:rPr>
              <a:t>Цель: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Научиться осуществлять первичную экспертизу продуктов питания, оценивать безопасность их использования по информации, находящейся на упаковке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58920" y="1700280"/>
            <a:ext cx="734544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Экспертиза продуктов питания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2997360"/>
            <a:ext cx="2735280" cy="218268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3280" y="4797360"/>
            <a:ext cx="2881440" cy="18464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480" y="834120"/>
            <a:ext cx="40968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формационное поле на этикетке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3357360"/>
            <a:ext cx="76932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анные о свойствах продукта, причем на русском языке. Это наименование производителя и его адрес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наименование товара и его масс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состав, а при необходимости и химический состав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дата изготовления и срок годности или реализа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обозначение стандарта или ТУ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- предупреждения об опасности и рекомендации по применению; - - наличие спецдобавок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248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изводство продуктов 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8520" y="2492280"/>
            <a:ext cx="46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вышение интенсивности производст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735280" cy="182268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492360" y="3141720"/>
            <a:ext cx="2305080" cy="172872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924520" y="3376440"/>
            <a:ext cx="321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нижение качеств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одуктов. Использ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енее качественного сырь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2664000" cy="165096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987640" y="5013360"/>
            <a:ext cx="2822760" cy="168732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208200" y="4960800"/>
            <a:ext cx="286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именение добавок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улучшающих вку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одукта и маскирующих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лохое сырьё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тегории качества продуктов пит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6248" t="47827" r="7989" b="17704"/>
          <a:stretch/>
        </p:blipFill>
        <p:spPr>
          <a:xfrm>
            <a:off x="755640" y="2349360"/>
            <a:ext cx="3529080" cy="338472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4572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234936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ОВАРЫ ПЕРВОЙ КАТЕГОР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оличество и типы спецдобавок строго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егламентирова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4720" y="3284640"/>
            <a:ext cx="470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ачество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оваров второй категори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контролируется менее строго. Они производятся с учётом требований страны-импортера. Так, например наличие знака РСТ означает соответствие российскому стандарту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88320" y="5300640"/>
            <a:ext cx="450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ТОВАРЫ ТРЕТЬЕЙ КАТЕГОРИИ н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аспространяются многие ограниче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себестоимость их гораздо ниже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 производство выгодне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58560" y="34560"/>
            <a:ext cx="8750880" cy="4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аблица вредных пищевых добавок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620640"/>
          <a:ext cx="8640720" cy="6189840"/>
        </p:xfrm>
        <a:graphic>
          <a:graphicData uri="http://schemas.openxmlformats.org/drawingml/2006/table">
            <a:tbl>
              <a:tblPr/>
              <a:tblGrid>
                <a:gridCol w="1046160"/>
                <a:gridCol w="1225800"/>
                <a:gridCol w="1046160"/>
                <a:gridCol w="1226880"/>
                <a:gridCol w="1046160"/>
                <a:gridCol w="1225800"/>
                <a:gridCol w="1046160"/>
                <a:gridCol w="7776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Текст на упаковк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оздейств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Текст на упаковк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оздейств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Текст на упаковк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оздейств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Текст на упаковк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оздейств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С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С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13 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П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20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5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5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П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3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559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О, 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5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05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З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51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П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40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П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П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42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34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151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В, 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2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4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Е 6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Arial Unicode MS"/>
                        </a:rPr>
                        <a:t>РК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2160720" cy="216036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27640" y="2421000"/>
            <a:ext cx="2303280" cy="230328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843280" y="4437000"/>
            <a:ext cx="1800000" cy="215892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084720" y="4581360"/>
            <a:ext cx="2881440" cy="193068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08:04:57Z</dcterms:created>
  <dc:creator>Admin</dc:creator>
  <dc:description/>
  <dc:language>en-US</dc:language>
  <cp:lastModifiedBy>Admin</cp:lastModifiedBy>
  <dcterms:modified xsi:type="dcterms:W3CDTF">2012-11-21T17:46:15Z</dcterms:modified>
  <cp:revision>3</cp:revision>
  <dc:subject/>
  <dc:title>Тема урока-практикума: </dc:title>
</cp:coreProperties>
</file>