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654-5F6E-4FD7-B916-D453C0EA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25D-941C-4B8A-A19A-E67D391E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B75-FBE2-41F5-A29B-5A2FD1CB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5DFB-563F-4410-AD1B-8BF5C1DF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043-D2E6-47AC-AC10-CF35282D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0C7-3283-4945-9C83-62404F99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B31-B808-49B9-9649-72D8CBA8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937A-D0D7-469C-A78E-5B57C020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4DF3-A4E9-4AA6-BAD9-7A6CD87E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0E6-1B1C-425F-A34C-3012CF93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6A2-666D-47ED-BDCF-E6DBB3CC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65F-9140-4097-861A-80B08C8C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8B8F-D649-45AD-8388-F870099BA5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имся решать задач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 клас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ргал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заботливых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разностное с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вазе 6 яблок и 4 груши. На сколько яблок больше, чем груш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6 – 4 = 2 (на 2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.)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: яблок больше, чем груш на 2.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м. формула 5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743280" y="2819520"/>
            <a:ext cx="2352600" cy="19335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7" descr=""/>
          <p:cNvPicPr/>
          <p:nvPr/>
        </p:nvPicPr>
        <p:blipFill>
          <a:blip r:embed="rId2"/>
          <a:stretch/>
        </p:blipFill>
        <p:spPr>
          <a:xfrm>
            <a:off x="4383000" y="4432320"/>
            <a:ext cx="1011240" cy="52380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8" descr=""/>
          <p:cNvPicPr/>
          <p:nvPr/>
        </p:nvPicPr>
        <p:blipFill>
          <a:blip r:embed="rId3"/>
          <a:stretch/>
        </p:blipFill>
        <p:spPr>
          <a:xfrm>
            <a:off x="3962520" y="2755800"/>
            <a:ext cx="950760" cy="52380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9" descr=""/>
          <p:cNvPicPr/>
          <p:nvPr/>
        </p:nvPicPr>
        <p:blipFill>
          <a:blip r:embed="rId4"/>
          <a:stretch/>
        </p:blipFill>
        <p:spPr>
          <a:xfrm>
            <a:off x="5310360" y="3286080"/>
            <a:ext cx="4078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2020320" y="2967120"/>
            <a:ext cx="534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Arial"/>
              </a:rPr>
              <a:t>Желаю успех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ем с памятк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2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371000" cy="463860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7" descr=""/>
          <p:cNvPicPr/>
          <p:nvPr/>
        </p:nvPicPr>
        <p:blipFill>
          <a:blip r:embed="rId2"/>
          <a:stretch/>
        </p:blipFill>
        <p:spPr>
          <a:xfrm>
            <a:off x="7967520" y="2567160"/>
            <a:ext cx="689040" cy="5000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8" descr=""/>
          <p:cNvPicPr/>
          <p:nvPr/>
        </p:nvPicPr>
        <p:blipFill>
          <a:blip r:embed="rId3"/>
          <a:stretch/>
        </p:blipFill>
        <p:spPr>
          <a:xfrm>
            <a:off x="7948440" y="2951280"/>
            <a:ext cx="689040" cy="4935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49" descr=""/>
          <p:cNvPicPr/>
          <p:nvPr/>
        </p:nvPicPr>
        <p:blipFill>
          <a:blip r:embed="rId4"/>
          <a:stretch/>
        </p:blipFill>
        <p:spPr>
          <a:xfrm>
            <a:off x="7937640" y="4370400"/>
            <a:ext cx="688680" cy="50004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0" descr=""/>
          <p:cNvPicPr/>
          <p:nvPr/>
        </p:nvPicPr>
        <p:blipFill>
          <a:blip r:embed="rId5"/>
          <a:stretch/>
        </p:blipFill>
        <p:spPr>
          <a:xfrm>
            <a:off x="7948440" y="4780080"/>
            <a:ext cx="689040" cy="4935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51" descr=""/>
          <p:cNvPicPr/>
          <p:nvPr/>
        </p:nvPicPr>
        <p:blipFill>
          <a:blip r:embed="rId6"/>
          <a:stretch/>
        </p:blipFill>
        <p:spPr>
          <a:xfrm>
            <a:off x="7948440" y="5157720"/>
            <a:ext cx="689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мятке указаны типы задач и представлены чертежи, схемы и формулы для их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второй группы носят общее название «задачи на разностное сранение». Числа в этих задачах связаны между собой особой зависимостью –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разнице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отсюда и назва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ее вы можете познакомиться непосред-ственно с задачами – с текстом, оформлением решения, а также увидеть подсказку для определённого типа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ем с памятк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Задачи на целое и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вазе 6 груш и 4 яблока. Сколько фруктов в ваз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6 + 4 = 10 (ф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: в вазе 10 фру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м. формул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2514600" cy="161136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7" descr=""/>
          <p:cNvPicPr/>
          <p:nvPr/>
        </p:nvPicPr>
        <p:blipFill>
          <a:blip r:embed="rId2"/>
          <a:stretch/>
        </p:blipFill>
        <p:spPr>
          <a:xfrm>
            <a:off x="3584520" y="3803760"/>
            <a:ext cx="951120" cy="52380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8" descr=""/>
          <p:cNvPicPr/>
          <p:nvPr/>
        </p:nvPicPr>
        <p:blipFill>
          <a:blip r:embed="rId3"/>
          <a:stretch/>
        </p:blipFill>
        <p:spPr>
          <a:xfrm>
            <a:off x="4687920" y="3822840"/>
            <a:ext cx="1011240" cy="52380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9" descr=""/>
          <p:cNvPicPr/>
          <p:nvPr/>
        </p:nvPicPr>
        <p:blipFill>
          <a:blip r:embed="rId4"/>
          <a:stretch/>
        </p:blipFill>
        <p:spPr>
          <a:xfrm>
            <a:off x="3889440" y="2670120"/>
            <a:ext cx="113328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Задачи на целое и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вазе 10 фруктов. Из них - 6 груш, а остальные -  яблоки. Сколько яблок в вазе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0 – 6 = 4 (я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: в вазе 4 ябл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м. формул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3124080" y="2960640"/>
            <a:ext cx="2514600" cy="16113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2"/>
          <a:stretch/>
        </p:blipFill>
        <p:spPr>
          <a:xfrm>
            <a:off x="3889440" y="2828880"/>
            <a:ext cx="1315800" cy="5238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5" descr=""/>
          <p:cNvPicPr/>
          <p:nvPr/>
        </p:nvPicPr>
        <p:blipFill>
          <a:blip r:embed="rId3"/>
          <a:stretch/>
        </p:blipFill>
        <p:spPr>
          <a:xfrm>
            <a:off x="3505320" y="3895560"/>
            <a:ext cx="950760" cy="5241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6" descr=""/>
          <p:cNvPicPr/>
          <p:nvPr/>
        </p:nvPicPr>
        <p:blipFill>
          <a:blip r:embed="rId4"/>
          <a:stretch/>
        </p:blipFill>
        <p:spPr>
          <a:xfrm>
            <a:off x="4651200" y="3895560"/>
            <a:ext cx="103032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вазе 4 груши, а яблок на 2 больше. Сколько яблок в вазе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4 + 2 = 6 (яб.)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: в вазе 6 ябл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м. формула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Задач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разностное с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581280" y="2666880"/>
            <a:ext cx="2352960" cy="193356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2"/>
          <a:stretch/>
        </p:blipFill>
        <p:spPr>
          <a:xfrm>
            <a:off x="3736800" y="2603520"/>
            <a:ext cx="951120" cy="52380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6" descr=""/>
          <p:cNvPicPr/>
          <p:nvPr/>
        </p:nvPicPr>
        <p:blipFill>
          <a:blip r:embed="rId3"/>
          <a:stretch/>
        </p:blipFill>
        <p:spPr>
          <a:xfrm>
            <a:off x="4267080" y="4194000"/>
            <a:ext cx="1036800" cy="51768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7" descr=""/>
          <p:cNvPicPr/>
          <p:nvPr/>
        </p:nvPicPr>
        <p:blipFill>
          <a:blip r:embed="rId4"/>
          <a:stretch/>
        </p:blipFill>
        <p:spPr>
          <a:xfrm>
            <a:off x="5108400" y="3127320"/>
            <a:ext cx="48132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вазе 4 груши. Их на 2 меньше, чем яблок. Сколько яблок в вазе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4 + 2 = 6 (яб.)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: в вазе 6 ябл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м. формула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Задач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разностное с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3581280" y="2666880"/>
            <a:ext cx="2352960" cy="193356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5" descr=""/>
          <p:cNvPicPr/>
          <p:nvPr/>
        </p:nvPicPr>
        <p:blipFill>
          <a:blip r:embed="rId2"/>
          <a:stretch/>
        </p:blipFill>
        <p:spPr>
          <a:xfrm>
            <a:off x="3736800" y="2603520"/>
            <a:ext cx="951120" cy="5238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6" descr=""/>
          <p:cNvPicPr/>
          <p:nvPr/>
        </p:nvPicPr>
        <p:blipFill>
          <a:blip r:embed="rId3"/>
          <a:stretch/>
        </p:blipFill>
        <p:spPr>
          <a:xfrm>
            <a:off x="4267080" y="4194000"/>
            <a:ext cx="1036800" cy="5176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7" descr=""/>
          <p:cNvPicPr/>
          <p:nvPr/>
        </p:nvPicPr>
        <p:blipFill>
          <a:blip r:embed="rId4"/>
          <a:stretch/>
        </p:blipFill>
        <p:spPr>
          <a:xfrm>
            <a:off x="5108400" y="3127320"/>
            <a:ext cx="48132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вазе 6 яблок, а груш на 2 меньше. Сколько груш в ваз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6 – 2 = 4 (гр.)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: в вазе 4 гр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м. формула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Задач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разностное с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743280" y="2666880"/>
            <a:ext cx="2352600" cy="19335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6" descr=""/>
          <p:cNvPicPr/>
          <p:nvPr/>
        </p:nvPicPr>
        <p:blipFill>
          <a:blip r:embed="rId2"/>
          <a:stretch/>
        </p:blipFill>
        <p:spPr>
          <a:xfrm>
            <a:off x="4383000" y="4267080"/>
            <a:ext cx="1011240" cy="5241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7" descr=""/>
          <p:cNvPicPr/>
          <p:nvPr/>
        </p:nvPicPr>
        <p:blipFill>
          <a:blip r:embed="rId3"/>
          <a:stretch/>
        </p:blipFill>
        <p:spPr>
          <a:xfrm>
            <a:off x="4194000" y="2590920"/>
            <a:ext cx="968400" cy="5238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8" descr=""/>
          <p:cNvPicPr/>
          <p:nvPr/>
        </p:nvPicPr>
        <p:blipFill>
          <a:blip r:embed="rId4"/>
          <a:stretch/>
        </p:blipFill>
        <p:spPr>
          <a:xfrm>
            <a:off x="5310360" y="3127320"/>
            <a:ext cx="48708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вазе 6 яблок. Их на 2 больше, чем груш. Сколько груш в ваз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6 – 2 = 4 (гр.)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: в вазе 4 гр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м. формула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Задач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разностное с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743280" y="2666880"/>
            <a:ext cx="2352600" cy="193356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6" descr=""/>
          <p:cNvPicPr/>
          <p:nvPr/>
        </p:nvPicPr>
        <p:blipFill>
          <a:blip r:embed="rId2"/>
          <a:stretch/>
        </p:blipFill>
        <p:spPr>
          <a:xfrm>
            <a:off x="4383000" y="4267080"/>
            <a:ext cx="1011240" cy="52416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7" descr=""/>
          <p:cNvPicPr/>
          <p:nvPr/>
        </p:nvPicPr>
        <p:blipFill>
          <a:blip r:embed="rId3"/>
          <a:stretch/>
        </p:blipFill>
        <p:spPr>
          <a:xfrm>
            <a:off x="4194000" y="2590920"/>
            <a:ext cx="968400" cy="5238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8" descr=""/>
          <p:cNvPicPr/>
          <p:nvPr/>
        </p:nvPicPr>
        <p:blipFill>
          <a:blip r:embed="rId4"/>
          <a:stretch/>
        </p:blipFill>
        <p:spPr>
          <a:xfrm>
            <a:off x="5310360" y="3127320"/>
            <a:ext cx="48708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9-02-07T16:16:28Z</dcterms:modified>
  <cp:revision>13</cp:revision>
  <dc:subject/>
  <dc:title>Учимся решать задачи 1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