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5CC-F3A8-41CD-86F0-A1E2058F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734-9521-4377-925E-85163EA1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78D-3AF7-4DE6-AD8F-04163C74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839-E504-4F44-92ED-E2F60CB6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719-718C-449E-A4F5-12E0008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CC0-16FC-4965-96BA-9A70D20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FDA-3F55-4FAA-BC07-C3B33B0E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566-AC22-486B-AFB9-8F3E89EA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015-F2AB-49C5-8D7D-230B0DA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B96-5D74-4696-9574-36E40E2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818-0FCA-43B8-A8BC-7D45FBA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B4C-DF92-4106-9881-6DF405A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9B2A-358C-4002-A91B-063DFBD2C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мся решать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заботливы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 и 4 груши. На сколько яблок больше, чем груш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4 = 2 (на 2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яблок больше, чем груш на 2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743280" y="281952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383000" y="4432320"/>
            <a:ext cx="1011240" cy="523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3"/>
          <a:stretch/>
        </p:blipFill>
        <p:spPr>
          <a:xfrm>
            <a:off x="3962520" y="2755800"/>
            <a:ext cx="950760" cy="523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4"/>
          <a:stretch/>
        </p:blipFill>
        <p:spPr>
          <a:xfrm>
            <a:off x="5310360" y="3286080"/>
            <a:ext cx="4078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020320" y="2967120"/>
            <a:ext cx="534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Желаю успе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ем с памят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71000" cy="46386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7" descr=""/>
          <p:cNvPicPr/>
          <p:nvPr/>
        </p:nvPicPr>
        <p:blipFill>
          <a:blip r:embed="rId2"/>
          <a:stretch/>
        </p:blipFill>
        <p:spPr>
          <a:xfrm>
            <a:off x="7967520" y="2567160"/>
            <a:ext cx="68904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8" descr=""/>
          <p:cNvPicPr/>
          <p:nvPr/>
        </p:nvPicPr>
        <p:blipFill>
          <a:blip r:embed="rId3"/>
          <a:stretch/>
        </p:blipFill>
        <p:spPr>
          <a:xfrm>
            <a:off x="7948440" y="2951280"/>
            <a:ext cx="689040" cy="493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9" descr=""/>
          <p:cNvPicPr/>
          <p:nvPr/>
        </p:nvPicPr>
        <p:blipFill>
          <a:blip r:embed="rId4"/>
          <a:stretch/>
        </p:blipFill>
        <p:spPr>
          <a:xfrm>
            <a:off x="7937640" y="4370400"/>
            <a:ext cx="688680" cy="5000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0" descr=""/>
          <p:cNvPicPr/>
          <p:nvPr/>
        </p:nvPicPr>
        <p:blipFill>
          <a:blip r:embed="rId5"/>
          <a:stretch/>
        </p:blipFill>
        <p:spPr>
          <a:xfrm>
            <a:off x="7948440" y="4780080"/>
            <a:ext cx="689040" cy="493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1" descr=""/>
          <p:cNvPicPr/>
          <p:nvPr/>
        </p:nvPicPr>
        <p:blipFill>
          <a:blip r:embed="rId6"/>
          <a:stretch/>
        </p:blipFill>
        <p:spPr>
          <a:xfrm>
            <a:off x="7948440" y="5157720"/>
            <a:ext cx="6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мятке указаны типы задач и представлены чертежи, схемы и формулы для их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второй группы носят общее название «задачи на разностное сранение». Числа в этих задачах связаны между собой особой зависимостью –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знице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тсюда и наз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ы можете познакомиться непосред-ственно с задачами – с текстом, оформлением решения, а также увидеть подсказку для определённого типа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ем с памят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дачи на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груш и 4 яблока. Сколько фруктов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+ 4 = 10 (ф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10 фр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2"/>
          <a:stretch/>
        </p:blipFill>
        <p:spPr>
          <a:xfrm>
            <a:off x="3584520" y="380376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3"/>
          <a:stretch/>
        </p:blipFill>
        <p:spPr>
          <a:xfrm>
            <a:off x="4687920" y="3822840"/>
            <a:ext cx="101124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4"/>
          <a:stretch/>
        </p:blipFill>
        <p:spPr>
          <a:xfrm>
            <a:off x="3889440" y="2670120"/>
            <a:ext cx="11332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дачи на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10 фруктов. Из них - 6 груш, а остальные -  яблоки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 – 6 = 4 (я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я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124080" y="296064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3889440" y="2828880"/>
            <a:ext cx="1315800" cy="5238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3"/>
          <a:stretch/>
        </p:blipFill>
        <p:spPr>
          <a:xfrm>
            <a:off x="3505320" y="3895560"/>
            <a:ext cx="950760" cy="524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4"/>
          <a:stretch/>
        </p:blipFill>
        <p:spPr>
          <a:xfrm>
            <a:off x="4651200" y="3895560"/>
            <a:ext cx="10303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4 груши, а яблок на 2 больше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 + 2 = 6 (я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6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52960" cy="1933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3736800" y="260352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4267080" y="4194000"/>
            <a:ext cx="1036800" cy="5176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4"/>
          <a:stretch/>
        </p:blipFill>
        <p:spPr>
          <a:xfrm>
            <a:off x="5108400" y="3127320"/>
            <a:ext cx="481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4 груши. Их на 2 меньше, чем яблок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 + 2 = 6 (я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6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529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2"/>
          <a:stretch/>
        </p:blipFill>
        <p:spPr>
          <a:xfrm>
            <a:off x="3736800" y="260352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3"/>
          <a:stretch/>
        </p:blipFill>
        <p:spPr>
          <a:xfrm>
            <a:off x="4267080" y="4194000"/>
            <a:ext cx="1036800" cy="517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4"/>
          <a:stretch/>
        </p:blipFill>
        <p:spPr>
          <a:xfrm>
            <a:off x="5108400" y="3127320"/>
            <a:ext cx="481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, а груш на 2 меньше. Сколько груш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2 = 4 (гр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гр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743280" y="266688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4383000" y="4267080"/>
            <a:ext cx="1011240" cy="5241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3"/>
          <a:stretch/>
        </p:blipFill>
        <p:spPr>
          <a:xfrm>
            <a:off x="4194000" y="2590920"/>
            <a:ext cx="968400" cy="5238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8" descr=""/>
          <p:cNvPicPr/>
          <p:nvPr/>
        </p:nvPicPr>
        <p:blipFill>
          <a:blip r:embed="rId4"/>
          <a:stretch/>
        </p:blipFill>
        <p:spPr>
          <a:xfrm>
            <a:off x="5310360" y="3127320"/>
            <a:ext cx="487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. Их на 2 больше, чем груш. Сколько груш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2 = 4 (гр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гр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743280" y="266688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2"/>
          <a:stretch/>
        </p:blipFill>
        <p:spPr>
          <a:xfrm>
            <a:off x="4383000" y="4267080"/>
            <a:ext cx="1011240" cy="5241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3"/>
          <a:stretch/>
        </p:blipFill>
        <p:spPr>
          <a:xfrm>
            <a:off x="4194000" y="2590920"/>
            <a:ext cx="968400" cy="523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8" descr=""/>
          <p:cNvPicPr/>
          <p:nvPr/>
        </p:nvPicPr>
        <p:blipFill>
          <a:blip r:embed="rId4"/>
          <a:stretch/>
        </p:blipFill>
        <p:spPr>
          <a:xfrm>
            <a:off x="5310360" y="3127320"/>
            <a:ext cx="487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2-07T16:16:28Z</dcterms:modified>
  <cp:revision>13</cp:revision>
  <dc:subject/>
  <dc:title>Учимся решать задачи 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