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1.wmf" ContentType="image/x-wmf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4CF4-7A25-4772-9790-DB5945A25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9E34-2D5B-4599-918B-14606AC6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33DC-DE86-4977-B7DA-E766E10D2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4931-B7E4-4C0E-B7D5-9C5F0DF4B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273D-B21F-478E-8D27-ACD16584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F84D-3822-4B2D-B55F-72F97177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94BF-9BF9-4251-91A9-B6A258DB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68FF-8FA9-4814-BD64-7829BA92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3CC4-DB82-461E-B38A-B46CC399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018F-E1D8-46E8-A251-8970C52E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8145-C7AC-4FF1-BE31-54E77022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9EA1-3BF6-4146-93A1-982B0CD1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487C-D49C-4A6D-B200-0846317FBA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0.xml"/><Relationship Id="rId3" Type="http://schemas.openxmlformats.org/officeDocument/2006/relationships/slide" Target="slide4.xml"/><Relationship Id="rId4" Type="http://schemas.openxmlformats.org/officeDocument/2006/relationships/slide" Target="slide40.xml"/><Relationship Id="rId5" Type="http://schemas.openxmlformats.org/officeDocument/2006/relationships/slide" Target="slide13.xml"/><Relationship Id="rId6" Type="http://schemas.openxmlformats.org/officeDocument/2006/relationships/slide" Target="slide6.xml"/><Relationship Id="rId7" Type="http://schemas.openxmlformats.org/officeDocument/2006/relationships/slide" Target="slide34.xml"/><Relationship Id="rId8" Type="http://schemas.openxmlformats.org/officeDocument/2006/relationships/slide" Target="slide15.xml"/><Relationship Id="rId9" Type="http://schemas.openxmlformats.org/officeDocument/2006/relationships/slide" Target="slide22.xml"/><Relationship Id="rId10" Type="http://schemas.openxmlformats.org/officeDocument/2006/relationships/slide" Target="slide30.xml"/><Relationship Id="rId11" Type="http://schemas.openxmlformats.org/officeDocument/2006/relationships/slide" Target="slide42.xml"/><Relationship Id="rId12" Type="http://schemas.openxmlformats.org/officeDocument/2006/relationships/slide" Target="slide24.xml"/><Relationship Id="rId13" Type="http://schemas.openxmlformats.org/officeDocument/2006/relationships/slide" Target="slide8.xml"/><Relationship Id="rId14" Type="http://schemas.openxmlformats.org/officeDocument/2006/relationships/slide" Target="slide18.xml"/><Relationship Id="rId15" Type="http://schemas.openxmlformats.org/officeDocument/2006/relationships/slide" Target="slide26.xml"/><Relationship Id="rId16" Type="http://schemas.openxmlformats.org/officeDocument/2006/relationships/slide" Target="slide11.xm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1763640" y="1773360"/>
            <a:ext cx="6462720" cy="38718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4" descr="obz035i.bmp"/>
          <p:cNvPicPr/>
          <p:nvPr/>
        </p:nvPicPr>
        <p:blipFill>
          <a:blip r:embed="rId2"/>
          <a:stretch/>
        </p:blipFill>
        <p:spPr>
          <a:xfrm>
            <a:off x="1214280" y="1262160"/>
            <a:ext cx="1571760" cy="1836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3"/>
          <a:stretch/>
        </p:blipFill>
        <p:spPr>
          <a:xfrm>
            <a:off x="6715080" y="4143240"/>
            <a:ext cx="1881360" cy="1881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4"/>
          <a:stretch/>
        </p:blipFill>
        <p:spPr>
          <a:xfrm>
            <a:off x="468360" y="3860640"/>
            <a:ext cx="2071800" cy="2071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5"/>
          <a:stretch/>
        </p:blipFill>
        <p:spPr>
          <a:xfrm>
            <a:off x="0" y="0"/>
            <a:ext cx="857160" cy="6831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6"/>
          <a:stretch/>
        </p:blipFill>
        <p:spPr>
          <a:xfrm>
            <a:off x="8286840" y="0"/>
            <a:ext cx="8571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7"/>
          <a:stretch/>
        </p:blipFill>
        <p:spPr>
          <a:xfrm>
            <a:off x="857160" y="0"/>
            <a:ext cx="7429680" cy="932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8"/>
          <a:stretch/>
        </p:blipFill>
        <p:spPr>
          <a:xfrm>
            <a:off x="857160" y="5925960"/>
            <a:ext cx="7429680" cy="93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рамка ПДД1"/>
          <p:cNvPicPr/>
          <p:nvPr/>
        </p:nvPicPr>
        <p:blipFill>
          <a:blip r:embed="rId1"/>
          <a:stretch/>
        </p:blipFill>
        <p:spPr>
          <a:xfrm>
            <a:off x="0" y="0"/>
            <a:ext cx="9501120" cy="6996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785880" y="571680"/>
          <a:ext cx="7858080" cy="6141960"/>
        </p:xfrm>
        <a:graphic>
          <a:graphicData uri="http://schemas.openxmlformats.org/drawingml/2006/table">
            <a:tbl>
              <a:tblPr/>
              <a:tblGrid>
                <a:gridCol w="1428840"/>
                <a:gridCol w="1709640"/>
                <a:gridCol w="1512720"/>
                <a:gridCol w="1511280"/>
                <a:gridCol w="16956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e3f7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b5395"/>
                          </a:solidFill>
                          <a:latin typeface="Arial Black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e3f7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b5395"/>
                          </a:solidFill>
                          <a:latin typeface="Arial Black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e3f7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b5395"/>
                          </a:solidFill>
                          <a:latin typeface="Arial Black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e3f7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b5395"/>
                          </a:solidFill>
                          <a:latin typeface="Arial Black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e3f7fa"/>
                        </a:gs>
                      </a:gsLst>
                      <a:lin ang="5400000"/>
                    </a:gradFill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b5395"/>
                          </a:solidFill>
                          <a:latin typeface="Arial Black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e3f7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9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2" action="ppaction://hlinksldjump"/>
                        </a:rPr>
                        <a:t>П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e3f7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9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3" action="ppaction://hlinksldjump"/>
                        </a:rPr>
                        <a:t>А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e3f7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9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4" action="ppaction://hlinksldjump"/>
                        </a:rPr>
                        <a:t>О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e3f7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9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5" action="ppaction://hlinksldjump"/>
                        </a:rPr>
                        <a:t>Д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e3f7fa"/>
                        </a:gs>
                      </a:gsLst>
                      <a:lin ang="5400000"/>
                    </a:gradFill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b5395"/>
                          </a:solidFill>
                          <a:latin typeface="Arial Black"/>
                        </a:rPr>
                        <a:t>Б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e3f7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9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6" action="ppaction://hlinksldjump"/>
                        </a:rPr>
                        <a:t>А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e3f7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9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7" action="ppaction://hlinksldjump"/>
                        </a:rPr>
                        <a:t>В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e3f7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9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8" action="ppaction://hlinksldjump"/>
                        </a:rPr>
                        <a:t>Д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e3f7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9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9" action="ppaction://hlinksldjump"/>
                        </a:rPr>
                        <a:t>П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e3f7fa"/>
                        </a:gs>
                      </a:gsLst>
                      <a:lin ang="5400000"/>
                    </a:gradFill>
                  </a:tcPr>
                </a:tc>
              </a:tr>
              <a:tr h="83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b5395"/>
                          </a:solidFill>
                          <a:latin typeface="Arial Black"/>
                        </a:rPr>
                        <a:t>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e3f7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9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10" action="ppaction://hlinksldjump"/>
                        </a:rPr>
                        <a:t>В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e3f7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9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11" action="ppaction://hlinksldjump"/>
                        </a:rPr>
                        <a:t>О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e3f7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9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12" action="ppaction://hlinksldjump"/>
                        </a:rPr>
                        <a:t>П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e3f7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9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13" action="ppaction://hlinksldjump"/>
                        </a:rPr>
                        <a:t>А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e3f7fa"/>
                        </a:gs>
                      </a:gsLst>
                      <a:lin ang="5400000"/>
                    </a:gradFill>
                  </a:tcPr>
                </a:tc>
              </a:tr>
              <a:tr h="102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b5395"/>
                          </a:solidFill>
                          <a:latin typeface="Arial Black"/>
                        </a:rPr>
                        <a:t>Г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e3f7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9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14" action="ppaction://hlinksldjump"/>
                        </a:rPr>
                        <a:t>Д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e3f7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9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15" action="ppaction://hlinksldjump"/>
                        </a:rPr>
                        <a:t>П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e3f7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9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16" action="ppaction://hlinksldjump"/>
                        </a:rPr>
                        <a:t>А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e3f7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900" spc="-1" strike="noStrike">
                          <a:solidFill>
                            <a:srgbClr val="c00000"/>
                          </a:solidFill>
                          <a:latin typeface="Arial Black"/>
                        </a:rPr>
                        <a:t>В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e3f7fa"/>
                        </a:gs>
                      </a:gsLst>
                      <a:lin ang="5400000"/>
                    </a:gradFill>
                  </a:tcPr>
                </a:tc>
              </a:tr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b5395"/>
                          </a:solidFill>
                          <a:latin typeface="Arial Black"/>
                        </a:rPr>
                        <a:t>Д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e3f7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900" spc="-1" strike="noStrike">
                          <a:solidFill>
                            <a:srgbClr val="c00000"/>
                          </a:solidFill>
                          <a:latin typeface="Arial Black"/>
                        </a:rPr>
                        <a:t>О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e3f7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900" spc="-1" strike="noStrike">
                          <a:solidFill>
                            <a:srgbClr val="c00000"/>
                          </a:solidFill>
                          <a:latin typeface="Arial Black"/>
                        </a:rPr>
                        <a:t>Д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e3f7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900" spc="-1" strike="noStrike">
                          <a:solidFill>
                            <a:srgbClr val="c00000"/>
                          </a:solidFill>
                          <a:latin typeface="Arial Black"/>
                        </a:rPr>
                        <a:t>В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e3f7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900" spc="-1" strike="noStrike">
                          <a:solidFill>
                            <a:srgbClr val="c00000"/>
                          </a:solidFill>
                          <a:latin typeface="Arial Black"/>
                        </a:rPr>
                        <a:t>О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e3f7fa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1" descr=""/>
          <p:cNvPicPr/>
          <p:nvPr/>
        </p:nvPicPr>
        <p:blipFill>
          <a:blip r:embed="rId1"/>
          <a:stretch/>
        </p:blipFill>
        <p:spPr>
          <a:xfrm>
            <a:off x="109440" y="1494000"/>
            <a:ext cx="8925120" cy="42908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2" descr="obz036i.bmp"/>
          <p:cNvPicPr/>
          <p:nvPr/>
        </p:nvPicPr>
        <p:blipFill>
          <a:blip r:embed="rId2"/>
          <a:stretch/>
        </p:blipFill>
        <p:spPr>
          <a:xfrm>
            <a:off x="7500960" y="5072040"/>
            <a:ext cx="1413000" cy="1571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2071800" cy="2470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4"/>
          <a:stretch/>
        </p:blipFill>
        <p:spPr>
          <a:xfrm>
            <a:off x="6357960" y="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5"/>
          <a:stretch/>
        </p:blipFill>
        <p:spPr>
          <a:xfrm>
            <a:off x="7786800" y="571680"/>
            <a:ext cx="1595160" cy="1595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6"/>
          <a:stretch/>
        </p:blipFill>
        <p:spPr>
          <a:xfrm>
            <a:off x="214200" y="5286240"/>
            <a:ext cx="1498680" cy="14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6" descr="P1010004.JPG"/>
          <p:cNvPicPr/>
          <p:nvPr/>
        </p:nvPicPr>
        <p:blipFill>
          <a:blip r:embed="rId1"/>
          <a:stretch/>
        </p:blipFill>
        <p:spPr>
          <a:xfrm>
            <a:off x="5986440" y="3554280"/>
            <a:ext cx="2949480" cy="3035520"/>
          </a:xfrm>
          <a:prstGeom prst="rect">
            <a:avLst/>
          </a:prstGeom>
          <a:ln w="0">
            <a:noFill/>
          </a:ln>
        </p:spPr>
      </p:pic>
      <p:pic>
        <p:nvPicPr>
          <p:cNvPr id="58" name="Заголовок 1" descr=""/>
          <p:cNvPicPr/>
          <p:nvPr/>
        </p:nvPicPr>
        <p:blipFill>
          <a:blip r:embed="rId2"/>
          <a:stretch/>
        </p:blipFill>
        <p:spPr>
          <a:xfrm>
            <a:off x="1420920" y="334800"/>
            <a:ext cx="6887880" cy="11592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57160" y="1499760"/>
            <a:ext cx="4929120" cy="3786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 идём по мостовой,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равляемся домой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им: яркий знак висит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 чём – то нам гласит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ый фон, кирпич на нём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чаем и не ждём!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857160" cy="683100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7">
            <a:hlinkClick r:id="" action="ppaction://hlinkshowjump?jump=nextslide"/>
          </p:cNvPr>
          <p:cNvSpPr/>
          <p:nvPr/>
        </p:nvSpPr>
        <p:spPr>
          <a:xfrm>
            <a:off x="1258920" y="6143760"/>
            <a:ext cx="527040" cy="598320"/>
          </a:xfrm>
          <a:custGeom>
            <a:avLst/>
            <a:gdLst>
              <a:gd name="textAreaLeft" fmla="*/ 33840 w 527040"/>
              <a:gd name="textAreaRight" fmla="*/ 493200 w 527040"/>
              <a:gd name="textAreaTop" fmla="*/ 33840 h 598320"/>
              <a:gd name="textAreaBottom" fmla="*/ 564480 h 598320"/>
            </a:gdLst>
            <a:ahLst/>
            <a:rect l="textAreaLeft" t="textAreaTop" r="textAreaRight" b="textAreaBottom"/>
            <a:pathLst>
              <a:path w="21600" h="24519">
                <a:moveTo>
                  <a:pt x="0" y="0"/>
                </a:moveTo>
                <a:lnTo>
                  <a:pt x="21600" y="0"/>
                </a:lnTo>
                <a:lnTo>
                  <a:pt x="21600" y="24519"/>
                </a:lnTo>
                <a:lnTo>
                  <a:pt x="0" y="24519"/>
                </a:lnTo>
                <a:close/>
              </a:path>
              <a:path fill="lightenLess" w="21600" h="245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519">
                <a:moveTo>
                  <a:pt x="21600" y="0"/>
                </a:moveTo>
                <a:lnTo>
                  <a:pt x="21600" y="24519"/>
                </a:lnTo>
                <a:lnTo>
                  <a:pt x="20200" y="23119"/>
                </a:lnTo>
                <a:lnTo>
                  <a:pt x="20200" y="1400"/>
                </a:lnTo>
                <a:close/>
              </a:path>
              <a:path fill="darkenLess" w="21600" h="24519">
                <a:moveTo>
                  <a:pt x="21600" y="24519"/>
                </a:moveTo>
                <a:lnTo>
                  <a:pt x="0" y="24519"/>
                </a:lnTo>
                <a:lnTo>
                  <a:pt x="1400" y="23119"/>
                </a:lnTo>
                <a:lnTo>
                  <a:pt x="20200" y="23119"/>
                </a:lnTo>
                <a:close/>
              </a:path>
              <a:path fill="lighten" w="21600" h="24519">
                <a:moveTo>
                  <a:pt x="0" y="245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119"/>
                </a:lnTo>
                <a:close/>
              </a:path>
              <a:path fill="darken" w="21600" h="24519">
                <a:moveTo>
                  <a:pt x="3794" y="5253"/>
                </a:moveTo>
                <a:lnTo>
                  <a:pt x="17806" y="12260"/>
                </a:lnTo>
                <a:lnTo>
                  <a:pt x="3794" y="1926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c00000"/>
                </a:solidFill>
                <a:latin typeface="Arial"/>
              </a:rPr>
              <a:t>«Азбука дороги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71360" y="1600200"/>
            <a:ext cx="761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езд закрыт,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руппа Запрещающих знаков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3" descr="P1010004.JPG"/>
          <p:cNvPicPr/>
          <p:nvPr/>
        </p:nvPicPr>
        <p:blipFill>
          <a:blip r:embed="rId1"/>
          <a:stretch/>
        </p:blipFill>
        <p:spPr>
          <a:xfrm>
            <a:off x="3413160" y="3273480"/>
            <a:ext cx="2951280" cy="3030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857160" cy="683100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8"/>
          <p:cNvSpPr/>
          <p:nvPr/>
        </p:nvSpPr>
        <p:spPr>
          <a:xfrm>
            <a:off x="7786800" y="6072120"/>
            <a:ext cx="642960" cy="576360"/>
          </a:xfrm>
          <a:custGeom>
            <a:avLst/>
            <a:gdLst>
              <a:gd name="textAreaLeft" fmla="*/ 37080 w 642960"/>
              <a:gd name="textAreaRight" fmla="*/ 605880 w 6429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094" h="21600">
                <a:moveTo>
                  <a:pt x="0" y="0"/>
                </a:moveTo>
                <a:lnTo>
                  <a:pt x="24094" y="0"/>
                </a:lnTo>
                <a:lnTo>
                  <a:pt x="24094" y="21600"/>
                </a:lnTo>
                <a:lnTo>
                  <a:pt x="0" y="21600"/>
                </a:lnTo>
                <a:close/>
              </a:path>
              <a:path fill="lightenLess" w="24094" h="21600">
                <a:moveTo>
                  <a:pt x="0" y="0"/>
                </a:moveTo>
                <a:lnTo>
                  <a:pt x="24094" y="0"/>
                </a:lnTo>
                <a:lnTo>
                  <a:pt x="22694" y="1400"/>
                </a:lnTo>
                <a:lnTo>
                  <a:pt x="1400" y="1400"/>
                </a:lnTo>
                <a:close/>
              </a:path>
              <a:path fill="darken" w="24094" h="21600">
                <a:moveTo>
                  <a:pt x="24094" y="0"/>
                </a:moveTo>
                <a:lnTo>
                  <a:pt x="24094" y="21600"/>
                </a:lnTo>
                <a:lnTo>
                  <a:pt x="22694" y="20200"/>
                </a:lnTo>
                <a:lnTo>
                  <a:pt x="22694" y="1400"/>
                </a:lnTo>
                <a:close/>
              </a:path>
              <a:path fill="darkenLess" w="24094" h="21600">
                <a:moveTo>
                  <a:pt x="240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94" y="20200"/>
                </a:lnTo>
                <a:close/>
              </a:path>
              <a:path fill="lighten" w="240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94" h="21600">
                <a:moveTo>
                  <a:pt x="12047" y="3837"/>
                </a:moveTo>
                <a:lnTo>
                  <a:pt x="14623" y="6448"/>
                </a:lnTo>
                <a:lnTo>
                  <a:pt x="14623" y="4707"/>
                </a:lnTo>
                <a:lnTo>
                  <a:pt x="16399" y="4707"/>
                </a:lnTo>
                <a:lnTo>
                  <a:pt x="16399" y="8224"/>
                </a:lnTo>
                <a:lnTo>
                  <a:pt x="19010" y="10800"/>
                </a:lnTo>
                <a:lnTo>
                  <a:pt x="17356" y="10800"/>
                </a:lnTo>
                <a:lnTo>
                  <a:pt x="17356" y="17989"/>
                </a:lnTo>
                <a:lnTo>
                  <a:pt x="6738" y="17989"/>
                </a:lnTo>
                <a:lnTo>
                  <a:pt x="6738" y="10800"/>
                </a:lnTo>
                <a:lnTo>
                  <a:pt x="5084" y="10800"/>
                </a:lnTo>
                <a:close/>
              </a:path>
              <a:path fill="darkenLess" w="24094" h="21600">
                <a:moveTo>
                  <a:pt x="14623" y="6448"/>
                </a:moveTo>
                <a:lnTo>
                  <a:pt x="14623" y="4707"/>
                </a:lnTo>
                <a:lnTo>
                  <a:pt x="16399" y="4707"/>
                </a:lnTo>
                <a:lnTo>
                  <a:pt x="16399" y="8224"/>
                </a:lnTo>
                <a:close/>
              </a:path>
              <a:path fill="darkenLess" w="24094" h="21600">
                <a:moveTo>
                  <a:pt x="11125" y="14299"/>
                </a:moveTo>
                <a:lnTo>
                  <a:pt x="12970" y="14299"/>
                </a:lnTo>
                <a:lnTo>
                  <a:pt x="12970" y="17989"/>
                </a:lnTo>
                <a:lnTo>
                  <a:pt x="17356" y="17989"/>
                </a:lnTo>
                <a:lnTo>
                  <a:pt x="17356" y="10800"/>
                </a:lnTo>
                <a:lnTo>
                  <a:pt x="6738" y="10800"/>
                </a:lnTo>
                <a:lnTo>
                  <a:pt x="6738" y="17989"/>
                </a:lnTo>
                <a:lnTo>
                  <a:pt x="11125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71360" y="27432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c00000"/>
                </a:solidFill>
                <a:latin typeface="Arial"/>
              </a:rPr>
              <a:t>«Азбука дороги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857760" y="1856880"/>
            <a:ext cx="482904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чу спросить у вас, друзь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ибаться , вам, нельз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за знак представлен здес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, внутри велосипед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ду я правильный ответ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3" descr="P1010005.JPG"/>
          <p:cNvPicPr/>
          <p:nvPr/>
        </p:nvPicPr>
        <p:blipFill>
          <a:blip r:embed="rId1"/>
          <a:stretch/>
        </p:blipFill>
        <p:spPr>
          <a:xfrm>
            <a:off x="841320" y="2554200"/>
            <a:ext cx="3316320" cy="3413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857160" cy="683100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7">
            <a:hlinkClick r:id="" action="ppaction://hlinkshowjump?jump=nextslide"/>
          </p:cNvPr>
          <p:cNvSpPr/>
          <p:nvPr/>
        </p:nvSpPr>
        <p:spPr>
          <a:xfrm>
            <a:off x="8072280" y="6000840"/>
            <a:ext cx="714600" cy="631800"/>
          </a:xfrm>
          <a:custGeom>
            <a:avLst/>
            <a:gdLst>
              <a:gd name="textAreaLeft" fmla="*/ 40680 w 714600"/>
              <a:gd name="textAreaRight" fmla="*/ 673920 w 714600"/>
              <a:gd name="textAreaTop" fmla="*/ 40680 h 631800"/>
              <a:gd name="textAreaBottom" fmla="*/ 591120 h 631800"/>
            </a:gdLst>
            <a:ahLst/>
            <a:rect l="textAreaLeft" t="textAreaTop" r="textAreaRight" b="textAreaBottom"/>
            <a:pathLst>
              <a:path w="24429" h="21600">
                <a:moveTo>
                  <a:pt x="0" y="0"/>
                </a:moveTo>
                <a:lnTo>
                  <a:pt x="24429" y="0"/>
                </a:lnTo>
                <a:lnTo>
                  <a:pt x="24429" y="21600"/>
                </a:lnTo>
                <a:lnTo>
                  <a:pt x="0" y="21600"/>
                </a:lnTo>
                <a:close/>
              </a:path>
              <a:path fill="lightenLess" w="24429" h="21600">
                <a:moveTo>
                  <a:pt x="0" y="0"/>
                </a:moveTo>
                <a:lnTo>
                  <a:pt x="24429" y="0"/>
                </a:lnTo>
                <a:lnTo>
                  <a:pt x="23029" y="1400"/>
                </a:lnTo>
                <a:lnTo>
                  <a:pt x="1400" y="1400"/>
                </a:lnTo>
                <a:close/>
              </a:path>
              <a:path fill="darken" w="24429" h="21600">
                <a:moveTo>
                  <a:pt x="24429" y="0"/>
                </a:moveTo>
                <a:lnTo>
                  <a:pt x="24429" y="21600"/>
                </a:lnTo>
                <a:lnTo>
                  <a:pt x="23029" y="20200"/>
                </a:lnTo>
                <a:lnTo>
                  <a:pt x="23029" y="1400"/>
                </a:lnTo>
                <a:close/>
              </a:path>
              <a:path fill="darkenLess" w="24429" h="21600">
                <a:moveTo>
                  <a:pt x="244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29" y="20200"/>
                </a:lnTo>
                <a:close/>
              </a:path>
              <a:path fill="lighten" w="244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29" h="21600">
                <a:moveTo>
                  <a:pt x="5208" y="3794"/>
                </a:moveTo>
                <a:lnTo>
                  <a:pt x="19221" y="10800"/>
                </a:lnTo>
                <a:lnTo>
                  <a:pt x="52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c00000"/>
                </a:solidFill>
                <a:latin typeface="Arial"/>
              </a:rPr>
              <a:t>«Азбука дороги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856800" y="1600200"/>
            <a:ext cx="782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елосипедная дорожка,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руппа Предписывающих знаков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9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3" descr="P1010005.JPG"/>
          <p:cNvPicPr/>
          <p:nvPr/>
        </p:nvPicPr>
        <p:blipFill>
          <a:blip r:embed="rId1"/>
          <a:stretch/>
        </p:blipFill>
        <p:spPr>
          <a:xfrm>
            <a:off x="2840040" y="3200400"/>
            <a:ext cx="3384720" cy="3408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857160" cy="683100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7"/>
          <p:cNvSpPr/>
          <p:nvPr/>
        </p:nvSpPr>
        <p:spPr>
          <a:xfrm>
            <a:off x="8143920" y="6000840"/>
            <a:ext cx="714240" cy="64296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993" h="21600">
                <a:moveTo>
                  <a:pt x="0" y="0"/>
                </a:moveTo>
                <a:lnTo>
                  <a:pt x="23993" y="0"/>
                </a:lnTo>
                <a:lnTo>
                  <a:pt x="23993" y="21600"/>
                </a:lnTo>
                <a:lnTo>
                  <a:pt x="0" y="21600"/>
                </a:lnTo>
                <a:close/>
              </a:path>
              <a:path fill="lightenLess" w="23993" h="21600">
                <a:moveTo>
                  <a:pt x="0" y="0"/>
                </a:moveTo>
                <a:lnTo>
                  <a:pt x="23993" y="0"/>
                </a:lnTo>
                <a:lnTo>
                  <a:pt x="22593" y="1400"/>
                </a:lnTo>
                <a:lnTo>
                  <a:pt x="1400" y="1400"/>
                </a:lnTo>
                <a:close/>
              </a:path>
              <a:path fill="darken" w="23993" h="21600">
                <a:moveTo>
                  <a:pt x="23993" y="0"/>
                </a:moveTo>
                <a:lnTo>
                  <a:pt x="23993" y="21600"/>
                </a:lnTo>
                <a:lnTo>
                  <a:pt x="22593" y="20200"/>
                </a:lnTo>
                <a:lnTo>
                  <a:pt x="22593" y="1400"/>
                </a:lnTo>
                <a:close/>
              </a:path>
              <a:path fill="darkenLess" w="23993" h="21600">
                <a:moveTo>
                  <a:pt x="2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3" y="20200"/>
                </a:lnTo>
                <a:close/>
              </a:path>
              <a:path fill="lighten" w="2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3" h="21600">
                <a:moveTo>
                  <a:pt x="11997" y="3837"/>
                </a:moveTo>
                <a:lnTo>
                  <a:pt x="14573" y="6448"/>
                </a:lnTo>
                <a:lnTo>
                  <a:pt x="14573" y="4707"/>
                </a:lnTo>
                <a:lnTo>
                  <a:pt x="16348" y="4707"/>
                </a:lnTo>
                <a:lnTo>
                  <a:pt x="16348" y="8224"/>
                </a:lnTo>
                <a:lnTo>
                  <a:pt x="18960" y="10800"/>
                </a:lnTo>
                <a:lnTo>
                  <a:pt x="17306" y="10800"/>
                </a:lnTo>
                <a:lnTo>
                  <a:pt x="17306" y="17989"/>
                </a:lnTo>
                <a:lnTo>
                  <a:pt x="6687" y="17989"/>
                </a:lnTo>
                <a:lnTo>
                  <a:pt x="6687" y="10800"/>
                </a:lnTo>
                <a:lnTo>
                  <a:pt x="5034" y="10800"/>
                </a:lnTo>
                <a:close/>
              </a:path>
              <a:path fill="darkenLess" w="23993" h="21600">
                <a:moveTo>
                  <a:pt x="14573" y="6448"/>
                </a:moveTo>
                <a:lnTo>
                  <a:pt x="14573" y="4707"/>
                </a:lnTo>
                <a:lnTo>
                  <a:pt x="16348" y="4707"/>
                </a:lnTo>
                <a:lnTo>
                  <a:pt x="16348" y="8224"/>
                </a:lnTo>
                <a:close/>
              </a:path>
              <a:path fill="darkenLess" w="23993" h="21600">
                <a:moveTo>
                  <a:pt x="11074" y="14299"/>
                </a:moveTo>
                <a:lnTo>
                  <a:pt x="12919" y="14299"/>
                </a:lnTo>
                <a:lnTo>
                  <a:pt x="12919" y="17989"/>
                </a:lnTo>
                <a:lnTo>
                  <a:pt x="17306" y="17989"/>
                </a:lnTo>
                <a:lnTo>
                  <a:pt x="17306" y="10800"/>
                </a:lnTo>
                <a:lnTo>
                  <a:pt x="6687" y="10800"/>
                </a:lnTo>
                <a:lnTo>
                  <a:pt x="6687" y="17989"/>
                </a:lnTo>
                <a:lnTo>
                  <a:pt x="1107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c00000"/>
                </a:solidFill>
                <a:latin typeface="Arial"/>
              </a:rPr>
              <a:t>«Азбука дороги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42960" y="1666800"/>
            <a:ext cx="4572000" cy="41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 а это что за знак?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исован он вот так: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чайте дружно все,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ет землю человек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 поставлен не на век!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6" descr="P1010006.JPG"/>
          <p:cNvPicPr/>
          <p:nvPr/>
        </p:nvPicPr>
        <p:blipFill>
          <a:blip r:embed="rId1"/>
          <a:stretch/>
        </p:blipFill>
        <p:spPr>
          <a:xfrm>
            <a:off x="5126040" y="2840040"/>
            <a:ext cx="3780000" cy="3432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857160" cy="6831000"/>
          </a:xfrm>
          <a:prstGeom prst="rect">
            <a:avLst/>
          </a:prstGeom>
          <a:ln w="0">
            <a:noFill/>
          </a:ln>
        </p:spPr>
      </p:pic>
      <p:sp>
        <p:nvSpPr>
          <p:cNvPr id="81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1000080" y="600084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c00000"/>
                </a:solidFill>
                <a:latin typeface="Arial"/>
              </a:rPr>
              <a:t>«Азбука дороги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285920" y="160020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рожные работы,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руппа Предупреждающих знаков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3" descr="P1010006.JPG"/>
          <p:cNvPicPr/>
          <p:nvPr/>
        </p:nvPicPr>
        <p:blipFill>
          <a:blip r:embed="rId1"/>
          <a:stretch/>
        </p:blipFill>
        <p:spPr>
          <a:xfrm>
            <a:off x="3340080" y="3340080"/>
            <a:ext cx="3780000" cy="3432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857160" cy="6831000"/>
          </a:xfrm>
          <a:prstGeom prst="rect">
            <a:avLst/>
          </a:prstGeom>
          <a:ln w="0">
            <a:noFill/>
          </a:ln>
        </p:spPr>
      </p:pic>
      <p:sp>
        <p:nvSpPr>
          <p:cNvPr id="86" name="Управляющая кнопка: домой 5"/>
          <p:cNvSpPr/>
          <p:nvPr/>
        </p:nvSpPr>
        <p:spPr>
          <a:xfrm>
            <a:off x="8143920" y="6000840"/>
            <a:ext cx="642960" cy="68580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85800"/>
              <a:gd name="textAreaBottom" fmla="*/ 644400 h 685800"/>
            </a:gdLst>
            <a:ahLst/>
            <a:rect l="textAreaLeft" t="textAreaTop" r="textAreaRight" b="textAreaBottom"/>
            <a:pathLst>
              <a:path w="21600" h="23038">
                <a:moveTo>
                  <a:pt x="0" y="0"/>
                </a:moveTo>
                <a:lnTo>
                  <a:pt x="21600" y="0"/>
                </a:lnTo>
                <a:lnTo>
                  <a:pt x="21600" y="23038"/>
                </a:lnTo>
                <a:lnTo>
                  <a:pt x="0" y="23038"/>
                </a:lnTo>
                <a:close/>
              </a:path>
              <a:path fill="lightenLess" w="21600" h="230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8">
                <a:moveTo>
                  <a:pt x="21600" y="0"/>
                </a:moveTo>
                <a:lnTo>
                  <a:pt x="21600" y="23038"/>
                </a:lnTo>
                <a:lnTo>
                  <a:pt x="20200" y="21638"/>
                </a:lnTo>
                <a:lnTo>
                  <a:pt x="20200" y="1400"/>
                </a:lnTo>
                <a:close/>
              </a:path>
              <a:path fill="darkenLess" w="21600" h="23038">
                <a:moveTo>
                  <a:pt x="21600" y="23038"/>
                </a:moveTo>
                <a:lnTo>
                  <a:pt x="0" y="23038"/>
                </a:lnTo>
                <a:lnTo>
                  <a:pt x="1400" y="21638"/>
                </a:lnTo>
                <a:lnTo>
                  <a:pt x="20200" y="21638"/>
                </a:lnTo>
                <a:close/>
              </a:path>
              <a:path fill="lighten" w="21600" h="23038">
                <a:moveTo>
                  <a:pt x="0" y="230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8"/>
                </a:lnTo>
                <a:close/>
              </a:path>
              <a:path fill="darken" w="21600" h="23038">
                <a:moveTo>
                  <a:pt x="10800" y="4556"/>
                </a:moveTo>
                <a:lnTo>
                  <a:pt x="13376" y="7167"/>
                </a:lnTo>
                <a:lnTo>
                  <a:pt x="13376" y="5427"/>
                </a:lnTo>
                <a:lnTo>
                  <a:pt x="15152" y="5427"/>
                </a:lnTo>
                <a:lnTo>
                  <a:pt x="15152" y="8943"/>
                </a:lnTo>
                <a:lnTo>
                  <a:pt x="17763" y="11519"/>
                </a:lnTo>
                <a:lnTo>
                  <a:pt x="16109" y="11519"/>
                </a:lnTo>
                <a:lnTo>
                  <a:pt x="16109" y="18708"/>
                </a:lnTo>
                <a:lnTo>
                  <a:pt x="5491" y="18708"/>
                </a:lnTo>
                <a:lnTo>
                  <a:pt x="5491" y="11519"/>
                </a:lnTo>
                <a:lnTo>
                  <a:pt x="3837" y="11519"/>
                </a:lnTo>
                <a:close/>
              </a:path>
              <a:path fill="darkenLess" w="21600" h="23038">
                <a:moveTo>
                  <a:pt x="13376" y="7167"/>
                </a:moveTo>
                <a:lnTo>
                  <a:pt x="13376" y="5427"/>
                </a:lnTo>
                <a:lnTo>
                  <a:pt x="15152" y="5427"/>
                </a:lnTo>
                <a:lnTo>
                  <a:pt x="15152" y="8943"/>
                </a:lnTo>
                <a:close/>
              </a:path>
              <a:path fill="darkenLess" w="21600" h="23038">
                <a:moveTo>
                  <a:pt x="9877" y="15018"/>
                </a:moveTo>
                <a:lnTo>
                  <a:pt x="11723" y="15018"/>
                </a:lnTo>
                <a:lnTo>
                  <a:pt x="11723" y="18708"/>
                </a:lnTo>
                <a:lnTo>
                  <a:pt x="16109" y="18708"/>
                </a:lnTo>
                <a:lnTo>
                  <a:pt x="16109" y="11519"/>
                </a:lnTo>
                <a:lnTo>
                  <a:pt x="5491" y="11519"/>
                </a:lnTo>
                <a:lnTo>
                  <a:pt x="5491" y="18708"/>
                </a:lnTo>
                <a:lnTo>
                  <a:pt x="9877" y="18708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30T13:30:16Z</dcterms:created>
  <dc:creator>Админ</dc:creator>
  <dc:description/>
  <dc:language>en-US</dc:language>
  <cp:lastModifiedBy>пользователь Microsoft Office</cp:lastModifiedBy>
  <dcterms:modified xsi:type="dcterms:W3CDTF">2019-04-22T07:02:0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