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19.wmf" ContentType="image/x-wmf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E8B-16D5-4BA4-81F6-DA676D9B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164-EEB1-4B98-8987-F451C6E1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79B-E8AC-4ABF-B747-195EB6AC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C40-F7D4-4B14-BF63-5F5CA04C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4DBA-6D3F-417A-97F8-AF4E4105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80EA-5E7D-4832-9229-33FA7142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FCDB-F794-4CFA-A0FF-3E47C02E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47A3-D95C-48F4-90A4-EF947AAB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98FC-CDFD-4C21-B04F-84C51A8E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27640" y="47664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B1E7-743B-4DD9-9DE6-F359E916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15FB-DC76-4D53-B74B-ED10F053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063-DC0E-4522-8597-1BD4128A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51C-D069-481E-8B75-0D5C904D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6B83-A71C-499F-BACB-145281A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6CD5-155A-4B3A-8109-1A3120D5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97E9-55B3-47F5-AE3F-B7F94A3D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CDBD-C3A6-497D-BEFB-D7E9EBDF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EDC-2B1E-4DB2-95EE-E19365C7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2C6-DF8D-4ABC-9170-D555BACD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0BD-6998-4E9D-8E2D-7DC9DE09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7640" y="47664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3C0-C08E-45DE-8C32-E0D16083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659-D470-4A59-8BC8-98AF8B53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28A-C156-43E8-A617-5C6D753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E91-57B1-49B6-90F2-8C233EA8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826920" y="1125360"/>
            <a:ext cx="7391520" cy="103320"/>
            <a:chOff x="826920" y="1125360"/>
            <a:chExt cx="7391520" cy="103320"/>
          </a:xfrm>
        </p:grpSpPr>
        <p:sp>
          <p:nvSpPr>
            <p:cNvPr id="4" name="AutoShape 7"/>
            <p:cNvSpPr/>
            <p:nvPr/>
          </p:nvSpPr>
          <p:spPr>
            <a:xfrm>
              <a:off x="1207800" y="1125360"/>
              <a:ext cx="7010640" cy="1029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826920" y="1125360"/>
              <a:ext cx="393840" cy="103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2C16-4640-4D4F-AB4A-639CB0D11B7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4" descr="эмблема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667640" y="5013360"/>
            <a:ext cx="1203480" cy="1557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D2A0-9F98-48AE-999A-FF8FF5FD170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18800" y="953280"/>
            <a:ext cx="7563600" cy="160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Georgia"/>
              </a:rPr>
              <a:t>Формирование функционального базиса чтения</a:t>
            </a:r>
            <a:endParaRPr b="1" lang="en-US" sz="4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16000" y="2781360"/>
            <a:ext cx="4219560" cy="27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читель-логопед высшей квалификационной категории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КОУ ШР «СОШ № 5»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.Н. Постникова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читель-логопед высшей квалификационной категории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КОУ ШР «СОШ № 4»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.А. Малханова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</p:txBody>
      </p:sp>
      <p:pic>
        <p:nvPicPr>
          <p:cNvPr id="97" name="Picture 5" descr="эмблема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03280" y="3789360"/>
            <a:ext cx="18147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91640" y="440640"/>
            <a:ext cx="7851960" cy="5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Georgia"/>
              </a:rPr>
              <a:t>Виды работ</a:t>
            </a:r>
            <a:endParaRPr b="1" lang="en-US" sz="32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Georgia"/>
              </a:rPr>
              <a:t>Нарисовать обеими руками одновременно геометрические фигуры,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закрасить их точками, закрыв глаза;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заштриховать (штриховка вертикальная)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заштриховать (штриховка горизонтальная)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2268360" y="2708280"/>
            <a:ext cx="4103640" cy="576360"/>
            <a:chOff x="2268360" y="2708280"/>
            <a:chExt cx="4103640" cy="576360"/>
          </a:xfrm>
        </p:grpSpPr>
        <p:sp>
          <p:nvSpPr>
            <p:cNvPr id="120" name="Rectangle 5"/>
            <p:cNvSpPr/>
            <p:nvPr/>
          </p:nvSpPr>
          <p:spPr>
            <a:xfrm>
              <a:off x="2268360" y="2708280"/>
              <a:ext cx="1070280" cy="576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5301720" y="2708280"/>
              <a:ext cx="1070280" cy="576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2" name="Group 7"/>
          <p:cNvGrpSpPr/>
          <p:nvPr/>
        </p:nvGrpSpPr>
        <p:grpSpPr>
          <a:xfrm>
            <a:off x="2340000" y="3933720"/>
            <a:ext cx="3960360" cy="647640"/>
            <a:chOff x="2340000" y="3933720"/>
            <a:chExt cx="3960360" cy="647640"/>
          </a:xfrm>
        </p:grpSpPr>
        <p:sp>
          <p:nvSpPr>
            <p:cNvPr id="123" name="Rectangle 8"/>
            <p:cNvSpPr/>
            <p:nvPr/>
          </p:nvSpPr>
          <p:spPr>
            <a:xfrm>
              <a:off x="2340000" y="3933720"/>
              <a:ext cx="1032840" cy="647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5267520" y="3933720"/>
              <a:ext cx="1032840" cy="647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5" name="Group 10"/>
          <p:cNvGrpSpPr/>
          <p:nvPr/>
        </p:nvGrpSpPr>
        <p:grpSpPr>
          <a:xfrm>
            <a:off x="2340000" y="5373720"/>
            <a:ext cx="4032000" cy="576360"/>
            <a:chOff x="2340000" y="5373720"/>
            <a:chExt cx="4032000" cy="576360"/>
          </a:xfrm>
        </p:grpSpPr>
        <p:sp>
          <p:nvSpPr>
            <p:cNvPr id="126" name="Rectangle 11"/>
            <p:cNvSpPr/>
            <p:nvPr/>
          </p:nvSpPr>
          <p:spPr>
            <a:xfrm>
              <a:off x="2340000" y="5373720"/>
              <a:ext cx="1051560" cy="576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5320440" y="5373720"/>
              <a:ext cx="1051560" cy="576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99280" y="72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ыхательно – координационное  упражнение «Певец»</a:t>
            </a:r>
            <a:endParaRPr b="1" lang="en-US" sz="32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76360" y="1699920"/>
            <a:ext cx="61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убокий вдох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Руки медленно поднять через стороны вверх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ержка дыхания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на вдохе (2-3 сек)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дох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 открытым сильным звуком А-А-А. Руки медленно опустить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ерез стороны вниз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убокий вдох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Руки поднять через стороны до уровня плеч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ержка дыхания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(2-3 сек)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дох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  сильным звуком О-О-О, руками обнять плечи, голову опустить на грудь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убокий вдох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Руки поднять до уровня груди ладонями вперед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ержка дыхания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(2-3 сек)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дох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 сильным звуком У-У-У. Руки опустить вниз, голову – на грудь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31640" y="107280"/>
            <a:ext cx="8604720" cy="148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я для профилактики нарушения зрения, зрительной памяти, зрительного восприятия.</a:t>
            </a:r>
            <a:endParaRPr b="1" lang="en-US" sz="32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рисовать спираль слева направо и справа налево (15 сек.)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рисовать спираль  сверху вниз и снизу вверх (15 сек.)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рисовать геометрические фигуры по часовой стрелке и против часовой стрелки.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жмурить левый глаз, правым нарисовать 3 круга по часовой стрелке, 3 – против часовой стрелки, то же  другим глазом.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рисовать зигзаги слева направо и справа налево; сверху вниз и снизу вверх.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рисовать зигзаги: вертикальный и горизонтальный.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написать дату своего рождения.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бота с изографами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0532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е «Кольца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838080" y="2662200"/>
            <a:ext cx="7693200" cy="2685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Admin\Pictures\ControlCenter4\Scan\CCI20032019_0002.jpg"/>
          <p:cNvPicPr/>
          <p:nvPr/>
        </p:nvPicPr>
        <p:blipFill>
          <a:blip r:embed="rId2"/>
          <a:srcRect l="6747" t="17515" r="7490" b="7845"/>
          <a:stretch/>
        </p:blipFill>
        <p:spPr>
          <a:xfrm>
            <a:off x="2268360" y="1268280"/>
            <a:ext cx="440388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23680" y="257400"/>
            <a:ext cx="7787880" cy="94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е «Часики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700360" y="1258920"/>
            <a:ext cx="37591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0532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е «Найди пару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517840" y="2575080"/>
            <a:ext cx="43336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10000" y="45900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ИСК ЗАКОНОМЕРНОСТЕЙ</a:t>
            </a:r>
            <a:br>
              <a:rPr sz="3600"/>
            </a:br>
            <a:r>
              <a:rPr b="0" lang="ru-RU" sz="2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пиши в пустой квадратик номер подходящей фигуры</a:t>
            </a:r>
            <a:endParaRPr b="1" lang="en-US" sz="25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124000" y="1752480"/>
            <a:ext cx="43671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558880" y="1628640"/>
            <a:ext cx="42516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0532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е «Запомни и покажи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22240" y="2349360"/>
          <a:ext cx="7702560" cy="1541520"/>
        </p:xfrm>
        <a:graphic>
          <a:graphicData uri="http://schemas.openxmlformats.org/drawingml/2006/table">
            <a:tbl>
              <a:tblPr/>
              <a:tblGrid>
                <a:gridCol w="7713360"/>
              </a:tblGrid>
              <a:tr h="1541520">
                <a:tc>
                  <a:txBody>
                    <a:bodyPr lIns="3838680" rIns="383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600"/>
                      </a:b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3838680" marR="3838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954000" y="1916280"/>
            <a:ext cx="2970360" cy="332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4427640" y="1717560"/>
            <a:ext cx="2952720" cy="4438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5315040" y="302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01000" y="45036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е на расширение поля зрения «Лесенка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12960" y="1484280"/>
            <a:ext cx="65307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0532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туальность</a:t>
            </a:r>
            <a:endParaRPr b="1" lang="en-US" sz="44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1341360"/>
            <a:ext cx="7981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Число учащихся, имеющих нарушения чтения, увеличивается и составляет сейчас более 30% от числа детей с трудностями в обучении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Чтение из цели начального обучения превращается в средство дальнейшего получения знаний учащимися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етодические аспекты устранения дислексии  представлены значительно слабее, чем экспериментальные исследования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овая педагогическая ситуация, связанная с качественным изменением контингента детей, поступающих в школу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церализация – замедленный темп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изического и интеллектуального развития детей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0532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eorgia"/>
              </a:rPr>
              <a:t>             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 по схеме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50" name="Picture 4" descr="C:\Users\Admin\Pictures\ControlCenter4\Scan\CCI20032019_0003.jpg"/>
          <p:cNvPicPr/>
          <p:nvPr/>
        </p:nvPicPr>
        <p:blipFill>
          <a:blip r:embed="rId1"/>
          <a:srcRect l="0" t="9607" r="0" b="19044"/>
          <a:stretch/>
        </p:blipFill>
        <p:spPr>
          <a:xfrm>
            <a:off x="1533600" y="1197000"/>
            <a:ext cx="5414760" cy="287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Users\Admin\Pictures\ControlCenter4\Scan\CCI20032019_0004.jpg"/>
          <p:cNvPicPr/>
          <p:nvPr/>
        </p:nvPicPr>
        <p:blipFill>
          <a:blip r:embed="rId2"/>
          <a:srcRect l="3688" t="4478" r="6192" b="20648"/>
          <a:stretch/>
        </p:blipFill>
        <p:spPr>
          <a:xfrm>
            <a:off x="1746360" y="4019400"/>
            <a:ext cx="489744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, исправь ошибку.</a:t>
            </a:r>
            <a:br>
              <a:rPr sz="3200"/>
            </a:b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САМОЛЁТ УПРАВЛЯЕТ ПИЛОТОМ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ВОДУ ПОЛИВАЮТ ЛУКОМ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НОЖНИЦЫ РЕЖУТ БУМАГОЙ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НАЧИНКУ СДЕЛАЛИ С ПИРОГОМ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ПЛАТОК МАШЕТ ДЕВОЧКОЙ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РЫБА ДЫШИТ ЖАБРАМИ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76960" y="526320"/>
            <a:ext cx="782496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, исправь ошибки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38080" y="2662200"/>
            <a:ext cx="7693200" cy="2685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Admin\Pictures\ControlCenter4\Scan\CCI20032019.jpg"/>
          <p:cNvPicPr/>
          <p:nvPr/>
        </p:nvPicPr>
        <p:blipFill>
          <a:blip r:embed="rId2"/>
          <a:srcRect l="5027" t="11967" r="13220" b="27844"/>
          <a:stretch/>
        </p:blipFill>
        <p:spPr>
          <a:xfrm>
            <a:off x="2048040" y="1305000"/>
            <a:ext cx="52765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10000" y="387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eorgia"/>
              </a:rPr>
              <a:t>Прочитать предложения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а дворе апрель. 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года чудесная.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Ярче светит солнце. 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Журчат быстрые ручьи. 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коро лопнут почки на деревьях. 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900000" y="2023920"/>
            <a:ext cx="7632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224000" y="2673360"/>
            <a:ext cx="7632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116000" y="2492280"/>
            <a:ext cx="7632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187280" y="3645000"/>
            <a:ext cx="763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116000" y="3933720"/>
            <a:ext cx="7632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1042920" y="1916280"/>
            <a:ext cx="7632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1476360" y="4797360"/>
            <a:ext cx="6120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10000" y="45900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 слова слева направо,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тем справа налево.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31640" y="191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Georgia"/>
              </a:rPr>
              <a:t>ОНКО, АННАВ, ЛУТС, ЛАНЕП, АКСОД, АКЧУР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Georgia"/>
              </a:rPr>
              <a:t>КИНЕЧУ, АДОВ, АБЫР, АТРАП,РАШ, АКМУС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40240" y="84960"/>
            <a:ext cx="775476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 рассказ слева направо, затем справа налево.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Georgia"/>
              </a:rPr>
              <a:t>Ецнлос титевс ечря. Икйечур тачруж могурк. Генс теат. Трам липутсан.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Georgia"/>
              </a:rPr>
              <a:t>Агенс  зи  укрог  илаледс итед. Ансос тётсар амод огешан у. Игамуб зи икниженс тюалед атябер. Нофелет линовза зянем у. 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7360" y="486360"/>
            <a:ext cx="776052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 предложения. Читай буквы через одну, начиная с первой</a:t>
            </a:r>
            <a:br>
              <a:rPr sz="2800"/>
            </a:b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920" y="1628280"/>
            <a:ext cx="6626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Georgia"/>
              </a:rPr>
              <a:t>В  сландру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Georgia"/>
              </a:rPr>
              <a:t>Сровнля  брынлва  в  сландру.  В  сландру  сотронл  и  сокранмделйшква.  Сровнля  суежлка  нра  сокранмделйшкву.  Однра  сутраблза  рвинстобвлахтрь.  Нраброижслохвкадлна  сланд,  нрабд  сландрочм  слотленюцле.  Хвобрдоншвитй  продлзуфчриблосня  рвинскущнроцк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10000" y="45900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еркальное чтение.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«Чего на свете не бывает?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40072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91640" y="440640"/>
            <a:ext cx="7851960" cy="5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зультаты</a:t>
            </a:r>
            <a:r>
              <a:rPr b="1" lang="ru-RU" sz="3200" spc="-1" strike="noStrike">
                <a:solidFill>
                  <a:srgbClr val="006666"/>
                </a:solidFill>
                <a:latin typeface="Georgia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Georgi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539640" y="1341360"/>
          <a:ext cx="776304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1360"/>
                    <a:ext cx="776304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791640" y="440640"/>
            <a:ext cx="7851960" cy="5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зюме</a:t>
            </a:r>
            <a:endParaRPr b="1" lang="en-US" sz="4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ставленная система работы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могает формировать навык чтения.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авильно и осмысленно читающий ребёнок легко воспримет учебную нагрузку и максимально сохранит своё здоровье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05880" y="326880"/>
            <a:ext cx="81522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явления  нарушения чтения</a:t>
            </a:r>
            <a:endParaRPr b="1" lang="en-US" sz="4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удности в запоминании букв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удности в слогослиянии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скажённое чтение: пропуски, замены, перестановки, недочитывание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гадывающее чтение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дленный темп чтен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понимание прочитанного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моционально-отрицательное отношение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 чтению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1880" y="66600"/>
            <a:ext cx="779148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чины нарушений чтения</a:t>
            </a:r>
            <a:endParaRPr b="1" lang="en-US" sz="4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6932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пространственных представлений, пространственной ориентировки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зрительно-моторной координации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зрительного, фонетико-фонематического восприят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произвольного вниман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памяти (особенно слухоречевой)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сукцессивных функций (затруднения при воспроизведении последовательности в пространстве, во времени, в речи)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едный словарный запас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10000" y="314640"/>
            <a:ext cx="781524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ррекция навыков чтения</a:t>
            </a:r>
            <a:endParaRPr b="1" lang="en-US" sz="4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2987640" y="2060640"/>
            <a:ext cx="3168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99"/>
              </a:gs>
              <a:gs pos="50000">
                <a:srgbClr val="ffffff"/>
              </a:gs>
              <a:gs pos="100000">
                <a:srgbClr val="99cc99"/>
              </a:gs>
            </a:gsLst>
            <a:lin ang="189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ва блока рабо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971640" y="3500280"/>
            <a:ext cx="3240000" cy="13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99"/>
              </a:gs>
              <a:gs pos="50000">
                <a:srgbClr val="ffffff"/>
              </a:gs>
              <a:gs pos="100000">
                <a:srgbClr val="99cc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35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рмирован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ункциональног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азиса навыка чт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5076720" y="3500280"/>
            <a:ext cx="3382920" cy="13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99"/>
              </a:gs>
              <a:gs pos="50000">
                <a:srgbClr val="ffffff"/>
              </a:gs>
              <a:gs pos="100000">
                <a:srgbClr val="99cc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ррекция несовер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енного навыка чт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2627280" y="2997360"/>
            <a:ext cx="187344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4500720" y="2997360"/>
            <a:ext cx="201600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7360" y="486360"/>
            <a:ext cx="776052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ормирование функционального базиса навыка чтения, направлено  на коррекцию и развитие:</a:t>
            </a:r>
            <a:endParaRPr b="1" lang="en-US" sz="3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699920"/>
            <a:ext cx="7693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извольного внимания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странственного восприятия, пространственных представлений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рительного восприятия, зрительной памяти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ухового восприятия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нематического восприятия, фонематического анализа и синтеза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жполушарных связей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рительно-моторной координации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кцессивных способностей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ухоречевой памяти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4680" y="319680"/>
            <a:ext cx="780588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ррекция несовершенного навыка чтения формирует: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41708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ёткие глазодвигательные и речедвигательные операции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особность строгого побуквенного анализа слов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строе различение похожих по написанию слов и букв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особность схватывать целостные образы слов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гнозирование, опирающееся на зрительный образ слова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гнозирование, опирающееся на смысл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01000" y="45036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труктура занятий</a:t>
            </a:r>
            <a:br>
              <a:rPr sz="36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по Л.Н. Лисенковой)</a:t>
            </a:r>
            <a:endParaRPr b="1" lang="en-US" sz="28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1988640"/>
            <a:ext cx="7693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. момент. Игра «Цепочка слов»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витие мелкой моторики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ражнения на координацию рук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витие зрительно-моторной координации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витие пространственных представлений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изминутка. Упражнения для профилактики нарушения зрения 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ррекция навыка чтен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спроизведение последовательности слов в речи (слухоречевая память)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витие фонематического восприятия, фонематического анализа и синтеза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витие зрительного вниман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тог занят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3:46:54Z</dcterms:created>
  <dc:creator>User</dc:creator>
  <dc:description/>
  <dc:language>en-US</dc:language>
  <cp:lastModifiedBy>Admin</cp:lastModifiedBy>
  <dcterms:modified xsi:type="dcterms:W3CDTF">2019-03-20T09:09:34Z</dcterms:modified>
  <cp:revision>36</cp:revision>
  <dc:subject/>
  <dc:title>Развитие и коррекция навыка чтения</dc:title>
</cp:coreProperties>
</file>