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9.wmf" ContentType="image/x-wmf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5DC-0E07-4FFC-AD61-AE4E1A37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355-57F9-415B-A356-95A713A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1C5-6042-4889-82CC-483FB6B7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0EC-7A4C-47DE-9C9D-304434FE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5F4D-D09E-4454-8B98-E474049A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BA76-71BE-41B5-87E1-6931F8C6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1D0-90FE-49D7-B6DD-57C01B14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6BF8-9B61-4483-8D07-266FE89D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E4E6-F8CE-4E95-8E6D-4D2B8E11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27640" y="47664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B517-027B-4E11-A3DA-BCA7CCAB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481-674A-4F7A-BA27-441FAFA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879-FE29-40E9-820E-6157E327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6DA4-82C4-4456-8B71-A5F77FB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F0B8-AE74-485E-BCF4-D11B0B8D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56C6-AC7B-4A9C-B272-5FB1C9E6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8F4-C8E2-4B7A-A7BA-4265904B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7920-4839-49A8-A7C8-A8707C2D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CDC-5368-4D70-B112-FEBC85A7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A02-F03D-4DA6-A7E3-B63DC54F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7A8-0D5C-4042-BB29-9AC052F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27640" y="47664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281-2388-4464-B097-8289675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359-0123-4810-84C8-CC91BEE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338-85C0-4428-9486-F1AF21C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110C-6788-4562-A8F2-42F824C3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826920" y="1125360"/>
            <a:ext cx="7391520" cy="103320"/>
            <a:chOff x="826920" y="1125360"/>
            <a:chExt cx="7391520" cy="103320"/>
          </a:xfrm>
        </p:grpSpPr>
        <p:sp>
          <p:nvSpPr>
            <p:cNvPr id="4" name="AutoShape 7"/>
            <p:cNvSpPr/>
            <p:nvPr/>
          </p:nvSpPr>
          <p:spPr>
            <a:xfrm>
              <a:off x="1207800" y="1125360"/>
              <a:ext cx="7010640" cy="1029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826920" y="1125360"/>
              <a:ext cx="393840" cy="103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BFA-6C57-4D98-A763-6F0DFF4ED6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14" descr="эмблема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667640" y="5013360"/>
            <a:ext cx="1203480" cy="1557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FD9-1FB8-44F7-98B5-553455B5B77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18800" y="953280"/>
            <a:ext cx="7563600" cy="16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Georgia"/>
              </a:rPr>
              <a:t>Формирование функционального базиса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16000" y="2781360"/>
            <a:ext cx="4219560" cy="27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КОУ ШР «СОШ № 5»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.Н. Постникова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читель-логопед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КОУ ШР «СОШ № 4»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.А. Малханова</a:t>
            </a: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Georgia"/>
            </a:endParaRPr>
          </a:p>
        </p:txBody>
      </p:sp>
      <p:pic>
        <p:nvPicPr>
          <p:cNvPr id="97" name="Picture 5" descr="эмблема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03280" y="3789360"/>
            <a:ext cx="1814760" cy="273672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Georgia"/>
              </a:rPr>
              <a:t>Виды работ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Нарисовать обеими руками одновременно геометрические фигуры,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красить их точками, закрыв глаза;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штриховать (штриховка вертикальная)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заштриховать (штриховка горизонтальная)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2268360" y="2708280"/>
            <a:ext cx="4103640" cy="576360"/>
            <a:chOff x="2268360" y="2708280"/>
            <a:chExt cx="4103640" cy="576360"/>
          </a:xfrm>
        </p:grpSpPr>
        <p:sp>
          <p:nvSpPr>
            <p:cNvPr id="120" name="Rectangle 5"/>
            <p:cNvSpPr/>
            <p:nvPr/>
          </p:nvSpPr>
          <p:spPr>
            <a:xfrm>
              <a:off x="2268360" y="2708280"/>
              <a:ext cx="1070280" cy="576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5301720" y="2708280"/>
              <a:ext cx="1070280" cy="576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2" name="Group 7"/>
          <p:cNvGrpSpPr/>
          <p:nvPr/>
        </p:nvGrpSpPr>
        <p:grpSpPr>
          <a:xfrm>
            <a:off x="2340000" y="3933720"/>
            <a:ext cx="3960360" cy="647640"/>
            <a:chOff x="2340000" y="3933720"/>
            <a:chExt cx="3960360" cy="647640"/>
          </a:xfrm>
        </p:grpSpPr>
        <p:sp>
          <p:nvSpPr>
            <p:cNvPr id="123" name="Rectangle 8"/>
            <p:cNvSpPr/>
            <p:nvPr/>
          </p:nvSpPr>
          <p:spPr>
            <a:xfrm>
              <a:off x="2340000" y="3933720"/>
              <a:ext cx="1032840" cy="647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5267520" y="3933720"/>
              <a:ext cx="1032840" cy="64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5" name="Group 10"/>
          <p:cNvGrpSpPr/>
          <p:nvPr/>
        </p:nvGrpSpPr>
        <p:grpSpPr>
          <a:xfrm>
            <a:off x="2340000" y="5373720"/>
            <a:ext cx="4032000" cy="576360"/>
            <a:chOff x="2340000" y="5373720"/>
            <a:chExt cx="4032000" cy="576360"/>
          </a:xfrm>
        </p:grpSpPr>
        <p:sp>
          <p:nvSpPr>
            <p:cNvPr id="126" name="Rectangle 11"/>
            <p:cNvSpPr/>
            <p:nvPr/>
          </p:nvSpPr>
          <p:spPr>
            <a:xfrm>
              <a:off x="2340000" y="5373720"/>
              <a:ext cx="1051560" cy="576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5320440" y="5373720"/>
              <a:ext cx="1051560" cy="576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99280" y="72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ыхательно – координационное  упражнение «Певец»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76360" y="1699920"/>
            <a:ext cx="61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уки медленно поднять через стороны вверх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 вдохе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открытым сильным звуком А-А-А. Руки медленно опустить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рез стороны вниз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.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Руки поднять через стороны до уровня плеч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 сильным звуком О-О-О, руками обнять плечи, голову опустить на грудь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убокий в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Руки поднять до уровня груди ладонями вперед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ержка дыхания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(2-3 сек)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дох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с сильным звуком У-У-У. Руки опустить вниз, голову – на грудь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31640" y="107280"/>
            <a:ext cx="8604720" cy="148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я для профилактики нарушения зрения, зрительной памяти, зрительного восприятия.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спираль слева направо и справа налево (15 сек.)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спираль  сверху вниз и снизу вверх (15 сек.)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геометрические фигуры по часовой стрелке и против часовой стрелки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жмурить левый глаз, правым нарисовать 3 круга по часовой стрелке, 3 – против часовой стрелки, то же  другим глазом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зигзаги слева направо и справа налево; сверху вниз и снизу вверх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рисовать зигзаги: вертикальный и горизонтальный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зами написать дату своего рождения.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бота с изографами</a:t>
            </a: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Кольца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838080" y="2662200"/>
            <a:ext cx="7693200" cy="26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Users\Admin\Pictures\ControlCenter4\Scan\CCI20032019_0002.jpg"/>
          <p:cNvPicPr/>
          <p:nvPr/>
        </p:nvPicPr>
        <p:blipFill>
          <a:blip r:embed="rId2"/>
          <a:srcRect l="6747" t="17515" r="7490" b="7845"/>
          <a:stretch/>
        </p:blipFill>
        <p:spPr>
          <a:xfrm>
            <a:off x="2268360" y="1268280"/>
            <a:ext cx="44038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3680" y="257400"/>
            <a:ext cx="7787880" cy="94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Часики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700360" y="1258920"/>
            <a:ext cx="37591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Найди пару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517840" y="2575080"/>
            <a:ext cx="433368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ИСК ЗАКОНОМЕРНОСТЕЙ</a:t>
            </a:r>
            <a:br>
              <a:rPr sz="3600"/>
            </a:br>
            <a:r>
              <a:rPr b="0" lang="ru-RU" sz="25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пиши в пустой квадратик номер подходящей фигуры</a:t>
            </a:r>
            <a:endParaRPr b="1" lang="en-US" sz="25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124000" y="1752480"/>
            <a:ext cx="43671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558880" y="1628640"/>
            <a:ext cx="4251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«Запомни и покажи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22240" y="2349360"/>
          <a:ext cx="7702560" cy="1541520"/>
        </p:xfrm>
        <a:graphic>
          <a:graphicData uri="http://schemas.openxmlformats.org/drawingml/2006/table">
            <a:tbl>
              <a:tblPr/>
              <a:tblGrid>
                <a:gridCol w="7713360"/>
              </a:tblGrid>
              <a:tr h="1541520">
                <a:tc>
                  <a:txBody>
                    <a:bodyPr lIns="3838680" rIns="383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endParaRPr b="0" lang="en-US" sz="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3838680" marR="383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954000" y="1916280"/>
            <a:ext cx="2970360" cy="332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4427640" y="1717560"/>
            <a:ext cx="2952720" cy="4438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5315040" y="302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0100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Упражнение на расширение поля зрения «Лесенка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12960" y="1484280"/>
            <a:ext cx="65307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4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9819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Число учащихся, имеющих нарушения чтения, увеличивается и составляет сейчас более 30% от числа детей с трудностями в обучении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Чтение из цели начального обучения превращается в средство дальнейшего получения знаний учащимися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тодические аспекты устранения дислексии  представлены значительно слабее, чем экспериментальные исследования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вая педагогическая ситуация, связанная с качественным изменением контингента детей, поступающих в школу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церализация – замедленный темп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изического и интеллектуального развития детей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0532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            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по схеме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50" name="Picture 4" descr="C:\Users\Admin\Pictures\ControlCenter4\Scan\CCI20032019_0003.jpg"/>
          <p:cNvPicPr/>
          <p:nvPr/>
        </p:nvPicPr>
        <p:blipFill>
          <a:blip r:embed="rId1"/>
          <a:srcRect l="0" t="9607" r="0" b="19044"/>
          <a:stretch/>
        </p:blipFill>
        <p:spPr>
          <a:xfrm>
            <a:off x="1533600" y="1197000"/>
            <a:ext cx="541476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Admin\Pictures\ControlCenter4\Scan\CCI20032019_0004.jpg"/>
          <p:cNvPicPr/>
          <p:nvPr/>
        </p:nvPicPr>
        <p:blipFill>
          <a:blip r:embed="rId2"/>
          <a:srcRect l="3688" t="4478" r="6192" b="20648"/>
          <a:stretch/>
        </p:blipFill>
        <p:spPr>
          <a:xfrm>
            <a:off x="1746360" y="4019400"/>
            <a:ext cx="489744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, исправь ошибку.</a:t>
            </a:r>
            <a:br>
              <a:rPr sz="3200"/>
            </a:b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САМОЛЁТ УПРАВЛЯЕТ ПИЛОТ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ВОДУ ПОЛИВАЮТ ЛУК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НОЖНИЦЫ РЕЖУТ БУМАГОЙ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НАЧИНКУ СДЕЛАЛИ С ПИРОГОМ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ПЛАТОК МАШЕТ ДЕВОЧКОЙ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Georgia"/>
              </a:rPr>
              <a:t>РЫБА ДЫШИТ ЖАБРАМИ.</a:t>
            </a: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76960" y="526320"/>
            <a:ext cx="782496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, исправь ошибки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38080" y="2662200"/>
            <a:ext cx="7693200" cy="2685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Admin\Pictures\ControlCenter4\Scan\CCI20032019.jpg"/>
          <p:cNvPicPr/>
          <p:nvPr/>
        </p:nvPicPr>
        <p:blipFill>
          <a:blip r:embed="rId2"/>
          <a:srcRect l="5027" t="11967" r="13220" b="27844"/>
          <a:stretch/>
        </p:blipFill>
        <p:spPr>
          <a:xfrm>
            <a:off x="2048040" y="1305000"/>
            <a:ext cx="52765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10000" y="387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Прочитать предложения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а дворе апрель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года чудесная.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Ярче светит солнце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Журчат быстрые ручьи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коро лопнут почки на деревьях. 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00000" y="2023920"/>
            <a:ext cx="7632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1224000" y="2673360"/>
            <a:ext cx="7632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116000" y="249228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187280" y="3645000"/>
            <a:ext cx="7632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116000" y="393372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1042920" y="1916280"/>
            <a:ext cx="763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476360" y="4797360"/>
            <a:ext cx="6120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слова слева направо,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атем справа налево.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3164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ОНКО, АННАВ, ЛУТС, ЛАНЕП, АКСОД, АКЧУР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Georgia"/>
              </a:rPr>
              <a:t>КИНЕЧУ, АДОВ, АБЫР, АТРАП,РАШ, АКМУС</a:t>
            </a:r>
            <a:endParaRPr b="0" lang="en-US" sz="4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40240" y="84960"/>
            <a:ext cx="775476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рассказ слева направо, затем справа налево.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Georgia"/>
              </a:rPr>
              <a:t>Ецнлос титевс ечря. Икйечур тачруж могурк. Генс теат. Трам липутсан.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Georgia"/>
              </a:rPr>
              <a:t>Агенс  зи  укрог  илаледс итед. Ансос тётсар амод огешан у. Игамуб зи икниженс тюалед атябер. Нофелет линовза зянем у.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7360" y="48636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читай предложения. Читай буквы через одну, начиная с первой</a:t>
            </a:r>
            <a:br>
              <a:rPr sz="2800"/>
            </a:b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920" y="1628280"/>
            <a:ext cx="6626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В  сландру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Georgia"/>
              </a:rPr>
              <a:t>Сровнля  брынлва  в  сландру.  В  сландру  сотронл  и  сокранмделйшква.  Сровнля  суежлка  нра  сокранмделйшкву.  Однра  сутраблза  рвинстобвлахтрь.  Нраброижслохвкадлна  сланд,  нрабд  сландрочм  слотленюцле.  Хвобрдоншвитй  продлзуфчриблосня  рвинскущнроцк.</a:t>
            </a: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10000" y="45900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еркальное чтение.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«Чего на свете не бывает?»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40072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ультаты</a:t>
            </a:r>
            <a:r>
              <a:rPr b="1" lang="ru-RU" sz="3200" spc="-1" strike="noStrike">
                <a:solidFill>
                  <a:srgbClr val="006666"/>
                </a:solidFill>
                <a:latin typeface="Georgia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Georgi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539640" y="1341360"/>
          <a:ext cx="7763040" cy="51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776304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791640" y="440640"/>
            <a:ext cx="7851960" cy="5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юме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ленная система работы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могает формировать навык чтения.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авильно и осмысленно читающий ребёнок легко воспримет учебную нагрузку и максимально сохранит своё здоровье</a:t>
            </a:r>
            <a:endParaRPr b="0" lang="en-US" sz="32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05880" y="326880"/>
            <a:ext cx="81522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явления  нарушения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удности в запоминании букв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удности в слогослиян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кажённое чтение: пропуски, замены, перестановки, недочитыва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адывающее чте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дленный темп чте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понимание прочитанного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эмоционально-отрицательное отношение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 чтению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1880" y="66600"/>
            <a:ext cx="779148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ичины нарушений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693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ространственных представлений, пространственной ориентировк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зрительно-моторной координац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зрительного, фонетико-фонематического восприят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роизвольного внима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памяти (особенно слухоречевой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рушение сукцессивных функций (затруднения при воспроизведении последовательности в пространстве, во времени, в речи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едный словарный запас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10000" y="314640"/>
            <a:ext cx="78152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ррекция навыков чтения</a:t>
            </a:r>
            <a:endParaRPr b="1" lang="en-US" sz="4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987640" y="2060640"/>
            <a:ext cx="3168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189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ва блока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971640" y="3500280"/>
            <a:ext cx="324000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35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рмирова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ункциональног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азиса навыка чт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5076720" y="3500280"/>
            <a:ext cx="3382920" cy="13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50000">
                <a:srgbClr val="ffffff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ррекция несовер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енного навыка чт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2627280" y="2997360"/>
            <a:ext cx="18734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4500720" y="2997360"/>
            <a:ext cx="201600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7360" y="486360"/>
            <a:ext cx="7760520" cy="113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ормирование функционального базиса навыка чтения, направлено  на коррекцию и развитие:</a:t>
            </a:r>
            <a:endParaRPr b="1" lang="en-US" sz="30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699920"/>
            <a:ext cx="7693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извольного внимания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странственного восприятия, пространственных представлени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рительного восприятия, зрительной памят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ухового восприятия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нематического восприятия, фонематического анализа и синтеза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жполушарных связе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рительно-моторной координаци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кцессивных способностей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ухоречевой памят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4680" y="319680"/>
            <a:ext cx="780588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ррекция несовершенного навыка чтения формирует:</a:t>
            </a:r>
            <a:endParaRPr b="1" lang="en-US" sz="36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41708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ёткие глазодвигательные и речедвигательные операции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особность строгого побуквенного анализа сло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ыстрое различение похожих по написанию слов и бук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особность схватывать целостные образы слов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нозирование, опирающееся на зрительный образ слова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нозирование, опирающееся на смысл</a:t>
            </a:r>
            <a:endParaRPr b="0" lang="en-US" sz="26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01000" y="45036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труктура занятий</a:t>
            </a:r>
            <a:br>
              <a:rPr sz="36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по Л.Н. Лисенковой)</a:t>
            </a:r>
            <a:endParaRPr b="1" lang="en-US" sz="2800" spc="-1" strike="noStrike">
              <a:solidFill>
                <a:srgbClr val="006666"/>
              </a:solidFill>
              <a:latin typeface="Georgi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1988640"/>
            <a:ext cx="76932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. момент. Игра «Цепочка слов»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мелкой моторик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ражнения на координацию рук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зрительно-моторной координации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пространственных представлений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минутка. Упражнения для профилактики нарушения зрения 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рекция навыка чте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спроизведение последовательности слов в речи (слухоречевая память)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фонематического восприятия, фонематического анализа и синтеза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витие зрительного вниман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тог занятия</a:t>
            </a:r>
            <a:endParaRPr b="0" lang="en-US" sz="2800" spc="-1" strike="noStrike">
              <a:solidFill>
                <a:srgbClr val="00336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6T03:46:54Z</dcterms:created>
  <dc:creator>User</dc:creator>
  <dc:description/>
  <dc:language>en-US</dc:language>
  <cp:lastModifiedBy>Admin</cp:lastModifiedBy>
  <dcterms:modified xsi:type="dcterms:W3CDTF">2019-03-20T09:09:34Z</dcterms:modified>
  <cp:revision>36</cp:revision>
  <dc:subject/>
  <dc:title>Развитие и коррекция навыка чтения</dc:title>
</cp:coreProperties>
</file>