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5A9-9FEA-4DF4-9D24-13B14FA3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137-7695-42BA-B995-7E3A58D7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D13-C46C-4AEE-B0AA-4D996B01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69A-0340-4086-AE0B-3F092648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DA88-31E4-4D14-ABE7-9D509F81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857E-2DDE-40EF-B578-8F282226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B896-690A-4A75-847C-BB4D342C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25BD-3FFF-42C9-B746-AB0E6CFE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D655-D7EE-4396-8608-C7B7D7C8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FDF7-46CE-4966-B208-B5639C62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CF79-0B8D-4348-906F-84165B12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BCD8-3FFA-46EA-B8BA-68762F49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557E-64D9-4EBF-A462-37D5AF41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0335-B3DB-4771-9560-16962E97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2029-338B-44FD-8478-9B84125E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01D2-E13D-433C-97EC-4B145D70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719B-E623-4D47-89F0-07938080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E8484-3DBF-43B5-A2FC-3214D91D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30D95-C7A2-4541-8AA9-5CE41B9D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B4AE3-2D28-45EB-84DA-96205F69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A4E73-F184-4F47-898B-6ADED28B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81C3A-9B42-4C19-AFBA-97787FDF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4F9-9E07-44CB-955D-9F3AB7A1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81826-734B-46CC-8144-D3F5929F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0D6DA-6DBF-4DEB-BC71-0B6ECF73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1CF64-2463-4CF1-9FF6-FFCF7248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AC8F8-3B7C-4BE9-984B-B6301ACE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8E514-F4D6-4D16-9AB1-100DAC12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D7CB8-DB52-43E0-8B42-4807EBE9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5B9E4-271A-4966-9843-B44D4B22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801A1-5C9F-448E-AAAC-1A00C4F8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20CF0-8D25-4742-80BB-0EA946AE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3AA30-089A-46D3-8988-2B338F5A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804-8FB8-4A79-AFB4-379BAC04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D717C-7055-4BFC-A1EF-469E40BF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B0F1C-5FEB-40A7-BA19-F5A3E069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54B97-AED2-4722-A9BC-FB36CAD5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216EF-51FD-4B50-A207-50F248CA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3805F-33E9-4EAD-9387-4EEBA440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2E49D-D71F-46E0-BAA3-1BE4F7B7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48BF5-49D2-459A-949D-82DF1C65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0D0B1-ADD6-45E9-888A-7AB4CC64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6C4B6-543F-4A3D-AFCA-92FA152F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7B4-661F-46E1-B388-6341A7E3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37A-4196-41C6-9FD6-0E2FB47C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B85-D614-485E-8E1C-0AECC1A9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958B-6FA1-4684-A001-41A68AA3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5520-C17F-4813-80C5-FF8CBF0E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5B12-DD4E-4C20-BB82-C933CE12B3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eeece1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55B3-C134-49A4-9607-86636329F813}" type="slidenum">
              <a:rPr b="1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5B12-59C7-463A-9032-E1F89FEBA2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eeece1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C52C-DA96-4059-9A73-FC289B0D45CA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57160" y="57168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для детей дошкольного и младшего школьного возраста</a:t>
            </a:r>
            <a:br>
              <a:rPr sz="1800"/>
            </a:br>
            <a:r>
              <a:rPr b="1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«Начальная школа – детский сад №4»</a:t>
            </a:r>
            <a:br>
              <a:rPr sz="1800"/>
            </a:b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65" name="Рисунок 2" descr=""/>
          <p:cNvPicPr/>
          <p:nvPr/>
        </p:nvPicPr>
        <p:blipFill>
          <a:blip r:embed="rId1"/>
          <a:srcRect l="0" t="0" r="0" b="28819"/>
          <a:stretch/>
        </p:blipFill>
        <p:spPr>
          <a:xfrm>
            <a:off x="500040" y="2000160"/>
            <a:ext cx="7929720" cy="4071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Users\4\Desktop\спорт\SAM_4540.JPG"/>
          <p:cNvPicPr/>
          <p:nvPr/>
        </p:nvPicPr>
        <p:blipFill>
          <a:blip r:embed="rId1"/>
          <a:stretch/>
        </p:blipFill>
        <p:spPr>
          <a:xfrm>
            <a:off x="357120" y="78588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2"/>
          <p:cNvSpPr/>
          <p:nvPr/>
        </p:nvSpPr>
        <p:spPr>
          <a:xfrm>
            <a:off x="3625920" y="42876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 с верёв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C:\Users\4\Desktop\спорт\SAM_4548.JPG"/>
          <p:cNvPicPr/>
          <p:nvPr/>
        </p:nvPicPr>
        <p:blipFill>
          <a:blip r:embed="rId2"/>
          <a:stretch/>
        </p:blipFill>
        <p:spPr>
          <a:xfrm>
            <a:off x="4572000" y="3643200"/>
            <a:ext cx="4214880" cy="2857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Users\4\Desktop\Фото по В.Р\спорт\SAM_4543.JPG"/>
          <p:cNvPicPr/>
          <p:nvPr/>
        </p:nvPicPr>
        <p:blipFill>
          <a:blip r:embed="rId3"/>
          <a:stretch/>
        </p:blipFill>
        <p:spPr>
          <a:xfrm>
            <a:off x="4572000" y="785880"/>
            <a:ext cx="4214880" cy="2786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4"/>
          <a:stretch/>
        </p:blipFill>
        <p:spPr>
          <a:xfrm>
            <a:off x="357120" y="3643200"/>
            <a:ext cx="371484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-285840" y="1429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14200" y="285840"/>
          <a:ext cx="8643960" cy="6410160"/>
        </p:xfrm>
        <a:graphic>
          <a:graphicData uri="http://schemas.openxmlformats.org/drawingml/2006/table">
            <a:tbl>
              <a:tblPr/>
              <a:tblGrid>
                <a:gridCol w="2791080"/>
                <a:gridCol w="3130560"/>
                <a:gridCol w="272232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5 мину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Задание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Десять прыжков через верёвк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команде учителя участники выполняют прыж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Зада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 « Прыжки в парах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ыжки выполняются сразу двумя ученикам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Задание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«Пробеги под верёвко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сигналу  игроки каждой команды начинают один за другим пробегать под верёвк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Зада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 « Карусел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ыжки выполняются под вращающейся верёвк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ыгать можно любым способом.   Игрок не должен допустить ошиб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оки выполняют одновременно прыжки. Не допустив ошиб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олняют упраж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тролируют правильность выполнения, исправляют ошиб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и должны  прыгать через  вращающеюся верёвку, при этом не допустить ошибк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pic>
        <p:nvPicPr>
          <p:cNvPr id="192" name="Picture 12" descr=""/>
          <p:cNvPicPr/>
          <p:nvPr/>
        </p:nvPicPr>
        <p:blipFill>
          <a:blip r:embed="rId1"/>
          <a:stretch/>
        </p:blipFill>
        <p:spPr>
          <a:xfrm>
            <a:off x="285840" y="1571760"/>
            <a:ext cx="2552760" cy="2101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C:\Users\4\Desktop\спорт\SAM_4611.JPG"/>
          <p:cNvPicPr/>
          <p:nvPr/>
        </p:nvPicPr>
        <p:blipFill>
          <a:blip r:embed="rId2"/>
          <a:stretch/>
        </p:blipFill>
        <p:spPr>
          <a:xfrm>
            <a:off x="357120" y="4071960"/>
            <a:ext cx="2541600" cy="192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79280" y="260280"/>
          <a:ext cx="8712360" cy="6572160"/>
        </p:xfrm>
        <a:graphic>
          <a:graphicData uri="http://schemas.openxmlformats.org/drawingml/2006/table">
            <a:tbl>
              <a:tblPr/>
              <a:tblGrid>
                <a:gridCol w="2903760"/>
                <a:gridCol w="2904840"/>
                <a:gridCol w="290376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ов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9мину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f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«Удочка командна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ята, вы уже выучили много игр на уроке физкультуры. А сейчас мы выучим ещё одну новую игру «Удочка командная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играющие становятся в круг, а водящий с верёвкой – в середину круга, верёвка вращается по кругу игроки должны перепрыгивать через удочк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ют правила игры, играют с помощью учител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ают технику безопас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касание ногами  удочки участник выбыва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fdfd"/>
                    </a:solidFill>
                  </a:tcPr>
                </a:tc>
              </a:tr>
            </a:tbl>
          </a:graphicData>
        </a:graphic>
      </p:graphicFrame>
      <p:pic>
        <p:nvPicPr>
          <p:cNvPr id="195" name="Picture 13" descr=""/>
          <p:cNvPicPr/>
          <p:nvPr/>
        </p:nvPicPr>
        <p:blipFill>
          <a:blip r:embed="rId1"/>
          <a:stretch/>
        </p:blipFill>
        <p:spPr>
          <a:xfrm>
            <a:off x="3276720" y="4653000"/>
            <a:ext cx="235728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28760" y="357120"/>
          <a:ext cx="8501040" cy="614988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становление дыхания средствами дыхательных упражн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Самолет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«Насос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f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.п.: основная стойка. Развести руки в стороны, ладонями кверху. Сделать поворот в сторону, произнеся «ж-ж-ж-ж-ж-»,- вдох, отпустить руки – выдох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торить 2-4 раза в каждую сторон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.п.: основная стойка. Скользя руками вдоль туловища, наклонятся поочередно вправо и влево. При наклоне выдох с произнесением «с-с-с-», при выпрямлении вдох. Повторить 4-5 раз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</a:tr>
            </a:tbl>
          </a:graphicData>
        </a:graphic>
      </p:graphicFrame>
      <p:pic>
        <p:nvPicPr>
          <p:cNvPr id="197" name="Picture 2" descr="C:\Users\4\Desktop\спорт\SAM_4551.JPG"/>
          <p:cNvPicPr/>
          <p:nvPr/>
        </p:nvPicPr>
        <p:blipFill>
          <a:blip r:embed="rId1"/>
          <a:stretch/>
        </p:blipFill>
        <p:spPr>
          <a:xfrm>
            <a:off x="500040" y="3000240"/>
            <a:ext cx="271476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500040" y="754920"/>
            <a:ext cx="67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500040" y="159876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2920" y="214200"/>
          <a:ext cx="8786880" cy="6443640"/>
        </p:xfrm>
        <a:graphic>
          <a:graphicData uri="http://schemas.openxmlformats.org/drawingml/2006/table">
            <a:tbl>
              <a:tblPr/>
              <a:tblGrid>
                <a:gridCol w="2928960"/>
                <a:gridCol w="2857320"/>
                <a:gridCol w="30006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ая часть (5мину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ведение итогов: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флекс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машнее задан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f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«колечк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вести итог урока, оцен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ия и навыки учащихся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ить их отнош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 урок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годня на уроке вы убедились, что верёвка многофункциональная. И вам  надо дома подумать, придумать, где и как можно применить верёвк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f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ята встают в круг, держа верёвку с колечком. Колечко передвигают от учащихся к учащимся, и каждый ученик  оценивает себя, что получилось, что нет, ставит себе цель на следующее занят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ее задан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Задание: придумать подвижную игру с верёвк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Задание: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умать способы применения веревочки в игров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fdfd"/>
                    </a:solidFill>
                  </a:tcPr>
                </a:tc>
              </a:tr>
            </a:tbl>
          </a:graphicData>
        </a:graphic>
      </p:graphicFrame>
      <p:pic>
        <p:nvPicPr>
          <p:cNvPr id="201" name="Picture 16" descr=""/>
          <p:cNvPicPr/>
          <p:nvPr/>
        </p:nvPicPr>
        <p:blipFill>
          <a:blip r:embed="rId1"/>
          <a:stretch/>
        </p:blipFill>
        <p:spPr>
          <a:xfrm>
            <a:off x="428760" y="4714920"/>
            <a:ext cx="2428920" cy="1714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Users\4\Desktop\спорт\SAM_4622.JPG"/>
          <p:cNvPicPr/>
          <p:nvPr/>
        </p:nvPicPr>
        <p:blipFill>
          <a:blip r:embed="rId2"/>
          <a:stretch/>
        </p:blipFill>
        <p:spPr>
          <a:xfrm>
            <a:off x="3132000" y="2781360"/>
            <a:ext cx="250056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Прямоугольник 2" descr=""/>
          <p:cNvPicPr/>
          <p:nvPr/>
        </p:nvPicPr>
        <p:blipFill>
          <a:blip r:embed="rId1"/>
          <a:stretch/>
        </p:blipFill>
        <p:spPr>
          <a:xfrm>
            <a:off x="585720" y="1566720"/>
            <a:ext cx="8229600" cy="2365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999880"/>
            <a:ext cx="5500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Образование:</a:t>
            </a:r>
            <a:r>
              <a:rPr b="0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 высшее,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«Тобольский государственный педагогический институт им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 Д.И. Менделеева»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Общий стаж работы:</a:t>
            </a:r>
            <a:r>
              <a:rPr b="0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 23 года</a:t>
            </a:r>
            <a:br>
              <a:rPr sz="1800"/>
            </a:b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7" name="Прямоугольник 3"/>
          <p:cNvSpPr/>
          <p:nvPr/>
        </p:nvSpPr>
        <p:spPr>
          <a:xfrm>
            <a:off x="214200" y="285840"/>
            <a:ext cx="485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Качу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Татьяна </a:t>
            </a:r>
            <a:br>
              <a:rPr sz="5400"/>
            </a:br>
            <a:r>
              <a:rPr b="1" lang="ru-RU" sz="5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Владимиров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F:\SAM_4689.JPG"/>
          <p:cNvPicPr/>
          <p:nvPr/>
        </p:nvPicPr>
        <p:blipFill>
          <a:blip r:embed="rId1"/>
          <a:stretch/>
        </p:blipFill>
        <p:spPr>
          <a:xfrm>
            <a:off x="5003640" y="260280"/>
            <a:ext cx="388944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2" descr="4"/>
          <p:cNvPicPr/>
          <p:nvPr/>
        </p:nvPicPr>
        <p:blipFill>
          <a:blip r:embed="rId1"/>
          <a:stretch/>
        </p:blipFill>
        <p:spPr>
          <a:xfrm>
            <a:off x="428760" y="3857760"/>
            <a:ext cx="1933560" cy="250812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" descr="1"/>
          <p:cNvPicPr/>
          <p:nvPr/>
        </p:nvPicPr>
        <p:blipFill>
          <a:blip r:embed="rId2"/>
          <a:stretch/>
        </p:blipFill>
        <p:spPr>
          <a:xfrm>
            <a:off x="6988320" y="3357720"/>
            <a:ext cx="2155680" cy="28857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5"/>
          <p:cNvSpPr/>
          <p:nvPr/>
        </p:nvSpPr>
        <p:spPr>
          <a:xfrm>
            <a:off x="2214720" y="857160"/>
            <a:ext cx="485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Урок физ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"/>
          <p:cNvSpPr/>
          <p:nvPr/>
        </p:nvSpPr>
        <p:spPr>
          <a:xfrm>
            <a:off x="1928880" y="857160"/>
            <a:ext cx="564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Тем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«Обучение прыжка через верёв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785880" y="2297520"/>
            <a:ext cx="7429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 урок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Образовательно-тренировочной направ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сто проведения: </a:t>
            </a:r>
            <a:r>
              <a:rPr b="0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спортивный з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 проведения: </a:t>
            </a:r>
            <a:r>
              <a:rPr b="0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13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та проведения: </a:t>
            </a:r>
            <a:r>
              <a:rPr b="0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13.01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: </a:t>
            </a:r>
            <a:r>
              <a:rPr b="0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3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840" y="1714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84c6a"/>
                </a:solidFill>
                <a:latin typeface="Garamond"/>
              </a:rPr>
              <a:t>      </a:t>
            </a:r>
            <a:r>
              <a:rPr b="1" lang="ru-RU" sz="2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Цель урока:  формирование умения прыгать через верёвку</a:t>
            </a:r>
            <a:r>
              <a:rPr b="0" lang="ru-RU" sz="2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            Задачи:</a:t>
            </a:r>
            <a:br>
              <a:rPr sz="2400"/>
            </a:br>
            <a:r>
              <a:rPr b="0" lang="ru-RU" sz="2400" spc="-1" strike="noStrike">
                <a:solidFill>
                  <a:srgbClr val="284c6a"/>
                </a:solidFill>
                <a:latin typeface="Garamond"/>
              </a:rPr>
              <a:t>1</a:t>
            </a:r>
            <a:r>
              <a:rPr b="0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. Обучать учащихся прыжкам через вращающую верёвку на двух ногах.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2. Развивать координацию движений и ориентирование в пространстве. 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3. Мотивировать интерес к играм с верёвкой.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4.Воспитывать чувство товарищества в командных играх.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5" name="Прямоугольник 2"/>
          <p:cNvSpPr/>
          <p:nvPr/>
        </p:nvSpPr>
        <p:spPr>
          <a:xfrm>
            <a:off x="500040" y="4786200"/>
            <a:ext cx="80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ланируемый результат</a:t>
            </a:r>
            <a:r>
              <a:rPr b="0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: ученик, владеющий элементарными приёмами прыжка через вращающуюся верёвку на двух нога</a:t>
            </a:r>
            <a:r>
              <a:rPr b="0" lang="ru-RU" sz="1800" spc="-1" strike="noStrike">
                <a:solidFill>
                  <a:srgbClr val="953735"/>
                </a:solidFill>
                <a:latin typeface="Garamond"/>
              </a:rPr>
              <a:t>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Схема 2" descr=""/>
          <p:cNvPicPr/>
          <p:nvPr/>
        </p:nvPicPr>
        <p:blipFill>
          <a:blip r:embed="rId1"/>
          <a:stretch/>
        </p:blipFill>
        <p:spPr>
          <a:xfrm>
            <a:off x="853920" y="890640"/>
            <a:ext cx="7083720" cy="4930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2857680" y="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Конспект 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14200" y="1000080"/>
          <a:ext cx="8572680" cy="5199120"/>
        </p:xfrm>
        <a:graphic>
          <a:graphicData uri="http://schemas.openxmlformats.org/drawingml/2006/table">
            <a:tbl>
              <a:tblPr/>
              <a:tblGrid>
                <a:gridCol w="1071720"/>
                <a:gridCol w="5927760"/>
                <a:gridCol w="157320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ая ча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ча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ая ча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285840" y="500040"/>
          <a:ext cx="8643960" cy="6000840"/>
        </p:xfrm>
        <a:graphic>
          <a:graphicData uri="http://schemas.openxmlformats.org/drawingml/2006/table">
            <a:tbl>
              <a:tblPr/>
              <a:tblGrid>
                <a:gridCol w="2881080"/>
                <a:gridCol w="2881440"/>
                <a:gridCol w="28814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4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ая часть (10 мину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рить подготовку детей к уроку. Инструктаж по технике безопасности при работе с верёвкой. Сообщение задач уро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минка: </a:t>
                      </a: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Calibri"/>
                        </a:rPr>
                        <a:t>ходьба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носках, пятках, с различным положением рук; бег с изменением направления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строение в колонну по 2; ОРУ с верёвк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f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кое выполнение  команд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едить за правильностью осанки, соблюдать дистан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танция 2 шага, интервал 1 мет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80" name="Rectangle 1"/>
          <p:cNvSpPr/>
          <p:nvPr/>
        </p:nvSpPr>
        <p:spPr>
          <a:xfrm>
            <a:off x="214200" y="57240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C:\Users\4\Desktop\спорт\SAM_4518.JPG"/>
          <p:cNvPicPr/>
          <p:nvPr/>
        </p:nvPicPr>
        <p:blipFill>
          <a:blip r:embed="rId1"/>
          <a:stretch/>
        </p:blipFill>
        <p:spPr>
          <a:xfrm>
            <a:off x="6072120" y="1214280"/>
            <a:ext cx="2643120" cy="2000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07732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          </a:t>
            </a:r>
            <a:r>
              <a:rPr b="0" lang="ru-RU" sz="2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ОРУ с верёвочкой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eeece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eeece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eeece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eeece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50920" y="692280"/>
          <a:ext cx="8650080" cy="6211800"/>
        </p:xfrm>
        <a:graphic>
          <a:graphicData uri="http://schemas.openxmlformats.org/drawingml/2006/table">
            <a:tbl>
              <a:tblPr/>
              <a:tblGrid>
                <a:gridCol w="2882880"/>
                <a:gridCol w="2882880"/>
                <a:gridCol w="2884320"/>
              </a:tblGrid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Упражнение с верёвкой: «Лестниц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ое положение - стоя, ноги на ширине плеч, верёвка в руках.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руки вперед, 2 – руки вверх,  3 – руки вперед,  4 - вернуться в исходное положение. Повторит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з в медленном темп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 выполняется синхронно; при выполнения упражнения вносится соревновательный момент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08bb9"/>
                          </a:solidFill>
                          <a:latin typeface="Times New Roman"/>
                          <a:ea typeface="Times New Roman"/>
                        </a:rPr>
                        <a:t>2.Упражнение с верёвкой: «Штангист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f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ое положение – стоя, ноги на ширине плеч, верёвка на плечах. 1 - руки  вверх. 2 - вернуться в исходное положение. Повторить по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f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кое амплитуда движения, спина пряма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fdfd"/>
                    </a:solidFill>
                  </a:tcPr>
                </a:tc>
              </a:tr>
              <a:tr h="12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пражнение с верёвкой: «Прыжки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чередно левая, пра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ыжки ноги накр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я с максимальной амплитуд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06:11:09Z</dcterms:created>
  <dc:creator>пользователь</dc:creator>
  <dc:description/>
  <dc:language>en-US</dc:language>
  <cp:lastModifiedBy>User</cp:lastModifiedBy>
  <dcterms:modified xsi:type="dcterms:W3CDTF">2014-03-24T15:26:36Z</dcterms:modified>
  <cp:revision>122</cp:revision>
  <dc:subject/>
  <dc:title>Казённое специальное (коррекционное) образовательное учреждение  Ханты – Мансийского округа – Югры для обучающихся, воспитанников с ограниченными возможностями здоровья  «Нефтеюганская специальная (коррекционная) начальная общеобразовательная школа VII вида» </dc:title>
</cp:coreProperties>
</file>