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FFFC-9756-4244-B566-BAD04916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8395-EE50-4B5C-AF90-C99D82DE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3450-CDB2-45A2-AC69-E72C7752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0C6-2F07-4EF5-8597-3AC93A4E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E9CC-D810-4682-98BA-BF741C66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9CB9-D118-4F0D-81BA-C600E027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A460-C207-4254-AA0D-5DFB19D5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1F9A-5143-4421-B35E-FA5ED0B0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1F0A-85F3-4A2C-8632-386CECEF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27F5-CFA7-4024-AA34-7970C3F7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0CD3-13F8-40E5-B7A3-8D2563E4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7B9A-2509-4884-9A8F-B1EA5D3B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F14F-816C-4C99-A904-2D47C43B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D1B8-9DF5-44E5-8369-3AC8C757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624E-6B91-424E-A11A-207AEBF6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1549-198A-41B5-B2CF-8709F683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49A9-22C1-4423-B675-32551547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74B4B-8F9F-447E-AA57-B8734F0D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ACAB8-D2F7-4A9B-84A5-971C005C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C76D0-384F-4C8C-9A39-21529C5D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CDBA0-0A86-429C-A5FC-26E035FD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B9D3F-BB6D-460A-A5C0-B9C5FB60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C90B-056B-4332-93D9-4BD22E49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0FF1C-AD9C-4D81-8470-252417E5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5F54E-E40A-4B3E-B5AF-899560BE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11967-A549-4A76-98FF-A76CE556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9E1C8-87B7-4E38-8B85-108758A2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FC3C2-07E5-4FEB-AD4B-867246B1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6C955-188C-4D22-9349-ADF38E6B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EC9AC-985D-4AE4-861D-4E0FAA41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5A32E-1E23-46D2-AEDC-8613708D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AA4CE-E405-4A50-9A38-132EAA9D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EE584-FC55-452A-87F9-BEADA681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C1B4-4C44-4620-B328-21E80940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0A82A-DA5B-46F2-918C-4B517D04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355E9-FEA5-4A32-A915-88176796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BBACE-63F3-4AEE-9FC1-AF961DAF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508DF-4E06-4B0F-9CF7-13351837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E0F41-2BCB-4B75-B66A-321C34C7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D5F76-7AAB-4386-8342-32AD07C2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56417-E95A-49EC-BD17-C270CAEE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D6AB1-2657-4C21-A526-4E76245D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9CD1A-E7E5-42CA-BCC3-9C224D0B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8A42-B580-4E1C-B2B1-21432247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3C94-AF03-4473-AAE5-02DCE95D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D549-F6F1-425D-BDF2-7E6FB087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690F-9000-4A37-91D4-D1666E25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EFA4-CC4A-4722-8595-859590C7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A7F8-0AE8-4B3A-8660-34B489FB2C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eeece1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7AC9-E6E8-4D2F-8B49-5536AC8B9C8A}" type="slidenum">
              <a:rPr b="1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1B88-F675-49AD-A09B-C21003E02A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eeece1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AD52-8FCA-45B8-B3DB-1A4DDCC07332}" type="slidenum">
              <a:rPr b="0" lang="ru-RU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57160" y="57168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для детей дошкольного и младшего школьного возраста</a:t>
            </a:r>
            <a:br>
              <a:rPr sz="1800"/>
            </a:br>
            <a:r>
              <a:rPr b="1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«Начальная школа – детский сад №4»</a:t>
            </a:r>
            <a:br>
              <a:rPr sz="1800"/>
            </a:b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</p:txBody>
      </p:sp>
      <p:pic>
        <p:nvPicPr>
          <p:cNvPr id="165" name="Рисунок 2" descr=""/>
          <p:cNvPicPr/>
          <p:nvPr/>
        </p:nvPicPr>
        <p:blipFill>
          <a:blip r:embed="rId1"/>
          <a:srcRect l="0" t="0" r="0" b="28819"/>
          <a:stretch/>
        </p:blipFill>
        <p:spPr>
          <a:xfrm>
            <a:off x="500040" y="2000160"/>
            <a:ext cx="7929720" cy="4071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Users\4\Desktop\спорт\SAM_4540.JPG"/>
          <p:cNvPicPr/>
          <p:nvPr/>
        </p:nvPicPr>
        <p:blipFill>
          <a:blip r:embed="rId1"/>
          <a:stretch/>
        </p:blipFill>
        <p:spPr>
          <a:xfrm>
            <a:off x="357120" y="78588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2"/>
          <p:cNvSpPr/>
          <p:nvPr/>
        </p:nvSpPr>
        <p:spPr>
          <a:xfrm>
            <a:off x="3625920" y="42876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 с верёв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C:\Users\4\Desktop\спорт\SAM_4548.JPG"/>
          <p:cNvPicPr/>
          <p:nvPr/>
        </p:nvPicPr>
        <p:blipFill>
          <a:blip r:embed="rId2"/>
          <a:stretch/>
        </p:blipFill>
        <p:spPr>
          <a:xfrm>
            <a:off x="4572000" y="3643200"/>
            <a:ext cx="4214880" cy="2857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Users\4\Desktop\Фото по В.Р\спорт\SAM_4543.JPG"/>
          <p:cNvPicPr/>
          <p:nvPr/>
        </p:nvPicPr>
        <p:blipFill>
          <a:blip r:embed="rId3"/>
          <a:stretch/>
        </p:blipFill>
        <p:spPr>
          <a:xfrm>
            <a:off x="4572000" y="785880"/>
            <a:ext cx="4214880" cy="2786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4"/>
          <a:stretch/>
        </p:blipFill>
        <p:spPr>
          <a:xfrm>
            <a:off x="357120" y="3643200"/>
            <a:ext cx="371484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-285840" y="1429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14200" y="285840"/>
          <a:ext cx="8643960" cy="6410160"/>
        </p:xfrm>
        <a:graphic>
          <a:graphicData uri="http://schemas.openxmlformats.org/drawingml/2006/table">
            <a:tbl>
              <a:tblPr/>
              <a:tblGrid>
                <a:gridCol w="2791080"/>
                <a:gridCol w="3130560"/>
                <a:gridCol w="272232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5 мину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Задание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Десять прыжков через верёвк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команде учителя участники выполняют прыж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Зада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 « Прыжки в парах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ыжки выполняются сразу двумя ученикам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Задание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«Пробеги под верёвко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сигналу  игроки каждой команды начинают один за другим пробегать под верёвк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Зада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 « Карусел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ыжки выполняются под вращающейся верёвк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ыгать можно любым способом.   Игрок не должен допустить ошиб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оки выполняют одновременно прыжки. Не допустив ошиб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полняют упраж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тролируют правильность выполнения, исправляют ошиб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ники должны  прыгать через  вращающеюся верёвку, при этом не допустить ошибку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pic>
        <p:nvPicPr>
          <p:cNvPr id="192" name="Picture 12" descr=""/>
          <p:cNvPicPr/>
          <p:nvPr/>
        </p:nvPicPr>
        <p:blipFill>
          <a:blip r:embed="rId1"/>
          <a:stretch/>
        </p:blipFill>
        <p:spPr>
          <a:xfrm>
            <a:off x="285840" y="1571760"/>
            <a:ext cx="2552760" cy="2101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C:\Users\4\Desktop\спорт\SAM_4611.JPG"/>
          <p:cNvPicPr/>
          <p:nvPr/>
        </p:nvPicPr>
        <p:blipFill>
          <a:blip r:embed="rId2"/>
          <a:stretch/>
        </p:blipFill>
        <p:spPr>
          <a:xfrm>
            <a:off x="357120" y="4071960"/>
            <a:ext cx="2541600" cy="192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79280" y="260280"/>
          <a:ext cx="8712360" cy="6572160"/>
        </p:xfrm>
        <a:graphic>
          <a:graphicData uri="http://schemas.openxmlformats.org/drawingml/2006/table">
            <a:tbl>
              <a:tblPr/>
              <a:tblGrid>
                <a:gridCol w="2903760"/>
                <a:gridCol w="2904840"/>
                <a:gridCol w="290376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ов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9мину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f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«Удочка командна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ята, вы уже выучили много игр на уроке физкультуры. А сейчас мы выучим ещё одну новую игру «Удочка командная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играющие становятся в круг, а водящий с верёвкой – в середину круга, верёвка вращается по кругу игроки должны перепрыгивать через удочк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ют правила игры, играют с помощью учител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ают технику безопас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касание ногами  удочки участник выбывае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fdfd"/>
                    </a:solidFill>
                  </a:tcPr>
                </a:tc>
              </a:tr>
            </a:tbl>
          </a:graphicData>
        </a:graphic>
      </p:graphicFrame>
      <p:pic>
        <p:nvPicPr>
          <p:cNvPr id="195" name="Picture 13" descr=""/>
          <p:cNvPicPr/>
          <p:nvPr/>
        </p:nvPicPr>
        <p:blipFill>
          <a:blip r:embed="rId1"/>
          <a:stretch/>
        </p:blipFill>
        <p:spPr>
          <a:xfrm>
            <a:off x="3276720" y="4653000"/>
            <a:ext cx="235728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28760" y="357120"/>
          <a:ext cx="8501040" cy="614988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920"/>
              </a:tblGrid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становление дыхания средствами дыхательных упражн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Самолет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«Насос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f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.п.: основная стойка. Развести руки в стороны, ладонями кверху. Сделать поворот в сторону, произнеся «ж-ж-ж-ж-ж-»,- вдох, отпустить руки – выдох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торить 2-4 раза в каждую сторон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.п.: основная стойка. Скользя руками вдоль туловища, наклонятся поочередно вправо и влево. При наклоне выдох с произнесением «с-с-с-», при выпрямлении вдох. Повторить 4-5 раз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</a:tr>
            </a:tbl>
          </a:graphicData>
        </a:graphic>
      </p:graphicFrame>
      <p:pic>
        <p:nvPicPr>
          <p:cNvPr id="197" name="Picture 2" descr="C:\Users\4\Desktop\спорт\SAM_4551.JPG"/>
          <p:cNvPicPr/>
          <p:nvPr/>
        </p:nvPicPr>
        <p:blipFill>
          <a:blip r:embed="rId1"/>
          <a:stretch/>
        </p:blipFill>
        <p:spPr>
          <a:xfrm>
            <a:off x="500040" y="3000240"/>
            <a:ext cx="271476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500040" y="754920"/>
            <a:ext cx="67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500040" y="159876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2920" y="214200"/>
          <a:ext cx="8786880" cy="6443640"/>
        </p:xfrm>
        <a:graphic>
          <a:graphicData uri="http://schemas.openxmlformats.org/drawingml/2006/table">
            <a:tbl>
              <a:tblPr/>
              <a:tblGrid>
                <a:gridCol w="2928960"/>
                <a:gridCol w="2857320"/>
                <a:gridCol w="30006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ая часть (5мину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ведение итогов: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флекс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машнее задан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f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«колечк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вести итог урока, оцени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ия и навыки учащихся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ить их отнош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 уроку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годня на уроке вы убедились, что верёвка многофункциональная. И вам  надо дома подумать, придумать, где и как можно применить верёвк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f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ята встают в круг, держа верёвку с колечком. Колечко передвигают от учащихся к учащимся, и каждый ученик  оценивает себя, что получилось, что нет, ставит себе цель на следующее занят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ее задан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Задание: придумать подвижную игру с верёвк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Задание: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думать способы применения веревочки в игров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fdfd"/>
                    </a:solidFill>
                  </a:tcPr>
                </a:tc>
              </a:tr>
            </a:tbl>
          </a:graphicData>
        </a:graphic>
      </p:graphicFrame>
      <p:pic>
        <p:nvPicPr>
          <p:cNvPr id="201" name="Picture 16" descr=""/>
          <p:cNvPicPr/>
          <p:nvPr/>
        </p:nvPicPr>
        <p:blipFill>
          <a:blip r:embed="rId1"/>
          <a:stretch/>
        </p:blipFill>
        <p:spPr>
          <a:xfrm>
            <a:off x="428760" y="4714920"/>
            <a:ext cx="2428920" cy="17143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C:\Users\4\Desktop\спорт\SAM_4622.JPG"/>
          <p:cNvPicPr/>
          <p:nvPr/>
        </p:nvPicPr>
        <p:blipFill>
          <a:blip r:embed="rId2"/>
          <a:stretch/>
        </p:blipFill>
        <p:spPr>
          <a:xfrm>
            <a:off x="3132000" y="2781360"/>
            <a:ext cx="250056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Прямоугольник 2" descr=""/>
          <p:cNvPicPr/>
          <p:nvPr/>
        </p:nvPicPr>
        <p:blipFill>
          <a:blip r:embed="rId1"/>
          <a:stretch/>
        </p:blipFill>
        <p:spPr>
          <a:xfrm>
            <a:off x="585720" y="1566720"/>
            <a:ext cx="8229600" cy="2365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999880"/>
            <a:ext cx="5500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Образование:</a:t>
            </a:r>
            <a:r>
              <a:rPr b="0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 высшее,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«Тобольский государственный педагогический институт им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 Д.И. Менделеева»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Общий стаж работы:</a:t>
            </a:r>
            <a:r>
              <a:rPr b="0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 23 года</a:t>
            </a:r>
            <a:br>
              <a:rPr sz="1800"/>
            </a:b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7" name="Прямоугольник 3"/>
          <p:cNvSpPr/>
          <p:nvPr/>
        </p:nvSpPr>
        <p:spPr>
          <a:xfrm>
            <a:off x="214200" y="285840"/>
            <a:ext cx="4857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Качу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Татьяна </a:t>
            </a:r>
            <a:br>
              <a:rPr sz="5400"/>
            </a:br>
            <a:r>
              <a:rPr b="1" lang="ru-RU" sz="5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Владимиров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F:\SAM_4689.JPG"/>
          <p:cNvPicPr/>
          <p:nvPr/>
        </p:nvPicPr>
        <p:blipFill>
          <a:blip r:embed="rId1"/>
          <a:stretch/>
        </p:blipFill>
        <p:spPr>
          <a:xfrm>
            <a:off x="5003640" y="260280"/>
            <a:ext cx="388944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2" descr="4"/>
          <p:cNvPicPr/>
          <p:nvPr/>
        </p:nvPicPr>
        <p:blipFill>
          <a:blip r:embed="rId1"/>
          <a:stretch/>
        </p:blipFill>
        <p:spPr>
          <a:xfrm>
            <a:off x="428760" y="3857760"/>
            <a:ext cx="1933560" cy="250812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" descr="1"/>
          <p:cNvPicPr/>
          <p:nvPr/>
        </p:nvPicPr>
        <p:blipFill>
          <a:blip r:embed="rId2"/>
          <a:stretch/>
        </p:blipFill>
        <p:spPr>
          <a:xfrm>
            <a:off x="6988320" y="3357720"/>
            <a:ext cx="2155680" cy="28857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5"/>
          <p:cNvSpPr/>
          <p:nvPr/>
        </p:nvSpPr>
        <p:spPr>
          <a:xfrm>
            <a:off x="2214720" y="857160"/>
            <a:ext cx="485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Урок физ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"/>
          <p:cNvSpPr/>
          <p:nvPr/>
        </p:nvSpPr>
        <p:spPr>
          <a:xfrm>
            <a:off x="1928880" y="857160"/>
            <a:ext cx="564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Тем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«Обучение прыжка через верёвк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785880" y="2297520"/>
            <a:ext cx="7429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 урок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Образовательно-тренировочной направ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сто проведения: </a:t>
            </a:r>
            <a:r>
              <a:rPr b="0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спортивный з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я проведения: </a:t>
            </a:r>
            <a:r>
              <a:rPr b="0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13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та проведения: </a:t>
            </a:r>
            <a:r>
              <a:rPr b="0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13.01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: </a:t>
            </a:r>
            <a:r>
              <a:rPr b="0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3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840" y="1714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84c6a"/>
                </a:solidFill>
                <a:latin typeface="Garamond"/>
              </a:rPr>
              <a:t>      </a:t>
            </a:r>
            <a:r>
              <a:rPr b="1" lang="ru-RU" sz="2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Цель урока:  формирование умения прыгать через верёвку</a:t>
            </a:r>
            <a:r>
              <a:rPr b="0" lang="ru-RU" sz="2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            Задачи:</a:t>
            </a:r>
            <a:br>
              <a:rPr sz="2400"/>
            </a:br>
            <a:r>
              <a:rPr b="0" lang="ru-RU" sz="2400" spc="-1" strike="noStrike">
                <a:solidFill>
                  <a:srgbClr val="284c6a"/>
                </a:solidFill>
                <a:latin typeface="Garamond"/>
              </a:rPr>
              <a:t>1</a:t>
            </a:r>
            <a:r>
              <a:rPr b="0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. Обучать учащихся прыжкам через вращающую верёвку на двух ногах.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2. Развивать координацию движений и ориентирование в пространстве. 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3. Мотивировать интерес к играм с верёвкой.</a:t>
            </a:r>
            <a:br>
              <a:rPr sz="1800"/>
            </a:br>
            <a:r>
              <a:rPr b="0" lang="ru-RU" sz="1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4.Воспитывать чувство товарищества в командных играх.</a:t>
            </a: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5" name="Прямоугольник 2"/>
          <p:cNvSpPr/>
          <p:nvPr/>
        </p:nvSpPr>
        <p:spPr>
          <a:xfrm>
            <a:off x="500040" y="4786200"/>
            <a:ext cx="80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ланируемый результат</a:t>
            </a:r>
            <a:r>
              <a:rPr b="0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: ученик, владеющий элементарными приёмами прыжка через вращающуюся верёвку на двух нога</a:t>
            </a:r>
            <a:r>
              <a:rPr b="0" lang="ru-RU" sz="1800" spc="-1" strike="noStrike">
                <a:solidFill>
                  <a:srgbClr val="953735"/>
                </a:solidFill>
                <a:latin typeface="Garamond"/>
              </a:rPr>
              <a:t>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Схема 2" descr=""/>
          <p:cNvPicPr/>
          <p:nvPr/>
        </p:nvPicPr>
        <p:blipFill>
          <a:blip r:embed="rId1"/>
          <a:stretch/>
        </p:blipFill>
        <p:spPr>
          <a:xfrm>
            <a:off x="853920" y="890640"/>
            <a:ext cx="7083720" cy="4930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2857680" y="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Конспект 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14200" y="1000080"/>
          <a:ext cx="8572680" cy="5199120"/>
        </p:xfrm>
        <a:graphic>
          <a:graphicData uri="http://schemas.openxmlformats.org/drawingml/2006/table">
            <a:tbl>
              <a:tblPr/>
              <a:tblGrid>
                <a:gridCol w="1071720"/>
                <a:gridCol w="5927760"/>
                <a:gridCol w="157320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ая ча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ча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ая ча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285840" y="500040"/>
          <a:ext cx="8643960" cy="6000840"/>
        </p:xfrm>
        <a:graphic>
          <a:graphicData uri="http://schemas.openxmlformats.org/drawingml/2006/table">
            <a:tbl>
              <a:tblPr/>
              <a:tblGrid>
                <a:gridCol w="2881080"/>
                <a:gridCol w="2881440"/>
                <a:gridCol w="28814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4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ая часть (10 мину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рить подготовку детей к уроку. Инструктаж по технике безопасности при работе с верёвкой. Сообщение задач уро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минка: </a:t>
                      </a: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Calibri"/>
                        </a:rPr>
                        <a:t>ходьба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носках, пятках, с различным положением рук; бег с изменением направления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строение в колонну по 2; ОРУ с верёвк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f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ткое выполнение  команд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едить за правильностью осанки, соблюдать дистан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танция 2 шага, интервал 1 мет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80" name="Rectangle 1"/>
          <p:cNvSpPr/>
          <p:nvPr/>
        </p:nvSpPr>
        <p:spPr>
          <a:xfrm>
            <a:off x="214200" y="57240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C:\Users\4\Desktop\спорт\SAM_4518.JPG"/>
          <p:cNvPicPr/>
          <p:nvPr/>
        </p:nvPicPr>
        <p:blipFill>
          <a:blip r:embed="rId1"/>
          <a:stretch/>
        </p:blipFill>
        <p:spPr>
          <a:xfrm>
            <a:off x="6072120" y="1214280"/>
            <a:ext cx="2643120" cy="2000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807732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4c6a"/>
                </a:solidFill>
                <a:latin typeface="Trebuchet MS"/>
              </a:rPr>
              <a:t>          </a:t>
            </a:r>
            <a:r>
              <a:rPr b="0" lang="ru-RU" sz="2800" spc="-1" strike="noStrike">
                <a:solidFill>
                  <a:srgbClr val="284c6a"/>
                </a:solidFill>
                <a:latin typeface="Times New Roman"/>
                <a:ea typeface="Times New Roman"/>
              </a:rPr>
              <a:t>ОРУ с верёвочкой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eeece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eeece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eeece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451"/>
              </a:spcBef>
              <a:buClr>
                <a:srgbClr val="eeece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4c6a"/>
              </a:solidFill>
              <a:latin typeface="Trebuchet M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50920" y="692280"/>
          <a:ext cx="8650080" cy="6211800"/>
        </p:xfrm>
        <a:graphic>
          <a:graphicData uri="http://schemas.openxmlformats.org/drawingml/2006/table">
            <a:tbl>
              <a:tblPr/>
              <a:tblGrid>
                <a:gridCol w="2882880"/>
                <a:gridCol w="2882880"/>
                <a:gridCol w="2884320"/>
              </a:tblGrid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Упражнение с верёвкой: «Лестниц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ое положение - стоя, ноги на ширине плеч, верёвка в руках.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руки вперед, 2 – руки вверх,  3 – руки вперед,  4 - вернуться в исходное положение. Повторит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з в медленном темп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я выполняется синхронно; при выполнения упражнения вносится соревновательный момент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08bb9"/>
                          </a:solidFill>
                          <a:latin typeface="Times New Roman"/>
                          <a:ea typeface="Times New Roman"/>
                        </a:rPr>
                        <a:t>2.Упражнение с верёвкой: «Штангист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f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ое положение – стоя, ноги на ширине плеч, верёвка на плечах. 1 - руки  вверх. 2 - вернуться в исходное положение. Повторить по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f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кое амплитуда движения, спина пряма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fdfd"/>
                    </a:solidFill>
                  </a:tcPr>
                </a:tc>
              </a:tr>
              <a:tr h="12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Упражнение с верёвкой: «Прыжки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чередно левая, пра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ыжки ноги накр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я с максимальной амплитуд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f7f4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4T06:11:09Z</dcterms:created>
  <dc:creator>пользователь</dc:creator>
  <dc:description/>
  <dc:language>en-US</dc:language>
  <cp:lastModifiedBy>User</cp:lastModifiedBy>
  <dcterms:modified xsi:type="dcterms:W3CDTF">2014-03-24T15:26:36Z</dcterms:modified>
  <cp:revision>122</cp:revision>
  <dc:subject/>
  <dc:title>Казённое специальное (коррекционное) образовательное учреждение  Ханты – Мансийского округа – Югры для обучающихся, воспитанников с ограниченными возможностями здоровья  «Нефтеюганская специальная (коррекционная) начальная общеобразовательная школа VII вида» </dc:title>
</cp:coreProperties>
</file>