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6AE-FC3B-4CDA-A5CD-6D50179D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D1E-568E-46C2-8549-0CD4AF2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DA2-37BB-4292-B175-694C4BE2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427-9B9B-47D0-ABDE-2AD7250D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E451-33AC-4CDB-A3BD-41E7A55F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FFD0-84A6-426B-BA63-5ED9B821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1383-FB6E-4FED-B568-5AFC554F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B733-EBF1-4770-8089-410A1C00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6433-E7D7-4437-A982-C213CE08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C77D-A01F-4975-A144-3A8C4939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42E5-B52A-47BF-81A5-CEA3AE86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E8B-F819-4D8E-93E0-8252F5F2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063B-FE3E-45F1-9B12-B85EB20E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2EA4-E8EB-4CF4-B740-94CD4316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E650-F933-4E9C-90B1-587F661E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1F45-A2DF-47B6-8E1E-FA7EFB3D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9A14-FCDA-4D78-926F-51C5AF9F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F6EA-1EEB-4D3C-A02D-E2128640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D2EF-16A1-45D7-B451-FA042B1B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6B30-4FD8-44C2-A238-06D3D923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6E93C-EDB0-4A37-9D16-7F5EF1A0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FBAD-2542-4BCA-AE7C-67CCD32D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4F0-0433-43F8-B13B-2F949D30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A97E-909C-4CEA-BE02-CF29DD04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2132-BD95-4D09-88CC-37EAE7DE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77EC-7D7F-46EA-9808-73EBA873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EC86-102E-4CAD-87FB-C2CD9EC4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E1DCB-598C-48F1-908B-F8F02023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E1EC-42B9-44BF-B987-CF24BD16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00DD-FD9C-4D4A-9020-E01DB327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F9F9-5045-4CAA-BE87-8C4ABBA3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89625-B54F-4772-8B92-A4E5798E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74E2-1FE0-4954-BA82-307EC85D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E20-EAA9-4DB5-827E-7577BCF9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08342-4001-4088-B170-7A4167B3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D535-B056-4D57-A1C3-B8FD0B4C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DD1AE-33E8-4877-9CF6-FB3C70B0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C19B-58C2-4EDE-AD2C-4D032BE5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C982C-C2BF-41CF-B20A-53752240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ADD6-5D57-4D92-B4B4-5F747625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9693-4FDE-44A0-A33A-BEC415E3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F1F4A-D8CC-4EB6-8E35-85013F85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8759-ADDD-406F-82E7-47918DED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4FC-3605-4A00-A4A6-56C544E1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595-1384-4302-AD25-65423284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C15-A74D-4706-8FA6-C528DBE1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BB1-4C82-4CD6-A24B-9116DF3D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CDF-EC67-4F04-8E8B-8C6E0545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72EB-5A81-442C-B4AC-1DB5FF2EE43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52E6-6218-4399-A852-CC530725BFD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D941-B1EB-4F50-9FC0-DF9DBFA4CA8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2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B14E-4935-4CB4-BF75-E65FA35314C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382560" y="4721400"/>
            <a:ext cx="57610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Century"/>
              </a:rPr>
              <a:t>Кобальт и зелень, ультрамарин, смуглая охра и яркий кармин…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Century"/>
              </a:rPr>
              <a:t>Хочешь, невиданных птиц и зверей я нарисую</a:t>
            </a:r>
            <a:r>
              <a:rPr b="1" i="1" lang="en-US" sz="2000" spc="-1" strike="noStrike">
                <a:solidFill>
                  <a:srgbClr val="404040"/>
                </a:solidFill>
                <a:latin typeface="Century"/>
              </a:rPr>
              <a:t>?</a:t>
            </a:r>
            <a:r>
              <a:rPr b="1" i="1" lang="ru-RU" sz="2000" spc="-1" strike="noStrike">
                <a:solidFill>
                  <a:srgbClr val="404040"/>
                </a:solidFill>
                <a:latin typeface="Century"/>
              </a:rPr>
              <a:t> – Рисуй поскорей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Century"/>
              </a:rPr>
              <a:t>(«Коробка с красками» Э.В. Рью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93560" y="549360"/>
            <a:ext cx="83883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50560" y="731880"/>
            <a:ext cx="88930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Воспитание творческой и самостоятельной личности – одна из важнейших задач современной педагогической теории и практики. Изодеятельность с применением нетрадиционных техник открывает широкий простор для детского творчества, полета фантазии, позволяет проявить ребенку самостоятельность, инициативу, выразить свою индивидуальность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исование нетрадиционными способами позволяет малышам быстро получить результат (для них это очень важно), а более старшим детям помогает реализовать их творческие способности, проявить фантазию и оригинальность замысла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e67c8"/>
                </a:solidFill>
                <a:latin typeface="Trebuchet MS"/>
              </a:rPr>
              <a:t>Применение нетрадиционных техник рисования с детьми способствует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Снятию детских страхов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азвитию уверенности в своих силах, наблюдательности, эстетического восприяти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азвитию пространственного мышления, ориентировке на листе бумаги, глазомера, зрительного восприяти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азвитию творческих способностей, воображения, свободному выражению  своего замысла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Формированию умения ребенка работать с разнообразным материалом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Быстрому достижению желаемого результата работы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азвитию чувства композиции, ритма, цветовосприяти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азвитию мелкой моторики рук, тактильного восприятия, внимания, усидчивости, эмоциональной отзывчивост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2567160" y="7023240"/>
            <a:ext cx="6583320" cy="1225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394920" y="691920"/>
            <a:ext cx="828036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1489f"/>
                </a:solidFill>
                <a:latin typeface="Trebuchet MS"/>
              </a:rPr>
              <a:t>Цель работы: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ознакомить детей с различными нетрадиционными техниками рисования для изображения  природных объектов и явлений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1489f"/>
                </a:solidFill>
                <a:latin typeface="Trebuchet MS"/>
              </a:rPr>
              <a:t>Задачи: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Сформировать у детей технические навыки создания изображений нетрадиционными способами;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Учить детей создавать оригинальный образ в рисунке;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обуждать детей к экспериментированию;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азвивать воображение, творческие способности у детей;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Способствовать получению детьми эстетического удовольствия от работы;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азвивать наблюдательность, эмоциональную отзывчивость, внимание, усидчивость, мелкую моторику рук.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1489f"/>
                </a:solidFill>
                <a:latin typeface="Trebuchet MS"/>
              </a:rPr>
              <a:t>При создании работ применялись следующие </a:t>
            </a:r>
            <a:r>
              <a:rPr b="1" i="1" lang="ru-RU" sz="1100" spc="-1" strike="noStrike" u="sng">
                <a:solidFill>
                  <a:srgbClr val="073c65"/>
                </a:solidFill>
                <a:uFillTx/>
                <a:latin typeface="Trebuchet MS"/>
              </a:rPr>
              <a:t>нетрадиционные техники  рисования</a:t>
            </a:r>
            <a:r>
              <a:rPr b="0" lang="ru-RU" sz="1100" spc="-1" strike="noStrike">
                <a:solidFill>
                  <a:srgbClr val="31489f"/>
                </a:solidFill>
                <a:latin typeface="Trebuchet MS"/>
              </a:rPr>
              <a:t>: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пальчиками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Тычок жесткой полусухой кистью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ладошками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«Волшебные ниточки» (печать из ниток)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Монотипия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абрызг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по восковому подмалевку (восковые мелки/свеча + акварель)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по сырой бумаге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тпечатки «листики»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по мятой бумаге + масляная пастель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«Дождливая картинка»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Тампонирование , тампонирование + трафарет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Кляксография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с помощью окрашенных камушков/шариков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солью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мыльными пузырями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Граттаж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Фроттаж + поролоновые печати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71360" y="3846600"/>
            <a:ext cx="9033120" cy="2901960"/>
          </a:xfrm>
          <a:prstGeom prst="rect">
            <a:avLst/>
          </a:prstGeom>
          <a:ln w="0">
            <a:noFill/>
          </a:ln>
        </p:spPr>
      </p:pic>
      <p:pic>
        <p:nvPicPr>
          <p:cNvPr id="220" name="Объект 3" descr=""/>
          <p:cNvPicPr/>
          <p:nvPr/>
        </p:nvPicPr>
        <p:blipFill>
          <a:blip r:embed="rId2"/>
          <a:stretch/>
        </p:blipFill>
        <p:spPr>
          <a:xfrm>
            <a:off x="1476360" y="765000"/>
            <a:ext cx="2317680" cy="3092760"/>
          </a:xfrm>
          <a:prstGeom prst="rect">
            <a:avLst/>
          </a:prstGeom>
          <a:ln w="9360">
            <a:solidFill>
              <a:srgbClr val="919aca"/>
            </a:solidFill>
            <a:miter/>
          </a:ln>
        </p:spPr>
      </p:pic>
      <p:pic>
        <p:nvPicPr>
          <p:cNvPr id="221" name="Рисунок 4" descr=""/>
          <p:cNvPicPr/>
          <p:nvPr/>
        </p:nvPicPr>
        <p:blipFill>
          <a:blip r:embed="rId3"/>
          <a:stretch/>
        </p:blipFill>
        <p:spPr>
          <a:xfrm>
            <a:off x="5148360" y="765000"/>
            <a:ext cx="2282760" cy="3044880"/>
          </a:xfrm>
          <a:prstGeom prst="rect">
            <a:avLst/>
          </a:prstGeom>
          <a:ln w="9360">
            <a:solidFill>
              <a:srgbClr val="c8cde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395360" y="4059360"/>
            <a:ext cx="7083360" cy="2670120"/>
          </a:xfrm>
          <a:prstGeom prst="rect">
            <a:avLst/>
          </a:prstGeom>
          <a:ln w="0">
            <a:noFill/>
          </a:ln>
        </p:spPr>
      </p:pic>
      <p:pic>
        <p:nvPicPr>
          <p:cNvPr id="223" name="Объект 3" descr=""/>
          <p:cNvPicPr/>
          <p:nvPr/>
        </p:nvPicPr>
        <p:blipFill>
          <a:blip r:embed="rId2"/>
          <a:stretch/>
        </p:blipFill>
        <p:spPr>
          <a:xfrm>
            <a:off x="2700360" y="301680"/>
            <a:ext cx="3816360" cy="38401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71360" y="4206960"/>
            <a:ext cx="9009000" cy="2601720"/>
          </a:xfrm>
          <a:prstGeom prst="rect">
            <a:avLst/>
          </a:prstGeom>
          <a:ln w="0">
            <a:noFill/>
          </a:ln>
        </p:spPr>
      </p:pic>
      <p:pic>
        <p:nvPicPr>
          <p:cNvPr id="225" name="Объект 3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2606760" cy="3475080"/>
          </a:xfrm>
          <a:prstGeom prst="rect">
            <a:avLst/>
          </a:prstGeom>
          <a:ln w="9360">
            <a:solidFill>
              <a:srgbClr val="31489f"/>
            </a:solidFill>
            <a:miter/>
          </a:ln>
        </p:spPr>
      </p:pic>
      <p:pic>
        <p:nvPicPr>
          <p:cNvPr id="226" name="Рисунок 4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428920" cy="3240000"/>
          </a:xfrm>
          <a:prstGeom prst="rect">
            <a:avLst/>
          </a:prstGeom>
          <a:ln w="9360">
            <a:solidFill>
              <a:srgbClr val="31489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5:30:31Z</dcterms:created>
  <dc:creator>андрей</dc:creator>
  <dc:description/>
  <dc:language>en-US</dc:language>
  <cp:lastModifiedBy>User</cp:lastModifiedBy>
  <dcterms:modified xsi:type="dcterms:W3CDTF">2019-04-23T11:41:32Z</dcterms:modified>
  <cp:revision>74</cp:revision>
  <dc:subject/>
  <dc:title>Использование нетрадиционных техник рисования  с детьми дошкольного возраста для изображения природы и природных объектов.</dc:title>
</cp:coreProperties>
</file>