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9D5-8BD0-4CD3-A7C4-0F94AD76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358-8F60-4EF7-9146-123619F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E6F-94FB-4FC4-958E-15537588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604-E9A4-4806-964B-75B98201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1BB-D95E-4827-AFCA-5C121015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F303-7E70-4FB7-AFDC-FAF39153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3D5E-33B2-49BD-A846-7B4894B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DEFD-AFE4-41BB-8859-49E1BC76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26D-E6B8-46A5-880A-4882AE18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D6EA-3C81-4230-8CDA-CF964BD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1C9A-F47B-47AD-93DD-80D9D6A2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C15-34F2-420E-B151-A83ECEE2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E5ED-B4A1-4740-901C-BC86CFB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814B-8C91-4C5F-B520-8C9164A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1E7-F0E9-4FFC-8618-C196E2A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E77-943E-4DDC-B75A-DBEF4D3F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4DB4-EDEA-41D8-94E6-6903B071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11FB6-D9BC-4C85-B160-E41ED721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C377B-3D3E-4AF8-A0A2-60C9B35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DC3C-C736-43D5-A313-463745FD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3BE5-A308-4298-A75C-6FCADB8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6DB9-6D1C-4059-B843-FDF8060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A16-4C1E-4EE1-9224-66EF4EE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C62AA-AC36-4EFB-B0EC-3AB49A7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45A3-5895-49FA-93BF-46CB110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0D38-3F7D-4BC9-BE04-049E2320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FA546-B2D6-45B7-9D47-E161E27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4BDA-67BC-4E4F-B693-C39D165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1971-6A2D-494B-B236-2BE8B164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AED5-15CF-40C5-B84C-51884D90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36E5-FDC2-4000-B628-30CE8D13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6836-BDFF-4D33-8B2D-E9F19DED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74E5-5FC3-41BA-935D-0B444DDC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B34-C798-4412-B7C1-10F7777E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769E-ACA5-4A79-9A76-3AAB642C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742B-1CA7-499B-A3EE-2DD950C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32AC9-0EBE-49DB-AB20-DA8309A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64C02-AC68-43CC-8F29-94E6C279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49F3-FE7B-4877-8351-AF4CCD9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48023-C223-45BB-B88A-0226F89A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FF67-1894-4FD2-8E31-15049A60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F030D-5EA6-4F0F-AA4B-A1EF1019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3B89F-00A0-4A1E-8D9C-EB435C87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D04-2740-45BB-A314-9119570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D57-D0B3-4562-B640-F9FCDA9B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4C1-E834-45F6-96D0-F422E357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D86-CAD5-4827-A2F1-F769488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F27D-54B1-419A-9376-0CAE4847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1D28-D16C-47B6-A483-5F2540BDCB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2E92-3DE1-4CEA-9F52-9E41B6306F50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0253-7ECC-42F2-A3DB-390BCDDA75E8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632-9402-495E-9CEF-1B5674A247DA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382560" y="4721400"/>
            <a:ext cx="57610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Кобальт и зелень, ультрамарин, смуглая охра и яркий кармин….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Хочешь, невиданных птиц и зверей я нарисую</a:t>
            </a:r>
            <a:r>
              <a:rPr b="1" i="1" lang="en-US" sz="2000" spc="-1" strike="noStrike">
                <a:solidFill>
                  <a:srgbClr val="404040"/>
                </a:solidFill>
                <a:latin typeface="Century"/>
              </a:rPr>
              <a:t>?</a:t>
            </a: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 – Рисуй поскорей!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"/>
              </a:rPr>
              <a:t>(«Коробка с красками» Э.В. Рью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93560" y="549360"/>
            <a:ext cx="838836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560" y="731880"/>
            <a:ext cx="88930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Воспитание творческой и самостоятельной личности – одна из важнейших задач современной педагогической теории и практики. Изодеятельность с применением нетрадиционных техник открывает широкий простор для детского творчества, полета фантазии, позволяет проявить ребенку самостоятельность, инициативу, выразить свою индивидуальность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исование нетрадиционными способами позволяет малышам быстро получить результат (для них это очень важно), а более старшим детям помогает реализовать их творческие способности, проявить фантазию и оригинальность замысла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e67c8"/>
                </a:solidFill>
                <a:latin typeface="Trebuchet MS"/>
              </a:rPr>
              <a:t>Применение нетрадиционных техник рисования с детьми способствует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Снятию детских страхов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уверенности в своих силах, наблюдательности, эстетического 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пространственного мышления, ориентировке на листе бумаги, глазомера, зрительного 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творческих способностей, воображения, свободному выражению  своего замысла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Формированию умения ребенка работать с разнообразным материалом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Быстрому достижению желаемого результата работы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чувства композиции, ритма, цветовосприятия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Развитию мелкой моторики рук, тактильного восприятия, внимания, усидчивости, эмоциональной отзывчивост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00880" indent="-160560">
              <a:spcBef>
                <a:spcPts val="3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2567160" y="7023240"/>
            <a:ext cx="6583320" cy="122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394920" y="691920"/>
            <a:ext cx="828036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Цель работы: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знакомить детей с различными нетрадиционными техниками рисования для изображения  природных объектов и яв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Задачи: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формировать у детей технические навыки создания изображений нетрадиционными способами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Учить детей создавать оригинальный образ в рисунке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Побуждать детей к экспериментированию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звивать воображение, творческие способности у детей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Способствовать получению детьми эстетического удовольствия от работы;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азвивать наблюдательность, эмоциональную отзывчивость, внимание, усидчивость, мелкую моторику рук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При создании работ применялись следующие </a:t>
            </a:r>
            <a:r>
              <a:rPr b="1" i="1" lang="ru-RU" sz="1100" spc="-1" strike="noStrike" u="sng">
                <a:solidFill>
                  <a:srgbClr val="073c65"/>
                </a:solidFill>
                <a:uFillTx/>
                <a:latin typeface="Trebuchet MS"/>
              </a:rPr>
              <a:t>нетрадиционные техники  рисования</a:t>
            </a:r>
            <a:r>
              <a:rPr b="0" lang="ru-RU" sz="1100" spc="-1" strike="noStrike">
                <a:solidFill>
                  <a:srgbClr val="31489f"/>
                </a:solidFill>
                <a:latin typeface="Trebuchet MS"/>
              </a:rPr>
              <a:t>: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альчика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Тычок жесткой полусухой кистью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ладошка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«Волшебные ниточки» (печать из ниток)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Монотипия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Набрызг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восковому подмалевку (восковые мелки/свеча + акварель)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сырой бумаге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Отпечатки «листики»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по мятой бумаге + масляная пастель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«Дождливая картинка»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Тампонирование , тампонирование + трафарет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Кляксография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с помощью окрашенных камушков/шариков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солью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Рисование мыльными пузырям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Граттаж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Фроттаж + поролоновые печати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71360" y="3846600"/>
            <a:ext cx="9033120" cy="2901960"/>
          </a:xfrm>
          <a:prstGeom prst="rect">
            <a:avLst/>
          </a:prstGeom>
          <a:ln w="0">
            <a:noFill/>
          </a:ln>
        </p:spPr>
      </p:pic>
      <p:pic>
        <p:nvPicPr>
          <p:cNvPr id="220" name="Объект 3" descr=""/>
          <p:cNvPicPr/>
          <p:nvPr/>
        </p:nvPicPr>
        <p:blipFill>
          <a:blip r:embed="rId2"/>
          <a:stretch/>
        </p:blipFill>
        <p:spPr>
          <a:xfrm>
            <a:off x="1476360" y="765000"/>
            <a:ext cx="2317680" cy="3092760"/>
          </a:xfrm>
          <a:prstGeom prst="rect">
            <a:avLst/>
          </a:prstGeom>
          <a:ln w="9360">
            <a:solidFill>
              <a:srgbClr val="919aca"/>
            </a:solidFill>
            <a:miter/>
          </a:ln>
        </p:spPr>
      </p:pic>
      <p:pic>
        <p:nvPicPr>
          <p:cNvPr id="221" name="Рисунок 4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282760" cy="3044880"/>
          </a:xfrm>
          <a:prstGeom prst="rect">
            <a:avLst/>
          </a:prstGeom>
          <a:ln w="9360">
            <a:solidFill>
              <a:srgbClr val="c8cde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395360" y="4059360"/>
            <a:ext cx="7083360" cy="267012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3" descr=""/>
          <p:cNvPicPr/>
          <p:nvPr/>
        </p:nvPicPr>
        <p:blipFill>
          <a:blip r:embed="rId2"/>
          <a:stretch/>
        </p:blipFill>
        <p:spPr>
          <a:xfrm>
            <a:off x="2700360" y="301680"/>
            <a:ext cx="3816360" cy="384012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171360" y="4206960"/>
            <a:ext cx="9009000" cy="2601720"/>
          </a:xfrm>
          <a:prstGeom prst="rect">
            <a:avLst/>
          </a:prstGeom>
          <a:ln w="0">
            <a:noFill/>
          </a:ln>
        </p:spPr>
      </p:pic>
      <p:pic>
        <p:nvPicPr>
          <p:cNvPr id="225" name="Объект 3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2606760" cy="3475080"/>
          </a:xfrm>
          <a:prstGeom prst="rect">
            <a:avLst/>
          </a:prstGeom>
          <a:ln w="9360">
            <a:solidFill>
              <a:srgbClr val="31489f"/>
            </a:solidFill>
            <a:miter/>
          </a:ln>
        </p:spPr>
      </p:pic>
      <p:pic>
        <p:nvPicPr>
          <p:cNvPr id="226" name="Рисунок 4" descr=""/>
          <p:cNvPicPr/>
          <p:nvPr/>
        </p:nvPicPr>
        <p:blipFill>
          <a:blip r:embed="rId3"/>
          <a:stretch/>
        </p:blipFill>
        <p:spPr>
          <a:xfrm>
            <a:off x="5076720" y="476280"/>
            <a:ext cx="2428920" cy="3240000"/>
          </a:xfrm>
          <a:prstGeom prst="rect">
            <a:avLst/>
          </a:prstGeom>
          <a:ln w="9360">
            <a:solidFill>
              <a:srgbClr val="31489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5:30:31Z</dcterms:created>
  <dc:creator>андрей</dc:creator>
  <dc:description/>
  <dc:language>en-US</dc:language>
  <cp:lastModifiedBy>User</cp:lastModifiedBy>
  <dcterms:modified xsi:type="dcterms:W3CDTF">2019-04-23T11:41:32Z</dcterms:modified>
  <cp:revision>74</cp:revision>
  <dc:subject/>
  <dc:title>Использование нетрадиционных техник рисования  с детьми дошкольного возраста для изображения природы и природных объектов.</dc:title>
</cp:coreProperties>
</file>