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7B6-C776-4AB6-96C6-091508F8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F3C-62E2-491A-B19E-E45A0EC1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8F9-B58D-4BA1-A944-F81D2278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D21-57ED-4871-9DB4-C2E4B75D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D12-7B88-4DE7-9269-93AB083C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C89-4A4E-4AF7-AF7C-BB648231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4D1-01C5-4A22-87D4-87B8004B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837-CDCD-4254-840C-0AD83B97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4C3-F780-47DC-AF2A-80155E57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33D-4220-473C-9C88-3FD543E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D0A-9FB0-47C9-AB6B-B78AFC97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BEE-2CAD-43FE-8AC3-CB7EC7E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0272-0F80-45EC-B3AD-3E815FC0BBA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72360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Кобальт и зелень, ультрамарин, смуглая охра и яркий кармин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Хочешь, невиданных птиц и зверей я нарисую</a:t>
            </a: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?</a:t>
            </a: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 – Рисуй поскоре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"/>
              </a:rPr>
              <a:t>(«Коробка с красками» Э.В. Рью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4000" y="76500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Использование нетрадиционных техник рисования  с детьми дошкольного возраста для изображения природы и природных объектов.</a:t>
            </a:r>
            <a:br>
              <a:rPr sz="3600"/>
            </a:b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Часть 2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Монотипия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уашь, согнутый пополам  лист бумаг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цвет, пятно, линии, половина рисунка или его зеркальное отображение.</a:t>
            </a:r>
            <a:br>
              <a:rPr sz="14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исуем на одной половине листа половину или целое изображение, далее складываем лист пополам и снова разворачивае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вей Ш. «Рыбки в море», Алена Г. «Разноцветные бабочки» вторая младшая групп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076640" cy="305748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3457800" cy="31147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4365720"/>
            <a:ext cx="8893080" cy="26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брызг</a:t>
            </a:r>
            <a:br>
              <a:rPr sz="1800"/>
            </a:br>
            <a:r>
              <a:rPr b="0" lang="ru-RU" sz="1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точка, фактура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. 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бумага, гуашь, жесткая кисть или зубная щетка,  кисти.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пособ получения изображения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ок набирает краску на  зубную щетку или жесткую кисть, а кисточкой проводит быстрыми движениями по направлению к себе  по поверхности щетки/ жесткой кисти. Краска разбрызгивается на бумагу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фия  Л.-С. «Снегопад», Ева Т. «Листопад» вторая младшая груп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3600720" cy="348444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938400"/>
            <a:ext cx="91440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исование по восковому подмалевку (восковые мелки/свеча + акварель)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цвет, линия, пятно, фактура</a:t>
            </a: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. 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ковые мелки или свеча,  плотная белая бумага, акварель, кисти. </a:t>
            </a: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пособ получения изображения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ок рисует восковыми мелками или свечой  на белой бумаге. Затем закрашивает лист акварелью в один или несколько цветов. Рисунок мелками  или свечой остается не закрашенным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ина Г. «Зимние елочки», Захар Т «Цветочки», Дима С. «Дождик», вторая младшая групп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606400" cy="347508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3186360" cy="347976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исование по сырой бумаге.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Средства выразительности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вет, фактура, пятно, лини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Материалы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емкость с водой, влажная салфетка, акварель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намочить бумагу и поместить ее на влажной салфетке (чтобы бумага не высохла). Возьмем акварель и нарисуем все, что душе уго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он  Д. «Облака», вторая младшая групп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2605320" cy="34750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53" name="Рисунок 4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3047760" cy="364824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Рисование по мятой бумаге + масляная пастель</a:t>
            </a:r>
            <a:br>
              <a:rPr sz="1800"/>
            </a:br>
            <a:br>
              <a:rPr sz="1800"/>
            </a:b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ятая бумага, акварель, кисть, масляная пастель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редства выразительности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цвет, фактура («эффект мозаики»)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берем лист бумаги и сминаем его. Затем закрашиваем лист акварелью любого цвета и после того, как рисунок подсохнет, дорисовываем масляной пастелью все, что пожелаем. Техника интересна тем, что в местах сгибов бумаги краска при закрашивании делается более интенсивной, темной, возникает «эффект мозаики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Никита Д. «Разноцветные рыбки», вторая младшая групп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3036960" cy="347364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  <p:pic>
        <p:nvPicPr>
          <p:cNvPr id="56" name="Рисунок 4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3311280" cy="345600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71592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Отпечатки «Листики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С</a:t>
            </a:r>
            <a:r>
              <a:rPr b="0" lang="ru-RU" sz="1400" spc="-1" strike="noStrike">
                <a:solidFill>
                  <a:srgbClr val="254061"/>
                </a:solidFill>
                <a:latin typeface="Calibri"/>
              </a:rPr>
              <a:t>редства выразительности</a:t>
            </a:r>
            <a:r>
              <a:rPr b="0" lang="ru-RU" sz="1400" spc="-1" strike="noStrike">
                <a:solidFill>
                  <a:srgbClr val="4a452a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ура, цвет. </a:t>
            </a:r>
            <a:r>
              <a:rPr b="0" lang="ru-RU" sz="1400" spc="-1" strike="noStrike">
                <a:solidFill>
                  <a:srgbClr val="632523"/>
                </a:solidFill>
                <a:latin typeface="Calibri"/>
              </a:rPr>
              <a:t>Материалы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мага, гуашь, листья разных деревьев (желательно опавшие), кисти. </a:t>
            </a:r>
            <a:r>
              <a:rPr b="0" lang="ru-RU" sz="1400" spc="-1" strike="noStrike">
                <a:solidFill>
                  <a:srgbClr val="c4bd97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енок покрывает листок дерева красками разных цветов, затем прикладывает его окрашенной стороной к бумаге для получения отпечатка. Каждый раз берется новый листок. Черешки у листьев можно дорисовать кистью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Осенние листочки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ня М., Антон Д.  вторая младшая групп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21080" cy="336096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59" name="Рисунок 4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3838680" cy="331344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560" y="3573360"/>
            <a:ext cx="8569440" cy="29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Тампонирование, тампонирование + трафарет</a:t>
            </a:r>
            <a:br>
              <a:rPr sz="1800"/>
            </a:br>
            <a:r>
              <a:rPr b="0" lang="ru-RU" sz="1400" spc="-1" strike="noStrike">
                <a:solidFill>
                  <a:srgbClr val="558ed5"/>
                </a:solidFill>
                <a:latin typeface="Calibri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тампон, штемпельная подушка, гуашь.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Средства вырази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цвет, пятно, фактура.</a:t>
            </a:r>
            <a:br>
              <a:rPr sz="1400"/>
            </a:br>
            <a:r>
              <a:rPr b="0" lang="ru-RU" sz="1400" spc="-1" strike="noStrike">
                <a:solidFill>
                  <a:srgbClr val="558ed5"/>
                </a:solidFill>
                <a:latin typeface="Calibri"/>
              </a:rPr>
              <a:t>Способ получения изображени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делаем тампон из марли или поролона, а  штемпельная подушки послужит палитрой. Наберем краски и легкими прикосновениями к бумаге будем рисовать.</a:t>
            </a:r>
            <a:br>
              <a:rPr sz="1400"/>
            </a:br>
            <a:r>
              <a:rPr b="0" lang="ru-RU" sz="1400" spc="-1" strike="noStrike">
                <a:solidFill>
                  <a:srgbClr val="953735"/>
                </a:solidFill>
                <a:latin typeface="Calibri"/>
              </a:rPr>
              <a:t>Сочетание техники «тампонирование» с техникой «трафарет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рем  готовый или самодельный трафарет. Затем, прижав его к бумаге, обведем по контуру частыми и легкими прикосновениями тампона. Силуэт от трафарета остается на бумаге. По желанию дорисовываем изображение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376360" cy="316728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62" name="Рисунок 5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2435040" cy="324468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  <p:pic>
        <p:nvPicPr>
          <p:cNvPr id="63" name="Рисунок 6" descr=""/>
          <p:cNvPicPr/>
          <p:nvPr/>
        </p:nvPicPr>
        <p:blipFill>
          <a:blip r:embed="rId3"/>
          <a:stretch/>
        </p:blipFill>
        <p:spPr>
          <a:xfrm>
            <a:off x="6300720" y="260280"/>
            <a:ext cx="2446560" cy="3262320"/>
          </a:xfrm>
          <a:prstGeom prst="rect">
            <a:avLst/>
          </a:prstGeom>
          <a:ln w="9360">
            <a:solidFill>
              <a:srgbClr val="95b3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5:30:31Z</dcterms:created>
  <dc:creator>андрей</dc:creator>
  <dc:description/>
  <dc:language>en-US</dc:language>
  <cp:lastModifiedBy>User</cp:lastModifiedBy>
  <dcterms:modified xsi:type="dcterms:W3CDTF">2019-04-23T11:49:18Z</dcterms:modified>
  <cp:revision>73</cp:revision>
  <dc:subject/>
  <dc:title>Использование нетрадиционных техник рисования  с детьми дошкольного возраста для изображения природы и природных объектов.</dc:title>
</cp:coreProperties>
</file>