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DA0E0-D12E-4EDC-978E-88C579260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D4E0F-10C9-4FCB-9E19-AE2816BCC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C3585-1AF4-4306-ACD2-112C7471E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88DAB-C549-46BA-8ED9-7F7E3CDF3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6A346-0E8A-45E2-B7B4-421D4B080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4F976-5016-434C-B85A-ED69762FC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0D13C-2A30-4057-A20D-465B69739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DCD50-B346-4BCA-A030-443F71CD9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41797-A9D1-4F1B-8884-EEA93EBDC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97832-9E16-4C07-AF32-4D67F4062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4D8B3-DDC8-454B-854F-49A398BEF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0372A-6F83-4A3A-9FF5-8D5F29194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D0757-7185-4229-8D70-4355B22C86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1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184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042920" y="1700280"/>
            <a:ext cx="68421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ff00"/>
                </a:solidFill>
                <a:latin typeface="Comic Sans MS"/>
              </a:rPr>
              <a:t>Перелетные      птицы.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0328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184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2556000" y="1773360"/>
            <a:ext cx="568944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184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3059280" y="836640"/>
            <a:ext cx="410508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140328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184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2916360" y="1268280"/>
            <a:ext cx="4267080" cy="43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140328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184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2700360" y="1700280"/>
            <a:ext cx="5689440" cy="4267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9184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2484360" y="1557360"/>
            <a:ext cx="56898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40328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184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2556000" y="1844640"/>
            <a:ext cx="568944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40328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184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2556000" y="1628640"/>
            <a:ext cx="5616360" cy="42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184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2484360" y="1628640"/>
            <a:ext cx="568980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184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2627280" y="2077920"/>
            <a:ext cx="547380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40328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184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2556000" y="1628640"/>
            <a:ext cx="568944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4-23T11:45:40Z</dcterms:created>
  <dc:creator>user</dc:creator>
  <dc:description/>
  <dc:language>en-US</dc:language>
  <cp:lastModifiedBy>user</cp:lastModifiedBy>
  <dcterms:modified xsi:type="dcterms:W3CDTF">2019-04-23T12:53:17Z</dcterms:modified>
  <cp:revision>3</cp:revision>
  <dc:subject/>
  <dc:title>Слайд 1</dc:title>
</cp:coreProperties>
</file>