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AA3-D4D7-45C9-BA7F-ACB8FBEF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F2D-57B2-4BF1-9894-954AAEB3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D16-3DFF-4984-B9E6-ED54B384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731-DEAD-413C-A046-42342C0D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2F6-B51C-46B8-8320-60426142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6AC-248D-47DB-849E-AD608A0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2D9-0786-4393-B357-FCB408D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2DF0-234E-4AE3-9FE4-C59ED339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D57-5796-490B-8E48-9E6A0E25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F16-8A2E-447D-B558-9F3278D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665-5CC8-4F5C-9859-FBB43C5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427-1675-4B9C-AB45-F08455B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7467-6C0D-45E8-8E15-78E62A96B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6842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Comic Sans MS"/>
              </a:rPr>
              <a:t>Перелетные      птицы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4105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16360" y="1268280"/>
            <a:ext cx="4267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568944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484360" y="155736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184464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561636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27280" y="2077920"/>
            <a:ext cx="54738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11:45:40Z</dcterms:created>
  <dc:creator>user</dc:creator>
  <dc:description/>
  <dc:language>en-US</dc:language>
  <cp:lastModifiedBy>user</cp:lastModifiedBy>
  <dcterms:modified xsi:type="dcterms:W3CDTF">2019-04-23T12:53:17Z</dcterms:modified>
  <cp:revision>3</cp:revision>
  <dc:subject/>
  <dc:title>Слайд 1</dc:title>
</cp:coreProperties>
</file>