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wmf" ContentType="image/x-wmf"/>
  <Override PartName="/ppt/media/image22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0E15-A4A7-44C8-A0C6-F02B713A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9AB7-A478-47E2-BB50-257E579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8B3A-6A88-4877-AD7D-579C745A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6163-9389-418D-B5B9-A0307CCD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0F1C-83CE-4101-8AEB-6123D64C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44B7-6CE3-4DD7-8BBA-F9555452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A9AF-1425-4BDF-856B-3C80FB6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9D0E-4DC1-4A49-8C14-F1452A7F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6522-3B4B-40B7-A3D6-211AEDFF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B518-3FBC-48BE-AB7F-08300B82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148D-CC7F-4E90-86D8-02B56E4B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58B8-3470-41FC-88D8-96BD7B0C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CDBA-8BFD-4E22-A1B9-6A1B48EC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7CF2-8C43-4400-9363-E3B41685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8255-C4DE-430D-9E9F-0D1C4F4A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23C6-4F60-4F61-992B-588A4DBE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5E30-7DDD-46E6-9EB0-54BB19B7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3051-1EEF-48D2-BA67-DEDB6F2B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F361-BD6D-42E1-94CA-D90C1420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E37B-B0E1-4534-81AD-F8D3868B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E1F9-A179-47ED-A2EB-A874D45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B9D4-0019-4CAB-AE29-8C613A3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65DD-5539-4637-BE75-EE3F2A3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80B4-0337-45AA-8939-BB4F8196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391-C14C-4EEA-959E-C425CE884E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9353-4930-4B19-BD39-A7240143FE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ндерное воспитание в условиях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Нельзя считать один пол совершеннее другого, так и нельзя их уравниват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Ж.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951280" cy="22147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Логотип Фантазия прозрачный.jpg"/>
          <p:cNvPicPr/>
          <p:nvPr/>
        </p:nvPicPr>
        <p:blipFill>
          <a:blip r:embed="rId2"/>
          <a:stretch/>
        </p:blipFill>
        <p:spPr>
          <a:xfrm>
            <a:off x="5286240" y="214200"/>
            <a:ext cx="3286440" cy="6429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10" name="Прямоугольник 5"/>
          <p:cNvSpPr/>
          <p:nvPr/>
        </p:nvSpPr>
        <p:spPr>
          <a:xfrm>
            <a:off x="785880" y="5214960"/>
            <a:ext cx="3786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готовила воспитатель Сокоренко О.А.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62064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игр детей так же вызывает тревогу: дети демонстрируют модели поведения, не соответствующие полу ребенка, не умеют договариваться в игре, распределять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трудовой деятельности дети не умеют самостоятельно распределять обязанности с учетом пола партн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а и девочку нельзя воспитывать и обучать одинаково. Они по-разному воспринимают мир, по-разному смотрят и видят, слушают и слышат, по-разному говорят и молчат, чувствуют и пережив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сихологические отличия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ек                     мальч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более послуш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более работоспособ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большую часть информации воспринимают на сл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больше хотят отли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более изобретатель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занимают больше м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не должны пла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большую часть информации воспринимают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900000" y="4653000"/>
            <a:ext cx="1844640" cy="200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6012000" y="5516640"/>
            <a:ext cx="14284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Чем мальчики отличаются от дево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0402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773000"/>
            <a:ext cx="43182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еваясь, мальчики сначала наденут верх, потом н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ьчики снимают футболку, ухватив её на спине рукой и перетянув через голов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вая, мальчики прикрывают рот кула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рачиваясь на зов мальчики, поворачивают корпус, потому что шея у них не такая гибк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267920"/>
            <a:ext cx="4041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4720" y="1773360"/>
            <a:ext cx="4319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, обычно наоборот, сначала наденут низ, потом вер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раздеваясь, снимают блузку двумя, руками потянув навер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– ладо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поворачивают только голо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040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981000"/>
            <a:ext cx="40402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альчиков в дыхании задействованы мышцы брюшного п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умываясь, мальчики почесывают подбородок и ше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я прическу, мальчики проводят рукой по волосам, приглаживая 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нимаясь (спускаясь) с горы мальчики просто шире расставляют н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4720" y="54900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981000"/>
            <a:ext cx="4041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дышат груд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умываясь, девочки наматывают прядь волос на пал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авляя прическу, девочки взбивают волосы пальцами распушив 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же стараются подниматься (спускаться) бо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0402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981000"/>
            <a:ext cx="40402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я свои пятки, мальчики поднимают ногу и смотрит на нее спере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с на халате завязывают ниже пуп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и затыкают ладон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ясь удобно устроиться в кресле, мальчики широко расставляют ноги, либо кладут стопу одной ноги на колено друг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4720" y="404640"/>
            <a:ext cx="40417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4720" y="981000"/>
            <a:ext cx="4041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я свои пятки, девочки оборачиваются за сп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с на халате завязывают выше пупка, на тал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ши затыкают паль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аясь удобно устроиться в кресле, девочки подворачивают под себя ног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280" y="40464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а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125000"/>
            <a:ext cx="4040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казывая секрет, мальчики просто понижают голос и наклоняют голов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я зубы, мальчики широко расставляют ноги и опираются свободной рукой на край раков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16000" y="40464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ев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4720" y="1125000"/>
            <a:ext cx="4041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же, прикрывают свой рот и ухо подружки ладо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я зубы, девочки упираются рукой в 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6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1727280" cy="234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1258920" y="4581360"/>
            <a:ext cx="16574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642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а воспитания и обучения ребенка в соответствии с его полом является актуальной задачей педагогической работы с детьми дошкольн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, методы и подходы воспитания мальчиков и девочек должны быть различными. Биологические половые различия несут с собой различные эмоциональные, познавательные и личностные характеристики. Отсюда и возникает необходимость дифференцированного подхода в воспитании мальчиков и девочек с первых дн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203640" y="4567320"/>
            <a:ext cx="172872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7"/>
          <p:cNvGrpSpPr/>
          <p:nvPr/>
        </p:nvGrpSpPr>
        <p:grpSpPr>
          <a:xfrm>
            <a:off x="395280" y="620640"/>
            <a:ext cx="8208000" cy="5903280"/>
            <a:chOff x="395280" y="620640"/>
            <a:chExt cx="8208000" cy="590328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>
              <a:off x="6140520" y="5258520"/>
              <a:ext cx="6840" cy="4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4" idx="1"/>
              <a:endCxn id="166" idx="2"/>
            </p:cNvCxnSpPr>
            <p:nvPr/>
          </p:nvCxnSpPr>
          <p:spPr>
            <a:xfrm rot="10800000">
              <a:off x="2856960" y="1463040"/>
              <a:ext cx="821520" cy="33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1"/>
              <a:endCxn id="166" idx="2"/>
            </p:cNvCxnSpPr>
            <p:nvPr/>
          </p:nvCxnSpPr>
          <p:spPr>
            <a:xfrm rot="10800000">
              <a:off x="2856960" y="1463040"/>
              <a:ext cx="821520" cy="21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1"/>
            <p:cNvCxnSpPr>
              <a:stCxn id="170" idx="1"/>
              <a:endCxn id="166" idx="2"/>
            </p:cNvCxnSpPr>
            <p:nvPr/>
          </p:nvCxnSpPr>
          <p:spPr>
            <a:xfrm rot="10800000">
              <a:off x="2856960" y="1463040"/>
              <a:ext cx="821520" cy="84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032"/>
            <p:cNvSpPr/>
            <p:nvPr/>
          </p:nvSpPr>
          <p:spPr>
            <a:xfrm>
              <a:off x="395280" y="62064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Arial"/>
                </a:rPr>
                <a:t>Сред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3"/>
            <p:cNvSpPr/>
            <p:nvPr/>
          </p:nvSpPr>
          <p:spPr>
            <a:xfrm>
              <a:off x="3678480" y="188568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4"/>
            <p:cNvSpPr/>
            <p:nvPr/>
          </p:nvSpPr>
          <p:spPr>
            <a:xfrm>
              <a:off x="3678480" y="315072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родные ска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5"/>
            <p:cNvSpPr/>
            <p:nvPr/>
          </p:nvSpPr>
          <p:spPr>
            <a:xfrm>
              <a:off x="3678480" y="441576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слов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6"/>
            <p:cNvSpPr/>
            <p:nvPr/>
          </p:nvSpPr>
          <p:spPr>
            <a:xfrm>
              <a:off x="3678480" y="5680800"/>
              <a:ext cx="4924800" cy="843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олыбельные пес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17" descr=""/>
            <p:cNvPicPr/>
            <p:nvPr/>
          </p:nvPicPr>
          <p:blipFill>
            <a:blip r:embed="rId1"/>
            <a:stretch/>
          </p:blipFill>
          <p:spPr>
            <a:xfrm>
              <a:off x="418320" y="4293000"/>
              <a:ext cx="2524320" cy="216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Organization Chart 7"/>
          <p:cNvGrpSpPr/>
          <p:nvPr/>
        </p:nvGrpSpPr>
        <p:grpSpPr>
          <a:xfrm>
            <a:off x="442800" y="549360"/>
            <a:ext cx="8208000" cy="5831640"/>
            <a:chOff x="442800" y="549360"/>
            <a:chExt cx="8208000" cy="5831640"/>
          </a:xfrm>
        </p:grpSpPr>
        <p:cxnSp>
          <p:nvCxnSpPr>
            <p:cNvPr id="173" name="_s2052"/>
            <p:cNvCxnSpPr>
              <a:stCxn id="174" idx="1"/>
              <a:endCxn id="175" idx="2"/>
            </p:cNvCxnSpPr>
            <p:nvPr/>
          </p:nvCxnSpPr>
          <p:spPr>
            <a:xfrm rot="10800000">
              <a:off x="290448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3"/>
            <p:cNvCxnSpPr>
              <a:stCxn id="177" idx="1"/>
              <a:endCxn id="175" idx="2"/>
            </p:cNvCxnSpPr>
            <p:nvPr/>
          </p:nvCxnSpPr>
          <p:spPr>
            <a:xfrm rot="10800000">
              <a:off x="290448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4"/>
            <p:cNvCxnSpPr>
              <a:stCxn id="179" idx="1"/>
              <a:endCxn id="175" idx="2"/>
            </p:cNvCxnSpPr>
            <p:nvPr/>
          </p:nvCxnSpPr>
          <p:spPr>
            <a:xfrm rot="10800000">
              <a:off x="290448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2055"/>
            <p:cNvCxnSpPr>
              <a:stCxn id="181" idx="1"/>
              <a:endCxn id="175" idx="2"/>
            </p:cNvCxnSpPr>
            <p:nvPr/>
          </p:nvCxnSpPr>
          <p:spPr>
            <a:xfrm rot="10800000">
              <a:off x="290448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2056"/>
            <p:cNvSpPr/>
            <p:nvPr/>
          </p:nvSpPr>
          <p:spPr>
            <a:xfrm>
              <a:off x="44280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057"/>
            <p:cNvSpPr/>
            <p:nvPr/>
          </p:nvSpPr>
          <p:spPr>
            <a:xfrm>
              <a:off x="372600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58"/>
            <p:cNvSpPr/>
            <p:nvPr/>
          </p:nvSpPr>
          <p:spPr>
            <a:xfrm>
              <a:off x="372600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059"/>
            <p:cNvSpPr/>
            <p:nvPr/>
          </p:nvSpPr>
          <p:spPr>
            <a:xfrm>
              <a:off x="372600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0"/>
            <p:cNvSpPr/>
            <p:nvPr/>
          </p:nvSpPr>
          <p:spPr>
            <a:xfrm>
              <a:off x="372600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Organization Chart 17"/>
          <p:cNvGrpSpPr/>
          <p:nvPr/>
        </p:nvGrpSpPr>
        <p:grpSpPr>
          <a:xfrm>
            <a:off x="468360" y="549360"/>
            <a:ext cx="8208000" cy="5831640"/>
            <a:chOff x="468360" y="549360"/>
            <a:chExt cx="8208000" cy="5831640"/>
          </a:xfrm>
        </p:grpSpPr>
        <p:cxnSp>
          <p:nvCxnSpPr>
            <p:cNvPr id="183" name="_s2063"/>
            <p:cNvCxnSpPr>
              <a:stCxn id="184" idx="1"/>
              <a:endCxn id="185" idx="2"/>
            </p:cNvCxnSpPr>
            <p:nvPr/>
          </p:nvCxnSpPr>
          <p:spPr>
            <a:xfrm rot="10800000">
              <a:off x="2930040" y="1382400"/>
              <a:ext cx="821520" cy="458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2064"/>
            <p:cNvCxnSpPr>
              <a:stCxn id="187" idx="1"/>
              <a:endCxn id="185" idx="2"/>
            </p:cNvCxnSpPr>
            <p:nvPr/>
          </p:nvCxnSpPr>
          <p:spPr>
            <a:xfrm rot="10800000">
              <a:off x="2930040" y="1381680"/>
              <a:ext cx="821520" cy="33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65"/>
            <p:cNvCxnSpPr>
              <a:stCxn id="189" idx="1"/>
              <a:endCxn id="185" idx="2"/>
            </p:cNvCxnSpPr>
            <p:nvPr/>
          </p:nvCxnSpPr>
          <p:spPr>
            <a:xfrm rot="10800000">
              <a:off x="2930040" y="1381680"/>
              <a:ext cx="821520" cy="208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66"/>
            <p:cNvCxnSpPr>
              <a:stCxn id="191" idx="1"/>
              <a:endCxn id="185" idx="2"/>
            </p:cNvCxnSpPr>
            <p:nvPr/>
          </p:nvCxnSpPr>
          <p:spPr>
            <a:xfrm rot="10800000">
              <a:off x="2930040" y="1381680"/>
              <a:ext cx="821520" cy="83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2067"/>
            <p:cNvSpPr/>
            <p:nvPr/>
          </p:nvSpPr>
          <p:spPr>
            <a:xfrm>
              <a:off x="468360" y="5493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000000"/>
                  </a:solidFill>
                  <a:uFillTx/>
                  <a:latin typeface="Arial"/>
                </a:rPr>
                <a:t>Методы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68"/>
            <p:cNvSpPr/>
            <p:nvPr/>
          </p:nvSpPr>
          <p:spPr>
            <a:xfrm>
              <a:off x="3751560" y="179892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гры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69"/>
            <p:cNvSpPr/>
            <p:nvPr/>
          </p:nvSpPr>
          <p:spPr>
            <a:xfrm>
              <a:off x="3751560" y="304848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знавательно-развивающ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ические бесе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70"/>
            <p:cNvSpPr/>
            <p:nvPr/>
          </p:nvSpPr>
          <p:spPr>
            <a:xfrm>
              <a:off x="3751560" y="429840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блемные   ситуаци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71"/>
            <p:cNvSpPr/>
            <p:nvPr/>
          </p:nvSpPr>
          <p:spPr>
            <a:xfrm>
              <a:off x="3751560" y="5547960"/>
              <a:ext cx="4924800" cy="833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хемы-действ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Рисунок 16" descr=""/>
          <p:cNvPicPr/>
          <p:nvPr/>
        </p:nvPicPr>
        <p:blipFill>
          <a:blip r:embed="rId1"/>
          <a:stretch/>
        </p:blipFill>
        <p:spPr>
          <a:xfrm>
            <a:off x="0" y="2852640"/>
            <a:ext cx="27050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Organization Chart 7"/>
          <p:cNvGrpSpPr/>
          <p:nvPr/>
        </p:nvGrpSpPr>
        <p:grpSpPr>
          <a:xfrm>
            <a:off x="250920" y="549360"/>
            <a:ext cx="8207280" cy="5903280"/>
            <a:chOff x="250920" y="549360"/>
            <a:chExt cx="8207280" cy="5903280"/>
          </a:xfrm>
        </p:grpSpPr>
        <p:cxnSp>
          <p:nvCxnSpPr>
            <p:cNvPr id="194" name="_s3076"/>
            <p:cNvCxnSpPr>
              <a:stCxn id="195" idx="1"/>
              <a:endCxn id="196" idx="2"/>
            </p:cNvCxnSpPr>
            <p:nvPr/>
          </p:nvCxnSpPr>
          <p:spPr>
            <a:xfrm rot="10800000">
              <a:off x="2712240" y="1621800"/>
              <a:ext cx="821160" cy="429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3077"/>
            <p:cNvCxnSpPr>
              <a:stCxn id="198" idx="1"/>
              <a:endCxn id="196" idx="2"/>
            </p:cNvCxnSpPr>
            <p:nvPr/>
          </p:nvCxnSpPr>
          <p:spPr>
            <a:xfrm rot="10800000">
              <a:off x="2712240" y="1621800"/>
              <a:ext cx="821160" cy="268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3078"/>
            <p:cNvCxnSpPr>
              <a:stCxn id="200" idx="1"/>
              <a:endCxn id="196" idx="2"/>
            </p:cNvCxnSpPr>
            <p:nvPr/>
          </p:nvCxnSpPr>
          <p:spPr>
            <a:xfrm rot="10800000">
              <a:off x="2712240" y="1621800"/>
              <a:ext cx="821160" cy="107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3079"/>
            <p:cNvSpPr/>
            <p:nvPr/>
          </p:nvSpPr>
          <p:spPr>
            <a:xfrm>
              <a:off x="250920" y="54936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Форма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080"/>
            <p:cNvSpPr/>
            <p:nvPr/>
          </p:nvSpPr>
          <p:spPr>
            <a:xfrm>
              <a:off x="3533760" y="21592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игровая деятель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3081"/>
            <p:cNvSpPr/>
            <p:nvPr/>
          </p:nvSpPr>
          <p:spPr>
            <a:xfrm>
              <a:off x="3533760" y="376920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эксперименталь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3082"/>
            <p:cNvSpPr/>
            <p:nvPr/>
          </p:nvSpPr>
          <p:spPr>
            <a:xfrm>
              <a:off x="3533760" y="5379480"/>
              <a:ext cx="4924440" cy="107316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блемно- поисков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1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2583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нглийском языке для обозначения пола человека употребляются два слова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sex и g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ое из этих слов обозначает пол человека как сексуально-биологическую характерист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е — пол как систему полоролевых отнош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372360" y="4468680"/>
            <a:ext cx="277164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роведении работы по воспитанию детей с учётом их гендерных особенностей, предлагаем обратить внимание на следующ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ивлекательность игрового материала и ролевой атрибутики с целью привлечения детей к отражению в игре социально одобряемых образов женского и мужского по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остаточность и полноту материала для игр, в процессе которой девочки воспроизводят модель социального поведения женщины – мат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аличие атрибутики и маркеров игрового пространства для игр – «путешествий» в которых для мальчиков представляется возможность проиграть мужскую модель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5292720" y="5084640"/>
            <a:ext cx="20080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я, какими должны быть мужчины и женщины, очень важно, но ограничиваться этим нельзя. Надо помочь ребенку реализовать эти представления. Для этого, прежде всего, используются естественные и создаются проблемные ситуации, близкие жизненному опыту детей. Немалую роль играет и личный пример поведения взрослого, который воспитывает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1738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и девочка – два разных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оспитатели и родители заинтересованы в воспитании детей с учетом их гендерных особенностей, то они могут с успехом решить эти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0956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азлич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— это совокупность анатомо-физиологических особенностей организма, заданных от р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имеет отношение к физическим, телесным различиям между мужчиной и женщ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 — социальный пол, определяющий поведение человека в обществе и то, как это поведение воспринима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«гендер» затрагивает их психологические, социальные и культурные особ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1042920" y="4772160"/>
            <a:ext cx="30243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 доказали, что к 2 годам ребенок начинает понимать, кто он - девочка или мальчик, а с 4 до 7 лет дети уже осознают, что девочки становятся женщинами, а мальчики - мужчинами, что принадлежность к полу сохраняется независимо от возникающих ситуаций или желаний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419640" y="4589640"/>
            <a:ext cx="3024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7138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ологи, психологи и педагоги считают, что формирование гендерной устойчивости обусловлено социокультурными нормами и зависит в первую очередь от отношения родителей к ребёнку, характера родительских установок и привязанности как матери к ребёнку, так и ребёнка к матери, а также от воспитания его в дошкольном образовательном учрежд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516720" y="4761000"/>
            <a:ext cx="2627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Разрушение традиционных стереотипов поведения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женского                муж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ение и скверносло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дирующие положения среди мужч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раются границы между "женскими" и "мужскими" професс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000" y="206028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ачивают способность играть правильную роль в бра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"добытчиков" они постепенно превращаются в "потребителе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бязанности по воспитанию детей они перекладывают на женские пл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opup_img" descr="1322603111%5F021"/>
          <p:cNvPicPr/>
          <p:nvPr/>
        </p:nvPicPr>
        <p:blipFill>
          <a:blip r:embed="rId1"/>
          <a:stretch/>
        </p:blipFill>
        <p:spPr>
          <a:xfrm>
            <a:off x="2987640" y="4653000"/>
            <a:ext cx="1381320" cy="19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503950"/>
          <p:cNvPicPr/>
          <p:nvPr/>
        </p:nvPicPr>
        <p:blipFill>
          <a:blip r:embed="rId2"/>
          <a:stretch/>
        </p:blipFill>
        <p:spPr>
          <a:xfrm>
            <a:off x="7083360" y="4797360"/>
            <a:ext cx="2060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ошкольные годы не заложить у девочек – мягкость, нежность, аккуратность, стремление к красоте, а у мальчиков – смелость, твердость, выносливость, решительность, рыцарское отношение к представительницам противоположного пола, т. е. не развить предпосылки женственности и мужественности, то это может привести к тому, что став взрослыми мужчинами и женщинами, они будут плохо справляться со своими семейными, общественными и социальными 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3276720" y="450864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ольшинство родителей сыновей в будущем хотят виде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ственн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л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льн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осли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ерей хотят виде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ковы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ящ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775040" y="1628640"/>
            <a:ext cx="3613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ши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вочки лишены скромности, нежности, терпения, не умеют мирно разрешать конфликтные ситу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и же, наоборот, не умеют постоять за себя, слабы физически, лишены выносливости и эмоциональной устойчивости, у них отсутствует культура поведения по отношению к девоч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95280" y="4186080"/>
            <a:ext cx="388944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12:49:09Z</dcterms:created>
  <dc:creator>Таня</dc:creator>
  <dc:description/>
  <dc:language>en-US</dc:language>
  <cp:lastModifiedBy>Пользователь Windows</cp:lastModifiedBy>
  <dcterms:modified xsi:type="dcterms:W3CDTF">2016-02-15T13:40:46Z</dcterms:modified>
  <cp:revision>35</cp:revision>
  <dc:subject/>
  <dc:title>Слайд 1</dc:title>
</cp:coreProperties>
</file>