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1.png" ContentType="image/png"/>
  <Override PartName="/ppt/media/image7.jpeg" ContentType="image/jpeg"/>
  <Override PartName="/ppt/media/image20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5.wmf" ContentType="image/x-wmf"/>
  <Override PartName="/ppt/media/image22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B9D11-A0BC-4B3F-9FD3-EF2219CC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AD54C-D0CB-410B-B86C-9A660CA9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708E3-C2B2-4C9B-ADBF-6BBE31FC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867AA-A14F-4B16-ACE3-2CE78E7A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1D0C-B3C0-466E-A546-AADCEB12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3F66-2B79-451F-97D5-9FEC3C9D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75B9-D69F-42CA-9494-C7557616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4D91-90B0-4E95-8C9C-15AE1F73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21C7-5882-4D64-93CD-413FC1AB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BBE1-8C6F-4C08-A14C-E8B40B40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99E9-B433-4F3D-8DB7-DF69B013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85EEA-F3B3-487B-9660-976E4E8E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5D86-AA5A-4B76-918D-73EC594E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8BB5-1D98-42F8-BED1-B3852224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8D4B-CC0B-4582-8BF1-068393A2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6A5C-E672-4EFD-BAA4-7D93EC7B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C9A7-11C7-4D74-89DD-93E7E96D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43651-642B-4189-9D90-FDB9F6AF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F108D-7B89-47D5-87B6-5B0E6476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B2C3F-B300-4E73-9811-CCB06065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2A7A7-53F7-46A9-B9EB-AD4BA2A1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F89D6-0FF8-49EB-AFC4-487928CE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4FCC4-15B8-4737-B51E-8BFC7C9E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A26B1-5B07-4904-8F9B-162B5AFA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6CBD-8A1D-458D-B86C-1664D30E9F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1EED-B2A9-46D6-82A8-0F126ABE79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ендерное воспитание в условиях детского с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Нельзя считать один пол совершеннее другого, так и нельзя их уравнивать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Ж. Рус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Логотип Фантазия прозрачный.jpg"/>
          <p:cNvPicPr/>
          <p:nvPr/>
        </p:nvPicPr>
        <p:blipFill>
          <a:blip r:embed="rId2"/>
          <a:stretch/>
        </p:blipFill>
        <p:spPr>
          <a:xfrm>
            <a:off x="5286240" y="214200"/>
            <a:ext cx="3286440" cy="6429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10" name="Прямоугольник 5"/>
          <p:cNvSpPr/>
          <p:nvPr/>
        </p:nvSpPr>
        <p:spPr>
          <a:xfrm>
            <a:off x="785880" y="5214960"/>
            <a:ext cx="3786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одготовила воспитатель Сокоренко О.А.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56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ние игр детей так же вызывает тревогу: дети демонстрируют модели поведения, не соответствующие полу ребенка, не умеют договариваться в игре, распределять р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цессе трудовой деятельности дети не умеют самостоятельно распределять обязанности с учетом пола партн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ьчика и девочку нельзя воспитывать и обучать одинаково. Они по-разному воспринимают мир, по-разному смотрят и видят, слушают и слышат, по-разному говорят и молчат, чувствуют и пережив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сихологические отличия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евочек                     мальч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и более послуш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и более работоспособ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и большую часть информации воспринимают на слу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57360"/>
            <a:ext cx="403848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ьчики больше хотят отли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ьчики более изобретатель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ьчики занимают больше м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ьчики не должны плак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ьчики большую часть информации воспринимают з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900000" y="4653000"/>
            <a:ext cx="1844640" cy="2004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6012000" y="5516640"/>
            <a:ext cx="14284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Чем мальчики отличаются от девоч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04028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альч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773000"/>
            <a:ext cx="43182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еваясь, мальчики сначала наденут верх, потом н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ьчики снимают футболку, ухватив её на спине рукой и перетянув через голов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вая, мальчики прикрывают рот кула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рачиваясь на зов мальчики, поворачивают корпус, потому что шея у них не такая гибк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267920"/>
            <a:ext cx="40417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ев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4720" y="1773360"/>
            <a:ext cx="43196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и, обычно наоборот, сначала наденут низ, потом вер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и раздеваясь, снимают блузку двумя, руками потянув навер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и – ладон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и поворачивают только голов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04028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альч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981000"/>
            <a:ext cx="40402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альчиков в дыхании задействованы мышцы брюшного пр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умываясь, мальчики почесывают подбородок и ше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равляя прическу, мальчики проводят рукой по волосам, приглаживая 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нимаясь (спускаясь) с горы мальчики просто шире расставляют н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4720" y="549000"/>
            <a:ext cx="40417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ев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4720" y="981000"/>
            <a:ext cx="40417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и дышат груд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умываясь, девочки наматывают прядь волос на пале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равляя прическу, девочки взбивают волосы пальцами распушив 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и же стараются подниматься (спускаться) бо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04028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альч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981000"/>
            <a:ext cx="40402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атривая свои пятки, мальчики поднимают ногу и смотрит на нее спере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с на халате завязывают ниже пуп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ши затыкают ладон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аясь удобно устроиться в кресле, мальчики широко расставляют ноги, либо кладут стопу одной ноги на колено друг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4720" y="404640"/>
            <a:ext cx="404172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ев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4720" y="981000"/>
            <a:ext cx="40417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атривая свои пятки, девочки оборачиваются за спи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с на халате завязывают выше пупка, на тал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ши затыкают пальц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аясь удобно устроиться в кресле, девочки подворачивают под себя ног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9280" y="404640"/>
            <a:ext cx="404028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альч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125000"/>
            <a:ext cx="4040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ывая секрет, мальчики просто понижают голос и наклоняют голов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тя зубы, мальчики широко расставляют ноги и опираются свободной рукой на край раков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716000" y="404640"/>
            <a:ext cx="404172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ев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4720" y="1125000"/>
            <a:ext cx="4041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и же, прикрывают свой рот и ухо подружки ладон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тя зубы, девочки упираются рукой в 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6" descr=""/>
          <p:cNvPicPr/>
          <p:nvPr/>
        </p:nvPicPr>
        <p:blipFill>
          <a:blip r:embed="rId1"/>
          <a:stretch/>
        </p:blipFill>
        <p:spPr>
          <a:xfrm>
            <a:off x="6300720" y="4005360"/>
            <a:ext cx="1727280" cy="2341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1258920" y="4581360"/>
            <a:ext cx="165744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8642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а воспитания и обучения ребенка в соответствии с его полом является актуальной задачей педагогической работы с детьми дошкольного возра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, методы и подходы воспитания мальчиков и девочек должны быть различными. Биологические половые различия несут с собой различные эмоциональные, познавательные и личностные характеристики. Отсюда и возникает необходимость дифференцированного подхода в воспитании мальчиков и девочек с первых дне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3203640" y="4567320"/>
            <a:ext cx="172872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Organization Chart 7"/>
          <p:cNvGrpSpPr/>
          <p:nvPr/>
        </p:nvGrpSpPr>
        <p:grpSpPr>
          <a:xfrm>
            <a:off x="395280" y="620640"/>
            <a:ext cx="8208000" cy="5903280"/>
            <a:chOff x="395280" y="620640"/>
            <a:chExt cx="8208000" cy="5903280"/>
          </a:xfrm>
        </p:grpSpPr>
        <p:cxnSp>
          <p:nvCxnSpPr>
            <p:cNvPr id="162" name="_s1028"/>
            <p:cNvCxnSpPr>
              <a:stCxn id="163" idx="0"/>
              <a:endCxn id="164" idx="2"/>
            </p:cNvCxnSpPr>
            <p:nvPr/>
          </p:nvCxnSpPr>
          <p:spPr>
            <a:xfrm flipV="1">
              <a:off x="6140520" y="5258520"/>
              <a:ext cx="6840" cy="42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29"/>
            <p:cNvCxnSpPr>
              <a:stCxn id="164" idx="1"/>
              <a:endCxn id="166" idx="2"/>
            </p:cNvCxnSpPr>
            <p:nvPr/>
          </p:nvCxnSpPr>
          <p:spPr>
            <a:xfrm rot="10800000">
              <a:off x="2856960" y="1463040"/>
              <a:ext cx="821520" cy="337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0"/>
            <p:cNvCxnSpPr>
              <a:stCxn id="168" idx="1"/>
              <a:endCxn id="166" idx="2"/>
            </p:cNvCxnSpPr>
            <p:nvPr/>
          </p:nvCxnSpPr>
          <p:spPr>
            <a:xfrm rot="10800000">
              <a:off x="2856960" y="1463040"/>
              <a:ext cx="821520" cy="210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031"/>
            <p:cNvCxnSpPr>
              <a:stCxn id="170" idx="1"/>
              <a:endCxn id="166" idx="2"/>
            </p:cNvCxnSpPr>
            <p:nvPr/>
          </p:nvCxnSpPr>
          <p:spPr>
            <a:xfrm rot="10800000">
              <a:off x="2856960" y="1463040"/>
              <a:ext cx="821520" cy="84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1032"/>
            <p:cNvSpPr/>
            <p:nvPr/>
          </p:nvSpPr>
          <p:spPr>
            <a:xfrm>
              <a:off x="395280" y="620640"/>
              <a:ext cx="4924800" cy="843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Средст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33"/>
            <p:cNvSpPr/>
            <p:nvPr/>
          </p:nvSpPr>
          <p:spPr>
            <a:xfrm>
              <a:off x="3678480" y="1885680"/>
              <a:ext cx="4924800" cy="843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г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34"/>
            <p:cNvSpPr/>
            <p:nvPr/>
          </p:nvSpPr>
          <p:spPr>
            <a:xfrm>
              <a:off x="3678480" y="3150720"/>
              <a:ext cx="4924800" cy="843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родные сказ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35"/>
            <p:cNvSpPr/>
            <p:nvPr/>
          </p:nvSpPr>
          <p:spPr>
            <a:xfrm>
              <a:off x="3678480" y="4415760"/>
              <a:ext cx="4924800" cy="843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слови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36"/>
            <p:cNvSpPr/>
            <p:nvPr/>
          </p:nvSpPr>
          <p:spPr>
            <a:xfrm>
              <a:off x="3678480" y="5680800"/>
              <a:ext cx="4924800" cy="843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колыбельные пес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17" descr=""/>
            <p:cNvPicPr/>
            <p:nvPr/>
          </p:nvPicPr>
          <p:blipFill>
            <a:blip r:embed="rId1"/>
            <a:stretch/>
          </p:blipFill>
          <p:spPr>
            <a:xfrm>
              <a:off x="418320" y="4293000"/>
              <a:ext cx="2524320" cy="216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Organization Chart 7"/>
          <p:cNvGrpSpPr/>
          <p:nvPr/>
        </p:nvGrpSpPr>
        <p:grpSpPr>
          <a:xfrm>
            <a:off x="442800" y="549360"/>
            <a:ext cx="8208000" cy="5831640"/>
            <a:chOff x="442800" y="549360"/>
            <a:chExt cx="8208000" cy="5831640"/>
          </a:xfrm>
        </p:grpSpPr>
        <p:cxnSp>
          <p:nvCxnSpPr>
            <p:cNvPr id="173" name="_s2052"/>
            <p:cNvCxnSpPr>
              <a:stCxn id="174" idx="1"/>
              <a:endCxn id="175" idx="2"/>
            </p:cNvCxnSpPr>
            <p:nvPr/>
          </p:nvCxnSpPr>
          <p:spPr>
            <a:xfrm rot="10800000">
              <a:off x="2904480" y="1382400"/>
              <a:ext cx="821520" cy="458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2053"/>
            <p:cNvCxnSpPr>
              <a:stCxn id="177" idx="1"/>
              <a:endCxn id="175" idx="2"/>
            </p:cNvCxnSpPr>
            <p:nvPr/>
          </p:nvCxnSpPr>
          <p:spPr>
            <a:xfrm rot="10800000">
              <a:off x="2904480" y="1381680"/>
              <a:ext cx="821520" cy="33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2054"/>
            <p:cNvCxnSpPr>
              <a:stCxn id="179" idx="1"/>
              <a:endCxn id="175" idx="2"/>
            </p:cNvCxnSpPr>
            <p:nvPr/>
          </p:nvCxnSpPr>
          <p:spPr>
            <a:xfrm rot="10800000">
              <a:off x="2904480" y="1381680"/>
              <a:ext cx="821520" cy="208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2055"/>
            <p:cNvCxnSpPr>
              <a:stCxn id="181" idx="1"/>
              <a:endCxn id="175" idx="2"/>
            </p:cNvCxnSpPr>
            <p:nvPr/>
          </p:nvCxnSpPr>
          <p:spPr>
            <a:xfrm rot="10800000">
              <a:off x="2904480" y="1381680"/>
              <a:ext cx="821520" cy="83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5" name="_s2056"/>
            <p:cNvSpPr/>
            <p:nvPr/>
          </p:nvSpPr>
          <p:spPr>
            <a:xfrm>
              <a:off x="442800" y="54936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000000"/>
                  </a:solidFill>
                  <a:uFillTx/>
                  <a:latin typeface="Arial"/>
                </a:rPr>
                <a:t>Методы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2057"/>
            <p:cNvSpPr/>
            <p:nvPr/>
          </p:nvSpPr>
          <p:spPr>
            <a:xfrm>
              <a:off x="3726000" y="179892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гры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2058"/>
            <p:cNvSpPr/>
            <p:nvPr/>
          </p:nvSpPr>
          <p:spPr>
            <a:xfrm>
              <a:off x="3726000" y="304848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знавательно-развивающ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тические бесе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2059"/>
            <p:cNvSpPr/>
            <p:nvPr/>
          </p:nvSpPr>
          <p:spPr>
            <a:xfrm>
              <a:off x="3726000" y="429840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блемные   ситуаци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2060"/>
            <p:cNvSpPr/>
            <p:nvPr/>
          </p:nvSpPr>
          <p:spPr>
            <a:xfrm>
              <a:off x="3726000" y="554796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хемы-действ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Organization Chart 17"/>
          <p:cNvGrpSpPr/>
          <p:nvPr/>
        </p:nvGrpSpPr>
        <p:grpSpPr>
          <a:xfrm>
            <a:off x="468360" y="549360"/>
            <a:ext cx="8208000" cy="5831640"/>
            <a:chOff x="468360" y="549360"/>
            <a:chExt cx="8208000" cy="5831640"/>
          </a:xfrm>
        </p:grpSpPr>
        <p:cxnSp>
          <p:nvCxnSpPr>
            <p:cNvPr id="183" name="_s2063"/>
            <p:cNvCxnSpPr>
              <a:stCxn id="184" idx="1"/>
              <a:endCxn id="185" idx="2"/>
            </p:cNvCxnSpPr>
            <p:nvPr/>
          </p:nvCxnSpPr>
          <p:spPr>
            <a:xfrm rot="10800000">
              <a:off x="2930040" y="1382400"/>
              <a:ext cx="821520" cy="458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2064"/>
            <p:cNvCxnSpPr>
              <a:stCxn id="187" idx="1"/>
              <a:endCxn id="185" idx="2"/>
            </p:cNvCxnSpPr>
            <p:nvPr/>
          </p:nvCxnSpPr>
          <p:spPr>
            <a:xfrm rot="10800000">
              <a:off x="2930040" y="1381680"/>
              <a:ext cx="821520" cy="33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2065"/>
            <p:cNvCxnSpPr>
              <a:stCxn id="189" idx="1"/>
              <a:endCxn id="185" idx="2"/>
            </p:cNvCxnSpPr>
            <p:nvPr/>
          </p:nvCxnSpPr>
          <p:spPr>
            <a:xfrm rot="10800000">
              <a:off x="2930040" y="1381680"/>
              <a:ext cx="821520" cy="208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2066"/>
            <p:cNvCxnSpPr>
              <a:stCxn id="191" idx="1"/>
              <a:endCxn id="185" idx="2"/>
            </p:cNvCxnSpPr>
            <p:nvPr/>
          </p:nvCxnSpPr>
          <p:spPr>
            <a:xfrm rot="10800000">
              <a:off x="2930040" y="1381680"/>
              <a:ext cx="821520" cy="83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5" name="_s2067"/>
            <p:cNvSpPr/>
            <p:nvPr/>
          </p:nvSpPr>
          <p:spPr>
            <a:xfrm>
              <a:off x="468360" y="54936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000000"/>
                  </a:solidFill>
                  <a:uFillTx/>
                  <a:latin typeface="Arial"/>
                </a:rPr>
                <a:t>Методы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2068"/>
            <p:cNvSpPr/>
            <p:nvPr/>
          </p:nvSpPr>
          <p:spPr>
            <a:xfrm>
              <a:off x="3751560" y="179892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гры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2069"/>
            <p:cNvSpPr/>
            <p:nvPr/>
          </p:nvSpPr>
          <p:spPr>
            <a:xfrm>
              <a:off x="3751560" y="304848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знавательно-развивающ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тические бесе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2070"/>
            <p:cNvSpPr/>
            <p:nvPr/>
          </p:nvSpPr>
          <p:spPr>
            <a:xfrm>
              <a:off x="3751560" y="429840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блемные   ситуаци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2071"/>
            <p:cNvSpPr/>
            <p:nvPr/>
          </p:nvSpPr>
          <p:spPr>
            <a:xfrm>
              <a:off x="3751560" y="554796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хемы-действ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Рисунок 16" descr=""/>
          <p:cNvPicPr/>
          <p:nvPr/>
        </p:nvPicPr>
        <p:blipFill>
          <a:blip r:embed="rId1"/>
          <a:stretch/>
        </p:blipFill>
        <p:spPr>
          <a:xfrm>
            <a:off x="0" y="2852640"/>
            <a:ext cx="27050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Organization Chart 7"/>
          <p:cNvGrpSpPr/>
          <p:nvPr/>
        </p:nvGrpSpPr>
        <p:grpSpPr>
          <a:xfrm>
            <a:off x="250920" y="549360"/>
            <a:ext cx="8207280" cy="5903280"/>
            <a:chOff x="250920" y="549360"/>
            <a:chExt cx="8207280" cy="5903280"/>
          </a:xfrm>
        </p:grpSpPr>
        <p:cxnSp>
          <p:nvCxnSpPr>
            <p:cNvPr id="194" name="_s3076"/>
            <p:cNvCxnSpPr>
              <a:stCxn id="195" idx="1"/>
              <a:endCxn id="196" idx="2"/>
            </p:cNvCxnSpPr>
            <p:nvPr/>
          </p:nvCxnSpPr>
          <p:spPr>
            <a:xfrm rot="10800000">
              <a:off x="2712240" y="1621800"/>
              <a:ext cx="821160" cy="429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3077"/>
            <p:cNvCxnSpPr>
              <a:stCxn id="198" idx="1"/>
              <a:endCxn id="196" idx="2"/>
            </p:cNvCxnSpPr>
            <p:nvPr/>
          </p:nvCxnSpPr>
          <p:spPr>
            <a:xfrm rot="10800000">
              <a:off x="2712240" y="1621800"/>
              <a:ext cx="821160" cy="2683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3078"/>
            <p:cNvCxnSpPr>
              <a:stCxn id="200" idx="1"/>
              <a:endCxn id="196" idx="2"/>
            </p:cNvCxnSpPr>
            <p:nvPr/>
          </p:nvCxnSpPr>
          <p:spPr>
            <a:xfrm rot="10800000">
              <a:off x="2712240" y="1621800"/>
              <a:ext cx="821160" cy="107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_s3079"/>
            <p:cNvSpPr/>
            <p:nvPr/>
          </p:nvSpPr>
          <p:spPr>
            <a:xfrm>
              <a:off x="250920" y="549360"/>
              <a:ext cx="4924440" cy="1073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Форма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3080"/>
            <p:cNvSpPr/>
            <p:nvPr/>
          </p:nvSpPr>
          <p:spPr>
            <a:xfrm>
              <a:off x="3533760" y="2159280"/>
              <a:ext cx="4924440" cy="1073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игровая деятель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3081"/>
            <p:cNvSpPr/>
            <p:nvPr/>
          </p:nvSpPr>
          <p:spPr>
            <a:xfrm>
              <a:off x="3533760" y="3769200"/>
              <a:ext cx="4924440" cy="1073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экспериментальн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3082"/>
            <p:cNvSpPr/>
            <p:nvPr/>
          </p:nvSpPr>
          <p:spPr>
            <a:xfrm>
              <a:off x="3533760" y="5379480"/>
              <a:ext cx="4924440" cy="1073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роблемно- поисков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Рисунок 12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25830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нглийском языке для обозначения пола человека употребляются два слова: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sex и gen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ое из этих слов обозначает пол человека как сексуально-биологическую характеристи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ое — пол как систему полоролевых отнош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372360" y="4468680"/>
            <a:ext cx="277164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роведении работы по воспитанию детей с учётом их гендерных особенностей, предлагаем обратить внимание на следующ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ивлекательность игрового материала и ролевой атрибутики с целью привлечения детей к отражению в игре социально одобряемых образов женского и мужского по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остаточность и полноту материала для игр, в процессе которой девочки воспроизводят модель социального поведения женщины – матер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аличие атрибутики и маркеров игрового пространства для игр – «путешествий» в которых для мальчиков представляется возможность проиграть мужскую модель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5292720" y="5084640"/>
            <a:ext cx="20080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ть представления, какими должны быть мужчины и женщины, очень важно, но ограничиваться этим нельзя. Надо помочь ребенку реализовать эти представления. Для этого, прежде всего, используются естественные и создаются проблемные ситуации, близкие жизненному опыту детей. Немалую роль играет и личный пример поведения взрослого, который воспитывает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6588000" y="4581360"/>
            <a:ext cx="17384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ьчик и девочка – два разных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оспитатели и родители заинтересованы в воспитании детей с учетом их гендерных особенностей, то они могут с успехом решить эти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2987640" y="4221000"/>
            <a:ext cx="309564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Различ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 — это совокупность анатомо-физиологических особенностей организма, заданных от ро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 имеет отношение к физическим, телесным различиям между мужчиной и женщи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836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дер — социальный пол, определяющий поведение человека в обществе и то, как это поведение воспринимает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«гендер» затрагивает их психологические, социальные и культурные особ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1"/>
          <a:stretch/>
        </p:blipFill>
        <p:spPr>
          <a:xfrm>
            <a:off x="1042920" y="4772160"/>
            <a:ext cx="302436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78544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 доказали, что к 2 годам ребенок начинает понимать, кто он - девочка или мальчик, а с 4 до 7 лет дети уже осознают, что девочки становятся женщинами, а мальчики - мужчинами, что принадлежность к полу сохраняется независимо от возникающих ситуаций или желаний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419640" y="4589640"/>
            <a:ext cx="30240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ологи, психологи и педагоги считают, что формирование гендерной устойчивости обусловлено социокультурными нормами и зависит в первую очередь от отношения родителей к ребёнку, характера родительских установок и привязанности как матери к ребёнку, так и ребёнка к матери, а также от воспитания его в дошкольном образовательном учрежд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516720" y="4761000"/>
            <a:ext cx="2627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Разрушение традиционных стереотипов поведения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женского                муж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38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ение и сквернослов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дирующие положения среди мужчи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раются границы между "женскими" и "мужскими" професси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6000" y="206028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рачивают способность играть правильную роль в бра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"добытчиков" они постепенно превращаются в "потребителей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обязанности по воспитанию детей они перекладывают на женские пл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opup_img" descr="1322603111%5F021"/>
          <p:cNvPicPr/>
          <p:nvPr/>
        </p:nvPicPr>
        <p:blipFill>
          <a:blip r:embed="rId1"/>
          <a:stretch/>
        </p:blipFill>
        <p:spPr>
          <a:xfrm>
            <a:off x="2987640" y="4653000"/>
            <a:ext cx="1381320" cy="19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503950"/>
          <p:cNvPicPr/>
          <p:nvPr/>
        </p:nvPicPr>
        <p:blipFill>
          <a:blip r:embed="rId2"/>
          <a:stretch/>
        </p:blipFill>
        <p:spPr>
          <a:xfrm>
            <a:off x="7083360" y="4797360"/>
            <a:ext cx="2060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дошкольные годы не заложить у девочек – мягкость, нежность, аккуратность, стремление к красоте, а у мальчиков – смелость, твердость, выносливость, решительность, рыцарское отношение к представительницам противоположного пола, т. е. не развить предпосылки женственности и мужественности, то это может привести к тому, что став взрослыми мужчинами и женщинами, они будут плохо справляться со своими семейными, общественными и социальными ро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tretch/>
        </p:blipFill>
        <p:spPr>
          <a:xfrm>
            <a:off x="3276720" y="450864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ольшинство родителей сыновей в будущем хотят видет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ственны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лы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тельн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носливы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черей хотят виде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сковы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ив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ящ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4775040" y="1628640"/>
            <a:ext cx="36133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Наши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вочки лишены скромности, нежности, терпения, не умеют мирно разрешать конфликтные ситу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19664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ьчики же, наоборот, не умеют постоять за себя, слабы физически, лишены выносливости и эмоциональной устойчивости, у них отсутствует культура поведения по отношению к девоч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95280" y="4186080"/>
            <a:ext cx="38894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12:49:09Z</dcterms:created>
  <dc:creator>Таня</dc:creator>
  <dc:description/>
  <dc:language>en-US</dc:language>
  <cp:lastModifiedBy>Пользователь Windows</cp:lastModifiedBy>
  <dcterms:modified xsi:type="dcterms:W3CDTF">2016-02-15T13:40:46Z</dcterms:modified>
  <cp:revision>35</cp:revision>
  <dc:subject/>
  <dc:title>Слайд 1</dc:title>
</cp:coreProperties>
</file>