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2A8-C80B-46EF-91A3-CDF7849B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95F-833E-48E4-88C5-80E252BB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707-0A8B-4122-8BD3-11726D85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D737-FE45-43FA-A3A8-0B7A52AF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C447-E8CD-4199-87EA-EE924974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C31F-37E3-426D-B700-3598862F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9987-1D01-4E98-B3D3-28014001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E232-DD7C-44F9-AA4F-820C3E49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A72B-8775-41A6-B930-B3215BAB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CF9E-8D96-4B3A-B150-06DEF501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EFAE-0454-4F54-9C20-8D79C1DA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678-545C-4807-8C6F-511D7015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ECAB-20A2-4955-AA4C-E6799A0F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A74A-9F3F-4476-9D03-9E65F7AF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C94B-EA48-4F3D-A7E2-B5A1F04B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3871-E118-4503-A825-B962C70C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6F78-E286-467D-8A78-D6AF5CE4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E0A-66D3-475F-ADED-1500A1FE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461-A01E-4136-A2CF-27C2C8AB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F00-6773-404A-9C73-E3CA4823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22A-22C3-44BE-B504-C02D8002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892-7398-4B5C-B42F-F724CF50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884-5857-4384-8F8C-E660FE9E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F2B-A4AB-40EE-8EB3-AD8B1B97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CC68-55F4-44B8-A907-5ECADC0E86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883D-E5A8-46E1-974A-E7FDB359A4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irtulab.net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Составление родословной.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емья Николая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01164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Генеалогическое дерево королевской семьи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39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http://www.virtulab.net/</a:t>
            </a:r>
            <a:r>
              <a:rPr b="0" lang="en-US" sz="4400" spc="-1" strike="noStrike" u="sng">
                <a:solidFill>
                  <a:srgbClr val="dbbd71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шение генетических задач и составление родословны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58672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3-04-09T23:44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