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E94-EB1E-4369-B727-2ACF27BB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8FF-B280-4748-9043-7899D516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1EE-2A28-4CA1-8EBA-9451747F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CA2-33BB-4362-99F3-557B1292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C610-E88A-4877-B514-EFDB6896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BD07-F857-4576-B361-3A7D2F5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FB5-B081-4712-ABBD-6ED102F8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BCCE-BA86-4CBF-A564-105995E8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25CE-3B2A-4CF2-9EDD-0473546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9F9E-1806-42B3-89E2-1F52769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4830-79A2-49F8-BAA0-D4632A94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44A-50AB-41A8-B3DA-03DEE2A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61A6-B5D1-479E-A2E8-E172183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E26C-7CD8-4014-A9C9-574E666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499B-10D4-42E3-B45B-D8778C6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B42-07CD-4581-BC45-263748E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4C01-F4D9-4AB1-918E-9B00E4C8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131-C858-4B3E-8B52-788D77FE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B87-98D4-438D-844F-A2CA7CE0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7B4-E735-4074-8A0F-DF718F07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AEA-6382-4CB0-B6D1-6D734686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F3C-63DD-4AF5-8192-9C0479D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C7A-2143-4B11-B515-91F06EF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B9B-8BB2-4525-B097-52090DF9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372-B7A0-42C9-A42C-3DB849563E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853-B73B-4D05-B7CD-B772A28946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rtulab.ne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Составление родословной.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емья Николая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0116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енеалогическое дерево королевской семьи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39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://www.virtulab.net/</a:t>
            </a: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шение генетических задач и составление родословны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5867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4-09T23:44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