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902-3B68-49C9-9B6C-B287C3A9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62B-1BD9-4FC8-8F43-F640DD43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831-20CC-40C2-8586-00300B37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04B-C73D-496D-B29A-F717922A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8A2-CD94-496A-A8AE-116C0014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463-2580-48EF-8D8B-5693765E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A91-A250-412A-8720-AFA3454F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DFC-460D-407E-B496-4952A442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B520-89C1-420B-9783-CB65F6F7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3D4-693C-44F4-AA2B-AEC390E7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26B-EFF7-461A-813A-50FB3606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B1A-517C-4C48-ABF6-B11C13E8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9984-246C-44CD-B8B3-583EBFB760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8:14:00Z</dcterms:created>
  <dc:creator>User</dc:creator>
  <dc:description/>
  <dc:language>en-US</dc:language>
  <cp:lastModifiedBy>домашний</cp:lastModifiedBy>
  <dcterms:modified xsi:type="dcterms:W3CDTF">2019-04-23T07:23:58Z</dcterms:modified>
  <cp:revision>20</cp:revision>
  <dc:subject/>
  <dc:title>Слайд 1</dc:title>
</cp:coreProperties>
</file>