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D9C-13CF-44F3-B707-2356EFEC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3E9-1524-448B-B695-3C453D7A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6E6-223A-4468-B9AC-87918271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81B-1588-4033-A434-C0FAA0C7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831-86CF-4C90-944E-1134A148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E02E-5215-4B0D-A8A2-3E2297E4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07D-8EA8-452B-B83C-77EDEFCA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C6D-DA6C-4C6B-BAE7-2186BA98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7E6-46A9-4D1F-A354-0ADDC6D9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A1A-B235-4C63-83FD-8F8C37EB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15D-98B4-4C15-9672-1F1B01C1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49A-4705-4425-9ACB-C35DCED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8307-7175-45BB-9082-425DAEF75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8:14:00Z</dcterms:created>
  <dc:creator>User</dc:creator>
  <dc:description/>
  <dc:language>en-US</dc:language>
  <cp:lastModifiedBy>домашний</cp:lastModifiedBy>
  <dcterms:modified xsi:type="dcterms:W3CDTF">2019-04-23T07:23:58Z</dcterms:modified>
  <cp:revision>20</cp:revision>
  <dc:subject/>
  <dc:title>Слайд 1</dc:title>
</cp:coreProperties>
</file>