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80C-8FA9-4BE0-A57A-F876C7A4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8B7-7CF9-40BD-8458-F756785E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0F2-C8F7-4F43-A75A-372FA9FA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D7C-B6E2-4149-B30F-2BECD06C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C97-445F-4C43-87D0-847FCA77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575-C892-4EDF-B152-2E73E473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6A0-0187-4EA6-879E-799A53C9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177-5533-42C7-9037-D1D2E93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1A2-B598-464A-81A2-5BC1D430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117-EABE-4899-B78F-FC5C5B8E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102-5436-4196-83A9-A81C66C5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359-5861-42BE-803D-B722BBDA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6047-B1D4-4508-B670-9549F68FB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920" y="639720"/>
            <a:ext cx="74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476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Валентина Владимировна Терешков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ервая женщина-космона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.pikabu.ru/images/big_size_comm/2013-01_3/13581881816733.jpg"/>
          <p:cNvPicPr/>
          <p:nvPr/>
        </p:nvPicPr>
        <p:blipFill>
          <a:blip r:embed="rId2"/>
          <a:stretch/>
        </p:blipFill>
        <p:spPr>
          <a:xfrm>
            <a:off x="2916360" y="1700280"/>
            <a:ext cx="3736800" cy="465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starcity-tours.ru/images/files/tereshkova/kp.jpg"/>
          <p:cNvPicPr/>
          <p:nvPr/>
        </p:nvPicPr>
        <p:blipFill>
          <a:blip r:embed="rId3"/>
          <a:stretch/>
        </p:blipFill>
        <p:spPr>
          <a:xfrm rot="20880600">
            <a:off x="0" y="2565000"/>
            <a:ext cx="2471760" cy="350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starcity-tours.ru/images/files/tereshkova/vm.jpg"/>
          <p:cNvPicPr/>
          <p:nvPr/>
        </p:nvPicPr>
        <p:blipFill>
          <a:blip r:embed="rId4"/>
          <a:stretch/>
        </p:blipFill>
        <p:spPr>
          <a:xfrm rot="337800">
            <a:off x="6970680" y="2568240"/>
            <a:ext cx="2522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684360" y="-98280"/>
            <a:ext cx="10425240" cy="714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pics.top.rbc.ru/top_pics/resized/720x720/uniora/21/1371374211_0721.495x720.jpeg"/>
          <p:cNvPicPr/>
          <p:nvPr/>
        </p:nvPicPr>
        <p:blipFill>
          <a:blip r:embed="rId2"/>
          <a:stretch/>
        </p:blipFill>
        <p:spPr>
          <a:xfrm>
            <a:off x="-541440" y="3213000"/>
            <a:ext cx="2776680" cy="364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pics.top.rbc.ru/top_pics/resized/720x720/uniora/54/1371374212_0354.487x720.jpeg"/>
          <p:cNvPicPr/>
          <p:nvPr/>
        </p:nvPicPr>
        <p:blipFill>
          <a:blip r:embed="rId3"/>
          <a:stretch/>
        </p:blipFill>
        <p:spPr>
          <a:xfrm>
            <a:off x="7196040" y="3213000"/>
            <a:ext cx="2463840" cy="364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gliese581c.ucoz.ru/_bl/0/01550.jpg"/>
          <p:cNvPicPr/>
          <p:nvPr/>
        </p:nvPicPr>
        <p:blipFill>
          <a:blip r:embed="rId4"/>
          <a:stretch/>
        </p:blipFill>
        <p:spPr>
          <a:xfrm>
            <a:off x="2700360" y="3727440"/>
            <a:ext cx="373860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71280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24000" y="18900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Девушки, отобранные для космического полета, надеялись, что все они рано или поздно слетают в кос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136044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Только  Валентина Терешкова из пяти девушек, прошедших подготовку, смогла стать настоящим космонав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900igr.net/datai/astronomija/Valentina-Tereshkova/0004-002-Tereshkova-pered-startom.jpg"/>
          <p:cNvPicPr/>
          <p:nvPr/>
        </p:nvPicPr>
        <p:blipFill>
          <a:blip r:embed="rId2"/>
          <a:stretch/>
        </p:blipFill>
        <p:spPr>
          <a:xfrm>
            <a:off x="0" y="2708280"/>
            <a:ext cx="4108320" cy="414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img1.liveinternet.ru/images/attach/c/4/84/452/84452895_large_7a1f8958265e3713fdce5f26ceb.jpg"/>
          <p:cNvPicPr/>
          <p:nvPr/>
        </p:nvPicPr>
        <p:blipFill>
          <a:blip r:embed="rId3"/>
          <a:stretch/>
        </p:blipFill>
        <p:spPr>
          <a:xfrm>
            <a:off x="4284720" y="2708280"/>
            <a:ext cx="5435640" cy="414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0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Валентина Терешкова парашютным спортом занималась с 1959 года в Ярославском аэроклуб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702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www.erast.ru/images/illustrations/almanah/tereschowa/tereschowa006.jpg"/>
          <p:cNvPicPr/>
          <p:nvPr/>
        </p:nvPicPr>
        <p:blipFill>
          <a:blip r:embed="rId2"/>
          <a:stretch/>
        </p:blipFill>
        <p:spPr>
          <a:xfrm>
            <a:off x="-396720" y="3481560"/>
            <a:ext cx="4321080" cy="3165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pics.top.rbc.ru/top_pics/resized/720x720/uniora/27/1371374213_0527.720x523.jpeg"/>
          <p:cNvPicPr/>
          <p:nvPr/>
        </p:nvPicPr>
        <p:blipFill>
          <a:blip r:embed="rId3"/>
          <a:stretch/>
        </p:blipFill>
        <p:spPr>
          <a:xfrm>
            <a:off x="4500720" y="2565360"/>
            <a:ext cx="4643280" cy="337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68360" y="60948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00560" y="568440"/>
            <a:ext cx="60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тарт "Востока-6" произошел утром 16 июня 1963 года, а приземлилась Валентина Терешкова утром 19 июня. Полёт длился 22 часа 41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vesti.ru/p/b_788041.jpg"/>
          <p:cNvPicPr/>
          <p:nvPr/>
        </p:nvPicPr>
        <p:blipFill>
          <a:blip r:embed="rId2"/>
          <a:stretch/>
        </p:blipFill>
        <p:spPr>
          <a:xfrm>
            <a:off x="-324000" y="307008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img-fotki.yandex.ru/get/9172/1519659.37/0_9060e_62421705_XXL.jpg"/>
          <p:cNvPicPr/>
          <p:nvPr/>
        </p:nvPicPr>
        <p:blipFill>
          <a:blip r:embed="rId3"/>
          <a:stretch/>
        </p:blipFill>
        <p:spPr>
          <a:xfrm>
            <a:off x="4284720" y="3112920"/>
            <a:ext cx="4859280" cy="3340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59120" y="568440"/>
            <a:ext cx="390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6360" y="33336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Валентина Терешкова навсегда вошла в историю человечества как первая женщина-космонавт и единственная женщина, совершившая одиночный космический по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Отпечаток руки "/>
          <p:cNvPicPr/>
          <p:nvPr/>
        </p:nvPicPr>
        <p:blipFill>
          <a:blip r:embed="rId2"/>
          <a:stretch/>
        </p:blipFill>
        <p:spPr>
          <a:xfrm>
            <a:off x="1979640" y="2708280"/>
            <a:ext cx="5761080" cy="3840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56844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33336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Перед ярославским планетарием (носящим имя Терешковой) открыли «Аллею звёзд" – отлитые в металл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отпечатки рук космонавтов: Валентины Терешковой,  Алексея Леонова, Валерия Бык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-171360"/>
            <a:ext cx="10281960" cy="720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altairegion22.ru/upload/medialibrary/51f/tereshkova_small.jpg"/>
          <p:cNvPicPr/>
          <p:nvPr/>
        </p:nvPicPr>
        <p:blipFill>
          <a:blip r:embed="rId2"/>
          <a:stretch/>
        </p:blipFill>
        <p:spPr>
          <a:xfrm>
            <a:off x="-324000" y="2421000"/>
            <a:ext cx="3489480" cy="465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635280" y="65160"/>
            <a:ext cx="55087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В.В.Терешкова- почетный граждан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18 российских и зарубежных городов. Среди наград и званий Валентины Терешковой -- Герой Советского Союза, Летчик-космонавт СССР, два ордена Ленина, ордена Октябрьской Революции, Трудового Красного Знамени, Дружбы народов, "За заслуги перед Отечеством" II и III степеней, Почета, Дружбы, золотая медаль им. К.Э. Циолковского АН СССР. В 2009 году ей была присуждена Государственная премия РФ за выдающиеся достижения в области гуманитарной деятельности 2008 го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img-fotki.yandex.ru/get/9307/1519659.39/0_9065b_b8927771_XXL.jpg"/>
          <p:cNvPicPr/>
          <p:nvPr/>
        </p:nvPicPr>
        <p:blipFill>
          <a:blip r:embed="rId1"/>
          <a:stretch/>
        </p:blipFill>
        <p:spPr>
          <a:xfrm>
            <a:off x="-528480" y="0"/>
            <a:ext cx="1028196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grunge.ru/post_image/53/5349b04f18ab7fbe289988507bb1ea35.jpg"/>
          <p:cNvPicPr/>
          <p:nvPr/>
        </p:nvPicPr>
        <p:blipFill>
          <a:blip r:embed="rId2"/>
          <a:stretch/>
        </p:blipFill>
        <p:spPr>
          <a:xfrm>
            <a:off x="0" y="1773360"/>
            <a:ext cx="1800360" cy="280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22-91.ru/upload/images/photo/42/b5/8241cac4a8768e2cac0677e968041313103078.jpg"/>
          <p:cNvPicPr/>
          <p:nvPr/>
        </p:nvPicPr>
        <p:blipFill>
          <a:blip r:embed="rId3"/>
          <a:stretch/>
        </p:blipFill>
        <p:spPr>
          <a:xfrm>
            <a:off x="2268360" y="4365720"/>
            <a:ext cx="4319640" cy="22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chile.mid.ru/0ld/Tereshkova.files/image009.jpg"/>
          <p:cNvPicPr/>
          <p:nvPr/>
        </p:nvPicPr>
        <p:blipFill>
          <a:blip r:embed="rId4"/>
          <a:stretch/>
        </p:blipFill>
        <p:spPr>
          <a:xfrm>
            <a:off x="5508720" y="1903320"/>
            <a:ext cx="3635280" cy="2127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59120" y="136440"/>
            <a:ext cx="71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Выпущены марки в честь первой в мире женщины, покорившей космос. В 1983 году была выпущена памятная монета с изображением ТерешковойВ.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3T12:59:30Z</dcterms:created>
  <dc:creator>Марина</dc:creator>
  <dc:description/>
  <dc:language>en-US</dc:language>
  <cp:lastModifiedBy>Марина</cp:lastModifiedBy>
  <dcterms:modified xsi:type="dcterms:W3CDTF">2019-04-23T13:39:06Z</dcterms:modified>
  <cp:revision>3</cp:revision>
  <dc:subject/>
  <dc:title>Слайд 1</dc:title>
</cp:coreProperties>
</file>