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E3A-1265-486E-8F92-70C489F9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C47-4711-4E87-979A-D2033989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5D6-B9E0-4D09-9CF5-A22BD6A3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D5C-97DB-4B38-8BD4-3EC9FBC8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CDC-10A9-4D59-914A-9706C404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626-6E6E-4F68-ADCC-AFF6C3C7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D0B-3C0E-49C5-A125-226CB32D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AB7-3F94-4297-B324-0028FF05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83B-E74E-44CE-B3CD-F2C52260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21F-22AE-4085-A521-6D54C14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CE6D-C504-45EE-8E70-4B417DD8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87E-1074-4942-9625-F1376675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DFA4-8B77-488D-95B3-723E39CF7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500" spc="-1" strike="noStrike">
                <a:solidFill>
                  <a:srgbClr val="ff6600"/>
                </a:solidFill>
                <a:latin typeface="Arial"/>
              </a:rPr>
              <a:t>Easter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23880"/>
            <a:ext cx="8229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Easter lamb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57240" y="1600200"/>
            <a:ext cx="722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06284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flower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28720" y="1600200"/>
            <a:ext cx="568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24000" y="274320"/>
            <a:ext cx="946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Easter candie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300" spc="-1" strike="noStrike">
                <a:solidFill>
                  <a:srgbClr val="ff6600"/>
                </a:solidFill>
                <a:latin typeface="Arial"/>
              </a:rPr>
              <a:t>Easter basket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6978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cross bun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47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62040"/>
            <a:ext cx="79135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Easter ducks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7076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ff6600"/>
                </a:solidFill>
                <a:latin typeface="Arial"/>
              </a:rPr>
              <a:t>Bunny  Chick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95732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0T06:49:43Z</dcterms:created>
  <dc:creator>Эльвира</dc:creator>
  <dc:description/>
  <dc:language>en-US</dc:language>
  <cp:lastModifiedBy>Эльвира</cp:lastModifiedBy>
  <dcterms:modified xsi:type="dcterms:W3CDTF">2015-04-10T06:59:16Z</dcterms:modified>
  <cp:revision>2</cp:revision>
  <dc:subject/>
  <dc:title>Easter</dc:title>
</cp:coreProperties>
</file>