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DA49-7CBF-4C68-AD94-79558757B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9DC4-13C9-4B96-9F33-2523C1E3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2F8E-55E9-404E-A3C1-7771CF187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BD3B-41B8-43EF-884C-1582EA24A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2049-C6AF-4F32-A528-72771FF0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151F-12AF-4F0E-9B59-37EA9509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4FB5-CFA6-401D-BA63-6DBD95B8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CC28-124D-4B32-A055-68859D78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B351-93BC-4AD1-B9E0-D722F2A3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DB9D-2115-4542-A02C-78DB83C5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C5FC-AF70-4741-97BC-34B434FA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C7C8-F3E9-479C-B8BE-D75C9AC4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9B59-6F4A-46C6-97CF-392C1C715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500" spc="-1" strike="noStrike">
                <a:solidFill>
                  <a:srgbClr val="ff6600"/>
                </a:solidFill>
                <a:latin typeface="Arial"/>
              </a:rPr>
              <a:t>Easter</a:t>
            </a: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6034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623880"/>
            <a:ext cx="82296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500" spc="-1" strike="noStrike">
                <a:solidFill>
                  <a:srgbClr val="ff6600"/>
                </a:solidFill>
                <a:latin typeface="Arial"/>
              </a:rPr>
              <a:t>Easter lamb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57240" y="1600200"/>
            <a:ext cx="7229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42920" y="692280"/>
            <a:ext cx="7062840" cy="56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500" spc="-1" strike="noStrike">
                <a:solidFill>
                  <a:srgbClr val="ff6600"/>
                </a:solidFill>
                <a:latin typeface="Arial"/>
              </a:rPr>
              <a:t>flowers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28720" y="1600200"/>
            <a:ext cx="5686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628560"/>
            <a:ext cx="82296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24000" y="274320"/>
            <a:ext cx="946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5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10500" spc="-1" strike="noStrike">
                <a:solidFill>
                  <a:srgbClr val="ff6600"/>
                </a:solidFill>
                <a:latin typeface="Arial"/>
              </a:rPr>
              <a:t>Easter candies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72010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300" spc="-1" strike="noStrike">
                <a:solidFill>
                  <a:srgbClr val="ff6600"/>
                </a:solidFill>
                <a:latin typeface="Arial"/>
              </a:rPr>
              <a:t>Easter basket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69780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500" spc="-1" strike="noStrike">
                <a:solidFill>
                  <a:srgbClr val="ff6600"/>
                </a:solidFill>
                <a:latin typeface="Arial"/>
              </a:rPr>
              <a:t>cross buns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35280" y="1600200"/>
            <a:ext cx="5472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662040"/>
            <a:ext cx="791352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500" spc="-1" strike="noStrike">
                <a:solidFill>
                  <a:srgbClr val="ff6600"/>
                </a:solidFill>
                <a:latin typeface="Arial"/>
              </a:rPr>
              <a:t>Easter ducks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74680" y="1600200"/>
            <a:ext cx="6792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97076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500" spc="-1" strike="noStrike">
                <a:solidFill>
                  <a:srgbClr val="ff6600"/>
                </a:solidFill>
                <a:latin typeface="Arial"/>
              </a:rPr>
              <a:t>Bunny  Chick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14680" y="195732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0T06:49:43Z</dcterms:created>
  <dc:creator>Эльвира</dc:creator>
  <dc:description/>
  <dc:language>en-US</dc:language>
  <cp:lastModifiedBy>Эльвира</cp:lastModifiedBy>
  <dcterms:modified xsi:type="dcterms:W3CDTF">2015-04-10T06:59:16Z</dcterms:modified>
  <cp:revision>2</cp:revision>
  <dc:subject/>
  <dc:title>Easter</dc:title>
</cp:coreProperties>
</file>