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D535F-C9E4-4A03-A1D5-9B4FA0BCD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949A8-6A92-47E7-B4A8-EA5B6E64C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DA937-C95D-4AD0-B554-C6E023069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BD371-1F0A-4324-9D49-0015EC70E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6EDEE-030D-465B-B0E8-2B344993C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9B8A1-B3A5-467A-984C-183025E5F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E9134-8849-4212-B1BF-865A7AA05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76393-15F1-4CFA-87C9-89F801447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58C19-0CB2-4623-AEC4-F0DF697B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F27D-B2DD-4CEF-998E-6E463742A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FABB6-054F-4336-BFE2-5910B662B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2294-6874-4BC0-BD8A-1557B6C02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50000">
              <a:srgbClr val="ffffff"/>
            </a:gs>
            <a:gs pos="100000">
              <a:srgbClr val="ffcc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1705-3C60-465B-839C-2A43AB0749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4"/>
          <p:cNvSpPr/>
          <p:nvPr/>
        </p:nvSpPr>
        <p:spPr>
          <a:xfrm>
            <a:off x="900000" y="1700280"/>
            <a:ext cx="7201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Комплекс упражнений «Гимнастика мозг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0" y="0"/>
            <a:ext cx="8820000" cy="599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умающий колпа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жно выполнять стоя и сид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ржите голову прямо, не напрягая шею и подбородок.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зьмитесь руками за уши таким образом, чтобы большой палец оказался с тыльной стороны уха, а остальные пальцы – спереди.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ссируйте уши сверху вниз, чуть разворачивая их в сторону затылка.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йдя до мочки, мягко помассируйте ее. Повторите упражнение 4 раз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и движения обостряют слух, помогают работе кратковременной памяти, повышают умственные и физические способности. Кстати, они отлично улучшают равновес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 мнению психологов, «думающий колпа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удет полезен школьникам пере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чалом уроков, так как поможе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ыстро сконцентрировать вним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также весьма кстат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д публичными выступлениями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сосредоточения при работе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ьютеро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blob"/>
          <p:cNvPicPr/>
          <p:nvPr/>
        </p:nvPicPr>
        <p:blipFill>
          <a:blip r:embed="rId1"/>
          <a:stretch/>
        </p:blipFill>
        <p:spPr>
          <a:xfrm>
            <a:off x="5364000" y="2637000"/>
            <a:ext cx="3529080" cy="351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0" y="18900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рядись энерги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землитель». Оно понадобится с началом учебного года, чтобы уметь максимально сконцентрировать энергию на выполнении работы.</a:t>
            </a:r>
            <a:br>
              <a:rPr sz="1800"/>
            </a:br>
            <a:r>
              <a:rPr b="1" lang="ru-RU" sz="1800" spc="-1" strike="noStrike">
                <a:solidFill>
                  <a:srgbClr val="000000"/>
                </a:solidFill>
                <a:latin typeface="Arial"/>
              </a:rPr>
              <a:t>Движения снимают напряжение поясничных мышц, улучшают зрение, нормализуют дыхание. Это способствует повышению концентрации внимания, актуализирует кратковременную память, развивает математические навыки, логик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ньте, расставив ноги на ширине плеч, руки на пояс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ая стопа развернута носком вправо, левая – вперед, руки на пояс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ягко согните правое колено, опираясь всем телом на стоп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ину держите прямо и равномерно опускайте корпус вни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делайте выпад в сторону опорной правой ноги. Голову тоже поверните вправо. Вес тела остается по центру. При этом корпус не должен поворачиваться и смещаться в сторон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орной ноги. Стопы от земли не отры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правильном выполнении движений в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рягаете поясницу и чувствуете натяже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нутренней мышцы бедра вытянутой ног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едите за тем, чтобы спи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тавалась прямой.</a:t>
            </a:r>
            <a:br>
              <a:rPr sz="1800"/>
            </a:br>
            <a:r>
              <a:rPr b="1" lang="ru-RU" sz="1800" spc="-1" strike="noStrike">
                <a:solidFill>
                  <a:srgbClr val="000000"/>
                </a:solidFill>
                <a:latin typeface="Arial"/>
              </a:rPr>
              <a:t>Сделайте упражнение 3 раз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том поменяйте опорную ногу и повторите. </a:t>
            </a:r>
            <a:endParaRPr b="0" lang="en-US" sz="1800" spc="-1" strike="noStrike">
              <a:solidFill>
                <a:srgbClr val="000000"/>
              </a:solidFill>
              <a:latin typeface="Arial"/>
            </a:endParaRPr>
          </a:p>
        </p:txBody>
      </p:sp>
      <p:pic>
        <p:nvPicPr>
          <p:cNvPr id="65" name="Picture 5" descr="blob"/>
          <p:cNvPicPr/>
          <p:nvPr/>
        </p:nvPicPr>
        <p:blipFill>
          <a:blip r:embed="rId1"/>
          <a:stretch/>
        </p:blipFill>
        <p:spPr>
          <a:xfrm>
            <a:off x="5867280" y="3860640"/>
            <a:ext cx="2392560" cy="29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0" y="0"/>
            <a:ext cx="914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янем- потян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едлагаемые движения помогут детям и взрослым быстро настроиться на выполнение важной работ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ньте или сядьте, выпрямив спину, и вытяните перед собой ру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нимите правую руку вверх. Левой рукой двигайте правую в разных направлениях: приближая к голове, от головы, пытаясь опустить руку вниз, отвести ее за спину. При этом вытянутая правая рука оказывает легкое сопротивление ле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жение в каждом направлении делаем по четыре раза и обязательно на длинном выдохе. Выдох поможет вам почувствовать расслабление мышц ру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нитесь в исходное положение и вытяните руки перед собой. При правильном выполнении упражнения правая рука по ощущению кажется длиннее ле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ите упражнение, поменяв руки. Посл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го вытяните их перед собой и почувствуйт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ную расслабленность плечев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яса. Полезно также активно повращ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ли потрясти плечами.</a:t>
            </a:r>
            <a:endParaRPr b="0" lang="en-US" sz="1800" spc="-1" strike="noStrike">
              <a:solidFill>
                <a:srgbClr val="000000"/>
              </a:solidFill>
              <a:latin typeface="Arial"/>
            </a:endParaRPr>
          </a:p>
        </p:txBody>
      </p:sp>
      <p:pic>
        <p:nvPicPr>
          <p:cNvPr id="67" name="Picture 5" descr="blob"/>
          <p:cNvPicPr/>
          <p:nvPr/>
        </p:nvPicPr>
        <p:blipFill>
          <a:blip r:embed="rId1"/>
          <a:stretch/>
        </p:blipFill>
        <p:spPr>
          <a:xfrm>
            <a:off x="5796000" y="3600360"/>
            <a:ext cx="3348000" cy="325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0" y="0"/>
            <a:ext cx="9144000" cy="352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нные упражнения нормализуют дыхание, снимают напряжение в верхней части грудной клетки, руках, за счет чего улучшается крупная и мелкая моторика. Это приводит к точности в манипулировании инструментами, улучшает почерк. </a:t>
            </a:r>
            <a:br>
              <a:rPr sz="1800"/>
            </a:br>
            <a:r>
              <a:rPr b="1" lang="ru-RU" sz="1800" spc="-1" strike="noStrike">
                <a:solidFill>
                  <a:srgbClr val="000000"/>
                </a:solidFill>
                <a:latin typeface="Arial"/>
              </a:rPr>
              <a:t>Наши потягивания также способствуют концентрации внимания. Они помогают сделать речь более выразительной, более четко излагать свои мысли в разговоре и на бумаге. Поэтому специалисты рекомендуют особенно активно использовать такие упражнения при подготовке к контрольным и другим творческим работам, в частности, к сочинению и изложению, а также перед сдачей устных и письменных экзамено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5"/>
          <p:cNvSpPr/>
          <p:nvPr/>
        </p:nvSpPr>
        <p:spPr>
          <a:xfrm>
            <a:off x="0" y="2921040"/>
            <a:ext cx="9144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ьмерка» на удач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егулярные упражнения «Алфавитная восьмерка» помогают стать внимательнее, быстрее решать математические задачи, запоминать иностранные слова, читать и, что немаловажно, грамотнее писать. </a:t>
            </a:r>
            <a:br>
              <a:rPr sz="1800"/>
            </a:br>
            <a:r>
              <a:rPr b="1" lang="ru-RU" sz="1800" spc="-1" strike="noStrike">
                <a:solidFill>
                  <a:srgbClr val="000000"/>
                </a:solidFill>
                <a:latin typeface="Arial"/>
              </a:rPr>
              <a:t>Такие успехи у школьников любого возраста наблюдаются благодаря эффективному снятию стресса. По мнению специалистов, данные движения очень актуальны для учеников выпускных классов перед сдачей ЕГЭ.</a:t>
            </a:r>
            <a:br>
              <a:rPr sz="1800"/>
            </a:br>
            <a:r>
              <a:rPr b="1" lang="ru-RU" sz="1800" spc="-1" strike="noStrike">
                <a:solidFill>
                  <a:srgbClr val="000000"/>
                </a:solidFill>
                <a:latin typeface="Arial"/>
              </a:rPr>
              <a:t>Для активизации памяти при изучении иностранного языка психологи советуют писать в окружности буквы изучаемого алфавита. Воспроизведение цифр в восьмерке, как считают специалисты, помогает интегрировать работу полушарий мозга для решения сложных математических задач. Родителям стоит также знать, что полезно делать упражнения вместе детьми, так как такая совместная деятельность улучшает взаимопонимание и психологический климат в семь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69"/>
                                        </p:tgtEl>
                                        <p:attrNameLst>
                                          <p:attrName>style.visibility</p:attrName>
                                        </p:attrNameLst>
                                      </p:cBhvr>
                                      <p:to>
                                        <p:strVal val="visible"/>
                                      </p:to>
                                    </p:set>
                                    <p:animEffect filter="wipe(down)" transition="in">
                                      <p:cBhvr additive="repl">
                                        <p:cTn id="1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0" y="0"/>
            <a:ext cx="914400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ите удобную позу. Нарисуйте перед собой в воздухе «ленивую» восьмерку. Через ее центр проведите сверху вниз вертикальную линию, разделив тем самым восьмерку на две окруж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права или слева от вертикального сечения впишите букву в окружность, используя ее линию. Таким образом, линия окружности становится частью буквы. Вы сами решаете, в каком месте алфавитной восьмерки эта буква выглядит более умест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писав одну букву, снова чертите восьмерку и разделяете ее вертикальной линией. Упражнение с одной буквой проделывается каждой рукой три раза и три раза двумя руками одновременно. Чтобы максимально быстро расслабиться или настроиться на предстоящую работу, рекомендуется заполнять окружности восьмерки актуальными для вас фразами, используя указанный выше способ написа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blob"/>
          <p:cNvPicPr/>
          <p:nvPr/>
        </p:nvPicPr>
        <p:blipFill>
          <a:blip r:embed="rId1"/>
          <a:stretch/>
        </p:blipFill>
        <p:spPr>
          <a:xfrm>
            <a:off x="3276720" y="981000"/>
            <a:ext cx="1582560" cy="905040"/>
          </a:xfrm>
          <a:prstGeom prst="rect">
            <a:avLst/>
          </a:prstGeom>
          <a:ln w="0">
            <a:noFill/>
          </a:ln>
        </p:spPr>
      </p:pic>
      <p:pic>
        <p:nvPicPr>
          <p:cNvPr id="72" name="Picture 6" descr="blob"/>
          <p:cNvPicPr/>
          <p:nvPr/>
        </p:nvPicPr>
        <p:blipFill>
          <a:blip r:embed="rId2"/>
          <a:stretch/>
        </p:blipFill>
        <p:spPr>
          <a:xfrm>
            <a:off x="3492360" y="2997360"/>
            <a:ext cx="1943280" cy="1164960"/>
          </a:xfrm>
          <a:prstGeom prst="rect">
            <a:avLst/>
          </a:prstGeom>
          <a:ln w="0">
            <a:noFill/>
          </a:ln>
        </p:spPr>
      </p:pic>
      <p:pic>
        <p:nvPicPr>
          <p:cNvPr id="73" name="Picture 7" descr="blob"/>
          <p:cNvPicPr/>
          <p:nvPr/>
        </p:nvPicPr>
        <p:blipFill>
          <a:blip r:embed="rId3"/>
          <a:stretch/>
        </p:blipFill>
        <p:spPr>
          <a:xfrm>
            <a:off x="4500720" y="5734080"/>
            <a:ext cx="1726920" cy="98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0" y="0"/>
            <a:ext cx="9144000" cy="4900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нять стресс легко!»</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рошая  успеваемость предполагает активное освоение новой информации. Но, например, когда школьник попадает в незнакомую ситуацию, или над ним висит угроза контрольной работы, или когда родители неодобрительно косятся из-за полученной тройки, то мышцы ребенка сокращаются. Это нормальный физиологический рефлекс в ответ на опасность и стресс. Однако при этом сигнал не доходит до передних отделов мозга, отвечающих за понимание, моторный контроль, рациональное поведение, столь необходимых для учебной деятельности и при коммуникациях.</a:t>
            </a:r>
            <a:br>
              <a:rPr sz="1800"/>
            </a:br>
            <a:r>
              <a:rPr b="1" lang="ru-RU" sz="1800" spc="-1" strike="noStrike">
                <a:solidFill>
                  <a:srgbClr val="000000"/>
                </a:solidFill>
                <a:latin typeface="Arial"/>
              </a:rPr>
              <a:t>Растягивающие движения снимают стресс и расслабляют мышцы, помогая ученику успокоиться, прийти в рабочее состояние. Поэтому такие упражнения способствуют усилению различных учебных навык-</a:t>
            </a:r>
            <a:br>
              <a:rPr sz="1800"/>
            </a:br>
            <a:r>
              <a:rPr b="1" lang="ru-RU" sz="1800" spc="-1" strike="noStrike">
                <a:solidFill>
                  <a:srgbClr val="000000"/>
                </a:solidFill>
                <a:latin typeface="Arial"/>
              </a:rPr>
              <a:t>ов – понимающего слушания, чтения, творческого письма, выражению мыслей c помощью речи. А также они позволяют освободиться от напряжения, чуть меньше сутулиться и быть более пластичным.</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 descr="http://www.za-partoi.ru/core/utils/blob.php?blobid=1541&amp;w=227&amp;h=208&amp;i=1"/>
          <p:cNvPicPr/>
          <p:nvPr/>
        </p:nvPicPr>
        <p:blipFill>
          <a:blip r:embed="rId1"/>
          <a:stretch/>
        </p:blipFill>
        <p:spPr>
          <a:xfrm>
            <a:off x="2268360" y="4508640"/>
            <a:ext cx="2162520" cy="1981080"/>
          </a:xfrm>
          <a:prstGeom prst="rect">
            <a:avLst/>
          </a:prstGeom>
          <a:ln w="0">
            <a:noFill/>
          </a:ln>
        </p:spPr>
      </p:pic>
      <p:pic>
        <p:nvPicPr>
          <p:cNvPr id="76" name="Picture 5" descr="http://www.za-partoi.ru/core/utils/blob.php?blobid=1542&amp;w=237&amp;h=203&amp;i=1"/>
          <p:cNvPicPr/>
          <p:nvPr/>
        </p:nvPicPr>
        <p:blipFill>
          <a:blip r:embed="rId2"/>
          <a:stretch/>
        </p:blipFill>
        <p:spPr>
          <a:xfrm>
            <a:off x="5867280" y="4508640"/>
            <a:ext cx="2257560" cy="1933560"/>
          </a:xfrm>
          <a:prstGeom prst="rect">
            <a:avLst/>
          </a:prstGeom>
          <a:ln w="0">
            <a:noFill/>
          </a:ln>
        </p:spPr>
      </p:pic>
      <p:sp>
        <p:nvSpPr>
          <p:cNvPr id="7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0" y="0"/>
            <a:ext cx="9144000" cy="462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мпа»</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правильном выполнении упражнения вес тела всегда приходится на стоящую впереди ногу. Это легко проверить. Если можете оторвать вторую ногу от земли – значит, вес распределен верно.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ньте, выставив левую ногу вперед с опорой на всю стопу, правая нога – сзади, на носке. Вес тела на левой ноге. Корпус вертикально. При затруднении в этом положении обопритесь на стул или стену рукам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чинайте приседать на выставленной вперед ноге, при этом правая, отставленная назад, опускается с носка на всю стопу. Вес остается на левой ног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чувствуйте натяжение икроножной мышцы правой ног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меняйте положение ног и повторите упражн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лагаемые движения также улучшают социальное поведение, помогают довести до конца дело, увеличивают время сосредоточения и внимания, активизируют языковые способности.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http://www.za-partoi.ru/core/utils/blob.php?blobid=1541&amp;w=227&amp;h=208&amp;i=1"/>
          <p:cNvPicPr/>
          <p:nvPr/>
        </p:nvPicPr>
        <p:blipFill>
          <a:blip r:embed="rId1"/>
          <a:stretch/>
        </p:blipFill>
        <p:spPr>
          <a:xfrm>
            <a:off x="2268360" y="4508640"/>
            <a:ext cx="2162520" cy="1981080"/>
          </a:xfrm>
          <a:prstGeom prst="rect">
            <a:avLst/>
          </a:prstGeom>
          <a:ln w="0">
            <a:noFill/>
          </a:ln>
        </p:spPr>
      </p:pic>
      <p:pic>
        <p:nvPicPr>
          <p:cNvPr id="81" name="Picture 6" descr="http://www.za-partoi.ru/core/utils/blob.php?blobid=1542&amp;w=237&amp;h=203&amp;i=1"/>
          <p:cNvPicPr/>
          <p:nvPr/>
        </p:nvPicPr>
        <p:blipFill>
          <a:blip r:embed="rId2"/>
          <a:stretch/>
        </p:blipFill>
        <p:spPr>
          <a:xfrm>
            <a:off x="5867280" y="4508640"/>
            <a:ext cx="2257560" cy="19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0" y="0"/>
            <a:ext cx="9144000" cy="7094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Рокер» снимает напряжение после длительного сидения за партой, компьютером или рулем автомобиля, прибавляет энергии, помогает достигать спортивных успехов, способствует творческому мышлению. Кроме того, оно способствует развитию понимающего чтения, улучшает навыки эмоционального чтения и пересказа. Упражнение выполняется на мягкой поверхности. Подойдет, например, гимнастический коврик.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ядьте на пол, предварительно не забыв расстелить специальный коврик, и согните колени.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хватите колени руками, откиньтесь назад и, округлив спину, покачайтесь назад и вперед, с боку на бок. Амплитуда движений невелика, она регулируется появлением напряжения.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рнитесь в исходное положение. Откиньтесь назад, опираясь на локти и кисти. Вам должно быть удобно поддерживать тело в наклонном положение.</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поднимите ноги, согнутые в коленях, плавно начинайте описывать коленями «восьмерки». Если выполнение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вижений затруднительно, то для начала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статочно просто делать круговые вращения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гам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лагаем другой вариант упражнения «Рокер».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дя в кресле, опираясь на подлокотник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нимите ноги, согните в коленях и делайт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ми круговые движения.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5" descr="blob"/>
          <p:cNvPicPr/>
          <p:nvPr/>
        </p:nvPicPr>
        <p:blipFill>
          <a:blip r:embed="rId1"/>
          <a:stretch/>
        </p:blipFill>
        <p:spPr>
          <a:xfrm>
            <a:off x="6084720" y="4000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0" y="0"/>
            <a:ext cx="914400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мплекс «Гимнастика мозга» был разработан психологом Полом И. Деннисоном. Сегодня этот метод успешно используется в школах, спортивных секциях, психологических консультациях. Это комплекс несложных упражнений, каждое из которых поможет школьнику справиться с тем, что ежедневно мешает эффективно учиться, выстраивать отношения с окружающими, да и просто хорошо себя чувствовать. Положительные результаты заметны практически сразу и имеют эффект накапливания.</a:t>
            </a:r>
            <a:endParaRPr b="0" lang="en-US" sz="2000" spc="-1" strike="noStrike">
              <a:solidFill>
                <a:srgbClr val="000000"/>
              </a:solidFill>
              <a:latin typeface="Arial"/>
            </a:endParaRPr>
          </a:p>
        </p:txBody>
      </p:sp>
      <p:sp>
        <p:nvSpPr>
          <p:cNvPr id="44" name="Text Box 5"/>
          <p:cNvSpPr/>
          <p:nvPr/>
        </p:nvSpPr>
        <p:spPr>
          <a:xfrm>
            <a:off x="0" y="3745080"/>
            <a:ext cx="914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Что даёт тренин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оптимизация деятельности мозга</a:t>
            </a:r>
            <a:br>
              <a:rPr sz="1800"/>
            </a:br>
            <a:r>
              <a:rPr b="1" lang="ru-RU" sz="1800" spc="-1" strike="noStrike">
                <a:solidFill>
                  <a:srgbClr val="000000"/>
                </a:solidFill>
                <a:latin typeface="Arial"/>
              </a:rPr>
              <a:t>— гармоничное развитие двухполушарного мышления</a:t>
            </a:r>
            <a:br>
              <a:rPr sz="1800"/>
            </a:br>
            <a:r>
              <a:rPr b="1" lang="ru-RU" sz="1800" spc="-1" strike="noStrike">
                <a:solidFill>
                  <a:srgbClr val="000000"/>
                </a:solidFill>
                <a:latin typeface="Arial"/>
              </a:rPr>
              <a:t>— развитие интеллектуальных и творческих способностей</a:t>
            </a:r>
            <a:br>
              <a:rPr sz="1800"/>
            </a:br>
            <a:r>
              <a:rPr b="1" lang="ru-RU" sz="1800" spc="-1" strike="noStrike">
                <a:solidFill>
                  <a:srgbClr val="000000"/>
                </a:solidFill>
                <a:latin typeface="Arial"/>
              </a:rPr>
              <a:t>— улучшение работы долговременной и кратковременной памяти</a:t>
            </a:r>
            <a:br>
              <a:rPr sz="1800"/>
            </a:br>
            <a:r>
              <a:rPr b="1" lang="ru-RU" sz="1800" spc="-1" strike="noStrike">
                <a:solidFill>
                  <a:srgbClr val="000000"/>
                </a:solidFill>
                <a:latin typeface="Arial"/>
              </a:rPr>
              <a:t>— развитие способностей к обучению и усвоению информации</a:t>
            </a:r>
            <a:br>
              <a:rPr sz="1800"/>
            </a:br>
            <a:r>
              <a:rPr b="1" lang="ru-RU" sz="1800" spc="-1" strike="noStrike">
                <a:solidFill>
                  <a:srgbClr val="000000"/>
                </a:solidFill>
                <a:latin typeface="Arial"/>
              </a:rPr>
              <a:t>— повышение эффективности выполняемых действий при  работе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омпьютере.</a:t>
            </a:r>
            <a:br>
              <a:rPr sz="1800"/>
            </a:br>
            <a:r>
              <a:rPr b="1" lang="ru-RU" sz="1800" spc="-1" strike="noStrike">
                <a:solidFill>
                  <a:srgbClr val="000000"/>
                </a:solidFill>
                <a:latin typeface="Arial"/>
              </a:rPr>
              <a:t>— восстановление работоспособности и продуктивности</a:t>
            </a:r>
            <a:br>
              <a:rPr sz="1800"/>
            </a:br>
            <a:r>
              <a:rPr b="1" lang="ru-RU" sz="1800" spc="-1" strike="noStrike">
                <a:solidFill>
                  <a:srgbClr val="000000"/>
                </a:solidFill>
                <a:latin typeface="Arial"/>
              </a:rPr>
              <a:t>— снятие стресса, нервного напряжения, усталости</a:t>
            </a:r>
            <a:br>
              <a:rPr sz="1800"/>
            </a:br>
            <a:r>
              <a:rPr b="1" lang="ru-RU" sz="1800" spc="-1" strike="noStrike">
                <a:solidFill>
                  <a:srgbClr val="000000"/>
                </a:solidFill>
                <a:latin typeface="Arial"/>
              </a:rPr>
              <a:t>— формирование абстрактного мыш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4"/>
                                        </p:tgtEl>
                                        <p:attrNameLst>
                                          <p:attrName>style.visibility</p:attrName>
                                        </p:attrNameLst>
                                      </p:cBhvr>
                                      <p:to>
                                        <p:strVal val="visible"/>
                                      </p:to>
                                    </p:set>
                                    <p:animEffect filter="wipe(down)"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5"/>
          <p:cNvSpPr/>
          <p:nvPr/>
        </p:nvSpPr>
        <p:spPr>
          <a:xfrm>
            <a:off x="179280" y="0"/>
            <a:ext cx="8785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ерекрестные шаг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начала</a:t>
            </a:r>
            <a:r>
              <a:rPr b="1" lang="ru-RU" sz="1800" spc="-1" strike="noStrike" u="sng">
                <a:solidFill>
                  <a:srgbClr val="000000"/>
                </a:solidFill>
                <a:uFillTx/>
                <a:latin typeface="Arial"/>
              </a:rPr>
              <a:t> мысленно </a:t>
            </a:r>
            <a:r>
              <a:rPr b="1" lang="ru-RU" sz="1800" spc="-1" strike="noStrike">
                <a:solidFill>
                  <a:srgbClr val="000000"/>
                </a:solidFill>
                <a:latin typeface="Arial"/>
              </a:rPr>
              <a:t>проведем линию от лба к носу, подбородку и ниже – она разделяет тело на правую и левую половины. Движения, пересекающие эту линию, интегрируют работу полушарий мозга. Поэтому «Перекрестные шаги» способствуют развитию координации и ориентации в пространстве, делают более успешными приобретение навыков чтения, письма, слушания, усвоения новой информации. А еще снимают боль в пояснице и подтягивают мышцы живо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Локтем левой руки тянемся к колену правой ноги. Легко касаясь, соединяем локоть и коле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Это же движение повторяем правой рукой и левой ногой. Выполнять стоя или сид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Соединяем левую ногу и правую руку за спиной и наоборот. Повторить 4–8 р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крестные шаги» желательно дел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медленном темпе и чувствовать, ка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ботают мышцы живота. Если эт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щущения нет, проследите, не низк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и опускается локоть, не слишком л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соко поднимается коле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т ли излишнего наклона в пояснице.</a:t>
            </a:r>
            <a:endParaRPr b="0" lang="en-US" sz="1800" spc="-1" strike="noStrike">
              <a:solidFill>
                <a:srgbClr val="000000"/>
              </a:solidFill>
              <a:latin typeface="Arial"/>
            </a:endParaRPr>
          </a:p>
        </p:txBody>
      </p:sp>
      <p:pic>
        <p:nvPicPr>
          <p:cNvPr id="46" name="Picture 7" descr="http://www.za-partoi.ru/core/utils/blob.php?blobid=1535&amp;w=205&amp;h=205&amp;i=1"/>
          <p:cNvPicPr/>
          <p:nvPr/>
        </p:nvPicPr>
        <p:blipFill>
          <a:blip r:embed="rId1"/>
          <a:stretch/>
        </p:blipFill>
        <p:spPr>
          <a:xfrm>
            <a:off x="5148360" y="3860640"/>
            <a:ext cx="2232000" cy="2232360"/>
          </a:xfrm>
          <a:prstGeom prst="rect">
            <a:avLst/>
          </a:prstGeom>
          <a:ln w="0">
            <a:noFill/>
          </a:ln>
        </p:spPr>
      </p:pic>
      <p:pic>
        <p:nvPicPr>
          <p:cNvPr id="47" name="Picture 6" descr="http://www.za-partoi.ru/core/utils/blob.php?blobid=1536&amp;w=197&amp;h=197&amp;i=1"/>
          <p:cNvPicPr/>
          <p:nvPr/>
        </p:nvPicPr>
        <p:blipFill>
          <a:blip r:embed="rId2"/>
          <a:stretch/>
        </p:blipFill>
        <p:spPr>
          <a:xfrm>
            <a:off x="7267680" y="3716280"/>
            <a:ext cx="1876320" cy="1876320"/>
          </a:xfrm>
          <a:prstGeom prst="rect">
            <a:avLst/>
          </a:prstGeom>
          <a:ln w="0">
            <a:noFill/>
          </a:ln>
        </p:spPr>
      </p:pic>
      <p:sp>
        <p:nvSpPr>
          <p:cNvPr id="48" name="Rectangle 8"/>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a:off x="0" y="24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0" y="189000"/>
            <a:ext cx="9144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а здравствует творчеств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и упражнения помогут снять усталость глаз, напряжение шеи, боль в спине после работы за компьютером. Особенно они рекомендуются «очкарикам», так как улучшают работу глазных мышц, укрепляют связь «рука–глаз». И, пожалуй, самое главное – стимулируют желание фантазировать и активно твори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Ленивые восьмер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ставьте перед собой на уровне глаз восьмерку, лежащую на боку. Ее центр проходит на уровне переносиц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тяните вперед руку, чуть согнутую в локте. Сожмите пальцы в кулак, большой палец поднимите вверх. Ведите рукой в воздухе от центра влево-вверх против часовой стрелки, по окружности вниз и снова в центр. Продолжайте «рисовать» вправо-вверх, возвращаясь в исходную точку. Движение должно быть плавным и непрерывным. За большим пальцем следите глазами, голова остается неподвижной. Повторить три раза каждой ру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едините руки в замок. Снова рису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енивую восьмерку и следим взгляд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 пальцами. Повторить три раза. </a:t>
            </a:r>
            <a:endParaRPr b="0" lang="en-US" sz="1800" spc="-1" strike="noStrike">
              <a:solidFill>
                <a:srgbClr val="000000"/>
              </a:solidFill>
              <a:latin typeface="Arial"/>
            </a:endParaRPr>
          </a:p>
        </p:txBody>
      </p:sp>
      <p:pic>
        <p:nvPicPr>
          <p:cNvPr id="51" name="Picture 5" descr="blob"/>
          <p:cNvPicPr/>
          <p:nvPr/>
        </p:nvPicPr>
        <p:blipFill>
          <a:blip r:embed="rId1"/>
          <a:stretch/>
        </p:blipFill>
        <p:spPr>
          <a:xfrm>
            <a:off x="5940360" y="4446720"/>
            <a:ext cx="2448000" cy="22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0" y="0"/>
            <a:ext cx="9144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войные рисун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ходная поза – обе руки свободно выпрямлены перед собой. Представьте, что в руках по карандашу, а перед вами – хол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дновременно двумя руками от центра начинайте рисовать на воображаемом холсте зеркальные изображения. Сюжет не имеет значения, но рисунки должны располагаться в верхней и нижней частях холста. Тело расслаблено, дыхание в естественном темпе, движения рук свободны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рианты: рисуем мелом или маркерами на доске, пастелью на бумаге, прикрепленной на уровне глаз. </a:t>
            </a:r>
            <a:br>
              <a:rPr sz="1800"/>
            </a:br>
            <a:r>
              <a:rPr b="1" lang="ru-RU" sz="1800" spc="-1" strike="noStrike">
                <a:solidFill>
                  <a:srgbClr val="000000"/>
                </a:solidFill>
                <a:latin typeface="Arial"/>
              </a:rPr>
              <a:t>Упражения рекомендуются делать без очков, чтобы они не ограничивали поле зрения.</a:t>
            </a:r>
            <a:endParaRPr b="0" lang="en-US" sz="1800" spc="-1" strike="noStrike">
              <a:solidFill>
                <a:srgbClr val="000000"/>
              </a:solidFill>
              <a:latin typeface="Arial"/>
            </a:endParaRPr>
          </a:p>
        </p:txBody>
      </p:sp>
      <p:pic>
        <p:nvPicPr>
          <p:cNvPr id="53" name="Picture 5" descr="blob"/>
          <p:cNvPicPr/>
          <p:nvPr/>
        </p:nvPicPr>
        <p:blipFill>
          <a:blip r:embed="rId1"/>
          <a:stretch/>
        </p:blipFill>
        <p:spPr>
          <a:xfrm>
            <a:off x="2843280" y="3213000"/>
            <a:ext cx="3168720" cy="312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0" y="0"/>
            <a:ext cx="9144000" cy="65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 пятеркой – на слон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и упражнения помогают легче учиться и чаще получать хорошие отметки. Ведь от них заметно повышаются внимание и собранность, да и учебный материал запоминается быстре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л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таньте удобно, ноги на ширине плеч, колени расслаблены. Правую руку поднимите и опустите на нее голову. Плечо должно быть прижато к уху так плотно, что, если положить между ними лист бумаги, то он удержится. Взгляд – на пальцы вытянутой ру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ем ленивую восьмерку всем телом. Для этого чуть приседаем, начинаем волнообразное движение от колен через бедра и выше в корпус. Одновременно с этим гудим «у-у-у». Воображаемым кончиком «кисточки» является ваша ру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за следят за движением руки и проецируют восьмерку на расстоя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яем эти же движения другой рук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объединяет все каналы восприят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удиальный, визуальный, кинестетическ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но также стимулирует внутреннюю речь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ворческое мышление. Как следствие, улучша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выки чтения, слушания, письма, речи, повышае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нимание, улучшается память. Выполняя 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ажно добиться, чтобы работало все тело.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blob"/>
          <p:cNvPicPr/>
          <p:nvPr/>
        </p:nvPicPr>
        <p:blipFill>
          <a:blip r:embed="rId1"/>
          <a:stretch/>
        </p:blipFill>
        <p:spPr>
          <a:xfrm>
            <a:off x="6300720" y="3933720"/>
            <a:ext cx="2843280" cy="28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0" y="0"/>
            <a:ext cx="914400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авая рука захватывает левую надостную мышцу (между шеей и плечом). Ладонь должна быть мягкой, как бы «приклеенной» к мышц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жимайте мышцу и медленно поворачивайте голову слева направо. Доходя до крайней удобной точки, начинаем движение в обратную сторону. При этом губы сложены трубочкой и на выдохе произносят «ух». Шея слегка вытягивается, подбородок движется вперед, а глаза при каждом «уханье» округляются, как у совы. Обычно на один поворот головы приходится 5 звуков. Все движения выполняются синхронно! Проделайте упражнение не менее 3 ра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меняйте руки и повторите, расслабляя правую надостную мышцу. Упражнение снимает напряжение в районе шеи, улучшает приток крови к головному мозгу. Оно способствует развитию таких учебных навыков, как слушание и математические вычисл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лагодаря «уханью» снимаются челюстны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жимы, что делает речь более связн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то упражнение особенно полезно посл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ительного письма, работы с компьютеро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5" descr="blob"/>
          <p:cNvPicPr/>
          <p:nvPr/>
        </p:nvPicPr>
        <p:blipFill>
          <a:blip r:embed="rId1"/>
          <a:stretch/>
        </p:blipFill>
        <p:spPr>
          <a:xfrm>
            <a:off x="5651640" y="3645000"/>
            <a:ext cx="3024000" cy="30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Энергетизатор», Оно повышает концентрацию внимания, сосредоточенность, улучшает восприятие новой информации и творческие способности. </a:t>
            </a:r>
            <a:br>
              <a:rPr sz="1800"/>
            </a:br>
            <a:r>
              <a:rPr b="1" lang="ru-RU" sz="1800" spc="-1" strike="noStrike">
                <a:solidFill>
                  <a:srgbClr val="000000"/>
                </a:solidFill>
                <a:latin typeface="Arial"/>
              </a:rPr>
              <a:t>Движения также подпитывают энергией для быстрого выполнения учебных заданий, принятия правильных решений. Они способствуют улучшению координации движений, снимают стресс статичной позы, если дети часами сидят за партой или компьютером.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ядьте за стол и положите руки таким образом, чтобы пальцы были направлены навстречу друг другу и чуть вперед.</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устите голову лбом на стол. Поза должна быть максимально удобной.</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 вдохе начинайте поднимать лоб, голову, шею и верхнюю часть спины, как бы толкая носом мяч вверх. Предел подъема – окончание вдоха или напряжение в спине. Грудь и плечи должны быть развернуты и расслаблены.</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няв голову, сделайте несколько плавных круговых движений головой от плеча к плечу.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пускайте голову в той же последовательности:</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об, голова, шея, спина.</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вторите движения 3 раза. Во время их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полнения важно синхронизировать работу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ла и дыхания. Другой вариант упражнения –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ыполняем движения лежа на животе 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ягкой поверхности. Последовательность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тается прежней. Бедра и нижняя часть спины расслаблены и неподвижны. </a:t>
            </a:r>
            <a:endParaRPr b="0" lang="en-US" sz="1800" spc="-1" strike="noStrike">
              <a:solidFill>
                <a:srgbClr val="000000"/>
              </a:solidFill>
              <a:latin typeface="Arial"/>
            </a:endParaRPr>
          </a:p>
        </p:txBody>
      </p:sp>
      <p:pic>
        <p:nvPicPr>
          <p:cNvPr id="59" name="Picture 5" descr="blob"/>
          <p:cNvPicPr/>
          <p:nvPr/>
        </p:nvPicPr>
        <p:blipFill>
          <a:blip r:embed="rId1"/>
          <a:stretch/>
        </p:blipFill>
        <p:spPr>
          <a:xfrm>
            <a:off x="6732720" y="4221000"/>
            <a:ext cx="1944720" cy="209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0" y="189000"/>
            <a:ext cx="896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зьмемся за уши, друзь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зитивные точк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жно выполнять стоя и сидя.</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ожите средний и указательный пальцы обеих рук на точки, находящиеся на лбу посередине между линией бровей и волос. Вертикальная ось точек – посередине зрачка. </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держите пальцы на этих точках до возникновения под ними тепла или пульсации. При этом можно представлять позитивное разрешение проблемной ситуаци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помогает школьникам избежать ситуации «Учил, знаю ответ, но никак не могу вспомнить». С его помощью дети активнее усваивают новую информацию, у них улучшается память.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оме того, оно помогает справиться со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ессом, быстрее найти выход из проблемной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туации, ослабить эмоциональный накал.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жнение особенно актуально перед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санием контрольных работ,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убличными выступлениями и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 время экзаменов.</a:t>
            </a:r>
            <a:endParaRPr b="0" lang="en-US" sz="1800" spc="-1" strike="noStrike">
              <a:solidFill>
                <a:srgbClr val="000000"/>
              </a:solidFill>
              <a:latin typeface="Arial"/>
            </a:endParaRPr>
          </a:p>
        </p:txBody>
      </p:sp>
      <p:pic>
        <p:nvPicPr>
          <p:cNvPr id="61" name="Picture 5" descr="blob"/>
          <p:cNvPicPr/>
          <p:nvPr/>
        </p:nvPicPr>
        <p:blipFill>
          <a:blip r:embed="rId1"/>
          <a:stretch/>
        </p:blipFill>
        <p:spPr>
          <a:xfrm>
            <a:off x="5724360" y="3284640"/>
            <a:ext cx="3240360" cy="32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7:12:04Z</dcterms:created>
  <dc:creator>Admin</dc:creator>
  <dc:description/>
  <dc:language>en-US</dc:language>
  <cp:lastModifiedBy>User</cp:lastModifiedBy>
  <dcterms:modified xsi:type="dcterms:W3CDTF">2013-06-08T07:24:54Z</dcterms:modified>
  <cp:revision>7</cp:revision>
  <dc:subject/>
  <dc:title>Слайд 1</dc:title>
</cp:coreProperties>
</file>