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4D1-B8E6-4419-AC2A-96B57F6C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201-A061-49B9-B6E0-009D6B88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F34-CD04-44A7-A78C-07F2930E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1EE-B428-45D1-895A-2F460F41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517C-66BE-451F-8882-5C9B752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935-67B5-47A8-A0AB-682BCACE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573D-5DEF-4DEF-8E23-C53D4088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29A-69D5-4A92-A12A-619724E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7AD-0130-4585-B06F-3F32FE2E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050-805B-4499-AF9C-0DF7902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6BC-7571-49B5-AE27-8F79AACD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67B-5E2B-4DF6-81D1-9B2154F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A110-1678-4048-A544-475B9A7DD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Ак-47\Desktop\powerpoint-templates-s (2)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4245120" y="4797360"/>
            <a:ext cx="49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ила: ученица 2 «Е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нова Али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692360" y="333360"/>
            <a:ext cx="72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– одна из самых главных богатств нашей Родины. Одной из частей природы является лес. Лес это наше богатство, мы должны беречь его и охранять. Лес – это общий дом для животных и растен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4775040" y="3746520"/>
            <a:ext cx="41180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821320" y="127080"/>
            <a:ext cx="40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Значение лес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496880" y="1006560"/>
            <a:ext cx="76327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играют огромную роль в жизни человека и животны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для животных, растений , гриб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 воздуха, водоемов, поч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для  отдыха челове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год, грибов, лекарственных раст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древеси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-6840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342520" y="404640"/>
            <a:ext cx="544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лес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63440" y="1700280"/>
            <a:ext cx="2705040" cy="1923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148680" y="37544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СТВЕ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3114720" y="1700280"/>
            <a:ext cx="2666880" cy="1882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358080" y="3754440"/>
            <a:ext cx="24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ВОЙ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6039000" y="1700280"/>
            <a:ext cx="2638440" cy="1882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6055200" y="38275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ЕША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s://xn--i1abbnckbmcl9fb.xn--p1ai/%D1%81%D1%82%D0%B0%D1%82%D1%8C%D0%B8/607469/presentation/15.JPG"/>
          <p:cNvPicPr/>
          <p:nvPr/>
        </p:nvPicPr>
        <p:blipFill>
          <a:blip r:embed="rId2"/>
          <a:stretch/>
        </p:blipFill>
        <p:spPr>
          <a:xfrm>
            <a:off x="0" y="0"/>
            <a:ext cx="96724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792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ÐÐ°ÑÑÐ¸Ð½ÐºÐ¸ Ð¿Ð¾ Ð·Ð°Ð¿ÑÐ¾ÑÑ ÑÐ¾Ð½ Ð´Ð»Ñ Ð¿ÑÐµÐ·ÐµÐ½ÑÐ°ÑÐ¸Ð¸ Ð¿ÑÐ¾ Ð»ÐµÑ Ð¸ Ð¿ÑÐ¸ÑÐ¾Ð´Ñ"/>
          <p:cNvPicPr/>
          <p:nvPr/>
        </p:nvPicPr>
        <p:blipFill>
          <a:blip r:embed="rId1"/>
          <a:stretch/>
        </p:blipFill>
        <p:spPr>
          <a:xfrm>
            <a:off x="-316080" y="0"/>
            <a:ext cx="94600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1547640" y="1720800"/>
            <a:ext cx="70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кой самый страшный враг леса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58760" y="0"/>
            <a:ext cx="9461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348640" y="1989000"/>
            <a:ext cx="5281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к вызвать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жарных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1T16:41:45Z</dcterms:created>
  <dc:creator>Vasilich</dc:creator>
  <dc:description/>
  <dc:language>en-US</dc:language>
  <cp:lastModifiedBy>Пользователь Windows</cp:lastModifiedBy>
  <dcterms:modified xsi:type="dcterms:W3CDTF">2019-04-24T09:16:52Z</dcterms:modified>
  <cp:revision>14</cp:revision>
  <dc:subject/>
  <dc:title>Презентация PowerPoint</dc:title>
</cp:coreProperties>
</file>