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0A1-A0F7-42D5-B070-ABDE7EA3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FE5-1D7C-4613-B0B2-6EDFDBDF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236-40F2-49A7-95B5-7A92324D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EF1-52AD-4926-98CF-D6EC1225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399-8178-4F6F-B859-D9B2C71F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559-6071-43AA-9CEB-D5B4343D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8E2-6D63-4FA5-9761-D988583B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995-458C-4E75-874A-69307DF0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2AA-B22E-4594-BE7B-7572898D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FCB-DFBC-4561-A241-AAD9934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2B0-1184-47B0-90FB-B889ABB3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4F8-F2E2-4398-8F39-67492066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236B-A0F4-4F4A-BDC2-47E6DF778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Ак-47\Desktop\powerpoint-templates-s (2)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245120" y="4797360"/>
            <a:ext cx="49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а: ученица 2 «Е»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нова Али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1692360" y="333360"/>
            <a:ext cx="72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– одна из самых главных богатств нашей Родины. Одной из частей природы является лес. Лес это наше богатство, мы должны беречь его и охранять. Лес – это общий дом для животных и раст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4775040" y="3746520"/>
            <a:ext cx="41180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821320" y="127080"/>
            <a:ext cx="408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начение лес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496880" y="1006560"/>
            <a:ext cx="76327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играют огромную роль в жизни человека и животны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с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для животных, растений , гриб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ик воздуха, водоемов, поч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для  отдыха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год, грибов, лекарственных раст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древесин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-6840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2342520" y="404640"/>
            <a:ext cx="544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ывают лес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163440" y="1700280"/>
            <a:ext cx="2705040" cy="1923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48680" y="37544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ТВЕ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3114720" y="1700280"/>
            <a:ext cx="2666880" cy="1882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358080" y="3754440"/>
            <a:ext cx="24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ВОЙ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4"/>
          <a:stretch/>
        </p:blipFill>
        <p:spPr>
          <a:xfrm>
            <a:off x="6039000" y="1700280"/>
            <a:ext cx="2638440" cy="1882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6055200" y="382752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ЕША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s://xn--i1abbnckbmcl9fb.xn--p1ai/%D1%81%D1%82%D0%B0%D1%82%D1%8C%D0%B8/607469/presentation/15.JPG"/>
          <p:cNvPicPr/>
          <p:nvPr/>
        </p:nvPicPr>
        <p:blipFill>
          <a:blip r:embed="rId2"/>
          <a:stretch/>
        </p:blipFill>
        <p:spPr>
          <a:xfrm>
            <a:off x="0" y="0"/>
            <a:ext cx="96724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ÐÐ°ÑÑÐ¸Ð½ÐºÐ¸ Ð¿Ð¾ Ð·Ð°Ð¿ÑÐ¾ÑÑ ÑÐ¾Ð½ Ð´Ð»Ñ Ð¿ÑÐµÐ·ÐµÐ½ÑÐ°ÑÐ¸Ð¸ Ð¿ÑÐ¾ Ð»ÐµÑ Ð¸ Ð¿ÑÐ¸ÑÐ¾Ð´Ñ"/>
          <p:cNvPicPr/>
          <p:nvPr/>
        </p:nvPicPr>
        <p:blipFill>
          <a:blip r:embed="rId1"/>
          <a:stretch/>
        </p:blipFill>
        <p:spPr>
          <a:xfrm>
            <a:off x="-316080" y="0"/>
            <a:ext cx="9460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1547640" y="1720800"/>
            <a:ext cx="70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кой самый страшный враг леса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58760" y="0"/>
            <a:ext cx="9461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348640" y="1989000"/>
            <a:ext cx="5281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к вызвать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жарных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1T16:41:45Z</dcterms:created>
  <dc:creator>Vasilich</dc:creator>
  <dc:description/>
  <dc:language>en-US</dc:language>
  <cp:lastModifiedBy>Пользователь Windows</cp:lastModifiedBy>
  <dcterms:modified xsi:type="dcterms:W3CDTF">2019-04-24T09:16:52Z</dcterms:modified>
  <cp:revision>14</cp:revision>
  <dc:subject/>
  <dc:title>Презентация PowerPoint</dc:title>
</cp:coreProperties>
</file>